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488-E5EB-429E-95DE-1C82907E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0AD-63CE-4923-999F-D914FE34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3394B-D0AF-4BFF-867B-0401C853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2BE02-E25D-4EE7-BA23-1756F7F6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C48FF-E3CC-4DE8-BE1D-F9290818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C9555-702B-4B9B-8D07-92A7E45C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25F71-FBEE-409F-9429-1BBDF2E7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BB0F1-D18D-4C51-A880-7B1ACF9F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80774-B08A-46C8-A31E-F775CEB5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30C91-8ABB-456E-AF60-12F38100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EF11C-220E-40A4-B3D1-8512B2A0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E85-C7EB-4F72-860D-B111CF87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40E-7C81-42AF-BB1C-771B7BF0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6F9D-7B20-40B0-AB2C-E5B20277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976F-78D7-44C7-9F84-33CCBCC3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155F-865F-48BE-9D8D-46D64A8D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19C6-BC8D-47A0-8F65-3F7761AD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A33B-7ABB-4044-9FAE-A8AF75A3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F7F3-8869-4313-9E55-076A67B6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26B8-68B7-4063-8AE3-2E295E43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86F-D686-4371-9346-51E35F46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858D-C35D-4EBA-8C7F-A61FF9C6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C99B-72BF-457A-A37E-EDCBEC71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38DF-2BE9-4D9A-A028-026CBE32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1C3A-9AE7-4E6A-8BCE-7100C32C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26C4-4467-45C2-9DB6-0082C03B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0B12-88B0-4837-96F9-673D79B9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9C13-6615-4228-9EA7-58387765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696C-0B2E-47E7-B9E0-ABD97815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60C1-3892-4B62-9116-BE58F2F3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DBCC4-62D7-4C2F-BFA0-579BA640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E3B-65A7-484D-9085-D812709B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C75F5-C9E0-462A-AAB3-198226C5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D052-AFB5-4045-84CD-27A5D52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B72C-AAB0-4066-88F8-84886699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7531-C628-4147-A8E1-27CB14D5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D755-759A-4DC3-B849-8B01F2EA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F92F-FB8B-4227-8C36-593A7E2F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7B40-A336-4559-A138-C619F873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310EF-BB4D-4832-894B-6FE58A92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40628-3584-4C02-9EDA-947E666C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88B68-8B30-4AC0-AB4D-745E970E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179-DD0F-4FED-A206-157C3AE9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FAE48-F6B1-4896-A982-2D85298A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F0DC9-D128-49B5-B4A5-506D4B6C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9C76B-E259-4F85-AE6B-19CD7D37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7C22-479F-49D5-B52B-DBE374AA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48B1-58F8-48FB-B53F-683F3E05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99342-2301-4B25-A05C-5C4C85B0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FC41-54EC-4223-B3C1-E469F9F3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222B-D819-44FA-936C-C64463FD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F288F-FDFB-4FF5-9DA6-AF3AEB41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806F6-CAEA-4D87-9D53-57F37A63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0C1-C0E9-4CDD-9375-BFE719A0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9FE8B-C88B-4BFE-82BA-AB303EEE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378E3-7C97-4137-9188-F5D1FFEC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0A634-2B74-4263-89BC-2231F02A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338F6-B8D2-4A38-BF53-D033AC2D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FFAB0-4DA6-4AB7-8648-FBF738A0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60D43-357B-4219-ADC2-1F704290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C25C9-0FE5-489B-86CB-51462F87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7502D-FB8D-45C9-B942-A1A005A5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534D8-AA89-41DB-93AF-14807969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647BD-5BA6-4BF2-97CA-A1FD7F42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656-7918-4FD2-A520-F415675F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E3356-3AB4-4548-8A6F-1A968E1B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61263-AE22-4FC8-93E2-60F88917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76F7C-E892-4EF0-8E07-5E50D480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8FFFB-5C39-4B30-8B87-5E7E32A7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E8F06-D456-4143-BD66-C39B6C55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4236-8F54-4FA3-A373-9E3E2092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B2C9D-85B8-45B2-84F2-D256BD5B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80187-58F8-4FBB-8317-9C8197CA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09205-96F7-4A46-9EB3-A645AAF6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440EF-EE16-495F-81EF-8FE76E8E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78F-AB0B-4C30-A233-79A88999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6307F-1369-498F-9D0A-D603EA5F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D92AF-6002-4D41-B8AC-96133627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8A74-C0E3-407B-BA41-4B9FC392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99B55-C93F-4498-A7AA-7EA12D6B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DCB21-7B07-4164-82C5-9011911B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E49B0-FD48-4E56-931C-96EDE0DF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6527D-4263-4BE7-84F1-107537F2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96D8F-C862-4941-B7AB-74CE557B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8E871-9245-4C4D-B6DD-DB7C4712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503D1-2B50-43D9-87CA-A460AC84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428-B8F0-4DCD-88B3-2B19516A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5E567-3437-4E78-9FA8-50E07918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2C584-7826-4244-A196-054BA05D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18C9A-4C2F-4039-8D61-DFAABDA2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126C-1002-4C61-9FE9-5307B5B6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73985-2499-4E6C-9DC7-F692CAE9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E67F1-0BE5-44BA-BD26-01ED45EE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EA1D3-14E8-4BD6-AA51-DCF34977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87B31-5382-4D44-A86B-721EF7A9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7BD67-955D-4434-8017-C2481E5D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64994-7B42-4B9C-A13F-B0BB9BEE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2FA-EC3A-42B4-9628-EB426591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E54A6-8D56-4039-A302-5514460F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D8476-1275-4D1C-84F0-B9C7AAB8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BAA8C-76F3-47BC-A523-6D0A3FEA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A09E7-736E-4C43-AC8D-79266B4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C6080-D254-4F4C-8A79-C2528260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62C21-A3D3-4A20-84FB-60864DD3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38292-73F3-4931-BEE4-BA1A1B65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38D97-56FD-4A29-8CB9-BB68088F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8CC3E-D16F-44A3-9F65-177F3B37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B4904-5CBC-4361-BA4D-1594B702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2AE8-61C2-48EB-B187-69FC87CE6A5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941C-C18E-4108-85DC-BE381436F43D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9B4F-069E-4133-BCC7-688848FCB994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9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0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1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6190-EC79-47EB-B090-5673D6CDBCAB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9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9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0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0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0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EAB2-3EA4-4876-A507-92D77BBB1EFD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4046-3DB6-421D-AAB3-F405947C4BE4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66E9-8204-4561-8237-058533ECB679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71B5-6A06-4436-8CF5-C617D9192F4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9A2F-54F0-42C5-BD75-E548FCD4B9D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252520" cy="21891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3024360" cy="2174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716360" y="692280"/>
            <a:ext cx="3888000" cy="24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2700360" y="1628640"/>
            <a:ext cx="2995560" cy="36720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381400" cy="1609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>
                    <a:alpha val="4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新細明體"/>
              </a:rPr>
              <a:t>時事週－美伊戰爭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>
                  <a:alpha val="4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611280" y="476280"/>
          <a:ext cx="7812000" cy="6126120"/>
        </p:xfrm>
        <a:graphic>
          <a:graphicData uri="http://schemas.openxmlformats.org/drawingml/2006/table">
            <a:tbl>
              <a:tblPr/>
              <a:tblGrid>
                <a:gridCol w="1368360"/>
                <a:gridCol w="6443640"/>
              </a:tblGrid>
              <a:tr h="61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以美國為首的多國部隊發動「沙漠風暴」行動，在一個月後打敗伊拉克，海灣戰爭宣告結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戰事停火後，聯合國安理會通過決議，要求正式劃定科、伊邊界，並就戰爭賠償、武器銷毀作出了強制性規定，同時成立了特別委員會，對伊武器生產進行長期監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大批難民湧入土耳其、伊朗邊境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9528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24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、英、法以阻止伊鎮壓國內少數民族為由，在伊北部設立「安全區」，要求伊軍隊及行政機構撤出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總統布殊稱伊拉克、伊朗、北韓為「邪惡軸心」，以伊拉克擁有大殺傷力武器、與恐怖組織有密切連繫，及危害國際安全為由，推動國際社會向伊拉克動武，推翻撒達姆政權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11280" y="907920"/>
          <a:ext cx="8229600" cy="417996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41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3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繼續在聯合國推動向伊拉克出兵決議，但遭到法國、俄羅斯、中國等安理會成員反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請參考：聯合國安全理事會各理事國對出兵伊拉克的立場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。這些國家要求給予武器檢查員更多時間，以確定伊拉克有否發展大殺傷力武器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"/>
              </a:rPr>
              <a:t>支持及反對向伊拉克動武的理據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87280" y="1278000"/>
          <a:ext cx="7129800" cy="5181480"/>
        </p:xfrm>
        <a:graphic>
          <a:graphicData uri="http://schemas.openxmlformats.org/drawingml/2006/table">
            <a:tbl>
              <a:tblPr/>
              <a:tblGrid>
                <a:gridCol w="3565800"/>
                <a:gridCol w="3564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戰爭的理據是否合乎正義及公義的原則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指伊拉克是邪惡軸心國，擁有大殺傷力武器，及與策劃恐怖活動的團體有密切連繫，對國際社會構成重大威脅，故需先發制人，阻止伊拉克發難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英指薩達姆政權違反人權，故此必須清除薩達姆，改變伊拉克政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根據聯合國憲章，國家可以在受到武力襲擊時，行使自衛的權利，發動軍事行動。但除此之外，國家需盡量透過「和平行動」，解決爭端。在此前提下，聯合國沒有認同國家可以以「先發制人」為由，發動戰爭 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聯合國憲章第鏖六及第七章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對於伊拉克擁有大殺傷力武器及與恐怖組織有連繫的指控，美國未能提出有力證據，使人信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薩達姆違反人權紀錄不容置疑。但不少社會團體均認為在促進政權改變的過程中，應透過人民力量，以及促進國內民主發展，而非借助戰爭達成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523880" y="1397160"/>
          <a:ext cx="6719760" cy="4695480"/>
        </p:xfrm>
        <a:graphic>
          <a:graphicData uri="http://schemas.openxmlformats.org/drawingml/2006/table">
            <a:tbl>
              <a:tblPr/>
              <a:tblGrid>
                <a:gridCol w="3359880"/>
                <a:gridCol w="3359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發起戰爭的群體是否一個有充足法理基礎的群體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上下議院均通過對伊拉克動武，並有民意支持出兵決定為基礎。故此，即使沒有聯合國的支持，美國仍有足夠的法理基礎出兵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聯合國是全球最高權力的機構，唯獨聯合國才有足夠的法理基礎出兵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全球來自不同國家的人民上街抗議攻打伊拉克，他們為數有千萬之多，可見攻打伊拉克的民意基礎已受動搖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反戰連結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有評論指美國本身擁有大量大殺傷力武器，同時也不願意簽署多個限制武器的條約，其發動戰爭的合法性受到質疑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55640" y="981000"/>
            <a:ext cx="748980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你對此戰爭有什麼意見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反戰？主戰？不知道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176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發制人攻伊……布殊相信這是歷史必然發展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曾經令他停止酗酒的基督教信仰，是使他出奇平靜自信的一大原因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布殊亦說：「信仰撐住了我，因為我天天祈禱。」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754360" cy="271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雖然布殊從沒明言，但他確暗示相信自己是受到神意的啟示，「奉上帝之名替天行道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布殊……在執行上帝的意旨。《聖經》說領袖是由上帝任命的，只要這位領袖是真的追隨主，主便會選定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資料來源︰明報、</a:t>
            </a: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News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808000" cy="2024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在上有權柄的， 人人當順服他。 因為沒有權柄不是出於神的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凡掌權的都是神所命的。所以抗拒掌權的，就是抗拒神的命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抗拒的必自取刑罰。作官的原不是叫行善的懼怕， 乃是叫作惡的懼怕。你願意不懼怕掌權的麼。你只要行善， 就可得他的稱讚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因為他是神的用人， 是與你有益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你若作惡， 卻當懼怕。 因為他不是空空的佩劍。 他是神的用人， 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是伸冤的， 刑罰那作惡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所以你們必須順服， 不但是因為刑罰， 也是因為良心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羅馬書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5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要題醒眾人，叫他們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順服作官的，掌權的，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遵他的命，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豫備行各樣的善事。不要毀謗，不要爭競， 總要和平， 向眾人大顯溫柔。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多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問題討論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認同布殊的言論嗎？為什麼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督徒一定要反戰嗎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時事週－美伊戰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透過週會，可讓團友對此場戰爭有初步的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讓團友討論和分析此場戰爭，並了解基督徒如何回應此時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“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不可殺人”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出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0:13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戰爭一定牽渉殺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「他必在列國中施行審判，為許多國民斷定是非。他們要將刀打成犁頭，把槍打成鐮刀；這國不舉刀攻擊那國，他們也不再學習戰事。」以賽亞書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: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神對世上國家的心意是要解除武裝，和平共處，不再互相攻伐殺戮</a:t>
            </a:r>
            <a:r>
              <a:rPr b="1" lang="zh-TW" sz="3200" spc="-1" strike="noStrike">
                <a:solidFill>
                  <a:srgbClr val="6666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的心意是天地之間都能和諧共處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豺狼必與綿羊羔同居、豹子與山羊羔同臥。少壯獅子、與牛犢、並肥畜同群．小孩子要牽引他們。 牛必與熊同食。牛犢必與小熊同臥。獅子必喫草與牛一樣。 喫奶的孩子必玩耍在虺蛇的洞口、斷奶的嬰兒必按手在毒蛇的穴上。 在我聖山的遍處、這一切都不傷人、不害物．因為認識耶和華的知識要充滿遍地、好像水充滿洋海一般。」以賽亞書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1:6-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神並不贊成用武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書亞記六章－神帶領以色人入迦南地，但並不表示神贊成用武力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e.g.: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攻打耶利哥城時之事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自然會帶領我得勝，用暴力是對神不信任的表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耶穌在十架寧願接受别人暴力，也不以暴易暴。被宰殺的羔羊卻要在世上作王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啟示錄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80"/>
                </a:solidFill>
                <a:latin typeface="新細明體"/>
              </a:rPr>
              <a:t>要以善報惡，自己國家被侵略也不可發動動力戰爭抵抗，用外交及其他和平方式解決問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新細明體"/>
              </a:rPr>
              <a:t>	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「你們聽見有話說：‘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以眼還眼，以牙還牙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。’只是我告訴你們：不要與惡人作對。有人打你的右臉，連左臉也轉過來由他打； 有人想要告你，要拿你的裡衣，連外衣也由他拿去； 有人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強逼你走一里路，你就同他走二里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； 你們聽見有話說：‘當愛你的鄰舍，恨你的仇敵。’只是我告訴你們：要愛你們的仇敵，為那逼迫你們的禱告。」 </a:t>
            </a:r>
            <a:r>
              <a:rPr b="0" lang="zh-TW" sz="24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馬太福音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5:3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命彼得收刀入鞘，不可用暴力來保護祂，可見發動戰爭並不是保衛國家的正當方法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有跟隨耶穌的一個人，伸手拔出刀來，將大祭司的僕人砍了一刀，削掉了他一個耳朵。耶穌對他說：“</a:t>
            </a:r>
            <a:r>
              <a:rPr b="1" lang="zh-TW" sz="2800" spc="-1" strike="noStrike" u="sng">
                <a:solidFill>
                  <a:srgbClr val="6666ff"/>
                </a:solidFill>
                <a:uFillTx/>
                <a:latin typeface="新細明體"/>
              </a:rPr>
              <a:t>收刀入鞘吧！凡動刀的，必死在刀下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你想，我不能求我父現在為我差遣十二營多天使來嗎？ 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身處在革命時代，卻堅拒用武力革命的方式，而是用奴僕的工作來建立神的國。</a:t>
            </a:r>
            <a:r>
              <a:rPr b="1" lang="zh-TW" sz="2800" spc="-1" strike="noStrike">
                <a:solidFill>
                  <a:srgbClr val="006699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3527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在舊約中，神率領以色列作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以色列人進入迦南地是要透過戰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有時也不是全用勸導說服敵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翰福音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-15~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潔淨聖殿一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施洗約翰與士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“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不要以強暴待人，也不要訛詐人，自己有錢糧就當知足”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順服政府的掌權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因為他是神的用人， 是與你有益的。 你若作惡， 卻當懼怕。 因為他不是空空的佩劍。 他是神的用人， 是伸冤的， 刑罰那作惡的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: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新約聖經多以戰爭比喻基督徒的生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穿戴神的全副軍裝 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弗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6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0-2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什麼是有限度的戰爭？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920" y="213372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有限度的戰爭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=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正義之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來源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第四世紀，奧古斯丁在便先啟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二世紀，格拉典      將正義戰爭加以系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到了中世紀末期，正義戰爭已成為思想界的共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天主教官方的立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六世紀的宗教改革，大部分的基督徒宗派也是接受正戰爭論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27664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95280" y="1989000"/>
          <a:ext cx="5256360" cy="4032360"/>
        </p:xfrm>
        <a:graphic>
          <a:graphicData uri="http://schemas.openxmlformats.org/drawingml/2006/table">
            <a:tbl>
              <a:tblPr/>
              <a:tblGrid>
                <a:gridCol w="1055520"/>
                <a:gridCol w="420084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共和國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The Republic of Iraq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巴格達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Baghdad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44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萬平方公里 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約為香港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4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>
            <a:off x="1835280" y="765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000099"/>
                </a:solidFill>
                <a:latin typeface="Times New Roman"/>
              </a:rPr>
              <a:t>伊拉克基本資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0348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開戰條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開戰原因正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由最高權威人士批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是解決問題的最後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的成功機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衡量戰爭的得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沙場守則 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即戰場上的守則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堅守“分辨原則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分辨出非軍事設施、非戰鬥人員不可蓄意破壞和傷害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美伊之戰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=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正義戰爭？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美國開戰的原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美國以戰爭真的能達到“反恐”的目的嗎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戰爭是最後的途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伊拉克對核查方案，漸見讓步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最高權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聯合國並不批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900000" y="981000"/>
          <a:ext cx="7343640" cy="4741920"/>
        </p:xfrm>
        <a:graphic>
          <a:graphicData uri="http://schemas.openxmlformats.org/drawingml/2006/table">
            <a:tbl>
              <a:tblPr/>
              <a:tblGrid>
                <a:gridCol w="1942920"/>
                <a:gridCol w="540072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24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萬人，主要為阿拉伯人，佔整體人口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75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，而庫爾德人亦佔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0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官方語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阿拉伯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九成半人口信奉伊斯蘭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工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農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7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工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服務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684360" y="549360"/>
          <a:ext cx="7991280" cy="5638680"/>
        </p:xfrm>
        <a:graphic>
          <a:graphicData uri="http://schemas.openxmlformats.org/drawingml/2006/table">
            <a:tbl>
              <a:tblPr/>
              <a:tblGrid>
                <a:gridCol w="1295280"/>
                <a:gridCol w="669600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簡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伊拉克有著悠久的歷史。公元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元建立了巴比倫王國，為四大文明古國之一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其後，先後被波斯人、阿拉伯帝國、蒙古及奧圖曼帝國入侵及統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2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為英國「委任統治區」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3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獲得完全獨立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5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立伊拉克共和國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更多資料：伊拉克大事紀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39640" y="341280"/>
          <a:ext cx="8209080" cy="5932440"/>
        </p:xfrm>
        <a:graphic>
          <a:graphicData uri="http://schemas.openxmlformats.org/drawingml/2006/table">
            <a:tbl>
              <a:tblPr/>
              <a:tblGrid>
                <a:gridCol w="1295640"/>
                <a:gridCol w="691344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伊拉克現時的執政黨為阿拉伯復興社會黨，黨總書記薩達姆‧侯賽因自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79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接管政權，現為伊拉克總統，兼任國家總理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8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，伊拉克與伊朗因邊界糾紛引發歷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的兩伊戰爭，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又因侵略科威特，引發海灣戰爭，現仍為聯合國制裁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國內，伊拉克政府一直鎮壓庫爾德人的獨立運動，以及什葉派回教徒的反政府活動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395280" y="907920"/>
          <a:ext cx="8280360" cy="4861080"/>
        </p:xfrm>
        <a:graphic>
          <a:graphicData uri="http://schemas.openxmlformats.org/drawingml/2006/table">
            <a:tbl>
              <a:tblPr/>
              <a:tblGrid>
                <a:gridCol w="1806480"/>
                <a:gridCol w="6473880"/>
              </a:tblGrid>
              <a:tr h="48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資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的石油及天然氣資源豐富。伊國石油藏量為全球第二大，僅次於沙特阿拉伯，而且大多是未經開發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此外，伊拉克中部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幼發拉底河和底格里斯河流域地區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一直是國家主要的農業地區，大部分人口都聚居此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1197000"/>
          <a:ext cx="8280360" cy="242712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24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經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伊拉克入侵科威特後，伊拉克一直受到聯合國的經濟制裁，除了凍結了伊在海外的資產以外，伊拉克對外經貿亦受到限制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1099440" y="4581360"/>
            <a:ext cx="7268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資料來源：世界知識年鑑，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；中華人民共和國外交部網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 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網址為：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http://www..fmprc.gov.cn/chn/6616.htm1)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美伊衝突事件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55640" y="1484280"/>
          <a:ext cx="7561440" cy="4951440"/>
        </p:xfrm>
        <a:graphic>
          <a:graphicData uri="http://schemas.openxmlformats.org/drawingml/2006/table">
            <a:tbl>
              <a:tblPr/>
              <a:tblGrid>
                <a:gridCol w="1368720"/>
                <a:gridCol w="6192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重要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以科威特夥同阿聯酋超產石油，導致油價下跌，以及在有領土爭端的油田盜採石油為由，攻佔科威特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際社會紛紛譴責伊拉克，要求伊立即撤軍。聯合國安理會通過決議，決定經濟制裁伊拉克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41:48Z</dcterms:created>
  <dc:creator>LING</dc:creator>
  <dc:description/>
  <dc:language>en-US</dc:language>
  <cp:lastModifiedBy>LING</cp:lastModifiedBy>
  <dcterms:modified xsi:type="dcterms:W3CDTF">2003-03-25T17:04:55Z</dcterms:modified>
  <cp:revision>12</cp:revision>
  <dc:subject/>
  <dc:title>正義戰爭的來源︰</dc:title>
</cp:coreProperties>
</file>