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B69-EEB8-46D2-9782-7184C29B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4F7-6B0D-442C-9809-62E8A31F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513FE-4FC0-4C2D-BCB5-FB49AC4C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4F8B8-6499-407D-8AF1-E86F5A71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D73A2-B622-4744-B394-F6B71AEA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F4536-8D3D-4877-B8FD-AD7FF247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62C01-62E4-466B-90B5-EDA8919A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6AF14-4110-4A36-9A73-07360118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3B2A1-2BC5-496B-93FE-CBEF3258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05873-9464-4714-BFDB-4C689517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48876-028C-4BBB-B7C3-317149A3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7FC-0E16-4D1F-B3BE-14CDC0EB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6BC-AA33-4207-8181-DE4BA4DC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0A1F-00D3-4A63-8D81-8ECC1DE6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AB03-FDCB-43A6-A40A-5EB38DBF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E803-45D0-4F58-813E-0748276B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B9F8-A132-43B5-BBE4-150C12FA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F079-BAF9-4C45-9E61-DDCAB3F5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D8CF-7FC9-440A-B9D2-85360058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2D2F-B09A-42E1-A012-828493D8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911-D7AB-4141-9998-AF8C0D8C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A42E-1D99-4386-82C0-BBBC215B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FBEE-F7F1-48AA-A224-66B75D10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61FE-1D2E-4E4A-B9B7-0F2C213B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1A63-7B57-4CE6-8FA0-31103D84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D452-F963-4DDC-89D8-1E04C1DC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93D15-51CF-4A69-A510-976539CB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AAF0D-3C0B-4E11-9F45-89266167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C5F1C-5784-4AAE-909C-F5D71565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BECAB-1C2A-4B97-BE77-936BD0C6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D3583-B121-4190-8C69-F2654BA4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D923-4C03-4551-AE41-6D5EDB9D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E8055-50FB-4BE3-9B24-B5471BD8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6C059-CC78-4086-A1F7-FD7C89B0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39570-9735-4527-B87B-37F8338B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8B5F3-2C2A-4D99-BD30-34356C77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A2BC5-0749-4F2C-98F1-ECA73129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F6C4D-CF9C-4744-8180-1DD51DDC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6FEBE-27D7-42AC-B497-1EB830C0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F90E4-8278-4D6B-BC78-E9CB2F35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0AA81-B6A7-429C-B591-001A41E3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10974-3AF9-41D2-AEFC-2D5CC36B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B43-7506-4006-928F-BB35BF25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A1AD4-E86A-40A8-9BCF-3ADD13CB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B6A3A-E80F-454A-BA14-76FB6F21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DA711-5BDB-4840-94AD-A4C6CF65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B717C-2F4C-4B7C-80AE-E2A4CCE0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25EE9-BCFD-413E-8EF8-2468C74C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C10AB-5997-4C9E-A5D1-7FF98541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3053D-407F-4932-92CA-9D25508C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A6C85-25BB-40E4-934D-ED42FF74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BAE8C-8985-436B-876B-220C5283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8E560-693B-44A4-8765-1EA0EE10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9A9-5EB4-4556-9B5F-76A4861A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04D46-D656-492F-BCC5-134A6C8B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04B6C-F0B2-4B71-9F61-F2B57925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E8AB0-AF85-4226-A75B-B58F8C73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00DC0-7564-41EF-B854-3320BF2D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70532-7525-454B-A1A5-35957B62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4445A-78EC-421F-9B30-3D859FBA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2CEB8-C82D-4236-85F6-ABAC1920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D0E5F-9D05-4DC4-8165-30BB9D7F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C6157-A32B-4A9F-8E38-6E685D95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D11B1-997D-41BD-BB96-D68FD5EE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01F-BDAA-455D-A2FD-E61DC84E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B314A-89BB-4B96-8CD8-D2A9DB53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75233-A333-4D2F-A976-DD8DB1DD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67642-5170-43D0-BA99-0D25B622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31FF0-4661-49CF-8CEF-9E418D12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98768-5D3F-4498-ADD7-630463BB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F2731-E165-4C5C-B777-BFF802F5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FDFD1-3FBC-4385-AA0D-EFBB0E32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8225D-B7F4-4F7D-90DF-EC461ADA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20B01-36A1-4F1B-94E5-CACD0E95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07D1E-C702-43C9-AD49-7D832B32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ED6C-097B-4743-A861-949A462D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94C22-FE9C-4E4E-8D5B-AC8914BF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912D5-158B-482D-AF14-50460680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67E18-F2A9-4C24-B064-EA9E3E4B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FD05D-F8F5-4428-8312-CF83ED0E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08ACA-E945-4598-8945-E6BBA758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2FF24-6B0F-447B-836C-C605BC63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DB687-CAD0-41E4-A41B-D1B5664F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BDCFA-F7BB-460D-85FE-BA13A102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14403-55EC-4975-9267-CA01AF2F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70BE8-B458-41CC-9E32-E2606D68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1C6-1AF7-41F6-818E-574EF9EC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3310B-D2CC-4E82-AA7C-FE90AAB6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E5C6C-E400-4B55-9E84-033B79D5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20378-0480-43E7-8C04-DCB5E43D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D00F1-38BB-4848-B1EC-F74B07FF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1FD23-E03E-482E-9024-5306AE7A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3B492-0FAD-406A-989D-9E3245D6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F7C39-A3E1-4A59-B394-F77384D2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FA1B2-2A06-4750-B5EB-67723CC6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557BB-1741-4DD7-B491-42DBA336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F85FB-5EBF-41CD-A39E-FCE15D2A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6D2-1351-4E0A-8662-07D140B5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9C429-CEEB-4A02-8A3B-6585B860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5F9C0-CD45-4E4B-A9C6-50B62979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ECAA8-D237-4C53-A0AE-36BCA95E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925E8-DAEF-4BCC-AE58-D3D03DCD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127B1-3938-4158-B39C-24A0FC47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0B85B-268B-4A2E-8E7F-C6374CD5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A7D5F-B877-4982-8D2F-0671FF8A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15FC7-0E51-4FF6-AA7B-A79049F0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76DC1-1F72-492C-B0C1-AE6ADE64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AFC0F-7F1F-4481-B12B-DA6D6157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29A0-93E2-40CB-844A-2546C650DDB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50C1-4D1D-464C-BD53-73E796B56DB1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2FCE-4AA1-4F98-9284-680D4A1F1995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9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9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0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1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1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1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F051-4217-496C-9CC3-39E8D4DB3045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9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9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0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0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0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CF13-3A70-4438-8977-8ABF4060F446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5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CD7A-2844-4DA7-96F3-1ED36B2F8796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4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3C13-9D4C-4281-B7F5-FEEF045BEB31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2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BCDD-4CAB-4FA1-BE02-0136F517F499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6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2FFD-020F-43EA-B6B3-9A6E3035B1DB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7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2252520" cy="21891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5580000" y="4292640"/>
            <a:ext cx="3024360" cy="21747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468360" y="9079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4716360" y="692280"/>
            <a:ext cx="3888000" cy="2436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2700360" y="1628640"/>
            <a:ext cx="2995560" cy="36720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6443640" y="2997360"/>
            <a:ext cx="2381400" cy="16095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755640" y="1557360"/>
            <a:ext cx="7777080" cy="338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>
                    <a:alpha val="44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新細明體"/>
              </a:rPr>
              <a:t>時事週－美伊戰爭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>
                  <a:alpha val="44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6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611280" y="476280"/>
          <a:ext cx="7812000" cy="6126120"/>
        </p:xfrm>
        <a:graphic>
          <a:graphicData uri="http://schemas.openxmlformats.org/drawingml/2006/table">
            <a:tbl>
              <a:tblPr/>
              <a:tblGrid>
                <a:gridCol w="1368360"/>
                <a:gridCol w="6443640"/>
              </a:tblGrid>
              <a:tr h="61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以美國為首的多國部隊發動「沙漠風暴」行動，在一個月後打敗伊拉克，海灣戰爭宣告結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戰事停火後，聯合國安理會通過決議，要求正式劃定科、伊邊界，並就戰爭賠償、武器銷毀作出了強制性規定，同時成立了特別委員會，對伊武器生產進行長期監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大批難民湧入土耳其、伊朗邊境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395280" y="333360"/>
          <a:ext cx="8229600" cy="608508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24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、英、法以阻止伊鎮壓國內少數民族為由，在伊北部設立「安全區」，要求伊軍隊及行政機構撤出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2</a:t>
                      </a:r>
                      <a:r>
                        <a:rPr b="1" lang="zh-CN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總統布殊稱伊拉克、伊朗、北韓為「邪惡軸心」，以伊拉克擁有大殺傷力武器、與恐怖組織有密切連繫，及危害國際安全為由，推動國際社會向伊拉克動武，推翻撒達姆政權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611280" y="907920"/>
          <a:ext cx="8229600" cy="417996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41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3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繼續在聯合國推動向伊拉克出兵決議，但遭到法國、俄羅斯、中國等安理會成員反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請參考：聯合國安全理事會各理事國對出兵伊拉克的立場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。這些國家要求給予武器檢查員更多時間，以確定伊拉克有否發展大殺傷力武器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7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"/>
              </a:rPr>
              <a:t>支持及反對向伊拉克動武的理據</a:t>
            </a: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187280" y="1278000"/>
          <a:ext cx="7129800" cy="5181480"/>
        </p:xfrm>
        <a:graphic>
          <a:graphicData uri="http://schemas.openxmlformats.org/drawingml/2006/table">
            <a:tbl>
              <a:tblPr/>
              <a:tblGrid>
                <a:gridCol w="3565800"/>
                <a:gridCol w="356400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戰爭的理據是否合乎正義及公義的原則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指伊拉克是邪惡軸心國，擁有大殺傷力武器，及與策劃恐怖活動的團體有密切連繫，對國際社會構成重大威脅，故需先發制人，阻止伊拉克發難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英指薩達姆政權違反人權，故此必須清除薩達姆，改變伊拉克政權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根據聯合國憲章，國家可以在受到武力襲擊時，行使自衛的權利，發動軍事行動。但除此之外，國家需盡量透過「和平行動」，解決爭端。在此前提下，聯合國沒有認同國家可以以「先發制人」為由，發動戰爭 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聯合國憲章第鏖六及第七章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對於伊拉克擁有大殺傷力武器及與恐怖組織有連繫的指控，美國未能提出有力證據，使人信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薩達姆違反人權紀錄不容置疑。但不少社會團體均認為在促進政權改變的過程中，應透過人民力量，以及促進國內民主發展，而非借助戰爭達成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1523880" y="1397160"/>
          <a:ext cx="6719760" cy="4695480"/>
        </p:xfrm>
        <a:graphic>
          <a:graphicData uri="http://schemas.openxmlformats.org/drawingml/2006/table">
            <a:tbl>
              <a:tblPr/>
              <a:tblGrid>
                <a:gridCol w="3359880"/>
                <a:gridCol w="33598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發起戰爭的群體是否一個有充足法理基礎的群體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上下議院均通過對伊拉克動武，並有民意支持出兵決定為基礎。故此，即使沒有聯合國的支持，美國仍有足夠的法理基礎出兵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聯合國是全球最高權力的機構，唯獨聯合國才有足夠的法理基礎出兵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全球來自不同國家的人民上街抗議攻打伊拉克，他們為數有千萬之多，可見攻打伊拉克的民意基礎已受動搖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反戰連結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有評論指美國本身擁有大量大殺傷力武器，同時也不願意簽署多個限制武器的條約，其發動戰爭的合法性受到質疑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755640" y="981000"/>
            <a:ext cx="7489800" cy="259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你對此戰爭有什麼意見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反戰？主戰？不知道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500720" y="3429000"/>
            <a:ext cx="41767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發制人攻伊……布殊相信這是歷史必然發展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曾經令他停止酗酒的基督教信仰，是使他出奇平靜自信的一大原因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布殊亦說：「信仰撐住了我，因為我天天祈禱。」</a:t>
            </a: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2754360" cy="2719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10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51847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雖然布殊從沒明言，但他確暗示相信自己是受到神意的啟示，「奉上帝之名替天行道」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布殊……在執行上帝的意旨。《聖經》說領袖是由上帝任命的，只要這位領袖是真的追隨主，主便會選定他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資料來源︰明報、</a:t>
            </a: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Newswe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6012000" y="2492280"/>
            <a:ext cx="2808000" cy="2024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在上有權柄的， 人人當順服他。 因為沒有權柄不是出於神的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凡掌權的都是神所命的。所以抗拒掌權的，就是抗拒神的命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抗拒的必自取刑罰。作官的原不是叫行善的懼怕， 乃是叫作惡的懼怕。你願意不懼怕掌權的麼。你只要行善， 就可得他的稱讚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因為他是神的用人， 是與你有益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你若作惡， 卻當懼怕。 因為他不是空空的佩劍。 他是神的用人， 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是伸冤的， 刑罰那作惡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所以你們必須順服， 不但是因為刑罰， 也是因為良心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羅馬書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13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5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要題醒眾人，叫他們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順服作官的，掌權的，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遵他的命，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豫備行各樣的善事。不要毀謗，不要爭競， 總要和平， 向眾人大顯溫柔。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多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3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-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問題討論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認同布殊的言論嗎？為什麼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基督徒一定要反戰嗎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時事週－美伊戰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透過週會，可讓團友對此場戰爭有初步的認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讓團友討論和分析此場戰爭，並了解基督徒如何回應此時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“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不可殺人”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出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0:13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戰爭一定牽渉殺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「他必在列國中施行審判，為許多國民斷定是非。他們要將刀打成犁頭，把槍打成鐮刀；這國不舉刀攻擊那國，他們也不再學習戰事。」以賽亞書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: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神對世上國家的心意是要解除武裝，和平共處，不再互相攻伐殺戮</a:t>
            </a:r>
            <a:r>
              <a:rPr b="1" lang="zh-TW" sz="3200" spc="-1" strike="noStrike">
                <a:solidFill>
                  <a:srgbClr val="6666ff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的心意是天地之間都能和諧共處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豺狼必與綿羊羔同居、豹子與山羊羔同臥。少壯獅子、與牛犢、並肥畜同群．小孩子要牽引他們。 牛必與熊同食。牛犢必與小熊同臥。獅子必喫草與牛一樣。 喫奶的孩子必玩耍在虺蛇的洞口、斷奶的嬰兒必按手在毒蛇的穴上。 在我聖山的遍處、這一切都不傷人、不害物．因為認識耶和華的知識要充滿遍地、好像水充滿洋海一般。」以賽亞書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1:6-9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神並不贊成用武力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書亞記六章－神帶領以色人入迦南地，但並不表示神贊成用武力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e.g.: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攻打耶利哥城時之事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自然會帶領我得勝，用暴力是對神不信任的表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耶穌在十架寧願接受别人暴力，也不以暴易暴。被宰殺的羔羊卻要在世上作王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啟示錄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800080"/>
                </a:solidFill>
                <a:latin typeface="新細明體"/>
              </a:rPr>
              <a:t>要以善報惡，自己國家被侵略也不可發動動力戰爭抵抗，用外交及其他和平方式解決問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新細明體"/>
              </a:rPr>
              <a:t>	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「你們聽見有話說：‘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以眼還眼，以牙還牙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。’只是我告訴你們：不要與惡人作對。有人打你的右臉，連左臉也轉過來由他打； 有人想要告你，要拿你的裡衣，連外衣也由他拿去； 有人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強逼你走一里路，你就同他走二里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； 你們聽見有話說：‘當愛你的鄰舍，恨你的仇敵。’只是我告訴你們：要愛你們的仇敵，為那逼迫你們的禱告。」 </a:t>
            </a:r>
            <a:r>
              <a:rPr b="0" lang="zh-TW" sz="24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馬太福音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5:3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命彼得收刀入鞘，不可用暴力來保護祂，可見發動戰爭並不是保衛國家的正當方法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有跟隨耶穌的一個人，伸手拔出刀來，將大祭司的僕人砍了一刀，削掉了他一個耳朵。耶穌對他說：“</a:t>
            </a:r>
            <a:r>
              <a:rPr b="1" lang="zh-TW" sz="2800" spc="-1" strike="noStrike" u="sng">
                <a:solidFill>
                  <a:srgbClr val="6666ff"/>
                </a:solidFill>
                <a:uFillTx/>
                <a:latin typeface="新細明體"/>
              </a:rPr>
              <a:t>收刀入鞘吧！凡動刀的，必死在刀下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你想，我不能求我父現在為我差遣十二營多天使來嗎？ 」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身處在革命時代，卻堅拒用武力革命的方式，而是用奴僕的工作來建立神的國。</a:t>
            </a:r>
            <a:r>
              <a:rPr b="1" lang="zh-TW" sz="2800" spc="-1" strike="noStrike">
                <a:solidFill>
                  <a:srgbClr val="006699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35272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在舊約中，神率領以色列作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以色列人進入迦南地是要透過戰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有時也不是全用勸導說服敵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翰福音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2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-15~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潔淨聖殿一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施洗約翰與士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“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不要以強暴待人，也不要訛詐人，自己有錢糧就當知足”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路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3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順服政府的掌權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因為他是神的用人， 是與你有益的。 你若作惡， 卻當懼怕。 因為他不是空空的佩劍。 他是神的用人， 是伸冤的， 刑罰那作惡的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羅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: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新約聖經多以戰爭比喻基督徒的生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穿戴神的全副軍裝 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弗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6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0-20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什麼是有限度的戰爭？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042920" y="2133720"/>
            <a:ext cx="6913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有限度的戰爭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=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正義之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來源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第四世紀，奧古斯丁在便先啟其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二世紀，格拉典      將正義戰爭加以系統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到了中世紀末期，正義戰爭已成為思想界的共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天主教官方的立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六世紀的宗教改革，大部分的基督徒宗派也是接受正戰爭論。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6000" y="227664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2" name=""/>
          <p:cNvGraphicFramePr/>
          <p:nvPr/>
        </p:nvGraphicFramePr>
        <p:xfrm>
          <a:off x="395280" y="1989000"/>
          <a:ext cx="5256360" cy="4032360"/>
        </p:xfrm>
        <a:graphic>
          <a:graphicData uri="http://schemas.openxmlformats.org/drawingml/2006/table">
            <a:tbl>
              <a:tblPr/>
              <a:tblGrid>
                <a:gridCol w="1055520"/>
                <a:gridCol w="4200840"/>
              </a:tblGrid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共和國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The Republic of Iraq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首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巴格達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Baghdad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44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萬平方公里 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約為香港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4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3" name=""/>
          <p:cNvSpPr/>
          <p:nvPr/>
        </p:nvSpPr>
        <p:spPr>
          <a:xfrm>
            <a:off x="1835280" y="7650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000099"/>
                </a:solidFill>
                <a:latin typeface="Times New Roman"/>
              </a:rPr>
              <a:t>伊拉克基本資料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5580000" y="2781360"/>
            <a:ext cx="300348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"/>
              </a:rPr>
              <a:t>開戰條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開戰原因正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由最高權威人士批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是解決問題的最後途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的成功機會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衡量戰爭的得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沙場守則 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即戰場上的守則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堅守“分辨原則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分辨出非軍事設施、非戰鬥人員不可蓄意破壞和傷害。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美伊之戰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=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正義戰爭？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美國開戰的原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美國以戰爭真的能達到“反恐”的目的嗎？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戰爭是最後的途徑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伊拉克對核查方案，漸見讓步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最高權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聯合國並不批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900000" y="981000"/>
          <a:ext cx="7343640" cy="4741920"/>
        </p:xfrm>
        <a:graphic>
          <a:graphicData uri="http://schemas.openxmlformats.org/drawingml/2006/table">
            <a:tbl>
              <a:tblPr/>
              <a:tblGrid>
                <a:gridCol w="1942920"/>
                <a:gridCol w="5400720"/>
              </a:tblGrid>
              <a:tr h="186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人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24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萬人，主要為阿拉伯人，佔整體人口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75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，而庫爾德人亦佔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0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官方語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阿拉伯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宗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九成半人口信奉伊斯蘭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工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農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7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工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服務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684360" y="549360"/>
          <a:ext cx="7991280" cy="5638680"/>
        </p:xfrm>
        <a:graphic>
          <a:graphicData uri="http://schemas.openxmlformats.org/drawingml/2006/table">
            <a:tbl>
              <a:tblPr/>
              <a:tblGrid>
                <a:gridCol w="1295280"/>
                <a:gridCol w="6696000"/>
              </a:tblGrid>
              <a:tr h="56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簡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伊拉克有著悠久的歷史。公元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元建立了巴比倫王國，為四大文明古國之一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其後，先後被波斯人、阿拉伯帝國、蒙古及奧圖曼帝國入侵及統治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2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為英國「委任統治區」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3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獲得完全獨立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5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立伊拉克共和國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更多資料：伊拉克大事紀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539640" y="341280"/>
          <a:ext cx="8209080" cy="5932440"/>
        </p:xfrm>
        <a:graphic>
          <a:graphicData uri="http://schemas.openxmlformats.org/drawingml/2006/table">
            <a:tbl>
              <a:tblPr/>
              <a:tblGrid>
                <a:gridCol w="1295640"/>
                <a:gridCol w="6913440"/>
              </a:tblGrid>
              <a:tr h="59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伊拉克現時的執政黨為阿拉伯復興社會黨，黨總書記薩達姆‧侯賽因自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79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接管政權，現為伊拉克總統，兼任國家總理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8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，伊拉克與伊朗因邊界糾紛引發歷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的兩伊戰爭，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又因侵略科威特，引發海灣戰爭，現仍為聯合國制裁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國內，伊拉克政府一直鎮壓庫爾德人的獨立運動，以及什葉派回教徒的反政府活動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8" name=""/>
          <p:cNvGraphicFramePr/>
          <p:nvPr/>
        </p:nvGraphicFramePr>
        <p:xfrm>
          <a:off x="395280" y="907920"/>
          <a:ext cx="8280360" cy="4861080"/>
        </p:xfrm>
        <a:graphic>
          <a:graphicData uri="http://schemas.openxmlformats.org/drawingml/2006/table">
            <a:tbl>
              <a:tblPr/>
              <a:tblGrid>
                <a:gridCol w="1806480"/>
                <a:gridCol w="6473880"/>
              </a:tblGrid>
              <a:tr h="486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資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的石油及天然氣資源豐富。伊國石油藏量為全球第二大，僅次於沙特阿拉伯，而且大多是未經開發的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此外，伊拉克中部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幼發拉底河和底格里斯河流域地區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一直是國家主要的農業地區，大部分人口都聚居此地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395280" y="1197000"/>
          <a:ext cx="8280360" cy="2427120"/>
        </p:xfrm>
        <a:graphic>
          <a:graphicData uri="http://schemas.openxmlformats.org/drawingml/2006/table">
            <a:tbl>
              <a:tblPr/>
              <a:tblGrid>
                <a:gridCol w="1584360"/>
                <a:gridCol w="6696000"/>
              </a:tblGrid>
              <a:tr h="24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經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伊拉克入侵科威特後，伊拉克一直受到聯合國的經濟制裁，除了凍結了伊在海外的資產以外，伊拉克對外經貿亦受到限制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1099440" y="4581360"/>
            <a:ext cx="72687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資料來源：世界知識年鑑，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；中華人民共和國外交部網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 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網址為：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http://www..fmprc.gov.cn/chn/6616.htm1)</a:t>
            </a:r>
            <a:r>
              <a:rPr b="0" lang="zh-TW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 Unicode MS"/>
                <a:ea typeface="Arial Unicode MS"/>
              </a:rPr>
              <a:t>美伊衝突事件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755640" y="1484280"/>
          <a:ext cx="7561440" cy="4951440"/>
        </p:xfrm>
        <a:graphic>
          <a:graphicData uri="http://schemas.openxmlformats.org/drawingml/2006/table">
            <a:tbl>
              <a:tblPr/>
              <a:tblGrid>
                <a:gridCol w="1368720"/>
                <a:gridCol w="619272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重要事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以科威特夥同阿聯酋超產石油，導致油價下跌，以及在有領土爭端的油田盜採石油為由，攻佔科威特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際社會紛紛譴責伊拉克，要求伊立即撤軍。聯合國安理會通過決議，決定經濟制裁伊拉克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41:48Z</dcterms:created>
  <dc:creator>LING</dc:creator>
  <dc:description/>
  <dc:language>en-US</dc:language>
  <cp:lastModifiedBy>LING</cp:lastModifiedBy>
  <dcterms:modified xsi:type="dcterms:W3CDTF">2003-03-25T17:04:55Z</dcterms:modified>
  <cp:revision>12</cp:revision>
  <dc:subject/>
  <dc:title>正義戰爭的來源︰</dc:title>
</cp:coreProperties>
</file>