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38960" y="152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2D58-4410-4D64-BC3A-7BD3158B41D7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172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ndj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x.btobits.com/" TargetMode="External"/><Relationship Id="rId2" Type="http://schemas.openxmlformats.org/officeDocument/2006/relationships/hyperlink" Target="http://fix.btobits.com/" TargetMode="External"/><Relationship Id="rId3" Type="http://schemas.openxmlformats.org/officeDocument/2006/relationships/hyperlink" Target="http://www.btobits.com/" TargetMode="External"/><Relationship Id="rId4" Type="http://schemas.openxmlformats.org/officeDocument/2006/relationships/hyperlink" Target="http://www.btobits.com/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3962520"/>
            <a:ext cx="304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Jim Northe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Jordan and Jorda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troduction to FIX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FIX Session Lay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ssion Level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itiating a session (Logon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eartbe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Valid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nding a session (Logou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nitiating a Session (Logon MsgType=A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uy side firm initiates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itia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a connection to a Sell side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ccep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firm using the LOGON Session Level Message MsgType[35]=“A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9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5=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BOFASEC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0=MSO:MSO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7=TEST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106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3=N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06:4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8=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8=3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021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minal Login Scenario Start of Da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7760" y="1522800"/>
            <a:ext cx="408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3581280"/>
            <a:ext cx="4329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962520"/>
            <a:ext cx="289548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670120"/>
            <a:ext cx="1752840" cy="733320"/>
          </a:xfrm>
          <a:prstGeom prst="borderCallout1">
            <a:avLst>
              <a:gd name="adj1" fmla="val 18750"/>
              <a:gd name="adj2" fmla="val -8333"/>
              <a:gd name="adj3" fmla="val 99555"/>
              <a:gd name="adj4" fmla="val 200532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5105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724280"/>
            <a:ext cx="2971800" cy="609840"/>
          </a:xfrm>
          <a:prstGeom prst="wedgeEllipseCallout">
            <a:avLst>
              <a:gd name="adj1" fmla="val -40171"/>
              <a:gd name="adj2" fmla="val 107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We have a FIX Session Established!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guarantees that messages are delivered in the order in which they are s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FIX Session can be defined a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 bi-directional stream of ordered messages between two parties within a continuous sequence number series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FIX Engines is expected to keep track of two sequence numb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Incoming Sequence Number expected on inbound messages received from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Outgoing Sequence Number to be sent to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 what happens if the sequence numbers are not in order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messages for recovery of lost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delivery of lost messag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a way to resynchronize sequence numbers between engin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Resend Request (MsgType=2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o request the counterparty to resend a set of FIX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ll the counterparty the range of messages that you did not receiv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eginSeqNo (tag 7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ndSeqNo (tag 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High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g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3809880"/>
            <a:ext cx="2895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14240" y="4724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4494240"/>
            <a:ext cx="426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 Reques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eginSeqNo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dSeqNo=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86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3760" y="5485320"/>
            <a:ext cx="320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s messages or sends a gap fil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Lo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9240" y="3274920"/>
            <a:ext cx="387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Text = Incoming Sequence Number &l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Expected = 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l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hy do we stop the Session from being established?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73200" y="47232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46483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quence Reset (MsgType=4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order to reduce unnecessary communication, FIX permits firms to skip or gap fill over administrative messages (such as heartbeats and test request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done using the Sequence Rese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apFillFlag (tag 12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ewSeqNo (tag 3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 (MsgType=0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is kept alive by both sides sending heartbeats to the oth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72^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35=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GLTRADE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53:28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24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ession Lay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ssion Level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ing the session alive – heart be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ou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ing lets each side know the connection is activ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371600"/>
            <a:ext cx="106704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818080"/>
            <a:ext cx="44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24240" y="5410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320" y="510408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EO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23880" y="23623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38520" y="205632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0040" y="159912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38862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358020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71040" y="4266360"/>
            <a:ext cx="789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ow often do we heartbeat a FIX connection?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gotiated” at Logon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artBtInt (tag 108) Note same value used by both sid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est Request (MsgType=1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ither party on the FIX connection can send a Test Request message at any time during the FIX Sess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recipient of a Test Request message must respond with a Heartbea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Test Request contains a required TestReqID[112] fiel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Heartbeat response message must contain the TestReqID[112] of the Test Reques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2438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05120"/>
            <a:ext cx="1067040" cy="1447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981080"/>
            <a:ext cx="1066680" cy="152424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440" y="21326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196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56440" y="281844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MsgType=0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676520"/>
            <a:ext cx="1067040" cy="34290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1676520"/>
            <a:ext cx="1066680" cy="33526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9040" y="19040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4920" y="44946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343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8440" y="4037400"/>
            <a:ext cx="408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5 Text=“Test Request Timeout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334120" y="44197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8769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1600200" cy="1218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No Response from recipient for 2 X Heartbeat Interv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Valid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Engines validate that messages are properly formed and will reject the message using a Session Level REJECT message if the message is inval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Checksum (tag 10) is valida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nding a Session(Logout MsgType=5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side sends a logou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82^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5=5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GLTRADE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483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4:05:34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76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Logout Process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Firm Initiating Logou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81200" y="152280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M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14240" y="4114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3640" y="3808800"/>
            <a:ext cx="39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286000"/>
            <a:ext cx="2971800" cy="1219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ait a brief period of time (heartbeat interval) for other side to send logout – this is done in case other side needs to do resend process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9920" y="472320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oth sides 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679040"/>
            <a:ext cx="1752840" cy="1159560"/>
          </a:xfrm>
          <a:prstGeom prst="borderCallout1">
            <a:avLst>
              <a:gd name="adj1" fmla="val 18750"/>
              <a:gd name="adj2" fmla="val -8333"/>
              <a:gd name="adj3" fmla="val 96550"/>
              <a:gd name="adj4" fmla="val 184041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t is considered bad form to close the connection prior to receiving the logout confirma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8120" y="2819520"/>
            <a:ext cx="3581280" cy="990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End of FIX Session Lay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lide Show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Protocol Overvie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andardized session layer using administrative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pplication layer with application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use tag level enco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ag#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“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SOH&gt;, ASCII 01 field separat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tructur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FIX Messages are identified by a MsgType[Tag 35] co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Look up using Volume 6 or using FIXImate for the list of message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messages use a standard header and standard trail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consists of required tags and optional ta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ustomiz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ading parties agree on specific usage and content of fields subject to the guidelines and definitions provided in the specific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for custom tags to support extensions or specific trading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tandard Head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eginString[8] identifies the version of FIX being used, for instanc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IX 4.1”,  “FIX 4.2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dyLength[9] identifies the length of the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sgType[35] Message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dentification of Trading Parties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nderCompID[49] - Identifies the sender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rgetCompID[56] - Identifies the recipient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ditional header fiel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ub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c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BehalfOf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liver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14400"/>
            <a:ext cx="4572000" cy="18288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Your Application Pro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ding System, Order Management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523880"/>
            <a:ext cx="4343400" cy="3962520"/>
          </a:xfrm>
          <a:prstGeom prst="rect">
            <a:avLst/>
          </a:prstGeom>
          <a:noFill/>
          <a:ln w="25560">
            <a:solidFill>
              <a:srgbClr val="99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natomy of a FIX Engin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Journ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267080"/>
            <a:ext cx="762120" cy="98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67652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1"/>
            <a:endCxn id="104" idx="0"/>
          </p:cNvCxnSpPr>
          <p:nvPr/>
        </p:nvCxnSpPr>
        <p:spPr>
          <a:xfrm flipV="1" rot="10800000">
            <a:off x="2704320" y="2133360"/>
            <a:ext cx="10296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0"/>
          </p:cNvCxnSpPr>
          <p:nvPr/>
        </p:nvCxnSpPr>
        <p:spPr>
          <a:xfrm flipV="1" rot="10800000">
            <a:off x="4190400" y="2590560"/>
            <a:ext cx="1080" cy="3816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0"/>
          </p:cNvCxnSpPr>
          <p:nvPr/>
        </p:nvCxnSpPr>
        <p:spPr>
          <a:xfrm>
            <a:off x="4647960" y="2133720"/>
            <a:ext cx="10674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2"/>
          </p:cNvCxnSpPr>
          <p:nvPr/>
        </p:nvCxnSpPr>
        <p:spPr>
          <a:xfrm flipH="1" rot="16200000">
            <a:off x="2781000" y="3732840"/>
            <a:ext cx="951840" cy="110556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8" idx="2"/>
            <a:endCxn id="105" idx="4"/>
          </p:cNvCxnSpPr>
          <p:nvPr/>
        </p:nvCxnSpPr>
        <p:spPr>
          <a:xfrm rot="5400000">
            <a:off x="4705200" y="3751920"/>
            <a:ext cx="875520" cy="114372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086600" y="1447920"/>
            <a:ext cx="1447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IX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ounterpart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00200"/>
            <a:ext cx="2438280" cy="457200"/>
          </a:xfrm>
          <a:prstGeom prst="leftRightArrow">
            <a:avLst>
              <a:gd name="adj1" fmla="val 50000"/>
              <a:gd name="adj2" fmla="val 106167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CP/IP Conn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0480" y="5637960"/>
            <a:ext cx="727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Diagram taken from Programmer’s Manual for the .FixAntenna Engine from B2B ITS Consulting Servic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fix.btobits.com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www.btobits.com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752480"/>
            <a:ext cx="312444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stom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 Investment Mg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ppli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Broker/Deale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752480"/>
            <a:ext cx="129564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752480"/>
            <a:ext cx="312408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752480"/>
            <a:ext cx="129528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280" y="2666880"/>
            <a:ext cx="8839440" cy="3400200"/>
            <a:chOff x="152280" y="2666880"/>
            <a:chExt cx="8839440" cy="3400200"/>
          </a:xfrm>
        </p:grpSpPr>
        <p:grpSp>
          <p:nvGrpSpPr>
            <p:cNvPr id="124" name=""/>
            <p:cNvGrpSpPr/>
            <p:nvPr/>
          </p:nvGrpSpPr>
          <p:grpSpPr>
            <a:xfrm>
              <a:off x="152280" y="2666880"/>
              <a:ext cx="3353040" cy="3247920"/>
              <a:chOff x="152280" y="2666880"/>
              <a:chExt cx="3353040" cy="3247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21932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3520" y="2666880"/>
                <a:ext cx="1440" cy="106524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3733560"/>
                <a:ext cx="3353040" cy="2181240"/>
                <a:chOff x="152280" y="3733560"/>
                <a:chExt cx="3353040" cy="2181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4920" y="3733560"/>
                  <a:ext cx="251460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Order Management Syste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44956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80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24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668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40384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9528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280" y="5181480"/>
                  <a:ext cx="1067040" cy="7333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 in Foreign Offic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33160" y="4495680"/>
                  <a:ext cx="152280" cy="6858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5791320" y="2666880"/>
              <a:ext cx="3200400" cy="3400200"/>
              <a:chOff x="5791320" y="2666880"/>
              <a:chExt cx="3200400" cy="340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5943600" y="3733560"/>
                <a:ext cx="251460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Order Management Syste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3600" y="4495680"/>
                <a:ext cx="2971800" cy="0"/>
              </a:xfrm>
              <a:prstGeom prst="line">
                <a:avLst/>
              </a:prstGeom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13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01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5200" y="4038480"/>
                <a:ext cx="0" cy="45720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52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010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5333760"/>
                <a:ext cx="1067040" cy="7333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 in Foreign Offic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34520" y="4495680"/>
                <a:ext cx="228600" cy="8380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53280" y="2666880"/>
                <a:ext cx="0" cy="1066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28600" y="2133720"/>
            <a:ext cx="8610480" cy="1206000"/>
            <a:chOff x="228600" y="2133720"/>
            <a:chExt cx="8610480" cy="1206000"/>
          </a:xfrm>
        </p:grpSpPr>
        <p:grpSp>
          <p:nvGrpSpPr>
            <p:cNvPr id="154" name=""/>
            <p:cNvGrpSpPr/>
            <p:nvPr/>
          </p:nvGrpSpPr>
          <p:grpSpPr>
            <a:xfrm>
              <a:off x="228600" y="2133720"/>
              <a:ext cx="2971800" cy="1206000"/>
              <a:chOff x="228600" y="2133720"/>
              <a:chExt cx="2971800" cy="120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1981080" y="221004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" y="28195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752120" y="236232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979640" y="2513160"/>
                <a:ext cx="301680" cy="301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2133720"/>
              <a:ext cx="2971800" cy="1206000"/>
              <a:chOff x="5867280" y="2133720"/>
              <a:chExt cx="2971800" cy="120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867280" y="213372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152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819520"/>
                <a:ext cx="152424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6600" y="228600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29400" y="2438640"/>
                <a:ext cx="15228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200400" y="2286000"/>
            <a:ext cx="2666880" cy="76320"/>
            <a:chOff x="3200400" y="2286000"/>
            <a:chExt cx="2666880" cy="76320"/>
          </a:xfrm>
        </p:grpSpPr>
        <p:sp>
          <p:nvSpPr>
            <p:cNvPr id="167" name=""/>
            <p:cNvSpPr/>
            <p:nvPr/>
          </p:nvSpPr>
          <p:spPr>
            <a:xfrm>
              <a:off x="3200400" y="2286000"/>
              <a:ext cx="106668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190760" y="2286000"/>
              <a:ext cx="75960" cy="763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2362320"/>
              <a:ext cx="167616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76720" y="19810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Wide Area Network Link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666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(TCP Socket opened by customer, persists during life of FIX session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ystem Connectivit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867280"/>
            <a:ext cx="3505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© FIX Protocol Limited - March, 2000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5:59:51Z</dcterms:created>
  <dc:creator>Jim Northey</dc:creator>
  <dc:description/>
  <dc:language>en-US</dc:language>
  <cp:lastModifiedBy>Jacob</cp:lastModifiedBy>
  <cp:lastPrinted>2001-09-25T15:24:55Z</cp:lastPrinted>
  <dcterms:modified xsi:type="dcterms:W3CDTF">2004-08-26T23:22:24Z</dcterms:modified>
  <cp:revision>108</cp:revision>
  <dc:subject/>
  <dc:title>General</dc:title>
</cp:coreProperties>
</file>