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E330-D97B-4B43-82F5-AF8EF01685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think of a FIX message like a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er fields are like the address and return address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fields are like the the contents of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iler fields are like a seal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defined field values are also permitted.  Though there is no stand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at the top is the message as it would appear on the wi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^ char represent ASCII SOH ch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values of the fields are ASCII chars, even fields defined as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ore complicated messages may have fields that contain binary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XML message is a lot big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 is not as widely used for pre-trade and trade messages due the latency and performance issues associated with parsing and transmitting XM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and performance are often important requirements for pre-trade and trade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note that I used the word “standard” here loosely, as the standard is really a series of specifications that are more like an implementation guideline which is constantly evolving, rather than a completely defined specification with no ambigu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historically aimed at wide industry acceptance, adoption, and addition of new features rather than being 100% precisely defined specification which is tightly controlled.  User defined fields and messages are per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ost systems only implement a portion of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es exchanging data can choose to extended or vary from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X engines from the major vendors have rich functionality, enterprise integration, enterprise level operational features, and are well suppo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inves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fund managers, hedge funds, corporate financial departmen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Fidelity, Vanguar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/deal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s, investment ban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Goldman Sachs, Merrill Lynch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 &amp; EC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, electronic crossing networks, alternative trading system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NYSE, NASDAQ, Instine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industry util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data providers, industry associations, clearing &amp; settlement organization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Reuters, Bloomberg, SWIF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&amp; services vend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FIX into their product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products suppor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it was used for equ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new products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now includes support for fixed income, derivatives, and 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continues to evolve and add support for new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worldw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initially used in the US, where it is now used by most fi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support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gained traction in the UK &amp;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was embraced in the Asia &amp; Pacific R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 session layer communications is most common for communications between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ware and other transports or commonly use internally within companies for communications between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811E-AA7A-48A8-AB2C-2E755671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417F-C9FA-45DD-8BD0-3B6DE037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B5C-ACF3-407F-B92B-8BBCE4D3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4F3B-90C8-4E0B-AB56-29463D21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F028-F6D8-44D6-879D-40103F88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7D00-E76F-4AD0-8408-7F18089C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0980-2FA7-46FE-B979-F9C92CAB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F822-3A97-408C-869F-3EF0894D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8E78-E0D1-478D-BE73-CC0DAFD1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4B30-F74F-42E1-BCE4-844672FF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AB07-9EA5-46C7-B394-A1B713E6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508-B866-4BBF-BACF-A973483A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4560-69E5-4E14-9FFB-54BAF018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BFBC-CBC0-4861-B15D-F4A2DADD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7241-BB11-4E75-89B4-61CFFD8F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1779-B2FA-4073-90FC-46E98844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775A-9A6A-4815-8804-9A4D604C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5DB7-C0BB-4F2A-9D44-0EC1B7DB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A70-B978-4248-B91F-F7F5C285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23AB-ABF4-4B95-AADE-5DFE0D2D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118-9553-43D8-875A-51894D18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B5C-9ED3-4811-9C66-05DA7636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7B5B-466A-43BE-8098-67E40200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DE65-0E09-40D5-988E-1D8EA553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907E-D409-44AE-88DB-0E26BA210D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2354-4B31-40AA-9B1F-DF3CA591E6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quickfixengine.org/" TargetMode="External"/><Relationship Id="rId2" Type="http://schemas.openxmlformats.org/officeDocument/2006/relationships/hyperlink" Target="http://www.quickfixj.org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ixprotocol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inancial Information eXchang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FIX)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ed by Brian Drisc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BarCampNYC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86AA-544D-4538-8BEF-BBF73966A9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mess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s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ype, length, sequence number, sender/target, encoding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ssion &amp; application d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l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, checks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77B-5C9B-4366-8C0A-F645C58034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4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tb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nd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u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2017800"/>
            <a:ext cx="43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+ msg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rder – sing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/replace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e Capture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B9E-D698-4D55-9C34-9A46C2E134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field the specification defi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 – A unique numb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ame – Field name with no spa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 – String, char, price, qty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on – Definition of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Name – XML element 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849-0FF4-48D1-B543-15F48A54B9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defined fields &amp; ms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fiel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user defined fields have a tag number &gt;= 5000 and &lt; 9999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use only user defined fields have a tag number &gt;= 1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types start with char “U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D0D-CD4A-4827-AAA8-3C6CD7717A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message syntax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=Valu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components to each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ag&gt;=&lt;Value&gt;&lt;Delimite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ag&gt; is the tag number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Value&gt; is the value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limiter&gt; is ASCII SOH charac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schema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messages only, no sess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g=Value msgs can contain FIXML in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186-40B8-4777-8E4A-56329AF69E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imple example scen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05740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ney manager sends an order to a broker, and receives an execution/fill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38080" y="3429000"/>
            <a:ext cx="2361960" cy="1600200"/>
            <a:chOff x="838080" y="3429000"/>
            <a:chExt cx="2361960" cy="1600200"/>
          </a:xfrm>
        </p:grpSpPr>
        <p:sp>
          <p:nvSpPr>
            <p:cNvPr id="139" name=""/>
            <p:cNvSpPr/>
            <p:nvPr/>
          </p:nvSpPr>
          <p:spPr>
            <a:xfrm>
              <a:off x="91404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uy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21398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638680" y="3429000"/>
            <a:ext cx="2361960" cy="1600200"/>
            <a:chOff x="5638680" y="3429000"/>
            <a:chExt cx="2361960" cy="1600200"/>
          </a:xfrm>
        </p:grpSpPr>
        <p:sp>
          <p:nvSpPr>
            <p:cNvPr id="144" name=""/>
            <p:cNvSpPr/>
            <p:nvPr/>
          </p:nvSpPr>
          <p:spPr>
            <a:xfrm>
              <a:off x="624816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ell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184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51116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200400" y="4191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3733920"/>
            <a:ext cx="1600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a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257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 Session Layer Transport via TCP used with tag=value message syntax where the buy side initiates connection and the sell side ac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D73-13B7-4EA5-926A-FD05F3EF30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ical simplified msg fl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connects TCP socket to predefined port on sell side FIX Eng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accepts TCP conn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a Logon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a Logon msg b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New Order – Single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acknowledging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containing fi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0F9-CBCB-4AD4-996E-634214E78F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y 5000 IBM @ 110.7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240" y="3124080"/>
            <a:ext cx="3922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ad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BeginString (indicates FIX 4.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=Body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5=MsgType (new ord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9=SenderCompID (AFUNDMG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argetCompID (ABROK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4=MsgSeqNum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il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=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3124080"/>
            <a:ext cx="3770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dy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=ClOrderID (client order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=HandleInst (automated exe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5=Symbol (IB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4=Side (bu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ransact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8=OrderQty (50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=OrdType (Lim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4=Price (110.7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81080"/>
            <a:ext cx="838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FIX.4.2^9=251^35=D^49=AFUNDMGR^56=ABROKER^34=2^ 52=20030615-01:14:49^11=12345^21=1^ 55=IBM^54=1^ 60=2003061501:14:49^38=5000^40=2^44=110.75^10=12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66E-4095-4272-99AE-3776DF284C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e message in FIX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2017800"/>
            <a:ext cx="323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ingTime&gt;20030615-01:14:49&lt;/Sending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FUNDMG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BROKER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76720" y="20178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Application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lOrdID&gt;123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lOrd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andlInst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ymbol&gt;IB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ymbo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ide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3061501:14: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&gt;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Type Value="2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Price&gt;110..75&lt;/Pri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Application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3E7-5BB7-4D76-80DC-CBA1574A25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egrating applications w/ FIX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your own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time consum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priate in some situ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n existing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existing FIX Eng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platforms and languages suppor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 it into th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FC8-AD47-43CB-9E1B-C6E71B2556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FIX Protoco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 messaging standard for the real time electronic exchange of securities transaction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078-D673-423E-BD4F-A338ED46E5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 source FIX Eng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++, Java, .Net, Python, &amp; Ruby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, Linux, Solaris, Mac OS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quickfixengin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/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100% Java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quickfixj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07E-19D2-4D23-A239-CE0D9413A5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engine vend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X engine vendors (20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of the major vendor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Tools (owned by NY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YFIX 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onFIX (owned by Orc soft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* I am affiliated with NYF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21D-4F99-4515-91D1-66530C33C8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Info on the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fixprotocol.o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- The web site for FIX Protocol L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 for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of the info in this presentation came from this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0A3-871A-48B3-BB5E-4F4ABEB3CA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uses FI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itutional investors (the buy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ker/dealers (the sell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hanges &amp; EC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industry ut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&amp; services vend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9C7-A46C-459E-B78F-7E5A8469AA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t used fo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, ECNs, &amp; brokers/ dealers to distribute market data, quot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ey mangers use it to send orders and receive executions from brok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 &amp; ECNs to receive orders or quotes &amp; report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to allocate &amp; confirm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are only a few examp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61F-1393-427D-84E4-A7268241AA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ducts &amp; regions suppor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Products Sup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In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a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worldw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ericas, UK, Europe, Asia, Pacific R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2C7F-BA74-45C4-9D19-4451BFF752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ow is the standard governed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public domain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d &amp; managed by FIX Protocol, Lt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non-profit financial community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ple hundred member fi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lunteers from member firms &amp; industry work on the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F832-EB85-4FD9-A787-AA14E54833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brief history of F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2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d between Fidelity &amp; Salo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 1995 - FIX 2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spec relea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 1995 – FIX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6 – FIX 4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US equity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use in 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8 – FIX 4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mental rel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 – FIX 4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nterna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ity market data &amp; allo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tures, options, F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1 – FIX 4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income,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3 – FIX 4.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rms &amp; trade repor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6 – FIX 5.0 &amp; T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FX, improved session/transpor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AF46-A543-460B-8349-FA441F72BA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 &amp; application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&amp; terminate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messages in sequence w/ 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leve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&amp; application layers decoupled in FIX 5.0. Tightly coupled prior to th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D7D1-D165-4A80-B8D9-37CCF0B74D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ort independ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, X.25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ervices HT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QSeries, Tibco Rv, 29 West LBM, J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rans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FF1-81CE-4227-9AEA-51E73CF1E4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2:58:38Z</dcterms:created>
  <dc:creator>Brian Driscoll</dc:creator>
  <dc:description/>
  <dc:language>en-US</dc:language>
  <cp:lastModifiedBy>Brian Driscoll</cp:lastModifiedBy>
  <dcterms:modified xsi:type="dcterms:W3CDTF">2008-03-15T07:01:57Z</dcterms:modified>
  <cp:revision>30</cp:revision>
  <dc:subject/>
  <dc:title>Introduction To  The Financial Information Exchange  (FIX) Protocol</dc:title>
</cp:coreProperties>
</file>