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0B2D-F5BB-4EE8-BFCD-5F3E4AC367D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think of a FIX message like a 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er fields are like the address and return address on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fields are like the the contents of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iler fields are like a seal on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defined field values are also permitted.  Though there is no stand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 at the top is the message as it would appear on the wi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^ char represent ASCII SOH ch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values of the fields are ASCII chars, even fields defined as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ore complicated messages may have fields that contain binary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XML message is a lot big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 is not as widely used for pre-trade and trade messages due the latency and performance issues associated with parsing and transmitting XM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y and performance are often important requirements for pre-trade and trade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note that I used the word “standard” here loosely, as the standard is really a series of specifications that are more like an implementation guideline which is constantly evolving, rather than a completely defined specification with no ambigu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historically aimed at wide industry acceptance, adoption, and addition of new features rather than being 100% precisely defined specification which is tightly controlled.  User defined fields and messages are per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most systems only implement a portion of th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es exchanging data can choose to extended or vary from th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X engines from the major vendors have rich functionality, enterprise integration, enterprise level operational features, and are well suppo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inves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 fund managers, hedge funds, corporate financial department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Fidelity, Vanguard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r/deal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rs, investment bank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Goldman Sachs, Merrill Lynch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s &amp; EC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s, electronic crossing networks, alternative trading system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NYSE, NASDAQ, Instine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industry util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data providers, industry associations, clearing &amp; settlement organization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Reuters, Bloomberg, SWIF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&amp; services vend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 FIX into their product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products suppor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it was used for equ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for new products was added as the standard e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now includes support for fixed income, derivatives, and F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ndard continues to evolve and add support for new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worldw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initially used in the US, where it is now used by most fi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support was added as the standard e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it gained traction in the UK &amp; Eur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t was embraced in the Asia &amp; Pacific R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 session layer communications is most common for communications between compa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ware and other transports or commonly use internally within companies for communications between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8831-DF52-4AC3-AC1C-FAF90123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4355-D501-430E-83C7-65B17E02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3E6-A5F1-476B-81D4-943AB7E2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2A2A-7A72-4360-8548-8524C8D0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EFA8-4483-495B-B693-DA9A2464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D5B7-C0D4-41F9-B229-6510BCD5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867B-5BCC-4478-B988-4A5F88F3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896D-86DC-4405-985F-29AC40FD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2BD7-C476-4F50-8726-0820363C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A76E-4C02-4FEB-9821-7E267AA6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1656-E2BE-40AC-B46E-14E577DA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6CAD-E8B0-4AC9-BD41-FE96DFB8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8C54-209F-46AF-92B9-CC7C2741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FC52-8053-4E0F-81BA-E3DF04E1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FA24-8350-4590-8B4D-3258A29F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E553-BEC3-4530-86DC-3A778353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9977-E977-4747-877F-38F36D64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5246-AF07-427D-BBAF-7ED94690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7EC1-537B-42F2-9BD7-7C0BE01A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4CC1-6660-4D78-AD09-01DF75DA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FCA5-92D7-40A4-94ED-5DDDF6BD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CE50-4795-4E0F-9491-05A40865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B78B-0121-4F14-AA04-7714361F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50C1-DD28-4857-B13A-8DD5C128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1FC7-A73D-4C11-9250-BFD081DA7C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7BB2-4231-4DEE-8F5A-1E05A4CA62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quickfixengine.org/" TargetMode="External"/><Relationship Id="rId2" Type="http://schemas.openxmlformats.org/officeDocument/2006/relationships/hyperlink" Target="http://www.quickfixj.org/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ixprotocol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Financial Information eXchang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(FIX)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ed by Brian Drisc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BarCampNYC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7F09-9A61-4382-811F-083F42C91F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mess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ssage s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ype, length, sequence number, sender/target, encoding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ssion &amp; application dat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l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ture, checks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2BE5-6D49-40B9-AA27-8A5EE371AE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4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level ms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rtb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nd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out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7960" y="2017800"/>
            <a:ext cx="43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evel ms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+ msg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rder – sing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cancel/replace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cancel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e Capture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0B7C-0E76-4137-B43D-47B4ACEC8E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 fiel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field the specification defin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 – A unique numb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ame – Field name with no spa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 – String, char, price, qty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on – Definition of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ML Name – XML element 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D4C6-E792-4F4A-BD80-0E282D0C86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defined fields &amp; ms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efined fiel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user defined fields have a tag number &gt;= 5000 and &lt; 9999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use only user defined fields have a tag number &gt;= 10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efined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types start with char “U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D1CB-894B-499A-864F-B010B2D2A3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wo message syntax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=Valu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components to each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Tag&gt;=&lt;Value&gt;&lt;Delimiter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ag&gt; is the tag number of th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Value&gt; is the value of th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Delimiter&gt; is ASCII SOH charac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ML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ML schema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messages only, no session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g=Value msgs can contain FIXML in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0114-B065-4358-BB84-827CC26081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simple example scen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05740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ney manager sends an order to a broker, and receives an execution/fill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838080" y="3429000"/>
            <a:ext cx="2361960" cy="1600200"/>
            <a:chOff x="838080" y="3429000"/>
            <a:chExt cx="2361960" cy="1600200"/>
          </a:xfrm>
        </p:grpSpPr>
        <p:sp>
          <p:nvSpPr>
            <p:cNvPr id="139" name=""/>
            <p:cNvSpPr/>
            <p:nvPr/>
          </p:nvSpPr>
          <p:spPr>
            <a:xfrm>
              <a:off x="914040" y="3429000"/>
              <a:ext cx="1676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uy side trading 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8080" y="3429000"/>
              <a:ext cx="18288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6880" y="342900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2139840" y="4029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X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638680" y="3429000"/>
            <a:ext cx="2361960" cy="1600200"/>
            <a:chOff x="5638680" y="3429000"/>
            <a:chExt cx="2361960" cy="1600200"/>
          </a:xfrm>
        </p:grpSpPr>
        <p:sp>
          <p:nvSpPr>
            <p:cNvPr id="144" name=""/>
            <p:cNvSpPr/>
            <p:nvPr/>
          </p:nvSpPr>
          <p:spPr>
            <a:xfrm>
              <a:off x="6248160" y="3429000"/>
              <a:ext cx="1676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ell side trading 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71840" y="3429000"/>
              <a:ext cx="18288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42900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5111640" y="4029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X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200400" y="4191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3733920"/>
            <a:ext cx="1600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a 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2578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 Session Layer Transport via TCP used with tag=value message syntax where the buy side initiates connection and the sell side ac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5D22-E29E-4332-9D9C-B279318701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ical simplified msg fl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connects TCP socket to predefined port on sell side FIX Eng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accepts TCP conn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sends a Logon ms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a Logon msg b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sends New Order – Single ms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Execution Rpt acknowledging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Execution Rpt containing fi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AF77-3ADD-48E3-B71D-31F588E7F6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y 5000 IBM @ 110.7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240" y="3124080"/>
            <a:ext cx="39229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ader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=BeginString (indicates FIX 4.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=Body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5=MsgType (new ord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9=SenderCompID (AFUNDMG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6=TargetCompID (ABROK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4=MsgSeqNum 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=Send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ailer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=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3124080"/>
            <a:ext cx="3770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dy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=ClOrderID (client order 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1=HandleInst (automated exe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5=Symbol (IB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4=Side (bu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6=Transact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8=OrderQty (50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=OrdType (Lim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4=Price (110.7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=Send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981080"/>
            <a:ext cx="838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=FIX.4.2^9=251^35=D^49=AFUNDMGR^56=ABROKER^34=2^ 52=20030615-01:14:49^11=12345^21=1^ 55=IBM^54=1^ 60=2003061501:14:49^38=5000^40=2^44=110.75^10=12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0F0E-5576-4CF7-83E1-62F84E8B3D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me message in FIX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2017800"/>
            <a:ext cx="323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IX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IXMLMessag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ndingTime&gt;20030615-01:14:49&lt;/Sending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n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mpID&gt;AFUNDMG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omp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en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arge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mpID&gt;ABROKER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omp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arge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Hea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76720" y="20178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ApplicationMessag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lOrdID&gt;123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lOrd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andlInst Value="1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Instrum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ymbol&gt;IB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ymbo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Instrum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ide Value="1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ransact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3061501:14:4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ransact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057400"/>
            <a:ext cx="312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Qty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Qty&gt;5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Q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Qty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Type Value="2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Price&gt;110..75&lt;/Pri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ApplicationMessa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IXMLMessa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IX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86DA-3E43-47EC-9C8D-827201F44B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tegrating applications w/ FIX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your own FIX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time consuming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ropriate in some situ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n existing FIX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existing FIX Eng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platforms and languages suppor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 it into th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B235-4B57-4CFD-A7DA-7963BEFB86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FIX Protoco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 messaging standard for the real time electronic exchange of securities transaction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F0E7-B0A9-445C-B6FB-C0D9566C84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 source FIX Engi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++, Java, .Net, Python, &amp; Ruby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, Linux, Solaris, Mac OS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quickfixengine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FIX/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100% Java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quickfixj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7531-EA32-4CB7-B3CE-C8F3660154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engine vend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FIX engine vendors (20+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of the major vendors 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Tools (owned by NY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YFIX 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eronFIX (owned by Orc soft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* I am affiliated with NYF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384D-2B75-43C9-AA1B-30918BC6E6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Info on the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fixprotocol.or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- The web site for FIX Protocol Lt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 foru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ch of the info in this presentation came from this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47AD-1308-4B5D-BCE0-49D4021941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o uses FI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itutional investors (the buy s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ker/dealers (the sell s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hanges &amp; EC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industry ut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&amp; services vend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E076-86E0-4FAF-AE51-38D588DD4C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t used fo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by exchanges, ECNs, &amp; brokers/ dealers to distribute market data, quot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ey mangers use it to send orders and receive executions from brok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by exchanges &amp; ECNs to receive orders or quotes &amp; report tr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to allocate &amp; confirm tr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are only a few examp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7D96-490C-4587-A22A-5B4EE23925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ducts &amp; regions suppor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Products Suppo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In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a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worldw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ericas, UK, Europe, Asia, Pacific Ri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6AF3-094D-4C36-B317-D5F8427F1B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ow is the standard governed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a public domain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wned &amp; managed by FIX Protocol, Lt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a non-profit financial community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ple hundred member fi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lunteers from member firms &amp; industry work on the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D4C5-AA74-4F6C-97E4-1A61E38F21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brief history of FI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2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d between Fidelity &amp; Salo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n 1995 - FIX 2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spec relea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obso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 1995 – FIX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obso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6 – FIX 4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US equity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use in 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8 – FIX 4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mental rel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0 – FIX 4.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nterna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ity market data &amp; allo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tures, options, F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1 – FIX 4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income, X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3 – FIX 4.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rms &amp; trade repor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6 – FIX 5.0 &amp; T1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FX, improved session/transpor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9C72-0FF6-46E1-B688-FC564155F1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 &amp; application 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&amp; terminate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messages in sequence w/ 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iness leve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&amp; application layers decoupled in FIX 5.0. Tightly coupled prior to th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301-5EF9-4DAE-B974-4B99AF8A24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ort independ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 sess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, X.25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services HTT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le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QSeries, Tibco Rv, 29 West LBM, J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rans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6594-073F-465C-884E-9E2CCEE66D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2:58:38Z</dcterms:created>
  <dc:creator>Brian Driscoll</dc:creator>
  <dc:description/>
  <dc:language>en-US</dc:language>
  <cp:lastModifiedBy>Brian Driscoll</cp:lastModifiedBy>
  <dcterms:modified xsi:type="dcterms:W3CDTF">2008-03-15T07:01:57Z</dcterms:modified>
  <cp:revision>30</cp:revision>
  <dc:subject/>
  <dc:title>Introduction To  The Financial Information Exchange  (FIX) Protocol</dc:title>
</cp:coreProperties>
</file>