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1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</p:sldIdLst>
  <p:sldSz cx="9144000" cy="6858000"/>
  <p:notesSz cx="91186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9118800" cy="6858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012680" y="6072840"/>
            <a:ext cx="3486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b">
            <a:spAutoFit/>
          </a:bodyPr>
          <a:p>
            <a:pPr>
              <a:lnSpc>
                <a:spcPct val="93000"/>
              </a:lnSpc>
              <a:tabLst>
                <a:tab algn="l" pos="0"/>
                <a:tab algn="ctr" pos="819000"/>
                <a:tab algn="ctr" pos="1638360"/>
                <a:tab algn="ctr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3/11/0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body"/>
          </p:nvPr>
        </p:nvSpPr>
        <p:spPr>
          <a:xfrm>
            <a:off x="1689120" y="3303720"/>
            <a:ext cx="5487840" cy="28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600440" y="6072840"/>
            <a:ext cx="3486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b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819000"/>
                <a:tab algn="ctr" pos="1638360"/>
                <a:tab algn="ctr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fld id="{DC9D05D5-E6A2-4A41-8D50-4FBAEC851B68}" type="slidenum">
              <a:rPr b="0" lang="en-GB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60400" y="497880"/>
            <a:ext cx="4400640" cy="2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b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ctr" pos="819000"/>
                <a:tab algn="ctr" pos="1638360"/>
                <a:tab algn="ctr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   JavaOne 2003   |   Session #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ldImg"/>
          </p:nvPr>
        </p:nvSpPr>
        <p:spPr>
          <a:xfrm>
            <a:off x="0" y="5209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body"/>
          </p:nvPr>
        </p:nvSpPr>
        <p:spPr>
          <a:xfrm>
            <a:off x="1689120" y="3303720"/>
            <a:ext cx="5487840" cy="28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guarantees of fairness using synchronized keywo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d to use block structured lock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formance of synchronized on multiprocessors potentially poor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olation of encapsulation: the object’s lock is exposed to all cli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ldImg"/>
          </p:nvPr>
        </p:nvSpPr>
        <p:spPr>
          <a:xfrm>
            <a:off x="2886120" y="884160"/>
            <a:ext cx="3117960" cy="23385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body"/>
          </p:nvPr>
        </p:nvSpPr>
        <p:spPr>
          <a:xfrm>
            <a:off x="1689120" y="3303720"/>
            <a:ext cx="5487840" cy="28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ways use the lock-try-finally-unlock patter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ldImg"/>
          </p:nvPr>
        </p:nvSpPr>
        <p:spPr>
          <a:xfrm>
            <a:off x="2886120" y="884160"/>
            <a:ext cx="3117960" cy="23385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body"/>
          </p:nvPr>
        </p:nvSpPr>
        <p:spPr>
          <a:xfrm>
            <a:off x="1689120" y="4495680"/>
            <a:ext cx="548784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62000" indent="0">
              <a:lnSpc>
                <a:spcPct val="93000"/>
              </a:lnSpc>
              <a:spcBef>
                <a:spcPts val="425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y-lock variants acquire the lock only if it is available, returning true if lock was acquired, false otherwi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ldImg"/>
          </p:nvPr>
        </p:nvSpPr>
        <p:spPr>
          <a:xfrm>
            <a:off x="2886120" y="884160"/>
            <a:ext cx="3117960" cy="23385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body"/>
          </p:nvPr>
        </p:nvSpPr>
        <p:spPr>
          <a:xfrm>
            <a:off x="1689120" y="3303360"/>
            <a:ext cx="5487840" cy="3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62000" indent="-162000">
              <a:lnSpc>
                <a:spcPct val="93000"/>
              </a:lnSpc>
              <a:spcBef>
                <a:spcPts val="425"/>
              </a:spcBef>
              <a:buClr>
                <a:srgbClr val="000000"/>
              </a:buClr>
              <a:buFont typeface="Time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lable doesn't leave room for arguments, so it is normally implemented as an inner cl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ldImg"/>
          </p:nvPr>
        </p:nvSpPr>
        <p:spPr>
          <a:xfrm>
            <a:off x="2886120" y="884160"/>
            <a:ext cx="3117960" cy="23385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1689120" y="3303720"/>
            <a:ext cx="5487840" cy="28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SR 166 headed by Doug Lea, creator of popular package util.concurrent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which the new utilities are bas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-presenting at JavaOne with Joe Bowbe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ldImg"/>
          </p:nvPr>
        </p:nvSpPr>
        <p:spPr>
          <a:xfrm>
            <a:off x="2886120" y="884160"/>
            <a:ext cx="3117960" cy="23385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body"/>
          </p:nvPr>
        </p:nvSpPr>
        <p:spPr>
          <a:xfrm>
            <a:off x="1689120" y="3303720"/>
            <a:ext cx="5487840" cy="28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es and interfaces in green are discussed in the tal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es and interfaces in orange are referred to brief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mention of anything el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lit between three packages: j.u.c, j.u.c.locks, and j.u.c.ato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ldImg"/>
          </p:nvPr>
        </p:nvSpPr>
        <p:spPr>
          <a:xfrm>
            <a:off x="2886120" y="884160"/>
            <a:ext cx="3117960" cy="23385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body"/>
          </p:nvPr>
        </p:nvSpPr>
        <p:spPr>
          <a:xfrm>
            <a:off x="1689120" y="3303720"/>
            <a:ext cx="5487840" cy="28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threads accessing one instance may interfere with each 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, operations may be interleaved in such a way that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Int method returns the same value twice in a r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ldImg"/>
          </p:nvPr>
        </p:nvSpPr>
        <p:spPr>
          <a:xfrm>
            <a:off x="2886120" y="884160"/>
            <a:ext cx="3117960" cy="233856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143000" y="590148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372024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84364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4428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14300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284364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454428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143000" y="5105160"/>
            <a:ext cx="5029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5029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143000" y="1996560"/>
            <a:ext cx="495288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143000" y="5105160"/>
            <a:ext cx="5029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72024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143000" y="590148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372024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84364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4428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14300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84364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454428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43000" y="5105160"/>
            <a:ext cx="5029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5029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5029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1143000" y="1996560"/>
            <a:ext cx="495288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372024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1143000" y="590148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372024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284364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4428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114300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284364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454428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143000" y="1996560"/>
            <a:ext cx="495288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72024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914400" y="6597720"/>
            <a:ext cx="510552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b">
            <a:spAutoFit/>
          </a:bodyPr>
          <a:p>
            <a:pPr>
              <a:lnSpc>
                <a:spcPct val="98000"/>
              </a:lnSpc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99999"/>
                </a:solidFill>
                <a:latin typeface="Arial"/>
              </a:rPr>
              <a:t>|   Concurrency Utilities in Practi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23720" y="6599520"/>
            <a:ext cx="5270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b" anchorCtr="1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48153-6C35-4A74-B84D-17F90EF83423}" type="slidenum">
              <a:rPr b="0" lang="en-GB" sz="900" spc="-1" strike="noStrike">
                <a:solidFill>
                  <a:srgbClr val="99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040" y="1599840"/>
            <a:ext cx="794844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Font typeface="Arial"/>
              <a:buChar char="─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Font typeface="Arial"/>
              <a:buChar char="─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3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3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7122960" y="3571560"/>
            <a:ext cx="1800360" cy="16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88000"/>
              </a:lnSpc>
              <a:spcBef>
                <a:spcPts val="575"/>
              </a:spcBef>
              <a:spcAft>
                <a:spcPts val="575"/>
              </a:spcAft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ava.sun.com/javaone/s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914400" y="6597720"/>
            <a:ext cx="510552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b">
            <a:spAutoFit/>
          </a:bodyPr>
          <a:p>
            <a:pPr>
              <a:lnSpc>
                <a:spcPct val="98000"/>
              </a:lnSpc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99999"/>
                </a:solidFill>
                <a:latin typeface="Arial"/>
              </a:rPr>
              <a:t>|   Concurrency Utilities in Practic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23720" y="6599520"/>
            <a:ext cx="5270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b" anchorCtr="1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11279-43AC-4E93-9E58-234CEB1DDC07}" type="slidenum">
              <a:rPr b="0" lang="en-GB" sz="900" spc="-1" strike="noStrike">
                <a:solidFill>
                  <a:srgbClr val="99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00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buClr>
                <a:srgbClr val="cc0000"/>
              </a:buClr>
              <a:buFont typeface="Wingdings" charset="2"/>
              <a:buChar char="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spcBef>
                <a:spcPts val="49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spcBef>
                <a:spcPts val="49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914400" y="6597720"/>
            <a:ext cx="510552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b">
            <a:spAutoFit/>
          </a:bodyPr>
          <a:p>
            <a:pPr>
              <a:lnSpc>
                <a:spcPct val="98000"/>
              </a:lnSpc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99999"/>
                </a:solidFill>
                <a:latin typeface="Arial"/>
              </a:rPr>
              <a:t>|   Concurrency Utilities in Practi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23720" y="6599520"/>
            <a:ext cx="5270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b" anchorCtr="1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FB466-EC3F-46A8-B02D-6E6F0495F435}" type="slidenum">
              <a:rPr b="0" lang="en-GB" sz="900" spc="-1" strike="noStrike">
                <a:solidFill>
                  <a:srgbClr val="99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58808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1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1150920" y="5028840"/>
            <a:ext cx="457056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50000"/>
          </a:bodyPr>
          <a:p>
            <a:pPr indent="0">
              <a:lnSpc>
                <a:spcPct val="83000"/>
              </a:lnSpc>
              <a:spcBef>
                <a:spcPts val="726"/>
              </a:spcBef>
              <a:spcAft>
                <a:spcPts val="7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70440" indent="-141840">
              <a:lnSpc>
                <a:spcPct val="83000"/>
              </a:lnSpc>
              <a:spcBef>
                <a:spcPts val="726"/>
              </a:spcBef>
              <a:spcAft>
                <a:spcPts val="726"/>
              </a:spcAft>
              <a:buClr>
                <a:srgbClr val="cc0000"/>
              </a:buClr>
              <a:buFont typeface="Symbol" charset="2"/>
              <a:buChar char="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571320" indent="-114120">
              <a:lnSpc>
                <a:spcPct val="83000"/>
              </a:lnSpc>
              <a:spcBef>
                <a:spcPts val="726"/>
              </a:spcBef>
              <a:spcAft>
                <a:spcPts val="726"/>
              </a:spcAft>
              <a:buClr>
                <a:srgbClr val="cc0000"/>
              </a:buClr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799920" indent="-114120">
              <a:lnSpc>
                <a:spcPct val="83000"/>
              </a:lnSpc>
              <a:spcBef>
                <a:spcPts val="726"/>
              </a:spcBef>
              <a:spcAft>
                <a:spcPts val="726"/>
              </a:spcAft>
              <a:buClr>
                <a:srgbClr val="cc0000"/>
              </a:buClr>
              <a:buFont typeface="Symbol" charset="2"/>
              <a:buChar char="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028520" indent="-114120">
              <a:lnSpc>
                <a:spcPct val="83000"/>
              </a:lnSpc>
              <a:spcBef>
                <a:spcPts val="726"/>
              </a:spcBef>
              <a:spcAft>
                <a:spcPts val="726"/>
              </a:spcAft>
              <a:buClr>
                <a:srgbClr val="cc0000"/>
              </a:buClr>
              <a:buFont typeface="StarSymbol"/>
              <a:buChar char="›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028520" indent="-114120">
              <a:lnSpc>
                <a:spcPct val="83000"/>
              </a:lnSpc>
              <a:spcBef>
                <a:spcPts val="726"/>
              </a:spcBef>
              <a:spcAft>
                <a:spcPts val="726"/>
              </a:spcAft>
              <a:buClr>
                <a:srgbClr val="000000"/>
              </a:buClr>
              <a:buFont typeface="StarSymbol"/>
              <a:buChar char="›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028520" indent="-114120">
              <a:lnSpc>
                <a:spcPct val="83000"/>
              </a:lnSpc>
              <a:spcBef>
                <a:spcPts val="726"/>
              </a:spcBef>
              <a:spcAft>
                <a:spcPts val="726"/>
              </a:spcAft>
              <a:buClr>
                <a:srgbClr val="000000"/>
              </a:buClr>
              <a:buFont typeface="StarSymbol"/>
              <a:buChar char="›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urrency Utilities in Practi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4952880"/>
            <a:ext cx="50292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im Peier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ior Artisans, LL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141560" y="3809880"/>
            <a:ext cx="490824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ing java.util.concur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Fixed using synchron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914400" y="1981080"/>
            <a:ext cx="7848720" cy="32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PseudoRandomUsingSyn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mplements PseudoRandom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synchronized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int nextInt(int n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s = seed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eed = computeNext(see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s % 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computeNext(int s) { return …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seed = …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Better fix using L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914400" y="1676520"/>
            <a:ext cx="7848720" cy="47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PseudoRandomUsingLoc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mplements PseudoRandom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int nextInt(int n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lock.lock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try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s = seed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eed = computeNext(see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s % 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} finally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lock.unlock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computeNext(int s) { return …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seed = …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final Lock lock = new ReentrantLock(tr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: Lock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7720" y="1828440"/>
            <a:ext cx="7874280" cy="396252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Lock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void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lock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void lockInterruptibly()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boolean tryLock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boolean tryLock(long timeout, TimeUnit unit)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                   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void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unlock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…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ReentrantLock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implements Lock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ReentrantLock(boolean fair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…}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indent="0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Ensure consistency via excl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Even better fix using AtomicInte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1752480"/>
            <a:ext cx="7772400" cy="40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PseudoRandomUsingAtomi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mplements PseudoRandom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int nextInt(int n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or (;;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s =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seed.get(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nexts = computeNext(s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seed.compareAndSet(s, nexts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s % 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computeNext(int s) { return …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final AtomicInteger seed = new AtomicInteger(…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view: AtomicInteg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37720" y="1828440"/>
            <a:ext cx="7874280" cy="441972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AtomicInteger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extends Number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      implements Serializabl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AtomicInteger(int initialCount)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{…}</a:t>
            </a:r>
            <a:br>
              <a:rPr sz="1800"/>
            </a:b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boolean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compareAndSet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int expect, int update) {…}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boolean weakCompareAndSet(int expect, int update){…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nt get();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int getAndSet(int newValue) {…}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int getAndAdd(int delta) {…}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int addAndGet(int delta) {…}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int getAndIncrement() {…}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int getAndDecrement() {…}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int incrementAndGet() {…}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int decrementAndGet() {…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indent="0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…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Ensure consistency via atomic 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040" y="2057040"/>
            <a:ext cx="79484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eRollTask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peatedly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rolls a d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ordinate tasks with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CountDownLa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Executo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to run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veral DieRollTask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ime multiple trials of each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st methodology disclai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Exercise the implem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950760" y="1736640"/>
            <a:ext cx="7772400" cy="43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int NTASKS;    //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#instances of DieRoll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int NROLLS;    //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#die rolls per task in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PseudoRandom rn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final CountDownLatch startSignal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                             </a:t>
            </a: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new CountDownLatch(1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final CountDownLatch doneSignal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                             </a:t>
            </a: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new CountDownLatch(NTASKS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DieRollTask implements Runnabl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void run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startSignal.awai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or (int i = 0; i &lt; NROLLS; ++i) </a:t>
            </a: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rnd.nextInt(6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doneSignal.countDow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 /*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IE handling omitted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Coordinate tasks with CountDownLa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view: CountDownLatch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7720" y="1828440"/>
            <a:ext cx="7874280" cy="304812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aiting threads are released when count become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untDownLatch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untDownLatch(int initialCount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…}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untDown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await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await(long timeout, TimeUnit unit)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              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long getCount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indent="0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Coordinate thread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950760" y="1736640"/>
            <a:ext cx="7772400" cy="417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final Executor threadPool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ecutors.newFixedThreadPool(NTASKS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ong trial(final int NROLL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PseudoRandom r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3333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or (int j = 0; j &lt; NTASKS; ++j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threadPool.execute(new DieRollTask(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…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give tasks time to wait for startSignal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ong start = System.nanoTime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3333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cc3333"/>
                </a:solidFill>
                <a:latin typeface="Courier New"/>
              </a:rPr>
              <a:t>startSignal.countDown();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/ release tas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doneSignal.await();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/ wait ‘til d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System.nanoTime() – star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Use Executor to run several DieRollTa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: Executo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7720" y="1828800"/>
            <a:ext cx="7874280" cy="403848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ecutor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ecutes submitted 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ecuto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ecut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Runnable task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indent="0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ecutors ha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static factory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ecutors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static ExecutorService   //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extends Executor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newFixedThreadPool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int nThreads) {…}</a:t>
            </a:r>
            <a:br>
              <a:rPr sz="2000"/>
            </a:b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…many more…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Decouple task submission from exec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45960" y="2057400"/>
            <a:ext cx="8778960" cy="1440"/>
          </a:xfrm>
          <a:prstGeom prst="line">
            <a:avLst/>
          </a:prstGeom>
          <a:ln w="54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45960" y="5943600"/>
            <a:ext cx="8778960" cy="1440"/>
          </a:xfrm>
          <a:prstGeom prst="line">
            <a:avLst/>
          </a:prstGeom>
          <a:ln w="54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38320" y="3166920"/>
            <a:ext cx="7059600" cy="14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marL="457200" indent="-45720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ctr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view concurrency ut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ctr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resent several 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ctr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easure and evaluate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914400" y="1600200"/>
            <a:ext cx="7772400" cy="45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PseudoRandomImpl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seudoRandom newInstance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ollection&lt;PseudoRandomImpl&gt; impl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int NTRIALS = …; //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#trials/imple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int NROLLS  = …; //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#die rolls/t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or (PseudoRandomImpl impl : impls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ong nanos =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seudoRandom rn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or (int k = 0; k &lt; NTRIALS; ++k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nd = impl.newInstance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nanos += trial(NROLLS, rn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long avg = nanos / (NTRIALS * NROLLS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rnd != null) report(rnd.getClass(), avg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Time multiple trials of each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14040" y="1828800"/>
            <a:ext cx="794844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machine, one JVM, one plat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things that could affect resul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cking of fields on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che locality of generated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sholds for native compi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ground user and system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Test methodology disclai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Results on 3.2 GHz Pentium 4, -client (Wind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915840" y="1600200"/>
          <a:ext cx="7944120" cy="479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1600200"/>
                    <a:ext cx="7944120" cy="479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914040" y="1828800"/>
            <a:ext cx="794844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mo Function: A function that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memorize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ts previous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ptimization for recursive function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vented by Prof. Donald Michie, Univ. of Edinbur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oal: Implement memoiz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unction wrap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 concurrent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pute each result at most o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terials: ConcurrentHashMap, Future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Implement "Memoizer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914400" y="73080"/>
            <a:ext cx="7862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moize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moize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990720" y="1752480"/>
            <a:ext cx="7772400" cy="43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Computable&lt;A, V&gt;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V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omput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A arg) throws Exceptio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mplements Computable&lt;String, BigInteger&gt;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BigInteger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omput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String arg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/ after deep thought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new BigInteger("2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unction f = new Function(); // </a:t>
            </a: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f = Memoize(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.compute("1 + 1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gt;&gt;&gt;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Generic computation and example of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838080" y="2895480"/>
            <a:ext cx="769644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4572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914400" y="175248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Memoize1&lt;A, V&gt; implements Computable&lt;A, V&gt;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Map&lt;A, V&gt; cache = new HashMap&lt;A, V&gt;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Computable&lt;A, V&gt; c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Memoize1(Computable&lt;A, V&gt; c) { this.c = c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synchronized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V compute(A arg) throws...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!cache.containsKey(arg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ache.put(arg,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.compute(arg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cache.get(arg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putable&lt;String, BigInteger&gt; f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 = new Functio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 = new Memoize1&lt;String, BigInteger&gt;(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.compute("1 + 1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gt;&gt;&gt;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moize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914400" y="106668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Caching the computed res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914400" y="2819520"/>
            <a:ext cx="75438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62120" y="4876920"/>
            <a:ext cx="784836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4572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moize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950760" y="1736640"/>
            <a:ext cx="7772400" cy="325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Memoize2&lt;A, V&gt; implements Computable&lt;A, V&gt;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Map&lt;A, V&gt; cache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new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ncurrentHashMap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A, V&gt;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Computable&lt;A, V&gt; c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Memoize2(Computable&lt;A, V&gt; c) { this.c = c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 compute(A arg) throws Exception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!cache.containsKey(arg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ache.put(arg,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.compute(arg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cache.get(arg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No synchronization, but computes may overl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moize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914400" y="175248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Memoize3&lt;A, V&gt; implements Computable&lt;A, V&gt;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Map&lt;A, Future&lt;V&gt;&gt; cache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new ConcurrentHashMap&lt;A,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Future&lt;V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gt;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 compute(final A arg) throws Exception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!cache.containsKey(arg)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allable&lt;V&gt; eval = new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allable&lt;V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 call() throws Exception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.compute(arg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utureTask&lt;V&gt; ft = new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FutureTask&lt;V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eval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ache.put(arg, ft);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ft.run(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cache.get(arg).get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Overlapping computes less lik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view: Callables and Futur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7874280" cy="487656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Callabl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is invoked and returns a value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1600" spc="-1" strike="noStrike">
                <a:solidFill>
                  <a:srgbClr val="008000"/>
                </a:solidFill>
                <a:latin typeface="Courier New"/>
              </a:rPr>
              <a:t>Callable&lt;V&gt;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V </a:t>
            </a:r>
            <a:r>
              <a:rPr b="1" lang="en-GB" sz="1600" spc="-1" strike="noStrike">
                <a:solidFill>
                  <a:srgbClr val="008000"/>
                </a:solidFill>
                <a:latin typeface="Courier New"/>
              </a:rPr>
              <a:t>call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() throws Exception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Futur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holds result of asynchronous computation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1600" spc="-1" strike="noStrike">
                <a:solidFill>
                  <a:srgbClr val="008000"/>
                </a:solidFill>
                <a:latin typeface="Courier New"/>
              </a:rPr>
              <a:t>Future&lt;V&gt;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V </a:t>
            </a:r>
            <a:r>
              <a:rPr b="1" lang="en-GB" sz="1600" spc="-1" strike="noStrike">
                <a:solidFill>
                  <a:srgbClr val="008000"/>
                </a:solidFill>
                <a:latin typeface="Courier New"/>
              </a:rPr>
              <a:t>get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() throws InterruptedException, ExecutionException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V get(long timeout, TimeUnit unit) throws IE, …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void </a:t>
            </a:r>
            <a:r>
              <a:rPr b="1" lang="en-GB" sz="1600" spc="-1" strike="noStrike">
                <a:solidFill>
                  <a:srgbClr val="008000"/>
                </a:solidFill>
                <a:latin typeface="Courier New"/>
              </a:rPr>
              <a:t>cancel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(boolean mayInterrupt)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boolean isCancelled()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boolean isDone()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FutureTask</a:t>
            </a:r>
            <a:r>
              <a:rPr b="1" lang="en-GB" sz="1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s a Runnable Future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1600" spc="-1" strike="noStrike">
                <a:solidFill>
                  <a:srgbClr val="008000"/>
                </a:solidFill>
                <a:latin typeface="Courier New"/>
              </a:rPr>
              <a:t>FutureTask&lt;V&gt;</a:t>
            </a:r>
            <a:r>
              <a:rPr b="1" lang="en-GB" sz="16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mplements Future&lt;V&gt;, Runnable {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tureTask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Callable&lt;V&gt;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) {…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  …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Representing asynchronous ta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moize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990720" y="1600200"/>
            <a:ext cx="7772400" cy="48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Memoize&lt;A, V&gt; implements Computable&lt;A, V&gt;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ConcurrentMap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&lt;A, Future&lt;V&gt;&gt; cache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new ConcurrentHashMap&lt;A, Future&lt;V&gt;&gt;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Computable&lt;A, V&gt; c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Memoize(Computable&lt;A, V&gt; c) { this.c = c;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V compute(final A arg) throws Exception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uture&lt;V&gt; f = cache.get(arg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 (f == null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allable&lt;V&gt; eval = new Callable&lt;V&gt;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V call() throws Exception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c.compute(arg)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utureTask&lt;V&gt; ft = new FutureTask&lt;V&gt;(eval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 = cache.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putIfAbsent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arg, f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 (f == null) { f = ft; </a:t>
            </a: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ft.run()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;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urn f.ge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Exactly one compute() for each argument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peake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5960" y="2057400"/>
            <a:ext cx="8778960" cy="1440"/>
          </a:xfrm>
          <a:prstGeom prst="line">
            <a:avLst/>
          </a:prstGeom>
          <a:ln w="54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5960" y="5943600"/>
            <a:ext cx="8778960" cy="1440"/>
          </a:xfrm>
          <a:prstGeom prst="line">
            <a:avLst/>
          </a:prstGeom>
          <a:ln w="54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3432240"/>
            <a:ext cx="65534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lvl="1">
              <a:lnSpc>
                <a:spcPct val="98000"/>
              </a:lnSpc>
              <a:spcBef>
                <a:spcPts val="1437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0000"/>
                </a:solidFill>
                <a:latin typeface="Arial"/>
              </a:rPr>
              <a:t>Tim Peierls</a:t>
            </a:r>
            <a:r>
              <a:rPr b="0" i="1" lang="en-GB" sz="3000" spc="-1" strike="noStrike">
                <a:solidFill>
                  <a:srgbClr val="000000"/>
                </a:solidFill>
                <a:latin typeface="Arial"/>
              </a:rPr>
              <a:t> is a member of the JSR 166 Expert Grou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nside Memoiz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990720" y="1676520"/>
            <a:ext cx="7772400" cy="40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Future&lt;V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f = cache.get(arg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f == null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allable&lt;V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eval = new Callable&lt;V&gt;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 call() throws Exception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.compute(arg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FutureTask&lt;V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ft = new FutureTask&lt;V&gt;(eval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 = cache.putIfAbsent(arg, f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f == null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 = f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ft.run(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f.get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Exactly one compute() for each argument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914040" y="1828800"/>
            <a:ext cx="794844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wingWorker 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forms GUI-related work in a new thr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eated by Hans Mu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oal: Reimplement using java.util.concur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 more features with less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terials: FutureTask, Execu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Reimplementation of SwingWor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914400" y="73080"/>
            <a:ext cx="7862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wingWorker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wingWorker Revisit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990720" y="16765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bstract class SwingWorker&lt;V&gt;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tected abstract V construc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tected void finished() {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void star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V ge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ngWorker&lt;String&gt; sw = new SwingWorker&lt;String&gt;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tected String construct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read.sleep(500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 "Done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tected void finished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bel.setText(get(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bel.setText("Working...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.star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914400" y="106668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Perform GUI-related work in a new thr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>
              <a:lnSpc>
                <a:spcPct val="85000"/>
              </a:lnSpc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wingWorker Revisit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14400" y="1752480"/>
            <a:ext cx="914400" cy="60984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ing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914400" y="4800600"/>
            <a:ext cx="914400" cy="60948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371600" y="2438280"/>
            <a:ext cx="0" cy="2286000"/>
          </a:xfrm>
          <a:prstGeom prst="line">
            <a:avLst/>
          </a:prstGeom>
          <a:ln w="507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4572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2057400" y="1066680"/>
            <a:ext cx="64771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8645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wingWorker Reimplemen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990720" y="1066680"/>
            <a:ext cx="777240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838080" y="883440"/>
            <a:ext cx="784872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abstract class SwingWorker&lt;V&gt;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GB" sz="1600" spc="-1" strike="noStrike">
                <a:solidFill>
                  <a:srgbClr val="008000"/>
                </a:solidFill>
                <a:latin typeface="Courier New"/>
              </a:rPr>
              <a:t>FutureTask&lt;V&gt;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task =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 new FutureTask&lt;V&gt;(new Callable&lt;V&gt;()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 public V call() throws Exception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   return </a:t>
            </a:r>
            <a:r>
              <a:rPr b="1" lang="en-GB" sz="1600" spc="-1" strike="noStrike">
                <a:solidFill>
                  <a:srgbClr val="336699"/>
                </a:solidFill>
                <a:latin typeface="Courier New"/>
              </a:rPr>
              <a:t>construct()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 }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 })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 protected void done()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   EventQueue.invokeLater(new Runnable()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     public void run()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       </a:t>
            </a:r>
            <a:r>
              <a:rPr b="1" lang="en-GB" sz="1600" spc="-1" strike="noStrike">
                <a:solidFill>
                  <a:srgbClr val="336699"/>
                </a:solidFill>
                <a:latin typeface="Courier New"/>
              </a:rPr>
              <a:t>finished()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     }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 })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  }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tected abstract V construct() throws Exceptio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tected void finished {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ublic void start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new Thread(task).start()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ublic V get() throws IE, ExecutionException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eturn task.ge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nside SwingWork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990720" y="1066680"/>
            <a:ext cx="777240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990720" y="1903320"/>
            <a:ext cx="75438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utureTask&lt;V&gt; task =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 new FutureTask&lt;V&gt;(new Callable&lt;V&gt;()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 public V call() throws Exception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   return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onstruct(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 }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 })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 protected void done()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  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ventQueue.invokeLat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new Runnable()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     public void run()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      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finished(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     }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 }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}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Calls </a:t>
            </a:r>
            <a:r>
              <a:rPr b="1" lang="en-US" sz="2800" spc="-1" strike="noStrike">
                <a:solidFill>
                  <a:srgbClr val="105d8c"/>
                </a:solidFill>
                <a:latin typeface="Courier New"/>
              </a:rPr>
              <a:t>construct</a:t>
            </a: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, then invokes </a:t>
            </a:r>
            <a:r>
              <a:rPr b="1" lang="en-US" sz="2800" spc="-1" strike="noStrike">
                <a:solidFill>
                  <a:srgbClr val="105d8c"/>
                </a:solidFill>
                <a:latin typeface="Courier New"/>
              </a:rPr>
              <a:t>finish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wingWorker Revisit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990720" y="1066680"/>
            <a:ext cx="777240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14400" y="1759320"/>
            <a:ext cx="79246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bstract class SwingWorker&lt;V&gt; implements Future&lt;V&gt;, Runnabl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void run() { </a:t>
            </a:r>
            <a:r>
              <a:rPr b="1" lang="en-US" sz="1600" spc="-1" strike="noStrike">
                <a:solidFill>
                  <a:srgbClr val="336699"/>
                </a:solidFill>
                <a:latin typeface="Courier New"/>
              </a:rPr>
              <a:t>task.run()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;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V get() throws IE, ExecutionException {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   return </a:t>
            </a:r>
            <a:r>
              <a:rPr b="1" lang="en-US" sz="1600" spc="-1" strike="noStrike">
                <a:solidFill>
                  <a:srgbClr val="336699"/>
                </a:solidFill>
                <a:latin typeface="Courier New"/>
              </a:rPr>
              <a:t>task.get()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 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V get(long timeout, TimeUnit unit) throws ... {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   return </a:t>
            </a:r>
            <a:r>
              <a:rPr b="1" lang="en-US" sz="1600" spc="-1" strike="noStrike">
                <a:solidFill>
                  <a:srgbClr val="336699"/>
                </a:solidFill>
                <a:latin typeface="Courier New"/>
              </a:rPr>
              <a:t>task.get(timeout, unit)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 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public boolean cancel(boolean mayInterruptIfRunning)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boolean isCancelled()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boolean isDone()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Implements Future and Runn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wingWorker Revisit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990720" y="1066680"/>
            <a:ext cx="777240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990720" y="1677960"/>
            <a:ext cx="75438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bstract class SwingWorker&lt;V&gt; ...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atic final Executor EXECUTOR = new Executor() {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public void execute(Runnable command) {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    </a:t>
            </a:r>
            <a:r>
              <a:rPr b="1" lang="en-US" sz="1800" spc="-1" strike="noStrike">
                <a:solidFill>
                  <a:srgbClr val="336699"/>
                </a:solidFill>
                <a:latin typeface="Courier New"/>
              </a:rPr>
              <a:t>new Thread(command).start()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  }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vate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Execu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execu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= EXECUTO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void setExecutor(Executor e)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Executor getExecutor()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void start() {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executor.execute(this)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Pluggable Execu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wingWorker Revisit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1066680"/>
            <a:ext cx="777240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914400" y="1726560"/>
            <a:ext cx="754380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llel execution in cached thread pool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ngWorker sw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ecutor 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 =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Executors.newCachedThreadPool(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.execute(sw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quential execution on a single thread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 =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Executors.newSingleThreadExecutor(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.execute(sw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Executor cho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839880" y="1899720"/>
            <a:ext cx="7953120" cy="4186440"/>
          </a:xfrm>
          <a:prstGeom prst="rect">
            <a:avLst/>
          </a:prstGeom>
          <a:noFill/>
          <a:ln w="0">
            <a:noFill/>
          </a:ln>
        </p:spPr>
        <p:txBody>
          <a:bodyPr rIns="4572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currency utilities enable simple, powerful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ncel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t with time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luggable execu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wingWorker =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Futur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Callabl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Runnabl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Execu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3000"/>
              </a:lnSpc>
              <a:spcBef>
                <a:spcPts val="14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3000"/>
              </a:lnSpc>
              <a:spcBef>
                <a:spcPts val="14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te: Also see </a:t>
            </a:r>
            <a:r>
              <a:rPr b="0" lang="en-GB" sz="2400" spc="-1" strike="noStrike">
                <a:solidFill>
                  <a:srgbClr val="cc6600"/>
                </a:solidFill>
                <a:latin typeface="Arial"/>
              </a:rPr>
              <a:t>http://foxtrot.sourceforge.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wingWork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950240" cy="489420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seudoRand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emoiz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wingWor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oundedBuff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bCraw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9880" y="1899720"/>
            <a:ext cx="7953120" cy="4186440"/>
          </a:xfrm>
          <a:prstGeom prst="rect">
            <a:avLst/>
          </a:prstGeom>
          <a:noFill/>
          <a:ln w="0">
            <a:noFill/>
          </a:ln>
        </p:spPr>
        <p:txBody>
          <a:bodyPr rIns="4572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oundedBuffer inte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mplement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oundedBuffer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ith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Con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ercise the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are with other implem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ternative approach for single producer / single consumer settings using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Exchan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914400" y="1905120"/>
            <a:ext cx="7772400" cy="38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BoundedBuff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E&gt;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**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 Adds element to buffer, blocking unti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 buffer not full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void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put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E element) throws InterruptedExceptio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**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 Removes element from buffer, blocks unt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 buffer not emp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tak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 throws InterruptedExceptio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BoundedBuffer inte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914400" y="1752480"/>
            <a:ext cx="7772400" cy="46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BoundedBufferUsingCondition&lt;E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mplements BoundedBuffer&lt;E&gt;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Lock lock = new ReentrantLoc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 Condition notFull  = lock.newConditio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 Condition notEmpty = lock.newConditio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E[] items;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nt putIndex, takeIndex, siz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void put(E element) throws I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lock.loc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ry 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while (size == items.length) notFull.awai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tems[putIndex++] = element; ++siz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 (putIndex == items.length) putIndex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notEmpty.signa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 finally {        /*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IE handling omitted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lock.unlock(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                   //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to be continued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Implement BoundedBuffer with Con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: Cond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7720" y="1828800"/>
            <a:ext cx="7874280" cy="457200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dition analogous to Object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ait/notify/notify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ndition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await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await(long timeout, TimeUnit unit)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                  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awaitUninterruptibly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signal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signalAll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…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eate Conditions with a 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Lock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…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Condition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newCondition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Multiple wait 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990720" y="1752480"/>
            <a:ext cx="7772400" cy="41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/ …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continu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E take() throws InterruptedException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ock.lock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ry {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while (size == 0) notEmpty.await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 element = items[takeIndex++]; --size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takeIndex == items.length) takeIndex =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3333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cc3333"/>
                </a:solidFill>
                <a:latin typeface="Courier New"/>
              </a:rPr>
              <a:t>notFull.signal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 finally {        /*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IE handling omitted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ock.unlock(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Implement BoundedBuffer with Condition, cont’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94880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cation of producer/consumer patte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lemented using thread p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lem: Implementation blocks on fe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ution: Pool runs each fetch as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nkle: Need concurrent coll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nkle: Denial of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lution: Schedule periodic fet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in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914400" y="1905120"/>
            <a:ext cx="7772400" cy="338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WebCrawler webCrawler = …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BlockingQueue&lt;URL&gt; rq = …; // </a:t>
            </a:r>
            <a:r>
              <a:rPr b="1" i="1" lang="en-GB" sz="2000" spc="-1" strike="noStrike">
                <a:solidFill>
                  <a:srgbClr val="cc6600"/>
                </a:solidFill>
                <a:latin typeface="Courier New"/>
              </a:rPr>
              <a:t>result que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uture&lt;?&gt; crawl =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webCrawler.crawl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startUrl, </a:t>
            </a: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rq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while (!foundEnough()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URL found = </a:t>
            </a: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rq.poll(timeout, unit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found == null) break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rocess(foun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 finally {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rawl.cancel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true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Application of producer/consumer patte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view: BlockingQueu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37720" y="1828800"/>
            <a:ext cx="7874280" cy="457200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lvl="3" indent="0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BlockingQueue&lt;E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extends Queue&lt;E&gt;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boolean add(E e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boolean offer(E e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boolean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off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E e, long timeout, TimeUnit unit)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                  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E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poll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long timeout, TimeUnit unit) throws I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void put(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e)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E take() throws I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remainingCapacity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drainTo(Collection&lt;? super E&gt; elements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int drainTo(Collection&lt;? Super E&gt; elements,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int maxElements);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Blocking version of java.util.Que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914400" y="1828800"/>
            <a:ext cx="7772400" cy="39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WebCrawler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ExecutorService pool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Executors.newCachedThreadPool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uture&lt;?&gt; crawl(URL startUrl, BlockingQueue&lt;URL&gt; rq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pool.submit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new </a:t>
            </a: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CrawlTask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startUrl, rq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CrawlTask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implements Runnabl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/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*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Gets URL contents and parses list of URL link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* from them; may block indefinite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List&lt;URL&gt; fetchLinks(URL url) throws IOException {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Implemented using cached thread p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990720" y="1752480"/>
            <a:ext cx="7772400" cy="47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class CrawlTask implements Runnabl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ublic void run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for (seen.add(url); !done(); url = poll(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for (URL link : fetchLinks(url)) add(link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if (!</a:t>
            </a:r>
            <a:r>
              <a:rPr b="1" lang="en-GB" sz="1600" spc="-1" strike="noStrike">
                <a:solidFill>
                  <a:srgbClr val="cc6600"/>
                </a:solidFill>
                <a:latin typeface="Courier New"/>
              </a:rPr>
              <a:t>rq.offer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(url, timeout, unit)) retur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 catch (IOException e) 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// skip over </a:t>
            </a:r>
            <a:r>
              <a:rPr b="1" i="1" lang="en-GB" sz="1600" spc="-1" strike="noStrike">
                <a:solidFill>
                  <a:srgbClr val="000000"/>
                </a:solidFill>
                <a:latin typeface="Courier New"/>
              </a:rPr>
              <a:t>url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, couldn’t get its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void add(URL u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if (!seen.contains(u)) { seen.add(u); </a:t>
            </a:r>
            <a:r>
              <a:rPr b="1" lang="en-GB" sz="1600" spc="-1" strike="noStrike">
                <a:solidFill>
                  <a:srgbClr val="cc3333"/>
                </a:solidFill>
                <a:latin typeface="Courier New"/>
              </a:rPr>
              <a:t>pq.offer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(u);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boolean done() { return url == null;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URL poll() { return </a:t>
            </a:r>
            <a:r>
              <a:rPr b="1" lang="en-GB" sz="1600" spc="-1" strike="noStrike">
                <a:solidFill>
                  <a:srgbClr val="cc3333"/>
                </a:solidFill>
                <a:latin typeface="Courier New"/>
              </a:rPr>
              <a:t>pq.poll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();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URL url = startUrl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final Set&lt;URL&gt; seen = new HashSet&lt;URL&gt;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final Queue&lt;URL&gt; </a:t>
            </a:r>
            <a:r>
              <a:rPr b="1" lang="en-GB" sz="1600" spc="-1" strike="noStrike">
                <a:solidFill>
                  <a:srgbClr val="cc3333"/>
                </a:solidFill>
                <a:latin typeface="Courier New"/>
              </a:rPr>
              <a:t>pq = new PriorityQueue&lt;URL&gt;(…, searchOrder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Problem: Implementation blocks on fe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currency Utiliti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14040" y="1217520"/>
            <a:ext cx="3886200" cy="518184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xecu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Execu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cc6600"/>
                </a:solidFill>
                <a:latin typeface="Arial"/>
              </a:rPr>
              <a:t>Executor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ScheduledExecutor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Call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Fu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cc6600"/>
                </a:solidFill>
                <a:latin typeface="Arial"/>
              </a:rPr>
              <a:t>ScheduledFu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Delay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cc6600"/>
                </a:solidFill>
                <a:latin typeface="Arial"/>
              </a:rPr>
              <a:t>Completion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cc6600"/>
                </a:solidFill>
                <a:latin typeface="Arial"/>
              </a:rPr>
              <a:t>ThreadPoolExecu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cc6600"/>
                </a:solidFill>
                <a:latin typeface="Arial"/>
              </a:rPr>
              <a:t>ScheduledThreadPoolExecu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stractExecutor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Execu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FutureT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ecutorCompletion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Que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Blocking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ConcurrentLinked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nkedBlocking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cc6600"/>
                </a:solidFill>
                <a:latin typeface="Arial"/>
              </a:rPr>
              <a:t>ArrayBlocking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ynchronous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PriorityBlocking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lay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143000"/>
            <a:ext cx="396216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45720" tIns="46080" bIns="46080" anchor="t">
            <a:normAutofit/>
          </a:bodyPr>
          <a:p>
            <a:pPr marL="341280" indent="-341280">
              <a:lnSpc>
                <a:spcPct val="6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964040" y="1218960"/>
            <a:ext cx="3898800" cy="5180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ncurrent Coll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Concurrent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ConcurrentHash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pyOnWriteArray{List,Set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6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ynchroniz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CountDownLat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maph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cc6600"/>
                </a:solidFill>
                <a:latin typeface="Arial"/>
              </a:rPr>
              <a:t>Exchan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yclicBarr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6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TimeUn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oc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Lo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Con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ReadWriteLo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stractQueuedSynchroniz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ockSup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ReentrantLo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entrantReadWriteLo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om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Atomic[Type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[Type]Arr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[Type]FieldUpd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{Markable,Stampable}Re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990720" y="1752480"/>
            <a:ext cx="7772400" cy="41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void run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or (seen.put(url, true); !done(); url = poll(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pool.execute(new Runnable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public void run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or (URL link : fetchLinks(url)) add(link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 (!</a:t>
            </a: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rq.offer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url, timeout, unit)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{ done = true; return;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 catch (IOException e) { /* skip */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}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boolean done() { return done || url == null;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latile boolean done = fals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continued on next slide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Solution: Pool runs each fetch as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990720" y="1752480"/>
            <a:ext cx="7772400" cy="43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BlockingQueu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URL&gt; pq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new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PriorityBlockingQueu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URL&gt;(CAP, searchOrder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ncurrentMap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URL, Boolean&gt; seen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new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ncurrentHashMap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URL, Boolean&gt;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void add(URL url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seen.putIfAbsent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url, true) == nul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cc3333"/>
                </a:solidFill>
                <a:latin typeface="Courier New"/>
              </a:rPr>
              <a:t>pq.put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url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URL poll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url = </a:t>
            </a: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pq.poll(timeout, unit)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Wrinkle: Need concurrent coll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view: PriorityBlockingQueu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874280" cy="182880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PriorityBlockingQueue&lt;E&gt; </a:t>
            </a:r>
            <a:br>
              <a:rPr sz="1800"/>
            </a:b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mplements BlockingQueue&lt;E&gt;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PriorityBlockingQueue(int initialCapacity,</a:t>
            </a:r>
            <a:br>
              <a:rPr sz="1800"/>
            </a:b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                        Comparator&lt;? super E&gt; comp);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…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BlockingQueue with least element available fir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view: ConcurrentMap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914400" y="2133720"/>
            <a:ext cx="7873920" cy="220968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ncurrentMap&lt;K,V&gt;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xtends Map&lt;K,V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V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putIfAbsent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K key, V value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V replace(K key, V value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boolean replace(K key, V oldValue, V newValue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boolean remove(K key, V value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Atomic get-and-maybe-set methods for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990720" y="1752480"/>
            <a:ext cx="7772400" cy="34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PeriodicHostTask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implements Runnabl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String hos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Queue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&lt;URL&gt; hq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new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ConcurrentLinkedQueue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&lt;URL&gt;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void run() { // called periodic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URL url =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hq.poll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 (url != null) </a:t>
            </a: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pq.put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url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id add(URL url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hq.offer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url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Wrinkle: Denial of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990720" y="1752480"/>
            <a:ext cx="7772400" cy="43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final ScheduledExecutorService sched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Executors.newScheduledThreadPool(1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final ConcurrentMap&lt;String,PeriodicHostTask&gt; hosts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new ConcurrentHashMap&lt;String,PeriodicHostTask&gt;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id add(URL url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 (seen.putIfAbsent(url, true) != null) retur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eriodicHostTask hostTask = new PeriodicHostTas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eriodicHostTask existing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hosts.putIfAbsent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url.getHost(), hostTask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 (existing == null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existing = hostTask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sched.scheduleWithFixedDelay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hostTask, 0, 1, TimeUnit.SECONDS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existing.add(url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Resolution: Schedule periodic fet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view: ScheduledExecutorServi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7720" y="1980720"/>
            <a:ext cx="7874280" cy="304812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1400" spc="-1" strike="noStrike">
                <a:solidFill>
                  <a:srgbClr val="008000"/>
                </a:solidFill>
                <a:latin typeface="Courier New"/>
              </a:rPr>
              <a:t>ScheduledExecutorService </a:t>
            </a:r>
            <a:br>
              <a:rPr sz="1400"/>
            </a:br>
            <a:r>
              <a:rPr b="1" lang="en-GB" sz="1400" spc="-1" strike="noStrike">
                <a:solidFill>
                  <a:srgbClr val="008000"/>
                </a:solidFill>
                <a:latin typeface="Courier New"/>
              </a:rPr>
              <a:t>     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extends ExecutorService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&lt;V&gt; ScheduledFuture&lt;V&gt; schedule(Callable&lt;V&gt; c,</a:t>
            </a:r>
            <a:br>
              <a:rPr sz="1400"/>
            </a:b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                          long delay, TimeUnit uni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ScheduledFuture&lt;?&gt; schedule(Runnable r, long delay, TimeUnit uni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ScheduledFuture&lt;?&gt; scheduleAtFixedRate(Runnable r, long initDelay, </a:t>
            </a:r>
            <a:br>
              <a:rPr sz="1400"/>
            </a:b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                                 long period, TimeUnit uni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ScheduledFuture&lt;?&gt; </a:t>
            </a:r>
            <a:r>
              <a:rPr b="1" lang="en-GB" sz="1400" spc="-1" strike="noStrike">
                <a:solidFill>
                  <a:srgbClr val="008000"/>
                </a:solidFill>
                <a:latin typeface="Courier New"/>
              </a:rPr>
              <a:t>scheduleWithFixedDelay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(Runnable r, long initDelay, </a:t>
            </a:r>
            <a:br>
              <a:rPr sz="1400"/>
            </a:b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                                    long delay, TimeUnit uni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Periodic and one-shot delayed ta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914040" y="1066320"/>
            <a:ext cx="794844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n’t use low level constructs when more appropriate high level ones exist, e.g.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lang="en-GB" sz="2400" spc="-1" strike="noStrike">
                <a:solidFill>
                  <a:srgbClr val="008000"/>
                </a:solidFill>
                <a:latin typeface="Arial"/>
              </a:rPr>
              <a:t>Queu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, </a:t>
            </a:r>
            <a:r>
              <a:rPr b="0" lang="en-GB" sz="2400" spc="-1" strike="noStrike">
                <a:solidFill>
                  <a:srgbClr val="008000"/>
                </a:solidFill>
                <a:latin typeface="Arial"/>
              </a:rPr>
              <a:t>BlockingQueu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, or </a:t>
            </a:r>
            <a:r>
              <a:rPr b="0" lang="en-GB" sz="2400" spc="-1" strike="noStrike">
                <a:solidFill>
                  <a:srgbClr val="008000"/>
                </a:solidFill>
                <a:latin typeface="Arial"/>
              </a:rPr>
              <a:t>Exchange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 in producer/consumer desig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lang="en-GB" sz="2400" spc="-1" strike="noStrike">
                <a:solidFill>
                  <a:srgbClr val="008000"/>
                </a:solidFill>
                <a:latin typeface="Arial"/>
              </a:rPr>
              <a:t>Executo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nstead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3000"/>
              </a:lnSpc>
              <a:spcBef>
                <a:spcPts val="726"/>
              </a:spcBef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200" spc="-1" strike="noStrike">
                <a:solidFill>
                  <a:srgbClr val="008000"/>
                </a:solidFill>
                <a:latin typeface="Courier New"/>
              </a:rPr>
              <a:t>new Thread(runnable).start(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asuring performance of concurrent programs is hard, but must be d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simple examples first, but remember that they won’t necessarily 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 skeptical; instrument as much as possible to confirm that your program is really wor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 More Inform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950240" cy="489420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PI docs for 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java.util.concur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Tiger download or on Sun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ug Lea's concurrency-interest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Arial"/>
              </a:rPr>
              <a:t>http://gee.cs.oswego.edu/dl/concurrent/dist/docs/index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current Programming in 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ast Word in Swing Thre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http://java.sun.com/products/jfc/tsc/articles/threads/threads3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articles 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0">
              <a:lnSpc>
                <a:spcPct val="83000"/>
              </a:lnSpc>
              <a:spcBef>
                <a:spcPts val="726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http://java.sun.com/products/jfc/tsc/articles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3000"/>
              </a:lnSpc>
              <a:spcBef>
                <a:spcPts val="1437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58808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500" spc="-1" strike="noStrike">
                <a:solidFill>
                  <a:srgbClr val="000000"/>
                </a:solidFill>
                <a:latin typeface="Arial"/>
              </a:rPr>
              <a:t>Q&amp;A</a:t>
            </a:r>
            <a:endParaRPr b="1" lang="en-US" sz="1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23720" y="6599520"/>
            <a:ext cx="5270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b" anchorCtr="1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2A9CF-D8D4-4627-B2FB-D91EBD2D10A2}" type="slidenum">
              <a:rPr b="0" lang="en-GB" sz="900" spc="-1" strike="noStrike">
                <a:solidFill>
                  <a:srgbClr val="99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vea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950240" cy="489420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cess modifiers omitted unless relev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rruptedException abbreviated as 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st interrupt handling omitted for brevity, but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very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important in real lif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rrelevant methods, fields, and arguments elided with “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pplemental Materia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Comparing three implem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914400" y="1569960"/>
          <a:ext cx="7924680" cy="4938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569960"/>
                    <a:ext cx="7924680" cy="493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Compare hand-rolled to library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9" name=""/>
          <p:cNvGraphicFramePr/>
          <p:nvPr/>
        </p:nvGraphicFramePr>
        <p:xfrm>
          <a:off x="838080" y="1752480"/>
          <a:ext cx="7772400" cy="4497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752480"/>
                    <a:ext cx="7772400" cy="449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94844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y not be signific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de testing methodology (e.g., no warmu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fferent results obtained using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–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it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significant, a possible explan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tSpot not caching final fields across code blo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brary implementations have been tu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al: Don’t reinvent the wheel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ArrayBlockingQueue faster than hand-rolle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950760" y="1600200"/>
            <a:ext cx="7772400" cy="48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DataBuff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ebuf =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…,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fbuf = …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chang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DataBuffer&gt; exch = new Exchanger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xec.execute(new Runnable() { // produc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DataBuffer buf = ebuf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oid run() {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while (buf != null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putIntoBuff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bu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buf.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isFull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)  buf = exch.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chang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bu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 } /*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IE handling omitted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*/ }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xec.execute(new Runnable() { // consu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DataBuffer buf = fbuf;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oid run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while (buf != null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takeFromBuff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bu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buf.isEmpty()) buf = exch.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chang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bu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 } /*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IE handling omitted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*/ }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Alternative for 1 producer / 1 consumer set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: Exchang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Atomic exchange between thre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914400" y="1828800"/>
            <a:ext cx="7772400" cy="13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chang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T&gt;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 exchange(T x) throws IE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 exchange(T x, long timeout, TimeUnit un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        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hrows I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7948440" cy="47228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une thread p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move HostTasks after poll fail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ed </a:t>
            </a:r>
            <a:r>
              <a:rPr b="0" lang="en-GB" sz="2400" spc="-1" strike="noStrike">
                <a:solidFill>
                  <a:srgbClr val="008000"/>
                </a:solidFill>
                <a:latin typeface="Arial"/>
              </a:rPr>
              <a:t>ScheduledFutur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o cancel 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tter approach using asynchronous I/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duces context switching overh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uld use </a:t>
            </a:r>
            <a:r>
              <a:rPr b="0" lang="en-GB" sz="2400" spc="-1" strike="noStrike">
                <a:solidFill>
                  <a:srgbClr val="008000"/>
                </a:solidFill>
                <a:latin typeface="Arial"/>
              </a:rPr>
              <a:t>java.nio.channels.Selecto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wrapped as a </a:t>
            </a:r>
            <a:r>
              <a:rPr b="0" lang="en-GB" sz="2400" spc="-1" strike="noStrike">
                <a:solidFill>
                  <a:srgbClr val="008000"/>
                </a:solidFill>
                <a:latin typeface="Arial"/>
              </a:rPr>
              <a:t>CompletionServic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lt;List&lt;URL&gt;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Fetch requests return immediat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eparate task polls completion service for next ready list of lin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Refin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urrency Utilities in Practi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1143000" y="4952880"/>
            <a:ext cx="50292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im Peier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ior Artisans, LL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141560" y="3809880"/>
            <a:ext cx="490824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ing java.util.concur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040" y="1980720"/>
            <a:ext cx="7948440" cy="441828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seudoRandom: similar to java.util.Rand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simple but broken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implement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seudoRandom in different w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ercise the implem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are their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990720" y="2057400"/>
            <a:ext cx="777240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PseudoRandom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*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 Return pseudorandom int in range [0, 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nextInt(int n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PseudoRandom: similar to java.util.Rand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990720" y="2057400"/>
            <a:ext cx="7772400" cy="342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NaivePseudoRandom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implements PseudoRandom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int nextInt(int n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s = seed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eed = computeNext(see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s % 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computeNext(int s) { return …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seed = …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A simple but broken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Frank Greco</cp:lastModifiedBy>
  <dcterms:modified xsi:type="dcterms:W3CDTF">2004-06-23T03:26:29Z</dcterms:modified>
  <cp:revision>1413</cp:revision>
  <dc:subject/>
  <dc:title>2004 JavaOneSM Conference Speaker Template</dc:title>
</cp:coreProperties>
</file>