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F1033BB-3646-459D-AC2A-B45F6BD9DB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The quotation suggests that we change behavior because we are not content with existing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8189-72B1-427C-9859-E564727CC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7DD4-E768-4C8C-9A1D-A15457A26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9904-1329-4215-B2F9-683E7511F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572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00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572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00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C702-E007-4E4F-A639-568F3D5E6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F09F6-EFE0-446A-A4F9-F9EE35BC8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6231F-5C09-4730-8750-3FCD1A277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F66F5-09F5-4323-BD3B-ADFA2505E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17658-8C50-4CD3-AF17-2CB38EC59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83BE5-42A3-488D-881D-B964A1A69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09480" y="1260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91AC1-FFE1-413C-B0F4-4B021619D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C8685-09D9-45AF-BC29-C2564AD60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7096-5EA0-4543-B2C1-5116B9F79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B110C-3310-4DF8-8AE0-AC662D7B9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42B12-9131-4D65-B15A-30281D85D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36F51-4A4B-4F00-8EBE-997771EE5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9B552-24C2-4B8B-88D3-0F09E18B2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46572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300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83808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46572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300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C34DC-49FC-4E54-88A5-46E11B553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02F7-E371-4F72-BDE9-B070CD6DC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4C3C-59D6-4A3A-9468-B1F5FAAB1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370A-81A3-4007-9C8D-8A151FA14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1260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C8CD-2894-48A4-95CD-73C9A7445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C546-4C84-4523-8552-37DF436C5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F40E-1AEF-4B8E-B986-3542A3B0E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4A3C-0854-466D-95AE-FF8995062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2240"/>
                <a:chOff x="0" y="304920"/>
                <a:chExt cx="9144000" cy="64022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5960" cy="6858000"/>
                <a:chOff x="304920" y="0"/>
                <a:chExt cx="85359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180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2560" y="1415880"/>
              <a:ext cx="1787400" cy="2324160"/>
              <a:chOff x="412560" y="1415880"/>
              <a:chExt cx="178740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2560" y="1512720"/>
                <a:ext cx="17874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040" y="1419120"/>
                <a:ext cx="144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3680" cy="193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3680" indent="-2811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423F124-9A00-4FAA-A4B8-908FB3090E5C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180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3240" y="887400"/>
              <a:ext cx="6657840" cy="2851200"/>
              <a:chOff x="3240" y="887400"/>
              <a:chExt cx="665784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180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3240" y="3052440"/>
                <a:ext cx="5100480" cy="468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8040" y="1487160"/>
                <a:ext cx="6053040" cy="468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8600" y="136620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144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3880" y="531252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360" y="1460520"/>
            <a:ext cx="7770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8CA5A2-8399-4CB9-9468-80701A2B7A13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12240"/>
            <a:ext cx="77724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reyfus Model of Skill Acquisi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1640" y="4952520"/>
            <a:ext cx="38862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raig McClure, MD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EOSG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University of Arizona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March 2005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mpeten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umbers of rules becomes excessiv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earn organizing principles or “perspectives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erspectives permit assorting information by relevanc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e experience of responsibility arises from active decision-mak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competent physician realizes the multitude of factors influencing the likelihood that a single symptom represents ischemia and has a decision tree to allocate probabilities balancing a number of factors in deciding when to order an EKG or other diagnostic modalities and begin treatment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roficienc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2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tuitive diagnosi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pproach to problem molded by perspective arising from multiple real world experienc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Holistic similarity recognition”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earner uses intuition to realize “what” is happening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onscious decision-making and rules used to formulate pla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proficient physician realizes “this is an infarction” and then applies rules to decide about thrombolysis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Expertis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Don’t make decisio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Don’t solve problem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Do what work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No decomposition of situation into discrete element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Pattern recognition extends to plan as well as diagnosi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is is an infarction and we should implement the following diagnostic and therapeutic interventions.”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When Expertise Fail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expert uses rules and explicit decision-making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Novi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Novice: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follows rules and does not feel responsible for outcomes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Advanced Beginn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recognizes new situations in which the rules may be applied. Still does not feel responsible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 </a:t>
            </a: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Competen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Follows rules, applies an organizing “perspective” to determine what elements of the problem are relevant and feels accountable because of decision-making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o become competent you must feel bad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Hubert Dreyfus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Proficienc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proficient learner uses pattern recognition arising from extensive experience to identify the problem (“what” is happening”) and rules and analysis in formulating the “how” of the solution.  A sense of responsibility follows the decision-making.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Expertis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immediately sees “what” is happening and “how” to approach the situation.  Pattern recognition extends to management plan as well as diagnosis. 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12240"/>
            <a:ext cx="77724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Dreyfus Model of Skill Acquisi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utility of the concept of skill acquisition lies in helping the teacher understand how to assist the learner in advancing to the next level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ctivities Studie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Airplane pilots,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Chess players,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Automobile drivers,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Adult learners of a second languag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ive Stag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ovic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dvanced Beginne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ompeten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roficien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xper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12240"/>
            <a:ext cx="77724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Best Opportunity to Observe Stag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nstructured problem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umber of potentially relevant facts enormou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Variety of solutions extensiv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ovi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The novice follows rul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Specific rules for specific circumstanc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No modifier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Context free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Don’t feel responsible for other than following the rul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 </a:t>
            </a: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early medical student is taught to obtain an EKG for chest pain, without other modifiers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dvanced Beginn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ew “situational” elements are identified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Rules begin to be applied to related conditio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ecisions still are made by rule applic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oes not experience personal responsibilit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more experienced medical student finds that dyspnea also might be associated with cardiac ischemia and orders an EKG for that situation as well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raig McClure</dc:creator>
  <dc:description/>
  <dc:language>en-US</dc:language>
  <cp:lastModifiedBy>Craig McClure</cp:lastModifiedBy>
  <cp:revision>0</cp:revision>
  <dc:subject/>
  <dc:title>Dreyfus Model of Skills Acquisition</dc:title>
</cp:coreProperties>
</file>