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0E234F-D935-40F7-B1EF-BA4B82AC60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he quotation suggests that we change behavior because we are not content with existing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B522-C757-4CD2-AEFD-3DB18BA7E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0E45-4E1A-4FC5-8174-10D29202D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BC2A-97CE-42F9-9DA9-E1A66B49E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B510-877F-4469-931C-F1969B24B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E1571-B30C-42C2-852F-790C8DB3F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74974-BF5E-41E9-87A8-0365FA0EF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80A76-301D-4381-9DBB-2D06CC160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C838A-190B-4D76-BB2B-B97FDEBD6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CBE02-9004-4434-8CA8-9DC0B5E06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F263E-B1F8-4226-BB71-4954DB604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82892-13F5-4675-980B-421A96BD8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9B2A-CFAD-4206-87DC-A35D454D1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57EFD-2F61-4D7C-A417-050BAF96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87D76-DB3D-4EC4-888A-DBB97D0F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A027D-B1AF-4F2A-88E9-88FE1758A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760F9-C673-4C97-8D0C-7224D5905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026E2-0E46-4B6C-B918-0604B537E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F169-58D1-4368-89B6-AB3E2FD63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32F9-C5B7-446C-BBC3-70C766E74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EE50-9A1E-4A88-B15C-E3A656088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92A5-E0A2-470A-90F5-52E56E552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B6CF-8480-41D7-A62C-BA0BC1C9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77A0-59C4-4131-BC31-6EF84992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653E-EC9F-4618-9647-593402AC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2240"/>
                <a:chOff x="0" y="304920"/>
                <a:chExt cx="9144000" cy="64022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5960" cy="6858000"/>
                <a:chOff x="304920" y="0"/>
                <a:chExt cx="85359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180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2560" y="1415880"/>
              <a:ext cx="1787400" cy="2324160"/>
              <a:chOff x="412560" y="1415880"/>
              <a:chExt cx="178740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2560" y="1512720"/>
                <a:ext cx="17874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040" y="1419120"/>
                <a:ext cx="144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3680" cy="193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3680" indent="-2811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ED8EA3-B90A-4B40-860C-1AE98187F5C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180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3240" y="887400"/>
              <a:ext cx="6657840" cy="2851200"/>
              <a:chOff x="3240" y="887400"/>
              <a:chExt cx="665784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180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3240" y="3052440"/>
                <a:ext cx="510048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8040" y="1487160"/>
                <a:ext cx="605304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860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144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388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146052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57D98D-DD95-4B72-A46F-9B897F23F46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1640" y="4952520"/>
            <a:ext cx="38862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raig McClure, M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OSG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University of Arizona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rch 200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ete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s of rules becomes exces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arn organizing principles or “perspective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spectives permit assorting information by relevan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experience of responsibility arises from active decision-mak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competent physician realizes the multitude of factors influencing the likelihood that a single symptom represents ischemia and has a decision tree to allocate probabilities balancing a number of factors in deciding when to order an EKG or other diagnostic modalities and begin treatment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uitive diagnos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proach to problem molded by perspective arising from multiple real world experien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listic similarity recognition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arner uses intuition to realize “what” is happen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scious decision-making and rules used to formulate pla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physician realizes “this is an infarction” and then applies rules to decide about thrombolysi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make decis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solve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 what wor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 decomposition of situation into discrete ele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Pattern recognition extends to plan as well as diagno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is is an infarction and we should implement the following diagnostic and therapeutic interventions.”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When Expertise Fai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xpert uses rules and explicit decision-making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vice: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follows rules and does not feel responsible for outcome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recognizes new situations in which the rules may be applied. Still does not feel responsib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Compet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Follows rules, applies an organizing “perspective” to determine what elements of the problem are relevant and feels accountable because of decision-making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o become competent you must feel bad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Hubert Dreyfu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learner uses pattern recognition arising from extensive experience to identify the problem (“what” is happening”) and rules and analysis in formulating the “how” of the solution.  A sense of responsibility follows the decision-making.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immediately sees “what” is happening and “how” to approach the situation.  Pattern recognition extends to management plan as well as diagnosis.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utility of the concept of skill acquisition lies in helping the teacher understand how to assist the learner in advancing to the next leve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ties Studie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irplane pilot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Chess player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utomobile drivers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dult learners of a second langu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vi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dvanced Begin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et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fici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pe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est Opportunity to Obser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structured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 of potentially relevant facts enormo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riety of solutions exten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The novice follows ru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Specific rules for specific circumstanc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No modifi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Context free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Don’t feel responsible for other than following the ru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arly medical student is taught to obtain an EKG for chest pain, without other modifier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“situational” elements are identifi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ules begin to be applied to related condi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cisions still are made by rule appl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es not experience personal responsi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more experienced medical student finds that dyspnea also might be associated with cardiac ischemia and orders an EKG for that situation as well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raig McClure</dc:creator>
  <dc:description/>
  <dc:language>en-US</dc:language>
  <cp:lastModifiedBy>Craig McClure</cp:lastModifiedBy>
  <cp:revision>0</cp:revision>
  <dc:subject/>
  <dc:title>Dreyfus Model of Skills Acquisition</dc:title>
</cp:coreProperties>
</file>