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B80CBA-C937-409D-96B7-C719A7220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he quotation suggests that we change behavior because we are not content with existing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6D6E-2388-40E5-91A0-B1F63D071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FE5C-B10E-4CDF-BB7C-78653386A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6C0C-A39E-4E9D-A34F-5694EE836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71B8-D429-4155-8F66-44AAE5151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7B040-02F1-48FF-8CCA-DE803FEB7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CD700-4E5A-4570-910B-14D92FDBA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74419-2961-4877-90B2-64358C362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935D0-30F0-4983-A33A-B4BC1C6B7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2870C-9304-485E-963E-BB72EBD40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9A551-170A-4ED5-82CD-DEFC5AF6C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F07E5-884E-4531-824A-6EAEB585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110C-15CC-4808-AB87-30AE8D735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EAB15-3635-461C-AC3E-C789F0E4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3A8B9-EDCE-4754-BBD6-982E60C9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142DA-6882-4DA1-A21B-42B27AD6C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B652E-D058-42AD-83BC-1A8A37181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94F3C-B460-4E04-BC10-4BF81ACC3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502E-C419-49BF-974E-B1240A542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B3DB-E358-4FE3-BFC6-253473AA2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251C-8BB1-44D7-A3DF-DA5607E9A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F00F-F6DB-4435-BB04-5DB9CE7A4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7E71-5663-494F-A6AD-6CFF0191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B575-9978-4811-A839-472AD3BE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5774-214B-4AB7-80A7-7C35871F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2240"/>
                <a:chOff x="0" y="304920"/>
                <a:chExt cx="9144000" cy="64022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5960" cy="6858000"/>
                <a:chOff x="304920" y="0"/>
                <a:chExt cx="85359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180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2560" y="1415880"/>
              <a:ext cx="1787400" cy="2324160"/>
              <a:chOff x="412560" y="1415880"/>
              <a:chExt cx="178740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2560" y="1512720"/>
                <a:ext cx="17874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040" y="1419120"/>
                <a:ext cx="144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3680" cy="193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3680" indent="-2811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74A03A-1A45-4865-A063-A621E148001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180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3240" y="887400"/>
              <a:ext cx="6657840" cy="2851200"/>
              <a:chOff x="3240" y="887400"/>
              <a:chExt cx="665784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180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3240" y="3052440"/>
                <a:ext cx="510048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8040" y="1487160"/>
                <a:ext cx="605304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860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144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388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146052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AC8241-BA41-4F52-9D75-61FAC045226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1640" y="4952520"/>
            <a:ext cx="38862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raig McClure, M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OSG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University of Arizona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rch 200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ete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s of rules becomes exces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arn organizing principles or “perspective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spectives permit assorting information by relevan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experience of responsibility arises from active decision-mak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competent physician realizes the multitude of factors influencing the likelihood that a single symptom represents ischemia and has a decision tree to allocate probabilities balancing a number of factors in deciding when to order an EKG or other diagnostic modalities and begin treatment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uitive diagnos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proach to problem molded by perspective arising from multiple real world experien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listic similarity recognition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arner uses intuition to realize “what” is happen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scious decision-making and rules used to formulate pla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physician realizes “this is an infarction” and then applies rules to decide about thrombolysi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make decis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solve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 what wor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 decomposition of situation into discrete ele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Pattern recognition extends to plan as well as diagno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is is an infarction and we should implement the following diagnostic and therapeutic interventions.”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When Expertise Fai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xpert uses rules and explicit decision-making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vice: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follows rules and does not feel responsible for outcome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recognizes new situations in which the rules may be applied. Still does not feel responsib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Compet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Follows rules, applies an organizing “perspective” to determine what elements of the problem are relevant and feels accountable because of decision-making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o become competent you must feel bad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Hubert Dreyfu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learner uses pattern recognition arising from extensive experience to identify the problem (“what” is happening”) and rules and analysis in formulating the “how” of the solution.  A sense of responsibility follows the decision-making.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immediately sees “what” is happening and “how” to approach the situation.  Pattern recognition extends to management plan as well as diagnosis.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utility of the concept of skill acquisition lies in helping the teacher understand how to assist the learner in advancing to the next leve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ties Studie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irplane pilot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Chess player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utomobile drivers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dult learners of a second langu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vi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dvanced Begin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et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fici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pe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est Opportunity to Obser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structured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 of potentially relevant facts enormo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riety of solutions exten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The novice follows ru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Specific rules for specific circumstanc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No modifi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Context free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Don’t feel responsible for other than following the ru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arly medical student is taught to obtain an EKG for chest pain, without other modifier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“situational” elements are identifi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ules begin to be applied to related condi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cisions still are made by rule appl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es not experience personal responsi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more experienced medical student finds that dyspnea also might be associated with cardiac ischemia and orders an EKG for that situation as well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raig McClure</dc:creator>
  <dc:description/>
  <dc:language>en-US</dc:language>
  <cp:lastModifiedBy>Craig McClure</cp:lastModifiedBy>
  <cp:revision>0</cp:revision>
  <dc:subject/>
  <dc:title>Dreyfus Model of Skills Acquisition</dc:title>
</cp:coreProperties>
</file>