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170160" cy="4842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145040" y="-360"/>
            <a:ext cx="3170160" cy="4842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lstStyle>
            <a:lvl1pPr indent="0" algn="r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  <a:defRPr b="1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Img"/>
          </p:nvPr>
        </p:nvSpPr>
        <p:spPr>
          <a:xfrm>
            <a:off x="1239840" y="725400"/>
            <a:ext cx="4836960" cy="362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974880" y="4594320"/>
            <a:ext cx="5365440" cy="42717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5"/>
          </p:nvPr>
        </p:nvSpPr>
        <p:spPr>
          <a:xfrm>
            <a:off x="0" y="9107280"/>
            <a:ext cx="3170160" cy="4842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  <a:defRPr b="1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6"/>
          </p:nvPr>
        </p:nvSpPr>
        <p:spPr>
          <a:xfrm>
            <a:off x="4145040" y="9107280"/>
            <a:ext cx="3170160" cy="4842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lstStyle>
            <a:lvl1pPr indent="0" algn="r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  <a:defRPr b="1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fld id="{84B384C6-CC69-4200-AE4F-CA1EA554C29B}" type="slidenum">
              <a:rPr b="1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145040" y="9107280"/>
            <a:ext cx="3170160" cy="4842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algn="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fld id="{67AB5116-24E1-45D2-B14C-D28445FF5AB0}" type="slidenum">
              <a:rPr b="1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0" y="9107280"/>
            <a:ext cx="3170160" cy="4842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0" y="-360"/>
            <a:ext cx="3170160" cy="4842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145040" y="-360"/>
            <a:ext cx="3170160" cy="4842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algn="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351080" y="8967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037C-D6AE-421D-A44E-62CF0394E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1402-2FED-4995-81E1-4E0A96114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6540-98DD-4B20-915E-077143B91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B14F-14F1-4CF7-89BA-E1733F93A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D483-6001-4DDC-8102-A95DE6A8B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5CC0-704D-4F5F-9328-A8BF58D4C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70E4-E206-4173-A10C-B830819B8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770A-8494-4A9E-A16F-BF7CC80BC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0" y="-648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2018-B69B-4C22-8D76-47943C822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2242-83A4-4195-8DA6-9D94CC4AB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6B65-EAE3-4D95-A7D6-983A1D6AA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9E68-EFED-4137-8B79-BCCD79C21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FB652-C235-48D2-B10F-4934AD6C8F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468360" y="1125360"/>
            <a:ext cx="8207280" cy="216000"/>
            <a:chOff x="468360" y="1125360"/>
            <a:chExt cx="8207280" cy="216000"/>
          </a:xfrm>
        </p:grpSpPr>
        <p:sp>
          <p:nvSpPr>
            <p:cNvPr id="6" name=""/>
            <p:cNvSpPr/>
            <p:nvPr/>
          </p:nvSpPr>
          <p:spPr>
            <a:xfrm>
              <a:off x="468360" y="1125360"/>
              <a:ext cx="8207280" cy="2160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68360" y="1125360"/>
              <a:ext cx="216000" cy="216000"/>
            </a:xfrm>
            <a:prstGeom prst="rect">
              <a:avLst/>
            </a:prstGeom>
            <a:solidFill>
              <a:srgbClr val="ffff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4360" y="1125360"/>
              <a:ext cx="215640" cy="216000"/>
            </a:xfrm>
            <a:prstGeom prst="rect">
              <a:avLst/>
            </a:prstGeom>
            <a:solidFill>
              <a:srgbClr val="0000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00000" y="1125360"/>
              <a:ext cx="216000" cy="216000"/>
            </a:xfrm>
            <a:prstGeom prst="rect">
              <a:avLst/>
            </a:prstGeom>
            <a:solidFill>
              <a:srgbClr val="00ff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116000" y="1125360"/>
              <a:ext cx="216000" cy="216000"/>
            </a:xfrm>
            <a:prstGeom prst="rect">
              <a:avLst/>
            </a:prstGeom>
            <a:solidFill>
              <a:srgbClr val="ff33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9640" y="1125360"/>
              <a:ext cx="216000" cy="216000"/>
            </a:xfrm>
            <a:prstGeom prst="rect">
              <a:avLst/>
            </a:prstGeom>
            <a:solidFill>
              <a:srgbClr val="ff33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1855440"/>
            <a:ext cx="86104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Metrics Minefiel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0" y="3933720"/>
            <a:ext cx="9144000" cy="290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hael Bol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S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developsense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stics Canada IT Confer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il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y Do We Measur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iscover facts about 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teer our 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odify human behavi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 Tom DeMar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4724280"/>
            <a:ext cx="8497800" cy="947160"/>
          </a:xfrm>
          <a:prstGeom prst="rect">
            <a:avLst/>
          </a:prstGeom>
          <a:solidFill>
            <a:srgbClr val="ff99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arco wonders if we, as an industry, are too focused on behaviour modific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y Do We Measur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34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iscover natural laws (third-order measure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refine and to tune (second-order measure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get the damned thing built (first-order measure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 Jerry Weinbe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0920" y="5373720"/>
            <a:ext cx="8642160" cy="1191240"/>
          </a:xfrm>
          <a:prstGeom prst="rect">
            <a:avLst/>
          </a:prstGeom>
          <a:solidFill>
            <a:srgbClr val="ff99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nberg suggests that, as an industry, we’re obsessed with trying to make third- and second-order measurements, when first-order measurements are more often what we ne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y Do We Measur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394920" y="3886200"/>
            <a:ext cx="8062920" cy="22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ty measurement depends up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skill at observa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e’re comparing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the validity of the model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we’re using for assess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2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042560" y="3886200"/>
            <a:ext cx="6985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isons and assessments aren’t necessarily numeric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Mine #3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79280" y="3886200"/>
            <a:ext cx="878544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s aren’t as descriptiv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words and stories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ds can be vague or ambiguous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numbers without clarifying word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just as bad or wor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4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39640" y="3885840"/>
            <a:ext cx="813456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people in our field make sweeping, pseudo-statistical generalizations without proposing a measurement mod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671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5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670200"/>
            <a:ext cx="640080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people in the testing and quality field haven’t studied measurement theory or statistics, but some of us are asked to implement measurement programs anyw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6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often validate our assumptions with trivial surveys and analy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7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statistical work depends on isolating the dependent variables, and reducing or controlling the independent (free) variab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8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oftware development metrics, identifying the dependent variables is tough, and reducing or controlling all of the independent (free) variables is effectively impossi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Metrics Minefiel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5800" y="3885840"/>
            <a:ext cx="7772400" cy="25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have determined that there are large numbers of mines buried in the metrics minefie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9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something can’t be proven, making predictions about it is somehow unsatisfy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10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7128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mmon method of calculating risk as “impact times probability”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just wei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1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untold numbers of biases and errors involved with collecting and analyzing metric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12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metrics seem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specially subject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ification erro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13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11280" y="3886200"/>
            <a:ext cx="78501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stics is usually a sampling exercise.  It’s easy to sample bad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14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97128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e collect metrics on projects, we tend to leave out certain proje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15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rics often outlive their useful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16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metrics are focused on tracking cost.  Few metrics are oriented towards tracking benef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17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rics are collected for someone’s purpose.  The metrics can and will be gamed to further that purpo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18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sometimes li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they sometimes leave out the truth.  Or they provide an answer that they think the questioner wants to h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Metrics Minefiel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800" y="3885840"/>
            <a:ext cx="7772400" cy="25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report on what some of our best minesweepers have discovered so far, with a few suggestions on how we might avoid or clear some of the mi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19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e measure people, they change their behaviour in ways that we might not expect or int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20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899640" y="3886200"/>
            <a:ext cx="734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rder for statistics to work properly, we need a good population size and a good sample siz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2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6985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ademic researchers, whom we might expect to do better science, can do som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al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hoddy sci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earing the Minefiel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of the following idea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 heuristic approach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uggestion, not an instr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earing the Minefiel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produce, offer or accept a number without a com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er give a number to a bureaucra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um’s Second 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hasize stories and narra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earing the Minefiel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8351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trol metric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are linked to pay, bonuses, performance evaluation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metrics are metrics that trigger some action, usually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etric that is used to control something will eventually be used to control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ste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quiry metr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quiry metrics are metrics that prompt us to ask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x measurement when the metric stops chan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results aren’t satisfactory, try measuring something else for a w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fer Assessment to Measuremen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feel that you have to render everything into a numeric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tion can go directly to assessment without quantified measu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other modes, beside numerical ones, can you use to assess progr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ther Modes of Assessmen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standup meetings or scru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rt meetings that identify needs for further mee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laddering exerci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king, rather than measu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temperature rea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eci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zz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pes and wis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gnize the ways in which data can be converted to information, and vice ver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earing the Minefiel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Always ask “Compared to what?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ading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lity Software Management, Vol. 2., “First Order Measuremen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rald M. Weinbe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Lie with Stat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rrell Hu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ual Expla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ward Tuf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akonom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hen Leavi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Metrics Minefiel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800" y="3885840"/>
            <a:ext cx="7772400" cy="25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tention is not to suggest that metrics are useless, but to identify some examples of gross dysfunction, and to try to avoid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ading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Software Cost So Muc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m DeMar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ls of Critical 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Le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Engineering Metrics:  What Do They Measure and How Do We Know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m Kaner and Walter P.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kaner.com/pdfs/metrics2004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68360" y="3886200"/>
            <a:ext cx="79898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field sometimes seems obsessed with metrics, but doesn’t seem to pay much attention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easurement valid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Do Metrics Measur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772400" cy="34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Engineering Metrics:  What Do They Measure and How Do We Know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uthored by Cem Kaner and Walter P.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several definitions of measurement, most of which seem to amount to “using numbers to describe something” or “putting a number on some attribut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ner and Bond’s synthesized defini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5084640"/>
            <a:ext cx="8642160" cy="1410120"/>
          </a:xfrm>
          <a:prstGeom prst="rect">
            <a:avLst/>
          </a:prstGeom>
          <a:solidFill>
            <a:srgbClr val="ff99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is the empirical, objective assignment of numbers, according to a rule derived from a model or theory, to attributes of objects or events with the intent of describing them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w Do We Measur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always has some model lurking in the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ric models are based on some comparison, which may be explicit or implic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 th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e individual things with each 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e individual things with a re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e individual things with elements in a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e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 things over time (ra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derivative metrics by performing multiple measurements and comparisons over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y Do We Measur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68360" y="3886200"/>
            <a:ext cx="8207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icit in our motive for measurement i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model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ssess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s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mparis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de in accordance with s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bserv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y Do We Measur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5280" y="1676160"/>
            <a:ext cx="8353440" cy="42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ating private self-assessment and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ing project status (to facilitate management of the project or related projec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ing staff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ing others (e.g. potential customers) about the characteristics (such as development status or behavior) of the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ing external authorities (e.g. regulators or litigators) about the characteristics of the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Kaner and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3T21:42:32Z</dcterms:created>
  <dc:creator>Michael Bolton</dc:creator>
  <dc:description/>
  <dc:language>en-US</dc:language>
  <cp:lastModifiedBy>Al Lebeau</cp:lastModifiedBy>
  <dcterms:modified xsi:type="dcterms:W3CDTF">2007-03-23T17:14:27Z</dcterms:modified>
  <cp:revision>99</cp:revision>
  <dc:subject/>
  <dc:title>Exploring Exploratory Tes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88152116</vt:r8>
  </property>
  <property fmtid="{D5CDD505-2E9C-101B-9397-08002B2CF9AE}" pid="3" name="_AuthorEmail">
    <vt:lpwstr>Ruth.Neveu@a.statcan.ca</vt:lpwstr>
  </property>
  <property fmtid="{D5CDD505-2E9C-101B-9397-08002B2CF9AE}" pid="4" name="_AuthorEmailDisplayName">
    <vt:lpwstr>Neveu, Ruth - BTS/SCE</vt:lpwstr>
  </property>
  <property fmtid="{D5CDD505-2E9C-101B-9397-08002B2CF9AE}" pid="5" name="_EmailSubject">
    <vt:lpwstr>IT conference</vt:lpwstr>
  </property>
  <property fmtid="{D5CDD505-2E9C-101B-9397-08002B2CF9AE}" pid="6" name="_PreviousAdHocReviewCycleID">
    <vt:r8>1235638151</vt:r8>
  </property>
</Properties>
</file>