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media/image8.jpeg" ContentType="image/jpeg"/>
  <Override PartName="/ppt/media/image13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2.jpeg" ContentType="image/jpeg"/>
  <Override PartName="/ppt/media/image6.jpeg" ContentType="image/jpeg"/>
  <Override PartName="/ppt/media/image11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F4FDF-4A0C-42F2-AA42-0A1808378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672A1-A1B4-4BB8-B098-44255E010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6FAD0-5521-4A5F-812F-44EAE4D82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0B615-F1D9-42CB-ACA3-A0BDEB11A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6CAB2-22C8-4EC1-B6A0-15769434F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AC594-7589-49A6-A61B-76C97B723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AC728-120F-4FAE-BE5A-1C710F014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C1D0E-5268-46FC-AC6E-1C0B334AA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57007-2504-4AE9-BAE3-70FED91AB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AC575-5B9A-46A0-B831-BC00A4F15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BD5F5-6A19-4C02-A3C3-41E439A1E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5AAAC-CCC4-4020-B86B-16891260E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3773C-1A26-403C-AFF7-52C0E8981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B0EA1-4BCA-4C11-B986-B54A756E0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3D845-17B8-4787-8683-DC63383D4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92A65-1EDE-45D0-A8D7-79AAC4547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79240-C337-453D-9CA3-A21BB1AE8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1103E-A9E6-4A70-A1B1-0FBFAE023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5A697-070B-4DE7-886D-E99846E7E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91E60-4081-4B35-8702-9F856DE7C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3E3F4-7AB1-4BC9-9FF8-FFC7170D6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264A5-40A2-4F5A-94A7-71F476D09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C6F64-F8C6-4E0C-8864-4043755DF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20FC4-C64F-4347-9291-4E5315C42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2" name="minispir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B62E1-3651-4B29-B430-BA45E475CCBA}" type="slidenum">
              <a:rPr b="0" lang="zh-TW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8869320" y="4191120"/>
            <a:ext cx="5493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8777880" y="4135320"/>
            <a:ext cx="485280" cy="26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bfae2"/>
                </a:solidFill>
                <a:latin typeface="Times New Roman"/>
                <a:ea typeface="華康少女文字W3(P)"/>
              </a:rPr>
              <a:t>By William.li@exel.com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8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49" name="minispir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27C87-6EB2-44B7-8BDB-CA171B609FFF}" type="slidenum">
              <a:rPr b="0" lang="zh-TW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08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143000" y="533520"/>
            <a:ext cx="2057400" cy="2209680"/>
          </a:xfrm>
          <a:custGeom>
            <a:avLst/>
            <a:gdLst/>
            <a:ahLst/>
            <a:rect l="l" t="t" r="r" b="b"/>
            <a:pathLst>
              <a:path w="15289" h="16734">
                <a:moveTo>
                  <a:pt x="11850" y="2637"/>
                </a:moveTo>
                <a:lnTo>
                  <a:pt x="11847" y="2707"/>
                </a:lnTo>
                <a:lnTo>
                  <a:pt x="11844" y="2773"/>
                </a:lnTo>
                <a:lnTo>
                  <a:pt x="11843" y="2840"/>
                </a:lnTo>
                <a:lnTo>
                  <a:pt x="11844" y="2904"/>
                </a:lnTo>
                <a:lnTo>
                  <a:pt x="11845" y="2966"/>
                </a:lnTo>
                <a:lnTo>
                  <a:pt x="11847" y="3028"/>
                </a:lnTo>
                <a:lnTo>
                  <a:pt x="11850" y="3087"/>
                </a:lnTo>
                <a:lnTo>
                  <a:pt x="11855" y="3145"/>
                </a:lnTo>
                <a:lnTo>
                  <a:pt x="11861" y="3201"/>
                </a:lnTo>
                <a:lnTo>
                  <a:pt x="11868" y="3256"/>
                </a:lnTo>
                <a:lnTo>
                  <a:pt x="11876" y="3310"/>
                </a:lnTo>
                <a:lnTo>
                  <a:pt x="11886" y="3361"/>
                </a:lnTo>
                <a:lnTo>
                  <a:pt x="11896" y="3411"/>
                </a:lnTo>
                <a:lnTo>
                  <a:pt x="11908" y="3461"/>
                </a:lnTo>
                <a:lnTo>
                  <a:pt x="11922" y="3507"/>
                </a:lnTo>
                <a:lnTo>
                  <a:pt x="11937" y="3553"/>
                </a:lnTo>
                <a:lnTo>
                  <a:pt x="11952" y="3534"/>
                </a:lnTo>
                <a:lnTo>
                  <a:pt x="11971" y="3512"/>
                </a:lnTo>
                <a:lnTo>
                  <a:pt x="11994" y="3491"/>
                </a:lnTo>
                <a:lnTo>
                  <a:pt x="12018" y="3469"/>
                </a:lnTo>
                <a:lnTo>
                  <a:pt x="12046" y="3446"/>
                </a:lnTo>
                <a:lnTo>
                  <a:pt x="12077" y="3423"/>
                </a:lnTo>
                <a:lnTo>
                  <a:pt x="12110" y="3398"/>
                </a:lnTo>
                <a:lnTo>
                  <a:pt x="12147" y="3373"/>
                </a:lnTo>
                <a:lnTo>
                  <a:pt x="12187" y="3348"/>
                </a:lnTo>
                <a:lnTo>
                  <a:pt x="12229" y="3321"/>
                </a:lnTo>
                <a:lnTo>
                  <a:pt x="12274" y="3294"/>
                </a:lnTo>
                <a:lnTo>
                  <a:pt x="12323" y="3265"/>
                </a:lnTo>
                <a:lnTo>
                  <a:pt x="12374" y="3237"/>
                </a:lnTo>
                <a:lnTo>
                  <a:pt x="12429" y="3207"/>
                </a:lnTo>
                <a:lnTo>
                  <a:pt x="12486" y="3177"/>
                </a:lnTo>
                <a:lnTo>
                  <a:pt x="12546" y="3146"/>
                </a:lnTo>
                <a:lnTo>
                  <a:pt x="12582" y="3088"/>
                </a:lnTo>
                <a:lnTo>
                  <a:pt x="12616" y="3028"/>
                </a:lnTo>
                <a:lnTo>
                  <a:pt x="12650" y="2966"/>
                </a:lnTo>
                <a:lnTo>
                  <a:pt x="12684" y="2903"/>
                </a:lnTo>
                <a:lnTo>
                  <a:pt x="12717" y="2838"/>
                </a:lnTo>
                <a:lnTo>
                  <a:pt x="12749" y="2771"/>
                </a:lnTo>
                <a:lnTo>
                  <a:pt x="12781" y="2703"/>
                </a:lnTo>
                <a:lnTo>
                  <a:pt x="12812" y="2633"/>
                </a:lnTo>
                <a:lnTo>
                  <a:pt x="12842" y="2561"/>
                </a:lnTo>
                <a:lnTo>
                  <a:pt x="12872" y="2488"/>
                </a:lnTo>
                <a:lnTo>
                  <a:pt x="12900" y="2413"/>
                </a:lnTo>
                <a:lnTo>
                  <a:pt x="12929" y="2336"/>
                </a:lnTo>
                <a:lnTo>
                  <a:pt x="12956" y="2257"/>
                </a:lnTo>
                <a:lnTo>
                  <a:pt x="12983" y="2176"/>
                </a:lnTo>
                <a:lnTo>
                  <a:pt x="13009" y="2094"/>
                </a:lnTo>
                <a:lnTo>
                  <a:pt x="13035" y="2010"/>
                </a:lnTo>
                <a:lnTo>
                  <a:pt x="12984" y="2024"/>
                </a:lnTo>
                <a:lnTo>
                  <a:pt x="12934" y="2038"/>
                </a:lnTo>
                <a:lnTo>
                  <a:pt x="12886" y="2053"/>
                </a:lnTo>
                <a:lnTo>
                  <a:pt x="12838" y="2068"/>
                </a:lnTo>
                <a:lnTo>
                  <a:pt x="12792" y="2083"/>
                </a:lnTo>
                <a:lnTo>
                  <a:pt x="12745" y="2099"/>
                </a:lnTo>
                <a:lnTo>
                  <a:pt x="12700" y="2115"/>
                </a:lnTo>
                <a:lnTo>
                  <a:pt x="12656" y="2132"/>
                </a:lnTo>
                <a:lnTo>
                  <a:pt x="12612" y="2149"/>
                </a:lnTo>
                <a:lnTo>
                  <a:pt x="12570" y="2166"/>
                </a:lnTo>
                <a:lnTo>
                  <a:pt x="12528" y="2184"/>
                </a:lnTo>
                <a:lnTo>
                  <a:pt x="12488" y="2202"/>
                </a:lnTo>
                <a:lnTo>
                  <a:pt x="12448" y="2220"/>
                </a:lnTo>
                <a:lnTo>
                  <a:pt x="12408" y="2239"/>
                </a:lnTo>
                <a:lnTo>
                  <a:pt x="12369" y="2258"/>
                </a:lnTo>
                <a:lnTo>
                  <a:pt x="12332" y="2277"/>
                </a:lnTo>
                <a:lnTo>
                  <a:pt x="12296" y="2297"/>
                </a:lnTo>
                <a:lnTo>
                  <a:pt x="12260" y="2317"/>
                </a:lnTo>
                <a:lnTo>
                  <a:pt x="12225" y="2337"/>
                </a:lnTo>
                <a:lnTo>
                  <a:pt x="12191" y="2358"/>
                </a:lnTo>
                <a:lnTo>
                  <a:pt x="12158" y="2379"/>
                </a:lnTo>
                <a:lnTo>
                  <a:pt x="12126" y="2400"/>
                </a:lnTo>
                <a:lnTo>
                  <a:pt x="12094" y="2423"/>
                </a:lnTo>
                <a:lnTo>
                  <a:pt x="12063" y="2445"/>
                </a:lnTo>
                <a:lnTo>
                  <a:pt x="12034" y="2468"/>
                </a:lnTo>
                <a:lnTo>
                  <a:pt x="12005" y="2491"/>
                </a:lnTo>
                <a:lnTo>
                  <a:pt x="11977" y="2514"/>
                </a:lnTo>
                <a:lnTo>
                  <a:pt x="11949" y="2538"/>
                </a:lnTo>
                <a:lnTo>
                  <a:pt x="11923" y="2562"/>
                </a:lnTo>
                <a:lnTo>
                  <a:pt x="11897" y="2587"/>
                </a:lnTo>
                <a:lnTo>
                  <a:pt x="11873" y="2612"/>
                </a:lnTo>
                <a:lnTo>
                  <a:pt x="11850" y="2637"/>
                </a:lnTo>
                <a:close/>
                <a:moveTo>
                  <a:pt x="10226" y="5380"/>
                </a:moveTo>
                <a:lnTo>
                  <a:pt x="10276" y="5380"/>
                </a:lnTo>
                <a:lnTo>
                  <a:pt x="10325" y="5381"/>
                </a:lnTo>
                <a:lnTo>
                  <a:pt x="10374" y="5383"/>
                </a:lnTo>
                <a:lnTo>
                  <a:pt x="10422" y="5386"/>
                </a:lnTo>
                <a:lnTo>
                  <a:pt x="10469" y="5390"/>
                </a:lnTo>
                <a:lnTo>
                  <a:pt x="10514" y="5394"/>
                </a:lnTo>
                <a:lnTo>
                  <a:pt x="10559" y="5400"/>
                </a:lnTo>
                <a:lnTo>
                  <a:pt x="10603" y="5405"/>
                </a:lnTo>
                <a:lnTo>
                  <a:pt x="10645" y="5412"/>
                </a:lnTo>
                <a:lnTo>
                  <a:pt x="10688" y="5420"/>
                </a:lnTo>
                <a:lnTo>
                  <a:pt x="10729" y="5428"/>
                </a:lnTo>
                <a:lnTo>
                  <a:pt x="10769" y="5437"/>
                </a:lnTo>
                <a:lnTo>
                  <a:pt x="10808" y="5447"/>
                </a:lnTo>
                <a:lnTo>
                  <a:pt x="10846" y="5458"/>
                </a:lnTo>
                <a:lnTo>
                  <a:pt x="10883" y="5468"/>
                </a:lnTo>
                <a:lnTo>
                  <a:pt x="10919" y="5481"/>
                </a:lnTo>
                <a:lnTo>
                  <a:pt x="10930" y="5465"/>
                </a:lnTo>
                <a:lnTo>
                  <a:pt x="10941" y="5450"/>
                </a:lnTo>
                <a:lnTo>
                  <a:pt x="10954" y="5436"/>
                </a:lnTo>
                <a:lnTo>
                  <a:pt x="10965" y="5422"/>
                </a:lnTo>
                <a:lnTo>
                  <a:pt x="10979" y="5408"/>
                </a:lnTo>
                <a:lnTo>
                  <a:pt x="10992" y="5396"/>
                </a:lnTo>
                <a:lnTo>
                  <a:pt x="11006" y="5383"/>
                </a:lnTo>
                <a:lnTo>
                  <a:pt x="11020" y="5371"/>
                </a:lnTo>
                <a:lnTo>
                  <a:pt x="11036" y="5360"/>
                </a:lnTo>
                <a:lnTo>
                  <a:pt x="11051" y="5348"/>
                </a:lnTo>
                <a:lnTo>
                  <a:pt x="11068" y="5337"/>
                </a:lnTo>
                <a:lnTo>
                  <a:pt x="11084" y="5328"/>
                </a:lnTo>
                <a:lnTo>
                  <a:pt x="11101" y="5318"/>
                </a:lnTo>
                <a:lnTo>
                  <a:pt x="11118" y="5309"/>
                </a:lnTo>
                <a:lnTo>
                  <a:pt x="11137" y="5300"/>
                </a:lnTo>
                <a:lnTo>
                  <a:pt x="11156" y="5292"/>
                </a:lnTo>
                <a:lnTo>
                  <a:pt x="11175" y="5285"/>
                </a:lnTo>
                <a:lnTo>
                  <a:pt x="11195" y="5277"/>
                </a:lnTo>
                <a:lnTo>
                  <a:pt x="11215" y="5271"/>
                </a:lnTo>
                <a:lnTo>
                  <a:pt x="11237" y="5265"/>
                </a:lnTo>
                <a:lnTo>
                  <a:pt x="11258" y="5259"/>
                </a:lnTo>
                <a:lnTo>
                  <a:pt x="11280" y="5254"/>
                </a:lnTo>
                <a:lnTo>
                  <a:pt x="11302" y="5249"/>
                </a:lnTo>
                <a:lnTo>
                  <a:pt x="11325" y="5246"/>
                </a:lnTo>
                <a:lnTo>
                  <a:pt x="11348" y="5241"/>
                </a:lnTo>
                <a:lnTo>
                  <a:pt x="11373" y="5238"/>
                </a:lnTo>
                <a:lnTo>
                  <a:pt x="11397" y="5235"/>
                </a:lnTo>
                <a:lnTo>
                  <a:pt x="11422" y="5233"/>
                </a:lnTo>
                <a:lnTo>
                  <a:pt x="11475" y="5231"/>
                </a:lnTo>
                <a:lnTo>
                  <a:pt x="11529" y="5230"/>
                </a:lnTo>
                <a:lnTo>
                  <a:pt x="11558" y="5230"/>
                </a:lnTo>
                <a:lnTo>
                  <a:pt x="11585" y="5232"/>
                </a:lnTo>
                <a:lnTo>
                  <a:pt x="11613" y="5235"/>
                </a:lnTo>
                <a:lnTo>
                  <a:pt x="11641" y="5239"/>
                </a:lnTo>
                <a:lnTo>
                  <a:pt x="11668" y="5244"/>
                </a:lnTo>
                <a:lnTo>
                  <a:pt x="11696" y="5251"/>
                </a:lnTo>
                <a:lnTo>
                  <a:pt x="11723" y="5258"/>
                </a:lnTo>
                <a:lnTo>
                  <a:pt x="11751" y="5268"/>
                </a:lnTo>
                <a:lnTo>
                  <a:pt x="11777" y="5277"/>
                </a:lnTo>
                <a:lnTo>
                  <a:pt x="11804" y="5289"/>
                </a:lnTo>
                <a:lnTo>
                  <a:pt x="11830" y="5302"/>
                </a:lnTo>
                <a:lnTo>
                  <a:pt x="11856" y="5315"/>
                </a:lnTo>
                <a:lnTo>
                  <a:pt x="11883" y="5330"/>
                </a:lnTo>
                <a:lnTo>
                  <a:pt x="11908" y="5346"/>
                </a:lnTo>
                <a:lnTo>
                  <a:pt x="11934" y="5363"/>
                </a:lnTo>
                <a:lnTo>
                  <a:pt x="11960" y="5382"/>
                </a:lnTo>
                <a:lnTo>
                  <a:pt x="11985" y="5401"/>
                </a:lnTo>
                <a:lnTo>
                  <a:pt x="12010" y="5422"/>
                </a:lnTo>
                <a:lnTo>
                  <a:pt x="12035" y="5444"/>
                </a:lnTo>
                <a:lnTo>
                  <a:pt x="12060" y="5467"/>
                </a:lnTo>
                <a:lnTo>
                  <a:pt x="12084" y="5492"/>
                </a:lnTo>
                <a:lnTo>
                  <a:pt x="12109" y="5517"/>
                </a:lnTo>
                <a:lnTo>
                  <a:pt x="12133" y="5544"/>
                </a:lnTo>
                <a:lnTo>
                  <a:pt x="12156" y="5572"/>
                </a:lnTo>
                <a:lnTo>
                  <a:pt x="12180" y="5601"/>
                </a:lnTo>
                <a:lnTo>
                  <a:pt x="12204" y="5632"/>
                </a:lnTo>
                <a:lnTo>
                  <a:pt x="12227" y="5663"/>
                </a:lnTo>
                <a:lnTo>
                  <a:pt x="12250" y="5695"/>
                </a:lnTo>
                <a:lnTo>
                  <a:pt x="12273" y="5730"/>
                </a:lnTo>
                <a:lnTo>
                  <a:pt x="12296" y="5765"/>
                </a:lnTo>
                <a:lnTo>
                  <a:pt x="12319" y="5801"/>
                </a:lnTo>
                <a:lnTo>
                  <a:pt x="12341" y="5839"/>
                </a:lnTo>
                <a:lnTo>
                  <a:pt x="12369" y="5891"/>
                </a:lnTo>
                <a:lnTo>
                  <a:pt x="12397" y="5944"/>
                </a:lnTo>
                <a:lnTo>
                  <a:pt x="12423" y="5997"/>
                </a:lnTo>
                <a:lnTo>
                  <a:pt x="12450" y="6051"/>
                </a:lnTo>
                <a:lnTo>
                  <a:pt x="12476" y="6106"/>
                </a:lnTo>
                <a:lnTo>
                  <a:pt x="12500" y="6161"/>
                </a:lnTo>
                <a:lnTo>
                  <a:pt x="12525" y="6217"/>
                </a:lnTo>
                <a:lnTo>
                  <a:pt x="12549" y="6274"/>
                </a:lnTo>
                <a:lnTo>
                  <a:pt x="12572" y="6331"/>
                </a:lnTo>
                <a:lnTo>
                  <a:pt x="12594" y="6389"/>
                </a:lnTo>
                <a:lnTo>
                  <a:pt x="12615" y="6448"/>
                </a:lnTo>
                <a:lnTo>
                  <a:pt x="12637" y="6508"/>
                </a:lnTo>
                <a:lnTo>
                  <a:pt x="12657" y="6568"/>
                </a:lnTo>
                <a:lnTo>
                  <a:pt x="12677" y="6629"/>
                </a:lnTo>
                <a:lnTo>
                  <a:pt x="12696" y="6690"/>
                </a:lnTo>
                <a:lnTo>
                  <a:pt x="12714" y="6752"/>
                </a:lnTo>
                <a:lnTo>
                  <a:pt x="12732" y="6815"/>
                </a:lnTo>
                <a:lnTo>
                  <a:pt x="12748" y="6878"/>
                </a:lnTo>
                <a:lnTo>
                  <a:pt x="12764" y="6943"/>
                </a:lnTo>
                <a:lnTo>
                  <a:pt x="12780" y="7007"/>
                </a:lnTo>
                <a:lnTo>
                  <a:pt x="12795" y="7073"/>
                </a:lnTo>
                <a:lnTo>
                  <a:pt x="12810" y="7138"/>
                </a:lnTo>
                <a:lnTo>
                  <a:pt x="12823" y="7205"/>
                </a:lnTo>
                <a:lnTo>
                  <a:pt x="12836" y="7272"/>
                </a:lnTo>
                <a:lnTo>
                  <a:pt x="12849" y="7341"/>
                </a:lnTo>
                <a:lnTo>
                  <a:pt x="12860" y="7410"/>
                </a:lnTo>
                <a:lnTo>
                  <a:pt x="12871" y="7479"/>
                </a:lnTo>
                <a:lnTo>
                  <a:pt x="12881" y="7549"/>
                </a:lnTo>
                <a:lnTo>
                  <a:pt x="12891" y="7620"/>
                </a:lnTo>
                <a:lnTo>
                  <a:pt x="12899" y="7692"/>
                </a:lnTo>
                <a:lnTo>
                  <a:pt x="12908" y="7763"/>
                </a:lnTo>
                <a:lnTo>
                  <a:pt x="12915" y="7836"/>
                </a:lnTo>
                <a:lnTo>
                  <a:pt x="12934" y="8128"/>
                </a:lnTo>
                <a:lnTo>
                  <a:pt x="12951" y="8417"/>
                </a:lnTo>
                <a:lnTo>
                  <a:pt x="12967" y="8704"/>
                </a:lnTo>
                <a:lnTo>
                  <a:pt x="12982" y="8989"/>
                </a:lnTo>
                <a:lnTo>
                  <a:pt x="12993" y="9274"/>
                </a:lnTo>
                <a:lnTo>
                  <a:pt x="13005" y="9556"/>
                </a:lnTo>
                <a:lnTo>
                  <a:pt x="13014" y="9835"/>
                </a:lnTo>
                <a:lnTo>
                  <a:pt x="13023" y="10114"/>
                </a:lnTo>
                <a:lnTo>
                  <a:pt x="13029" y="10390"/>
                </a:lnTo>
                <a:lnTo>
                  <a:pt x="13035" y="10665"/>
                </a:lnTo>
                <a:lnTo>
                  <a:pt x="13038" y="10937"/>
                </a:lnTo>
                <a:lnTo>
                  <a:pt x="13040" y="11208"/>
                </a:lnTo>
                <a:lnTo>
                  <a:pt x="13041" y="11477"/>
                </a:lnTo>
                <a:lnTo>
                  <a:pt x="13040" y="11744"/>
                </a:lnTo>
                <a:lnTo>
                  <a:pt x="13038" y="12009"/>
                </a:lnTo>
                <a:lnTo>
                  <a:pt x="13035" y="12272"/>
                </a:lnTo>
                <a:lnTo>
                  <a:pt x="13033" y="12316"/>
                </a:lnTo>
                <a:lnTo>
                  <a:pt x="13031" y="12360"/>
                </a:lnTo>
                <a:lnTo>
                  <a:pt x="13028" y="12402"/>
                </a:lnTo>
                <a:lnTo>
                  <a:pt x="13024" y="12444"/>
                </a:lnTo>
                <a:lnTo>
                  <a:pt x="13018" y="12484"/>
                </a:lnTo>
                <a:lnTo>
                  <a:pt x="13010" y="12524"/>
                </a:lnTo>
                <a:lnTo>
                  <a:pt x="13002" y="12563"/>
                </a:lnTo>
                <a:lnTo>
                  <a:pt x="12992" y="12603"/>
                </a:lnTo>
                <a:lnTo>
                  <a:pt x="12982" y="12639"/>
                </a:lnTo>
                <a:lnTo>
                  <a:pt x="12969" y="12676"/>
                </a:lnTo>
                <a:lnTo>
                  <a:pt x="12955" y="12713"/>
                </a:lnTo>
                <a:lnTo>
                  <a:pt x="12941" y="12748"/>
                </a:lnTo>
                <a:lnTo>
                  <a:pt x="12924" y="12783"/>
                </a:lnTo>
                <a:lnTo>
                  <a:pt x="12906" y="12817"/>
                </a:lnTo>
                <a:lnTo>
                  <a:pt x="12887" y="12850"/>
                </a:lnTo>
                <a:lnTo>
                  <a:pt x="12867" y="12882"/>
                </a:lnTo>
                <a:lnTo>
                  <a:pt x="12832" y="12927"/>
                </a:lnTo>
                <a:lnTo>
                  <a:pt x="12798" y="12972"/>
                </a:lnTo>
                <a:lnTo>
                  <a:pt x="12764" y="13019"/>
                </a:lnTo>
                <a:lnTo>
                  <a:pt x="12729" y="13066"/>
                </a:lnTo>
                <a:lnTo>
                  <a:pt x="12695" y="13115"/>
                </a:lnTo>
                <a:lnTo>
                  <a:pt x="12661" y="13163"/>
                </a:lnTo>
                <a:lnTo>
                  <a:pt x="12626" y="13213"/>
                </a:lnTo>
                <a:lnTo>
                  <a:pt x="12591" y="13264"/>
                </a:lnTo>
                <a:lnTo>
                  <a:pt x="12556" y="13314"/>
                </a:lnTo>
                <a:lnTo>
                  <a:pt x="12521" y="13366"/>
                </a:lnTo>
                <a:lnTo>
                  <a:pt x="12486" y="13419"/>
                </a:lnTo>
                <a:lnTo>
                  <a:pt x="12451" y="13473"/>
                </a:lnTo>
                <a:lnTo>
                  <a:pt x="12416" y="13527"/>
                </a:lnTo>
                <a:lnTo>
                  <a:pt x="12380" y="13582"/>
                </a:lnTo>
                <a:lnTo>
                  <a:pt x="12344" y="13638"/>
                </a:lnTo>
                <a:lnTo>
                  <a:pt x="12309" y="13695"/>
                </a:lnTo>
                <a:lnTo>
                  <a:pt x="12399" y="13778"/>
                </a:lnTo>
                <a:lnTo>
                  <a:pt x="12487" y="13861"/>
                </a:lnTo>
                <a:lnTo>
                  <a:pt x="12572" y="13947"/>
                </a:lnTo>
                <a:lnTo>
                  <a:pt x="12657" y="14032"/>
                </a:lnTo>
                <a:lnTo>
                  <a:pt x="12739" y="14120"/>
                </a:lnTo>
                <a:lnTo>
                  <a:pt x="12820" y="14208"/>
                </a:lnTo>
                <a:lnTo>
                  <a:pt x="12898" y="14297"/>
                </a:lnTo>
                <a:lnTo>
                  <a:pt x="12975" y="14385"/>
                </a:lnTo>
                <a:lnTo>
                  <a:pt x="13050" y="14476"/>
                </a:lnTo>
                <a:lnTo>
                  <a:pt x="13124" y="14567"/>
                </a:lnTo>
                <a:lnTo>
                  <a:pt x="13196" y="14660"/>
                </a:lnTo>
                <a:lnTo>
                  <a:pt x="13266" y="14753"/>
                </a:lnTo>
                <a:lnTo>
                  <a:pt x="13333" y="14847"/>
                </a:lnTo>
                <a:lnTo>
                  <a:pt x="13399" y="14941"/>
                </a:lnTo>
                <a:lnTo>
                  <a:pt x="13463" y="15037"/>
                </a:lnTo>
                <a:lnTo>
                  <a:pt x="13525" y="15133"/>
                </a:lnTo>
                <a:lnTo>
                  <a:pt x="13534" y="15166"/>
                </a:lnTo>
                <a:lnTo>
                  <a:pt x="13542" y="15198"/>
                </a:lnTo>
                <a:lnTo>
                  <a:pt x="13549" y="15232"/>
                </a:lnTo>
                <a:lnTo>
                  <a:pt x="13555" y="15266"/>
                </a:lnTo>
                <a:lnTo>
                  <a:pt x="13559" y="15301"/>
                </a:lnTo>
                <a:lnTo>
                  <a:pt x="13562" y="15336"/>
                </a:lnTo>
                <a:lnTo>
                  <a:pt x="13565" y="15372"/>
                </a:lnTo>
                <a:lnTo>
                  <a:pt x="13566" y="15408"/>
                </a:lnTo>
                <a:lnTo>
                  <a:pt x="13566" y="15445"/>
                </a:lnTo>
                <a:lnTo>
                  <a:pt x="13563" y="15483"/>
                </a:lnTo>
                <a:lnTo>
                  <a:pt x="13561" y="15521"/>
                </a:lnTo>
                <a:lnTo>
                  <a:pt x="13557" y="15559"/>
                </a:lnTo>
                <a:lnTo>
                  <a:pt x="13553" y="15598"/>
                </a:lnTo>
                <a:lnTo>
                  <a:pt x="13547" y="15638"/>
                </a:lnTo>
                <a:lnTo>
                  <a:pt x="13539" y="15678"/>
                </a:lnTo>
                <a:lnTo>
                  <a:pt x="13531" y="15719"/>
                </a:lnTo>
                <a:lnTo>
                  <a:pt x="13521" y="15760"/>
                </a:lnTo>
                <a:lnTo>
                  <a:pt x="13511" y="15803"/>
                </a:lnTo>
                <a:lnTo>
                  <a:pt x="13498" y="15846"/>
                </a:lnTo>
                <a:lnTo>
                  <a:pt x="13485" y="15889"/>
                </a:lnTo>
                <a:lnTo>
                  <a:pt x="13472" y="15932"/>
                </a:lnTo>
                <a:lnTo>
                  <a:pt x="13456" y="15977"/>
                </a:lnTo>
                <a:lnTo>
                  <a:pt x="13439" y="16022"/>
                </a:lnTo>
                <a:lnTo>
                  <a:pt x="13422" y="16068"/>
                </a:lnTo>
                <a:lnTo>
                  <a:pt x="13403" y="16114"/>
                </a:lnTo>
                <a:lnTo>
                  <a:pt x="13383" y="16161"/>
                </a:lnTo>
                <a:lnTo>
                  <a:pt x="13362" y="16208"/>
                </a:lnTo>
                <a:lnTo>
                  <a:pt x="13340" y="16257"/>
                </a:lnTo>
                <a:lnTo>
                  <a:pt x="13316" y="16305"/>
                </a:lnTo>
                <a:lnTo>
                  <a:pt x="13292" y="16354"/>
                </a:lnTo>
                <a:lnTo>
                  <a:pt x="13266" y="16403"/>
                </a:lnTo>
                <a:lnTo>
                  <a:pt x="13239" y="16454"/>
                </a:lnTo>
                <a:lnTo>
                  <a:pt x="13207" y="16488"/>
                </a:lnTo>
                <a:lnTo>
                  <a:pt x="13174" y="16520"/>
                </a:lnTo>
                <a:lnTo>
                  <a:pt x="13141" y="16549"/>
                </a:lnTo>
                <a:lnTo>
                  <a:pt x="13108" y="16577"/>
                </a:lnTo>
                <a:lnTo>
                  <a:pt x="13076" y="16602"/>
                </a:lnTo>
                <a:lnTo>
                  <a:pt x="13043" y="16624"/>
                </a:lnTo>
                <a:lnTo>
                  <a:pt x="13010" y="16645"/>
                </a:lnTo>
                <a:lnTo>
                  <a:pt x="12978" y="16664"/>
                </a:lnTo>
                <a:lnTo>
                  <a:pt x="12944" y="16680"/>
                </a:lnTo>
                <a:lnTo>
                  <a:pt x="12911" y="16695"/>
                </a:lnTo>
                <a:lnTo>
                  <a:pt x="12878" y="16707"/>
                </a:lnTo>
                <a:lnTo>
                  <a:pt x="12846" y="16716"/>
                </a:lnTo>
                <a:lnTo>
                  <a:pt x="12813" y="16723"/>
                </a:lnTo>
                <a:lnTo>
                  <a:pt x="12780" y="16730"/>
                </a:lnTo>
                <a:lnTo>
                  <a:pt x="12747" y="16733"/>
                </a:lnTo>
                <a:lnTo>
                  <a:pt x="12715" y="16734"/>
                </a:lnTo>
                <a:lnTo>
                  <a:pt x="12682" y="16733"/>
                </a:lnTo>
                <a:lnTo>
                  <a:pt x="12649" y="16730"/>
                </a:lnTo>
                <a:lnTo>
                  <a:pt x="12616" y="16723"/>
                </a:lnTo>
                <a:lnTo>
                  <a:pt x="12584" y="16716"/>
                </a:lnTo>
                <a:lnTo>
                  <a:pt x="12551" y="16707"/>
                </a:lnTo>
                <a:lnTo>
                  <a:pt x="12518" y="16695"/>
                </a:lnTo>
                <a:lnTo>
                  <a:pt x="12486" y="16680"/>
                </a:lnTo>
                <a:lnTo>
                  <a:pt x="12453" y="16664"/>
                </a:lnTo>
                <a:lnTo>
                  <a:pt x="12420" y="16645"/>
                </a:lnTo>
                <a:lnTo>
                  <a:pt x="12387" y="16624"/>
                </a:lnTo>
                <a:lnTo>
                  <a:pt x="12355" y="16602"/>
                </a:lnTo>
                <a:lnTo>
                  <a:pt x="12322" y="16577"/>
                </a:lnTo>
                <a:lnTo>
                  <a:pt x="12289" y="16549"/>
                </a:lnTo>
                <a:lnTo>
                  <a:pt x="12256" y="16520"/>
                </a:lnTo>
                <a:lnTo>
                  <a:pt x="12224" y="16488"/>
                </a:lnTo>
                <a:lnTo>
                  <a:pt x="12191" y="16454"/>
                </a:lnTo>
                <a:lnTo>
                  <a:pt x="12061" y="16301"/>
                </a:lnTo>
                <a:lnTo>
                  <a:pt x="11930" y="16146"/>
                </a:lnTo>
                <a:lnTo>
                  <a:pt x="11798" y="15989"/>
                </a:lnTo>
                <a:lnTo>
                  <a:pt x="11666" y="15831"/>
                </a:lnTo>
                <a:lnTo>
                  <a:pt x="11534" y="15671"/>
                </a:lnTo>
                <a:lnTo>
                  <a:pt x="11400" y="15509"/>
                </a:lnTo>
                <a:lnTo>
                  <a:pt x="11266" y="15345"/>
                </a:lnTo>
                <a:lnTo>
                  <a:pt x="11131" y="15181"/>
                </a:lnTo>
                <a:lnTo>
                  <a:pt x="10995" y="15013"/>
                </a:lnTo>
                <a:lnTo>
                  <a:pt x="10859" y="14845"/>
                </a:lnTo>
                <a:lnTo>
                  <a:pt x="10721" y="14674"/>
                </a:lnTo>
                <a:lnTo>
                  <a:pt x="10583" y="14501"/>
                </a:lnTo>
                <a:lnTo>
                  <a:pt x="10445" y="14327"/>
                </a:lnTo>
                <a:lnTo>
                  <a:pt x="10305" y="14152"/>
                </a:lnTo>
                <a:lnTo>
                  <a:pt x="10165" y="13974"/>
                </a:lnTo>
                <a:lnTo>
                  <a:pt x="10024" y="13795"/>
                </a:lnTo>
                <a:lnTo>
                  <a:pt x="9994" y="13752"/>
                </a:lnTo>
                <a:lnTo>
                  <a:pt x="9965" y="13708"/>
                </a:lnTo>
                <a:lnTo>
                  <a:pt x="9938" y="13667"/>
                </a:lnTo>
                <a:lnTo>
                  <a:pt x="9914" y="13627"/>
                </a:lnTo>
                <a:lnTo>
                  <a:pt x="9889" y="13587"/>
                </a:lnTo>
                <a:lnTo>
                  <a:pt x="9868" y="13549"/>
                </a:lnTo>
                <a:lnTo>
                  <a:pt x="9847" y="13511"/>
                </a:lnTo>
                <a:lnTo>
                  <a:pt x="9829" y="13475"/>
                </a:lnTo>
                <a:lnTo>
                  <a:pt x="9812" y="13440"/>
                </a:lnTo>
                <a:lnTo>
                  <a:pt x="9797" y="13406"/>
                </a:lnTo>
                <a:lnTo>
                  <a:pt x="9783" y="13373"/>
                </a:lnTo>
                <a:lnTo>
                  <a:pt x="9771" y="13341"/>
                </a:lnTo>
                <a:lnTo>
                  <a:pt x="9761" y="13310"/>
                </a:lnTo>
                <a:lnTo>
                  <a:pt x="9752" y="13281"/>
                </a:lnTo>
                <a:lnTo>
                  <a:pt x="9745" y="13252"/>
                </a:lnTo>
                <a:lnTo>
                  <a:pt x="9740" y="13225"/>
                </a:lnTo>
                <a:lnTo>
                  <a:pt x="9735" y="13198"/>
                </a:lnTo>
                <a:lnTo>
                  <a:pt x="9733" y="13174"/>
                </a:lnTo>
                <a:lnTo>
                  <a:pt x="9732" y="13150"/>
                </a:lnTo>
                <a:lnTo>
                  <a:pt x="9733" y="13126"/>
                </a:lnTo>
                <a:lnTo>
                  <a:pt x="9735" y="13104"/>
                </a:lnTo>
                <a:lnTo>
                  <a:pt x="9740" y="13083"/>
                </a:lnTo>
                <a:lnTo>
                  <a:pt x="9746" y="13063"/>
                </a:lnTo>
                <a:lnTo>
                  <a:pt x="9753" y="13045"/>
                </a:lnTo>
                <a:lnTo>
                  <a:pt x="9762" y="13027"/>
                </a:lnTo>
                <a:lnTo>
                  <a:pt x="9772" y="13010"/>
                </a:lnTo>
                <a:lnTo>
                  <a:pt x="9785" y="12995"/>
                </a:lnTo>
                <a:lnTo>
                  <a:pt x="9799" y="12981"/>
                </a:lnTo>
                <a:lnTo>
                  <a:pt x="9814" y="12968"/>
                </a:lnTo>
                <a:lnTo>
                  <a:pt x="9831" y="12955"/>
                </a:lnTo>
                <a:lnTo>
                  <a:pt x="9850" y="12945"/>
                </a:lnTo>
                <a:lnTo>
                  <a:pt x="9870" y="12934"/>
                </a:lnTo>
                <a:lnTo>
                  <a:pt x="9900" y="12921"/>
                </a:lnTo>
                <a:lnTo>
                  <a:pt x="9932" y="12911"/>
                </a:lnTo>
                <a:lnTo>
                  <a:pt x="9963" y="12902"/>
                </a:lnTo>
                <a:lnTo>
                  <a:pt x="9997" y="12895"/>
                </a:lnTo>
                <a:lnTo>
                  <a:pt x="10031" y="12890"/>
                </a:lnTo>
                <a:lnTo>
                  <a:pt x="10067" y="12886"/>
                </a:lnTo>
                <a:lnTo>
                  <a:pt x="10103" y="12883"/>
                </a:lnTo>
                <a:lnTo>
                  <a:pt x="10141" y="12882"/>
                </a:lnTo>
                <a:lnTo>
                  <a:pt x="10180" y="12883"/>
                </a:lnTo>
                <a:lnTo>
                  <a:pt x="10219" y="12886"/>
                </a:lnTo>
                <a:lnTo>
                  <a:pt x="10260" y="12890"/>
                </a:lnTo>
                <a:lnTo>
                  <a:pt x="10302" y="12895"/>
                </a:lnTo>
                <a:lnTo>
                  <a:pt x="10344" y="12902"/>
                </a:lnTo>
                <a:lnTo>
                  <a:pt x="10389" y="12911"/>
                </a:lnTo>
                <a:lnTo>
                  <a:pt x="10434" y="12921"/>
                </a:lnTo>
                <a:lnTo>
                  <a:pt x="10481" y="12934"/>
                </a:lnTo>
                <a:lnTo>
                  <a:pt x="10495" y="12845"/>
                </a:lnTo>
                <a:lnTo>
                  <a:pt x="10509" y="12757"/>
                </a:lnTo>
                <a:lnTo>
                  <a:pt x="10520" y="12668"/>
                </a:lnTo>
                <a:lnTo>
                  <a:pt x="10529" y="12578"/>
                </a:lnTo>
                <a:lnTo>
                  <a:pt x="10537" y="12489"/>
                </a:lnTo>
                <a:lnTo>
                  <a:pt x="10542" y="12401"/>
                </a:lnTo>
                <a:lnTo>
                  <a:pt x="10544" y="12356"/>
                </a:lnTo>
                <a:lnTo>
                  <a:pt x="10545" y="12312"/>
                </a:lnTo>
                <a:lnTo>
                  <a:pt x="10546" y="12268"/>
                </a:lnTo>
                <a:lnTo>
                  <a:pt x="10546" y="12223"/>
                </a:lnTo>
                <a:lnTo>
                  <a:pt x="10445" y="12274"/>
                </a:lnTo>
                <a:lnTo>
                  <a:pt x="10344" y="12326"/>
                </a:lnTo>
                <a:lnTo>
                  <a:pt x="10244" y="12379"/>
                </a:lnTo>
                <a:lnTo>
                  <a:pt x="10145" y="12431"/>
                </a:lnTo>
                <a:lnTo>
                  <a:pt x="10046" y="12485"/>
                </a:lnTo>
                <a:lnTo>
                  <a:pt x="9948" y="12540"/>
                </a:lnTo>
                <a:lnTo>
                  <a:pt x="9849" y="12595"/>
                </a:lnTo>
                <a:lnTo>
                  <a:pt x="9752" y="12651"/>
                </a:lnTo>
                <a:lnTo>
                  <a:pt x="9655" y="12708"/>
                </a:lnTo>
                <a:lnTo>
                  <a:pt x="9559" y="12765"/>
                </a:lnTo>
                <a:lnTo>
                  <a:pt x="9463" y="12823"/>
                </a:lnTo>
                <a:lnTo>
                  <a:pt x="9368" y="12882"/>
                </a:lnTo>
                <a:lnTo>
                  <a:pt x="9274" y="12942"/>
                </a:lnTo>
                <a:lnTo>
                  <a:pt x="9180" y="13002"/>
                </a:lnTo>
                <a:lnTo>
                  <a:pt x="9086" y="13063"/>
                </a:lnTo>
                <a:lnTo>
                  <a:pt x="8993" y="13124"/>
                </a:lnTo>
                <a:lnTo>
                  <a:pt x="8901" y="13187"/>
                </a:lnTo>
                <a:lnTo>
                  <a:pt x="8809" y="13250"/>
                </a:lnTo>
                <a:lnTo>
                  <a:pt x="8719" y="13313"/>
                </a:lnTo>
                <a:lnTo>
                  <a:pt x="8628" y="13378"/>
                </a:lnTo>
                <a:lnTo>
                  <a:pt x="8538" y="13442"/>
                </a:lnTo>
                <a:lnTo>
                  <a:pt x="8448" y="13508"/>
                </a:lnTo>
                <a:lnTo>
                  <a:pt x="8360" y="13574"/>
                </a:lnTo>
                <a:lnTo>
                  <a:pt x="8271" y="13642"/>
                </a:lnTo>
                <a:lnTo>
                  <a:pt x="8183" y="13709"/>
                </a:lnTo>
                <a:lnTo>
                  <a:pt x="8096" y="13778"/>
                </a:lnTo>
                <a:lnTo>
                  <a:pt x="8009" y="13847"/>
                </a:lnTo>
                <a:lnTo>
                  <a:pt x="7924" y="13916"/>
                </a:lnTo>
                <a:lnTo>
                  <a:pt x="7838" y="13987"/>
                </a:lnTo>
                <a:lnTo>
                  <a:pt x="7754" y="14059"/>
                </a:lnTo>
                <a:lnTo>
                  <a:pt x="7669" y="14131"/>
                </a:lnTo>
                <a:lnTo>
                  <a:pt x="7586" y="14203"/>
                </a:lnTo>
                <a:lnTo>
                  <a:pt x="7459" y="14319"/>
                </a:lnTo>
                <a:lnTo>
                  <a:pt x="7333" y="14433"/>
                </a:lnTo>
                <a:lnTo>
                  <a:pt x="7211" y="14547"/>
                </a:lnTo>
                <a:lnTo>
                  <a:pt x="7090" y="14658"/>
                </a:lnTo>
                <a:lnTo>
                  <a:pt x="6969" y="14769"/>
                </a:lnTo>
                <a:lnTo>
                  <a:pt x="6851" y="14877"/>
                </a:lnTo>
                <a:lnTo>
                  <a:pt x="6734" y="14985"/>
                </a:lnTo>
                <a:lnTo>
                  <a:pt x="6619" y="15092"/>
                </a:lnTo>
                <a:lnTo>
                  <a:pt x="6506" y="15197"/>
                </a:lnTo>
                <a:lnTo>
                  <a:pt x="6394" y="15301"/>
                </a:lnTo>
                <a:lnTo>
                  <a:pt x="6283" y="15403"/>
                </a:lnTo>
                <a:lnTo>
                  <a:pt x="6174" y="15505"/>
                </a:lnTo>
                <a:lnTo>
                  <a:pt x="6068" y="15604"/>
                </a:lnTo>
                <a:lnTo>
                  <a:pt x="5962" y="15703"/>
                </a:lnTo>
                <a:lnTo>
                  <a:pt x="5859" y="15800"/>
                </a:lnTo>
                <a:lnTo>
                  <a:pt x="5756" y="15897"/>
                </a:lnTo>
                <a:lnTo>
                  <a:pt x="5711" y="15924"/>
                </a:lnTo>
                <a:lnTo>
                  <a:pt x="5666" y="15950"/>
                </a:lnTo>
                <a:lnTo>
                  <a:pt x="5623" y="15975"/>
                </a:lnTo>
                <a:lnTo>
                  <a:pt x="5581" y="15998"/>
                </a:lnTo>
                <a:lnTo>
                  <a:pt x="5541" y="16019"/>
                </a:lnTo>
                <a:lnTo>
                  <a:pt x="5502" y="16039"/>
                </a:lnTo>
                <a:lnTo>
                  <a:pt x="5465" y="16057"/>
                </a:lnTo>
                <a:lnTo>
                  <a:pt x="5428" y="16074"/>
                </a:lnTo>
                <a:lnTo>
                  <a:pt x="5393" y="16089"/>
                </a:lnTo>
                <a:lnTo>
                  <a:pt x="5360" y="16102"/>
                </a:lnTo>
                <a:lnTo>
                  <a:pt x="5328" y="16114"/>
                </a:lnTo>
                <a:lnTo>
                  <a:pt x="5297" y="16125"/>
                </a:lnTo>
                <a:lnTo>
                  <a:pt x="5268" y="16133"/>
                </a:lnTo>
                <a:lnTo>
                  <a:pt x="5240" y="16141"/>
                </a:lnTo>
                <a:lnTo>
                  <a:pt x="5214" y="16146"/>
                </a:lnTo>
                <a:lnTo>
                  <a:pt x="5189" y="16150"/>
                </a:lnTo>
                <a:lnTo>
                  <a:pt x="5165" y="16152"/>
                </a:lnTo>
                <a:lnTo>
                  <a:pt x="5143" y="16153"/>
                </a:lnTo>
                <a:lnTo>
                  <a:pt x="5122" y="16152"/>
                </a:lnTo>
                <a:lnTo>
                  <a:pt x="5103" y="16150"/>
                </a:lnTo>
                <a:lnTo>
                  <a:pt x="5085" y="16146"/>
                </a:lnTo>
                <a:lnTo>
                  <a:pt x="5068" y="16141"/>
                </a:lnTo>
                <a:lnTo>
                  <a:pt x="5052" y="16133"/>
                </a:lnTo>
                <a:lnTo>
                  <a:pt x="5038" y="16125"/>
                </a:lnTo>
                <a:lnTo>
                  <a:pt x="5026" y="16114"/>
                </a:lnTo>
                <a:lnTo>
                  <a:pt x="5014" y="16102"/>
                </a:lnTo>
                <a:lnTo>
                  <a:pt x="5005" y="16089"/>
                </a:lnTo>
                <a:lnTo>
                  <a:pt x="4996" y="16074"/>
                </a:lnTo>
                <a:lnTo>
                  <a:pt x="4990" y="16057"/>
                </a:lnTo>
                <a:lnTo>
                  <a:pt x="4983" y="16039"/>
                </a:lnTo>
                <a:lnTo>
                  <a:pt x="4979" y="16019"/>
                </a:lnTo>
                <a:lnTo>
                  <a:pt x="4976" y="15998"/>
                </a:lnTo>
                <a:lnTo>
                  <a:pt x="4980" y="15959"/>
                </a:lnTo>
                <a:lnTo>
                  <a:pt x="4986" y="15918"/>
                </a:lnTo>
                <a:lnTo>
                  <a:pt x="4995" y="15875"/>
                </a:lnTo>
                <a:lnTo>
                  <a:pt x="5006" y="15830"/>
                </a:lnTo>
                <a:lnTo>
                  <a:pt x="5019" y="15784"/>
                </a:lnTo>
                <a:lnTo>
                  <a:pt x="5036" y="15735"/>
                </a:lnTo>
                <a:lnTo>
                  <a:pt x="5055" y="15684"/>
                </a:lnTo>
                <a:lnTo>
                  <a:pt x="5076" y="15633"/>
                </a:lnTo>
                <a:lnTo>
                  <a:pt x="5101" y="15578"/>
                </a:lnTo>
                <a:lnTo>
                  <a:pt x="5127" y="15522"/>
                </a:lnTo>
                <a:lnTo>
                  <a:pt x="5157" y="15464"/>
                </a:lnTo>
                <a:lnTo>
                  <a:pt x="5188" y="15403"/>
                </a:lnTo>
                <a:lnTo>
                  <a:pt x="5222" y="15341"/>
                </a:lnTo>
                <a:lnTo>
                  <a:pt x="5259" y="15278"/>
                </a:lnTo>
                <a:lnTo>
                  <a:pt x="5299" y="15211"/>
                </a:lnTo>
                <a:lnTo>
                  <a:pt x="5341" y="15144"/>
                </a:lnTo>
                <a:lnTo>
                  <a:pt x="5386" y="15074"/>
                </a:lnTo>
                <a:lnTo>
                  <a:pt x="5433" y="15002"/>
                </a:lnTo>
                <a:lnTo>
                  <a:pt x="5483" y="14928"/>
                </a:lnTo>
                <a:lnTo>
                  <a:pt x="5536" y="14853"/>
                </a:lnTo>
                <a:lnTo>
                  <a:pt x="5590" y="14775"/>
                </a:lnTo>
                <a:lnTo>
                  <a:pt x="5647" y="14696"/>
                </a:lnTo>
                <a:lnTo>
                  <a:pt x="5708" y="14614"/>
                </a:lnTo>
                <a:lnTo>
                  <a:pt x="5771" y="14531"/>
                </a:lnTo>
                <a:lnTo>
                  <a:pt x="5836" y="14446"/>
                </a:lnTo>
                <a:lnTo>
                  <a:pt x="5904" y="14359"/>
                </a:lnTo>
                <a:lnTo>
                  <a:pt x="5975" y="14270"/>
                </a:lnTo>
                <a:lnTo>
                  <a:pt x="6048" y="14178"/>
                </a:lnTo>
                <a:lnTo>
                  <a:pt x="6124" y="14085"/>
                </a:lnTo>
                <a:lnTo>
                  <a:pt x="6202" y="13991"/>
                </a:lnTo>
                <a:lnTo>
                  <a:pt x="6283" y="13894"/>
                </a:lnTo>
                <a:lnTo>
                  <a:pt x="6366" y="13795"/>
                </a:lnTo>
                <a:lnTo>
                  <a:pt x="6336" y="13782"/>
                </a:lnTo>
                <a:lnTo>
                  <a:pt x="6306" y="13767"/>
                </a:lnTo>
                <a:lnTo>
                  <a:pt x="6277" y="13752"/>
                </a:lnTo>
                <a:lnTo>
                  <a:pt x="6247" y="13734"/>
                </a:lnTo>
                <a:lnTo>
                  <a:pt x="6220" y="13715"/>
                </a:lnTo>
                <a:lnTo>
                  <a:pt x="6191" y="13693"/>
                </a:lnTo>
                <a:lnTo>
                  <a:pt x="6164" y="13671"/>
                </a:lnTo>
                <a:lnTo>
                  <a:pt x="6137" y="13647"/>
                </a:lnTo>
                <a:lnTo>
                  <a:pt x="6111" y="13623"/>
                </a:lnTo>
                <a:lnTo>
                  <a:pt x="6085" y="13595"/>
                </a:lnTo>
                <a:lnTo>
                  <a:pt x="6059" y="13567"/>
                </a:lnTo>
                <a:lnTo>
                  <a:pt x="6034" y="13537"/>
                </a:lnTo>
                <a:lnTo>
                  <a:pt x="6010" y="13507"/>
                </a:lnTo>
                <a:lnTo>
                  <a:pt x="5985" y="13474"/>
                </a:lnTo>
                <a:lnTo>
                  <a:pt x="5962" y="13439"/>
                </a:lnTo>
                <a:lnTo>
                  <a:pt x="5939" y="13403"/>
                </a:lnTo>
                <a:lnTo>
                  <a:pt x="5917" y="13366"/>
                </a:lnTo>
                <a:lnTo>
                  <a:pt x="5895" y="13327"/>
                </a:lnTo>
                <a:lnTo>
                  <a:pt x="5873" y="13287"/>
                </a:lnTo>
                <a:lnTo>
                  <a:pt x="5852" y="13246"/>
                </a:lnTo>
                <a:lnTo>
                  <a:pt x="5831" y="13202"/>
                </a:lnTo>
                <a:lnTo>
                  <a:pt x="5811" y="13157"/>
                </a:lnTo>
                <a:lnTo>
                  <a:pt x="5792" y="13112"/>
                </a:lnTo>
                <a:lnTo>
                  <a:pt x="5773" y="13063"/>
                </a:lnTo>
                <a:lnTo>
                  <a:pt x="5754" y="13014"/>
                </a:lnTo>
                <a:lnTo>
                  <a:pt x="5736" y="12964"/>
                </a:lnTo>
                <a:lnTo>
                  <a:pt x="5718" y="12911"/>
                </a:lnTo>
                <a:lnTo>
                  <a:pt x="5701" y="12857"/>
                </a:lnTo>
                <a:lnTo>
                  <a:pt x="5685" y="12802"/>
                </a:lnTo>
                <a:lnTo>
                  <a:pt x="5669" y="12746"/>
                </a:lnTo>
                <a:lnTo>
                  <a:pt x="5653" y="12687"/>
                </a:lnTo>
                <a:lnTo>
                  <a:pt x="5638" y="12628"/>
                </a:lnTo>
                <a:lnTo>
                  <a:pt x="5628" y="12430"/>
                </a:lnTo>
                <a:lnTo>
                  <a:pt x="5620" y="12230"/>
                </a:lnTo>
                <a:lnTo>
                  <a:pt x="5614" y="12028"/>
                </a:lnTo>
                <a:lnTo>
                  <a:pt x="5609" y="11824"/>
                </a:lnTo>
                <a:lnTo>
                  <a:pt x="5607" y="11617"/>
                </a:lnTo>
                <a:lnTo>
                  <a:pt x="5607" y="11409"/>
                </a:lnTo>
                <a:lnTo>
                  <a:pt x="5608" y="11198"/>
                </a:lnTo>
                <a:lnTo>
                  <a:pt x="5612" y="10986"/>
                </a:lnTo>
                <a:lnTo>
                  <a:pt x="5617" y="10771"/>
                </a:lnTo>
                <a:lnTo>
                  <a:pt x="5624" y="10554"/>
                </a:lnTo>
                <a:lnTo>
                  <a:pt x="5633" y="10335"/>
                </a:lnTo>
                <a:lnTo>
                  <a:pt x="5643" y="10114"/>
                </a:lnTo>
                <a:lnTo>
                  <a:pt x="5656" y="9890"/>
                </a:lnTo>
                <a:lnTo>
                  <a:pt x="5671" y="9665"/>
                </a:lnTo>
                <a:lnTo>
                  <a:pt x="5687" y="9438"/>
                </a:lnTo>
                <a:lnTo>
                  <a:pt x="5704" y="9209"/>
                </a:lnTo>
                <a:lnTo>
                  <a:pt x="5715" y="9142"/>
                </a:lnTo>
                <a:lnTo>
                  <a:pt x="5728" y="9075"/>
                </a:lnTo>
                <a:lnTo>
                  <a:pt x="5739" y="9009"/>
                </a:lnTo>
                <a:lnTo>
                  <a:pt x="5753" y="8941"/>
                </a:lnTo>
                <a:lnTo>
                  <a:pt x="5767" y="8874"/>
                </a:lnTo>
                <a:lnTo>
                  <a:pt x="5783" y="8808"/>
                </a:lnTo>
                <a:lnTo>
                  <a:pt x="5798" y="8741"/>
                </a:lnTo>
                <a:lnTo>
                  <a:pt x="5814" y="8674"/>
                </a:lnTo>
                <a:lnTo>
                  <a:pt x="5832" y="8607"/>
                </a:lnTo>
                <a:lnTo>
                  <a:pt x="5850" y="8541"/>
                </a:lnTo>
                <a:lnTo>
                  <a:pt x="5869" y="8474"/>
                </a:lnTo>
                <a:lnTo>
                  <a:pt x="5888" y="8407"/>
                </a:lnTo>
                <a:lnTo>
                  <a:pt x="5909" y="8340"/>
                </a:lnTo>
                <a:lnTo>
                  <a:pt x="5930" y="8273"/>
                </a:lnTo>
                <a:lnTo>
                  <a:pt x="5953" y="8207"/>
                </a:lnTo>
                <a:lnTo>
                  <a:pt x="5976" y="8140"/>
                </a:lnTo>
                <a:lnTo>
                  <a:pt x="5999" y="8073"/>
                </a:lnTo>
                <a:lnTo>
                  <a:pt x="6023" y="8006"/>
                </a:lnTo>
                <a:lnTo>
                  <a:pt x="6049" y="7940"/>
                </a:lnTo>
                <a:lnTo>
                  <a:pt x="6075" y="7873"/>
                </a:lnTo>
                <a:lnTo>
                  <a:pt x="6101" y="7807"/>
                </a:lnTo>
                <a:lnTo>
                  <a:pt x="6130" y="7740"/>
                </a:lnTo>
                <a:lnTo>
                  <a:pt x="6157" y="7674"/>
                </a:lnTo>
                <a:lnTo>
                  <a:pt x="6187" y="7606"/>
                </a:lnTo>
                <a:lnTo>
                  <a:pt x="6218" y="7539"/>
                </a:lnTo>
                <a:lnTo>
                  <a:pt x="6248" y="7473"/>
                </a:lnTo>
                <a:lnTo>
                  <a:pt x="6280" y="7406"/>
                </a:lnTo>
                <a:lnTo>
                  <a:pt x="6313" y="7340"/>
                </a:lnTo>
                <a:lnTo>
                  <a:pt x="6345" y="7273"/>
                </a:lnTo>
                <a:lnTo>
                  <a:pt x="6379" y="7207"/>
                </a:lnTo>
                <a:lnTo>
                  <a:pt x="6414" y="7140"/>
                </a:lnTo>
                <a:lnTo>
                  <a:pt x="6450" y="7073"/>
                </a:lnTo>
                <a:lnTo>
                  <a:pt x="6421" y="7095"/>
                </a:lnTo>
                <a:lnTo>
                  <a:pt x="6394" y="7115"/>
                </a:lnTo>
                <a:lnTo>
                  <a:pt x="6367" y="7134"/>
                </a:lnTo>
                <a:lnTo>
                  <a:pt x="6341" y="7151"/>
                </a:lnTo>
                <a:lnTo>
                  <a:pt x="6315" y="7167"/>
                </a:lnTo>
                <a:lnTo>
                  <a:pt x="6289" y="7181"/>
                </a:lnTo>
                <a:lnTo>
                  <a:pt x="6265" y="7195"/>
                </a:lnTo>
                <a:lnTo>
                  <a:pt x="6241" y="7207"/>
                </a:lnTo>
                <a:lnTo>
                  <a:pt x="6218" y="7217"/>
                </a:lnTo>
                <a:lnTo>
                  <a:pt x="6194" y="7226"/>
                </a:lnTo>
                <a:lnTo>
                  <a:pt x="6172" y="7233"/>
                </a:lnTo>
                <a:lnTo>
                  <a:pt x="6150" y="7239"/>
                </a:lnTo>
                <a:lnTo>
                  <a:pt x="6129" y="7245"/>
                </a:lnTo>
                <a:lnTo>
                  <a:pt x="6109" y="7248"/>
                </a:lnTo>
                <a:lnTo>
                  <a:pt x="6089" y="7250"/>
                </a:lnTo>
                <a:lnTo>
                  <a:pt x="6070" y="7251"/>
                </a:lnTo>
                <a:lnTo>
                  <a:pt x="6051" y="7250"/>
                </a:lnTo>
                <a:lnTo>
                  <a:pt x="6032" y="7248"/>
                </a:lnTo>
                <a:lnTo>
                  <a:pt x="6015" y="7245"/>
                </a:lnTo>
                <a:lnTo>
                  <a:pt x="5998" y="7239"/>
                </a:lnTo>
                <a:lnTo>
                  <a:pt x="5981" y="7233"/>
                </a:lnTo>
                <a:lnTo>
                  <a:pt x="5965" y="7226"/>
                </a:lnTo>
                <a:lnTo>
                  <a:pt x="5950" y="7217"/>
                </a:lnTo>
                <a:lnTo>
                  <a:pt x="5936" y="7207"/>
                </a:lnTo>
                <a:lnTo>
                  <a:pt x="5922" y="7195"/>
                </a:lnTo>
                <a:lnTo>
                  <a:pt x="5908" y="7181"/>
                </a:lnTo>
                <a:lnTo>
                  <a:pt x="5896" y="7167"/>
                </a:lnTo>
                <a:lnTo>
                  <a:pt x="5883" y="7151"/>
                </a:lnTo>
                <a:lnTo>
                  <a:pt x="5871" y="7134"/>
                </a:lnTo>
                <a:lnTo>
                  <a:pt x="5861" y="7115"/>
                </a:lnTo>
                <a:lnTo>
                  <a:pt x="5850" y="7095"/>
                </a:lnTo>
                <a:lnTo>
                  <a:pt x="5841" y="7073"/>
                </a:lnTo>
                <a:lnTo>
                  <a:pt x="5794" y="7018"/>
                </a:lnTo>
                <a:lnTo>
                  <a:pt x="5748" y="6964"/>
                </a:lnTo>
                <a:lnTo>
                  <a:pt x="5702" y="6913"/>
                </a:lnTo>
                <a:lnTo>
                  <a:pt x="5657" y="6865"/>
                </a:lnTo>
                <a:lnTo>
                  <a:pt x="5613" y="6818"/>
                </a:lnTo>
                <a:lnTo>
                  <a:pt x="5568" y="6774"/>
                </a:lnTo>
                <a:lnTo>
                  <a:pt x="5524" y="6732"/>
                </a:lnTo>
                <a:lnTo>
                  <a:pt x="5481" y="6692"/>
                </a:lnTo>
                <a:lnTo>
                  <a:pt x="5437" y="6655"/>
                </a:lnTo>
                <a:lnTo>
                  <a:pt x="5395" y="6621"/>
                </a:lnTo>
                <a:lnTo>
                  <a:pt x="5353" y="6589"/>
                </a:lnTo>
                <a:lnTo>
                  <a:pt x="5311" y="6558"/>
                </a:lnTo>
                <a:lnTo>
                  <a:pt x="5270" y="6531"/>
                </a:lnTo>
                <a:lnTo>
                  <a:pt x="5228" y="6507"/>
                </a:lnTo>
                <a:lnTo>
                  <a:pt x="5187" y="6483"/>
                </a:lnTo>
                <a:lnTo>
                  <a:pt x="5147" y="6463"/>
                </a:lnTo>
                <a:lnTo>
                  <a:pt x="5120" y="6454"/>
                </a:lnTo>
                <a:lnTo>
                  <a:pt x="5092" y="6444"/>
                </a:lnTo>
                <a:lnTo>
                  <a:pt x="5067" y="6434"/>
                </a:lnTo>
                <a:lnTo>
                  <a:pt x="5043" y="6423"/>
                </a:lnTo>
                <a:lnTo>
                  <a:pt x="5019" y="6413"/>
                </a:lnTo>
                <a:lnTo>
                  <a:pt x="4998" y="6402"/>
                </a:lnTo>
                <a:lnTo>
                  <a:pt x="4977" y="6391"/>
                </a:lnTo>
                <a:lnTo>
                  <a:pt x="4958" y="6380"/>
                </a:lnTo>
                <a:lnTo>
                  <a:pt x="4940" y="6368"/>
                </a:lnTo>
                <a:lnTo>
                  <a:pt x="4923" y="6357"/>
                </a:lnTo>
                <a:lnTo>
                  <a:pt x="4907" y="6345"/>
                </a:lnTo>
                <a:lnTo>
                  <a:pt x="4893" y="6332"/>
                </a:lnTo>
                <a:lnTo>
                  <a:pt x="4879" y="6321"/>
                </a:lnTo>
                <a:lnTo>
                  <a:pt x="4867" y="6308"/>
                </a:lnTo>
                <a:lnTo>
                  <a:pt x="4856" y="6294"/>
                </a:lnTo>
                <a:lnTo>
                  <a:pt x="4846" y="6282"/>
                </a:lnTo>
                <a:lnTo>
                  <a:pt x="4838" y="6268"/>
                </a:lnTo>
                <a:lnTo>
                  <a:pt x="4830" y="6255"/>
                </a:lnTo>
                <a:lnTo>
                  <a:pt x="4825" y="6241"/>
                </a:lnTo>
                <a:lnTo>
                  <a:pt x="4820" y="6227"/>
                </a:lnTo>
                <a:lnTo>
                  <a:pt x="4817" y="6213"/>
                </a:lnTo>
                <a:lnTo>
                  <a:pt x="4814" y="6198"/>
                </a:lnTo>
                <a:lnTo>
                  <a:pt x="4812" y="6183"/>
                </a:lnTo>
                <a:lnTo>
                  <a:pt x="4813" y="6169"/>
                </a:lnTo>
                <a:lnTo>
                  <a:pt x="4814" y="6154"/>
                </a:lnTo>
                <a:lnTo>
                  <a:pt x="4817" y="6138"/>
                </a:lnTo>
                <a:lnTo>
                  <a:pt x="4821" y="6123"/>
                </a:lnTo>
                <a:lnTo>
                  <a:pt x="4826" y="6107"/>
                </a:lnTo>
                <a:lnTo>
                  <a:pt x="4831" y="6090"/>
                </a:lnTo>
                <a:lnTo>
                  <a:pt x="4840" y="6075"/>
                </a:lnTo>
                <a:lnTo>
                  <a:pt x="4848" y="6058"/>
                </a:lnTo>
                <a:lnTo>
                  <a:pt x="4858" y="6042"/>
                </a:lnTo>
                <a:lnTo>
                  <a:pt x="4877" y="6015"/>
                </a:lnTo>
                <a:lnTo>
                  <a:pt x="4896" y="5987"/>
                </a:lnTo>
                <a:lnTo>
                  <a:pt x="4913" y="5958"/>
                </a:lnTo>
                <a:lnTo>
                  <a:pt x="4930" y="5927"/>
                </a:lnTo>
                <a:lnTo>
                  <a:pt x="4944" y="5895"/>
                </a:lnTo>
                <a:lnTo>
                  <a:pt x="4959" y="5860"/>
                </a:lnTo>
                <a:lnTo>
                  <a:pt x="4974" y="5824"/>
                </a:lnTo>
                <a:lnTo>
                  <a:pt x="4987" y="5787"/>
                </a:lnTo>
                <a:lnTo>
                  <a:pt x="4999" y="5748"/>
                </a:lnTo>
                <a:lnTo>
                  <a:pt x="5011" y="5708"/>
                </a:lnTo>
                <a:lnTo>
                  <a:pt x="5021" y="5666"/>
                </a:lnTo>
                <a:lnTo>
                  <a:pt x="5031" y="5623"/>
                </a:lnTo>
                <a:lnTo>
                  <a:pt x="5040" y="5577"/>
                </a:lnTo>
                <a:lnTo>
                  <a:pt x="5049" y="5531"/>
                </a:lnTo>
                <a:lnTo>
                  <a:pt x="5056" y="5482"/>
                </a:lnTo>
                <a:lnTo>
                  <a:pt x="5064" y="5431"/>
                </a:lnTo>
                <a:lnTo>
                  <a:pt x="5060" y="5422"/>
                </a:lnTo>
                <a:lnTo>
                  <a:pt x="5058" y="5413"/>
                </a:lnTo>
                <a:lnTo>
                  <a:pt x="5057" y="5405"/>
                </a:lnTo>
                <a:lnTo>
                  <a:pt x="5057" y="5396"/>
                </a:lnTo>
                <a:lnTo>
                  <a:pt x="5058" y="5388"/>
                </a:lnTo>
                <a:lnTo>
                  <a:pt x="5060" y="5380"/>
                </a:lnTo>
                <a:lnTo>
                  <a:pt x="5064" y="5372"/>
                </a:lnTo>
                <a:lnTo>
                  <a:pt x="5067" y="5365"/>
                </a:lnTo>
                <a:lnTo>
                  <a:pt x="5072" y="5359"/>
                </a:lnTo>
                <a:lnTo>
                  <a:pt x="5077" y="5351"/>
                </a:lnTo>
                <a:lnTo>
                  <a:pt x="5084" y="5345"/>
                </a:lnTo>
                <a:lnTo>
                  <a:pt x="5091" y="5338"/>
                </a:lnTo>
                <a:lnTo>
                  <a:pt x="5100" y="5333"/>
                </a:lnTo>
                <a:lnTo>
                  <a:pt x="5109" y="5327"/>
                </a:lnTo>
                <a:lnTo>
                  <a:pt x="5120" y="5322"/>
                </a:lnTo>
                <a:lnTo>
                  <a:pt x="5130" y="5317"/>
                </a:lnTo>
                <a:lnTo>
                  <a:pt x="5143" y="5312"/>
                </a:lnTo>
                <a:lnTo>
                  <a:pt x="5155" y="5308"/>
                </a:lnTo>
                <a:lnTo>
                  <a:pt x="5169" y="5304"/>
                </a:lnTo>
                <a:lnTo>
                  <a:pt x="5184" y="5300"/>
                </a:lnTo>
                <a:lnTo>
                  <a:pt x="5217" y="5294"/>
                </a:lnTo>
                <a:lnTo>
                  <a:pt x="5254" y="5288"/>
                </a:lnTo>
                <a:lnTo>
                  <a:pt x="5294" y="5284"/>
                </a:lnTo>
                <a:lnTo>
                  <a:pt x="5337" y="5280"/>
                </a:lnTo>
                <a:lnTo>
                  <a:pt x="5385" y="5279"/>
                </a:lnTo>
                <a:lnTo>
                  <a:pt x="5436" y="5278"/>
                </a:lnTo>
                <a:lnTo>
                  <a:pt x="5486" y="5285"/>
                </a:lnTo>
                <a:lnTo>
                  <a:pt x="5538" y="5291"/>
                </a:lnTo>
                <a:lnTo>
                  <a:pt x="5588" y="5296"/>
                </a:lnTo>
                <a:lnTo>
                  <a:pt x="5640" y="5302"/>
                </a:lnTo>
                <a:lnTo>
                  <a:pt x="5692" y="5306"/>
                </a:lnTo>
                <a:lnTo>
                  <a:pt x="5744" y="5310"/>
                </a:lnTo>
                <a:lnTo>
                  <a:pt x="5796" y="5314"/>
                </a:lnTo>
                <a:lnTo>
                  <a:pt x="5849" y="5317"/>
                </a:lnTo>
                <a:lnTo>
                  <a:pt x="5903" y="5321"/>
                </a:lnTo>
                <a:lnTo>
                  <a:pt x="5956" y="5324"/>
                </a:lnTo>
                <a:lnTo>
                  <a:pt x="6010" y="5326"/>
                </a:lnTo>
                <a:lnTo>
                  <a:pt x="6063" y="5327"/>
                </a:lnTo>
                <a:lnTo>
                  <a:pt x="6118" y="5329"/>
                </a:lnTo>
                <a:lnTo>
                  <a:pt x="6172" y="5330"/>
                </a:lnTo>
                <a:lnTo>
                  <a:pt x="6227" y="5330"/>
                </a:lnTo>
                <a:lnTo>
                  <a:pt x="6282" y="5330"/>
                </a:lnTo>
                <a:lnTo>
                  <a:pt x="6297" y="5330"/>
                </a:lnTo>
                <a:lnTo>
                  <a:pt x="6312" y="5327"/>
                </a:lnTo>
                <a:lnTo>
                  <a:pt x="6327" y="5323"/>
                </a:lnTo>
                <a:lnTo>
                  <a:pt x="6342" y="5316"/>
                </a:lnTo>
                <a:lnTo>
                  <a:pt x="6358" y="5308"/>
                </a:lnTo>
                <a:lnTo>
                  <a:pt x="6374" y="5298"/>
                </a:lnTo>
                <a:lnTo>
                  <a:pt x="6390" y="5287"/>
                </a:lnTo>
                <a:lnTo>
                  <a:pt x="6407" y="5273"/>
                </a:lnTo>
                <a:lnTo>
                  <a:pt x="6422" y="5258"/>
                </a:lnTo>
                <a:lnTo>
                  <a:pt x="6439" y="5241"/>
                </a:lnTo>
                <a:lnTo>
                  <a:pt x="6456" y="5222"/>
                </a:lnTo>
                <a:lnTo>
                  <a:pt x="6473" y="5201"/>
                </a:lnTo>
                <a:lnTo>
                  <a:pt x="6491" y="5179"/>
                </a:lnTo>
                <a:lnTo>
                  <a:pt x="6508" y="5155"/>
                </a:lnTo>
                <a:lnTo>
                  <a:pt x="6526" y="5129"/>
                </a:lnTo>
                <a:lnTo>
                  <a:pt x="6544" y="5101"/>
                </a:lnTo>
                <a:lnTo>
                  <a:pt x="6562" y="5071"/>
                </a:lnTo>
                <a:lnTo>
                  <a:pt x="6581" y="5041"/>
                </a:lnTo>
                <a:lnTo>
                  <a:pt x="6599" y="5007"/>
                </a:lnTo>
                <a:lnTo>
                  <a:pt x="6618" y="4972"/>
                </a:lnTo>
                <a:lnTo>
                  <a:pt x="6637" y="4935"/>
                </a:lnTo>
                <a:lnTo>
                  <a:pt x="6656" y="4897"/>
                </a:lnTo>
                <a:lnTo>
                  <a:pt x="6675" y="4857"/>
                </a:lnTo>
                <a:lnTo>
                  <a:pt x="6695" y="4815"/>
                </a:lnTo>
                <a:lnTo>
                  <a:pt x="6734" y="4725"/>
                </a:lnTo>
                <a:lnTo>
                  <a:pt x="6774" y="4629"/>
                </a:lnTo>
                <a:lnTo>
                  <a:pt x="6815" y="4525"/>
                </a:lnTo>
                <a:lnTo>
                  <a:pt x="6857" y="4414"/>
                </a:lnTo>
                <a:lnTo>
                  <a:pt x="6880" y="4361"/>
                </a:lnTo>
                <a:lnTo>
                  <a:pt x="6901" y="4307"/>
                </a:lnTo>
                <a:lnTo>
                  <a:pt x="6921" y="4253"/>
                </a:lnTo>
                <a:lnTo>
                  <a:pt x="6941" y="4200"/>
                </a:lnTo>
                <a:lnTo>
                  <a:pt x="6960" y="4146"/>
                </a:lnTo>
                <a:lnTo>
                  <a:pt x="6978" y="4092"/>
                </a:lnTo>
                <a:lnTo>
                  <a:pt x="6996" y="4039"/>
                </a:lnTo>
                <a:lnTo>
                  <a:pt x="7013" y="3987"/>
                </a:lnTo>
                <a:lnTo>
                  <a:pt x="7029" y="3933"/>
                </a:lnTo>
                <a:lnTo>
                  <a:pt x="7044" y="3880"/>
                </a:lnTo>
                <a:lnTo>
                  <a:pt x="7060" y="3827"/>
                </a:lnTo>
                <a:lnTo>
                  <a:pt x="7074" y="3774"/>
                </a:lnTo>
                <a:lnTo>
                  <a:pt x="7088" y="3722"/>
                </a:lnTo>
                <a:lnTo>
                  <a:pt x="7100" y="3669"/>
                </a:lnTo>
                <a:lnTo>
                  <a:pt x="7112" y="3617"/>
                </a:lnTo>
                <a:lnTo>
                  <a:pt x="7123" y="3564"/>
                </a:lnTo>
                <a:lnTo>
                  <a:pt x="7135" y="3512"/>
                </a:lnTo>
                <a:lnTo>
                  <a:pt x="7145" y="3460"/>
                </a:lnTo>
                <a:lnTo>
                  <a:pt x="7154" y="3408"/>
                </a:lnTo>
                <a:lnTo>
                  <a:pt x="7162" y="3356"/>
                </a:lnTo>
                <a:lnTo>
                  <a:pt x="7171" y="3303"/>
                </a:lnTo>
                <a:lnTo>
                  <a:pt x="7178" y="3252"/>
                </a:lnTo>
                <a:lnTo>
                  <a:pt x="7185" y="3200"/>
                </a:lnTo>
                <a:lnTo>
                  <a:pt x="7190" y="3148"/>
                </a:lnTo>
                <a:lnTo>
                  <a:pt x="7195" y="3096"/>
                </a:lnTo>
                <a:lnTo>
                  <a:pt x="7200" y="3046"/>
                </a:lnTo>
                <a:lnTo>
                  <a:pt x="7204" y="2994"/>
                </a:lnTo>
                <a:lnTo>
                  <a:pt x="7207" y="2942"/>
                </a:lnTo>
                <a:lnTo>
                  <a:pt x="7210" y="2891"/>
                </a:lnTo>
                <a:lnTo>
                  <a:pt x="7211" y="2840"/>
                </a:lnTo>
                <a:lnTo>
                  <a:pt x="7212" y="2789"/>
                </a:lnTo>
                <a:lnTo>
                  <a:pt x="7213" y="2738"/>
                </a:lnTo>
                <a:lnTo>
                  <a:pt x="7147" y="2746"/>
                </a:lnTo>
                <a:lnTo>
                  <a:pt x="7081" y="2753"/>
                </a:lnTo>
                <a:lnTo>
                  <a:pt x="7016" y="2763"/>
                </a:lnTo>
                <a:lnTo>
                  <a:pt x="6950" y="2773"/>
                </a:lnTo>
                <a:lnTo>
                  <a:pt x="6885" y="2785"/>
                </a:lnTo>
                <a:lnTo>
                  <a:pt x="6819" y="2798"/>
                </a:lnTo>
                <a:lnTo>
                  <a:pt x="6754" y="2812"/>
                </a:lnTo>
                <a:lnTo>
                  <a:pt x="6688" y="2827"/>
                </a:lnTo>
                <a:lnTo>
                  <a:pt x="6623" y="2844"/>
                </a:lnTo>
                <a:lnTo>
                  <a:pt x="6558" y="2862"/>
                </a:lnTo>
                <a:lnTo>
                  <a:pt x="6492" y="2880"/>
                </a:lnTo>
                <a:lnTo>
                  <a:pt x="6427" y="2900"/>
                </a:lnTo>
                <a:lnTo>
                  <a:pt x="6360" y="2921"/>
                </a:lnTo>
                <a:lnTo>
                  <a:pt x="6295" y="2944"/>
                </a:lnTo>
                <a:lnTo>
                  <a:pt x="6229" y="2967"/>
                </a:lnTo>
                <a:lnTo>
                  <a:pt x="6164" y="2993"/>
                </a:lnTo>
                <a:lnTo>
                  <a:pt x="6077" y="3044"/>
                </a:lnTo>
                <a:lnTo>
                  <a:pt x="5992" y="3094"/>
                </a:lnTo>
                <a:lnTo>
                  <a:pt x="5908" y="3146"/>
                </a:lnTo>
                <a:lnTo>
                  <a:pt x="5825" y="3198"/>
                </a:lnTo>
                <a:lnTo>
                  <a:pt x="5742" y="3249"/>
                </a:lnTo>
                <a:lnTo>
                  <a:pt x="5661" y="3301"/>
                </a:lnTo>
                <a:lnTo>
                  <a:pt x="5581" y="3354"/>
                </a:lnTo>
                <a:lnTo>
                  <a:pt x="5503" y="3406"/>
                </a:lnTo>
                <a:lnTo>
                  <a:pt x="5425" y="3459"/>
                </a:lnTo>
                <a:lnTo>
                  <a:pt x="5348" y="3511"/>
                </a:lnTo>
                <a:lnTo>
                  <a:pt x="5272" y="3564"/>
                </a:lnTo>
                <a:lnTo>
                  <a:pt x="5198" y="3617"/>
                </a:lnTo>
                <a:lnTo>
                  <a:pt x="5124" y="3671"/>
                </a:lnTo>
                <a:lnTo>
                  <a:pt x="5051" y="3724"/>
                </a:lnTo>
                <a:lnTo>
                  <a:pt x="4980" y="3778"/>
                </a:lnTo>
                <a:lnTo>
                  <a:pt x="4909" y="3831"/>
                </a:lnTo>
                <a:lnTo>
                  <a:pt x="4840" y="3885"/>
                </a:lnTo>
                <a:lnTo>
                  <a:pt x="4771" y="3940"/>
                </a:lnTo>
                <a:lnTo>
                  <a:pt x="4705" y="3994"/>
                </a:lnTo>
                <a:lnTo>
                  <a:pt x="4638" y="4049"/>
                </a:lnTo>
                <a:lnTo>
                  <a:pt x="4574" y="4104"/>
                </a:lnTo>
                <a:lnTo>
                  <a:pt x="4509" y="4159"/>
                </a:lnTo>
                <a:lnTo>
                  <a:pt x="4446" y="4215"/>
                </a:lnTo>
                <a:lnTo>
                  <a:pt x="4385" y="4270"/>
                </a:lnTo>
                <a:lnTo>
                  <a:pt x="4324" y="4326"/>
                </a:lnTo>
                <a:lnTo>
                  <a:pt x="4263" y="4382"/>
                </a:lnTo>
                <a:lnTo>
                  <a:pt x="4205" y="4438"/>
                </a:lnTo>
                <a:lnTo>
                  <a:pt x="4147" y="4494"/>
                </a:lnTo>
                <a:lnTo>
                  <a:pt x="4091" y="4551"/>
                </a:lnTo>
                <a:lnTo>
                  <a:pt x="4035" y="4607"/>
                </a:lnTo>
                <a:lnTo>
                  <a:pt x="3981" y="4664"/>
                </a:lnTo>
                <a:lnTo>
                  <a:pt x="3928" y="4721"/>
                </a:lnTo>
                <a:lnTo>
                  <a:pt x="3817" y="4855"/>
                </a:lnTo>
                <a:lnTo>
                  <a:pt x="3707" y="4989"/>
                </a:lnTo>
                <a:lnTo>
                  <a:pt x="3598" y="5125"/>
                </a:lnTo>
                <a:lnTo>
                  <a:pt x="3493" y="5261"/>
                </a:lnTo>
                <a:lnTo>
                  <a:pt x="3387" y="5399"/>
                </a:lnTo>
                <a:lnTo>
                  <a:pt x="3284" y="5537"/>
                </a:lnTo>
                <a:lnTo>
                  <a:pt x="3182" y="5676"/>
                </a:lnTo>
                <a:lnTo>
                  <a:pt x="3082" y="5817"/>
                </a:lnTo>
                <a:lnTo>
                  <a:pt x="2984" y="5958"/>
                </a:lnTo>
                <a:lnTo>
                  <a:pt x="2887" y="6100"/>
                </a:lnTo>
                <a:lnTo>
                  <a:pt x="2791" y="6244"/>
                </a:lnTo>
                <a:lnTo>
                  <a:pt x="2697" y="6387"/>
                </a:lnTo>
                <a:lnTo>
                  <a:pt x="2604" y="6532"/>
                </a:lnTo>
                <a:lnTo>
                  <a:pt x="2513" y="6678"/>
                </a:lnTo>
                <a:lnTo>
                  <a:pt x="2424" y="6824"/>
                </a:lnTo>
                <a:lnTo>
                  <a:pt x="2336" y="6972"/>
                </a:lnTo>
                <a:lnTo>
                  <a:pt x="2280" y="7076"/>
                </a:lnTo>
                <a:lnTo>
                  <a:pt x="2224" y="7179"/>
                </a:lnTo>
                <a:lnTo>
                  <a:pt x="2168" y="7281"/>
                </a:lnTo>
                <a:lnTo>
                  <a:pt x="2112" y="7381"/>
                </a:lnTo>
                <a:lnTo>
                  <a:pt x="2056" y="7480"/>
                </a:lnTo>
                <a:lnTo>
                  <a:pt x="2000" y="7577"/>
                </a:lnTo>
                <a:lnTo>
                  <a:pt x="1944" y="7675"/>
                </a:lnTo>
                <a:lnTo>
                  <a:pt x="1887" y="7770"/>
                </a:lnTo>
                <a:lnTo>
                  <a:pt x="1831" y="7863"/>
                </a:lnTo>
                <a:lnTo>
                  <a:pt x="1775" y="7956"/>
                </a:lnTo>
                <a:lnTo>
                  <a:pt x="1719" y="8046"/>
                </a:lnTo>
                <a:lnTo>
                  <a:pt x="1663" y="8137"/>
                </a:lnTo>
                <a:lnTo>
                  <a:pt x="1607" y="8225"/>
                </a:lnTo>
                <a:lnTo>
                  <a:pt x="1551" y="8313"/>
                </a:lnTo>
                <a:lnTo>
                  <a:pt x="1495" y="8399"/>
                </a:lnTo>
                <a:lnTo>
                  <a:pt x="1439" y="8484"/>
                </a:lnTo>
                <a:lnTo>
                  <a:pt x="1383" y="8567"/>
                </a:lnTo>
                <a:lnTo>
                  <a:pt x="1326" y="8649"/>
                </a:lnTo>
                <a:lnTo>
                  <a:pt x="1270" y="8730"/>
                </a:lnTo>
                <a:lnTo>
                  <a:pt x="1214" y="8810"/>
                </a:lnTo>
                <a:lnTo>
                  <a:pt x="1158" y="8888"/>
                </a:lnTo>
                <a:lnTo>
                  <a:pt x="1102" y="8965"/>
                </a:lnTo>
                <a:lnTo>
                  <a:pt x="1047" y="9041"/>
                </a:lnTo>
                <a:lnTo>
                  <a:pt x="991" y="9115"/>
                </a:lnTo>
                <a:lnTo>
                  <a:pt x="935" y="9189"/>
                </a:lnTo>
                <a:lnTo>
                  <a:pt x="879" y="9261"/>
                </a:lnTo>
                <a:lnTo>
                  <a:pt x="822" y="9332"/>
                </a:lnTo>
                <a:lnTo>
                  <a:pt x="766" y="9400"/>
                </a:lnTo>
                <a:lnTo>
                  <a:pt x="710" y="9469"/>
                </a:lnTo>
                <a:lnTo>
                  <a:pt x="654" y="9536"/>
                </a:lnTo>
                <a:lnTo>
                  <a:pt x="598" y="9601"/>
                </a:lnTo>
                <a:lnTo>
                  <a:pt x="542" y="9665"/>
                </a:lnTo>
                <a:lnTo>
                  <a:pt x="503" y="9680"/>
                </a:lnTo>
                <a:lnTo>
                  <a:pt x="465" y="9693"/>
                </a:lnTo>
                <a:lnTo>
                  <a:pt x="428" y="9702"/>
                </a:lnTo>
                <a:lnTo>
                  <a:pt x="393" y="9710"/>
                </a:lnTo>
                <a:lnTo>
                  <a:pt x="360" y="9716"/>
                </a:lnTo>
                <a:lnTo>
                  <a:pt x="328" y="9719"/>
                </a:lnTo>
                <a:lnTo>
                  <a:pt x="297" y="9720"/>
                </a:lnTo>
                <a:lnTo>
                  <a:pt x="268" y="9718"/>
                </a:lnTo>
                <a:lnTo>
                  <a:pt x="241" y="9715"/>
                </a:lnTo>
                <a:lnTo>
                  <a:pt x="215" y="9709"/>
                </a:lnTo>
                <a:lnTo>
                  <a:pt x="190" y="9701"/>
                </a:lnTo>
                <a:lnTo>
                  <a:pt x="167" y="9691"/>
                </a:lnTo>
                <a:lnTo>
                  <a:pt x="146" y="9678"/>
                </a:lnTo>
                <a:lnTo>
                  <a:pt x="126" y="9663"/>
                </a:lnTo>
                <a:lnTo>
                  <a:pt x="107" y="9645"/>
                </a:lnTo>
                <a:lnTo>
                  <a:pt x="90" y="9626"/>
                </a:lnTo>
                <a:lnTo>
                  <a:pt x="74" y="9604"/>
                </a:lnTo>
                <a:lnTo>
                  <a:pt x="59" y="9580"/>
                </a:lnTo>
                <a:lnTo>
                  <a:pt x="47" y="9553"/>
                </a:lnTo>
                <a:lnTo>
                  <a:pt x="36" y="9525"/>
                </a:lnTo>
                <a:lnTo>
                  <a:pt x="27" y="9494"/>
                </a:lnTo>
                <a:lnTo>
                  <a:pt x="18" y="9462"/>
                </a:lnTo>
                <a:lnTo>
                  <a:pt x="12" y="9426"/>
                </a:lnTo>
                <a:lnTo>
                  <a:pt x="7" y="9388"/>
                </a:lnTo>
                <a:lnTo>
                  <a:pt x="2" y="9348"/>
                </a:lnTo>
                <a:lnTo>
                  <a:pt x="0" y="9305"/>
                </a:lnTo>
                <a:lnTo>
                  <a:pt x="0" y="9261"/>
                </a:lnTo>
                <a:lnTo>
                  <a:pt x="0" y="9214"/>
                </a:lnTo>
                <a:lnTo>
                  <a:pt x="2" y="9165"/>
                </a:lnTo>
                <a:lnTo>
                  <a:pt x="7" y="9113"/>
                </a:lnTo>
                <a:lnTo>
                  <a:pt x="12" y="9060"/>
                </a:lnTo>
                <a:lnTo>
                  <a:pt x="19" y="9003"/>
                </a:lnTo>
                <a:lnTo>
                  <a:pt x="39" y="8932"/>
                </a:lnTo>
                <a:lnTo>
                  <a:pt x="62" y="8860"/>
                </a:lnTo>
                <a:lnTo>
                  <a:pt x="87" y="8784"/>
                </a:lnTo>
                <a:lnTo>
                  <a:pt x="113" y="8705"/>
                </a:lnTo>
                <a:lnTo>
                  <a:pt x="144" y="8624"/>
                </a:lnTo>
                <a:lnTo>
                  <a:pt x="176" y="8542"/>
                </a:lnTo>
                <a:lnTo>
                  <a:pt x="210" y="8456"/>
                </a:lnTo>
                <a:lnTo>
                  <a:pt x="246" y="8368"/>
                </a:lnTo>
                <a:lnTo>
                  <a:pt x="286" y="8279"/>
                </a:lnTo>
                <a:lnTo>
                  <a:pt x="328" y="8186"/>
                </a:lnTo>
                <a:lnTo>
                  <a:pt x="372" y="8092"/>
                </a:lnTo>
                <a:lnTo>
                  <a:pt x="418" y="7995"/>
                </a:lnTo>
                <a:lnTo>
                  <a:pt x="467" y="7894"/>
                </a:lnTo>
                <a:lnTo>
                  <a:pt x="519" y="7793"/>
                </a:lnTo>
                <a:lnTo>
                  <a:pt x="572" y="7688"/>
                </a:lnTo>
                <a:lnTo>
                  <a:pt x="628" y="7582"/>
                </a:lnTo>
                <a:lnTo>
                  <a:pt x="715" y="7470"/>
                </a:lnTo>
                <a:lnTo>
                  <a:pt x="801" y="7356"/>
                </a:lnTo>
                <a:lnTo>
                  <a:pt x="885" y="7242"/>
                </a:lnTo>
                <a:lnTo>
                  <a:pt x="969" y="7126"/>
                </a:lnTo>
                <a:lnTo>
                  <a:pt x="1053" y="7010"/>
                </a:lnTo>
                <a:lnTo>
                  <a:pt x="1135" y="6893"/>
                </a:lnTo>
                <a:lnTo>
                  <a:pt x="1218" y="6776"/>
                </a:lnTo>
                <a:lnTo>
                  <a:pt x="1299" y="6657"/>
                </a:lnTo>
                <a:lnTo>
                  <a:pt x="1379" y="6537"/>
                </a:lnTo>
                <a:lnTo>
                  <a:pt x="1459" y="6417"/>
                </a:lnTo>
                <a:lnTo>
                  <a:pt x="1537" y="6296"/>
                </a:lnTo>
                <a:lnTo>
                  <a:pt x="1617" y="6174"/>
                </a:lnTo>
                <a:lnTo>
                  <a:pt x="1694" y="6051"/>
                </a:lnTo>
                <a:lnTo>
                  <a:pt x="1771" y="5927"/>
                </a:lnTo>
                <a:lnTo>
                  <a:pt x="1847" y="5802"/>
                </a:lnTo>
                <a:lnTo>
                  <a:pt x="1923" y="5676"/>
                </a:lnTo>
                <a:lnTo>
                  <a:pt x="1997" y="5551"/>
                </a:lnTo>
                <a:lnTo>
                  <a:pt x="2072" y="5423"/>
                </a:lnTo>
                <a:lnTo>
                  <a:pt x="2144" y="5295"/>
                </a:lnTo>
                <a:lnTo>
                  <a:pt x="2217" y="5166"/>
                </a:lnTo>
                <a:lnTo>
                  <a:pt x="2289" y="5036"/>
                </a:lnTo>
                <a:lnTo>
                  <a:pt x="2360" y="4907"/>
                </a:lnTo>
                <a:lnTo>
                  <a:pt x="2431" y="4775"/>
                </a:lnTo>
                <a:lnTo>
                  <a:pt x="2500" y="4642"/>
                </a:lnTo>
                <a:lnTo>
                  <a:pt x="2569" y="4509"/>
                </a:lnTo>
                <a:lnTo>
                  <a:pt x="2638" y="4375"/>
                </a:lnTo>
                <a:lnTo>
                  <a:pt x="2705" y="4240"/>
                </a:lnTo>
                <a:lnTo>
                  <a:pt x="2772" y="4105"/>
                </a:lnTo>
                <a:lnTo>
                  <a:pt x="2838" y="3968"/>
                </a:lnTo>
                <a:lnTo>
                  <a:pt x="2904" y="3830"/>
                </a:lnTo>
                <a:lnTo>
                  <a:pt x="2968" y="3692"/>
                </a:lnTo>
                <a:lnTo>
                  <a:pt x="3032" y="3553"/>
                </a:lnTo>
                <a:lnTo>
                  <a:pt x="2996" y="3527"/>
                </a:lnTo>
                <a:lnTo>
                  <a:pt x="2961" y="3502"/>
                </a:lnTo>
                <a:lnTo>
                  <a:pt x="2927" y="3475"/>
                </a:lnTo>
                <a:lnTo>
                  <a:pt x="2892" y="3448"/>
                </a:lnTo>
                <a:lnTo>
                  <a:pt x="2858" y="3421"/>
                </a:lnTo>
                <a:lnTo>
                  <a:pt x="2824" y="3393"/>
                </a:lnTo>
                <a:lnTo>
                  <a:pt x="2792" y="3366"/>
                </a:lnTo>
                <a:lnTo>
                  <a:pt x="2760" y="3337"/>
                </a:lnTo>
                <a:lnTo>
                  <a:pt x="2728" y="3308"/>
                </a:lnTo>
                <a:lnTo>
                  <a:pt x="2697" y="3279"/>
                </a:lnTo>
                <a:lnTo>
                  <a:pt x="2666" y="3249"/>
                </a:lnTo>
                <a:lnTo>
                  <a:pt x="2635" y="3219"/>
                </a:lnTo>
                <a:lnTo>
                  <a:pt x="2606" y="3189"/>
                </a:lnTo>
                <a:lnTo>
                  <a:pt x="2576" y="3159"/>
                </a:lnTo>
                <a:lnTo>
                  <a:pt x="2548" y="3127"/>
                </a:lnTo>
                <a:lnTo>
                  <a:pt x="2519" y="3095"/>
                </a:lnTo>
                <a:lnTo>
                  <a:pt x="2491" y="3064"/>
                </a:lnTo>
                <a:lnTo>
                  <a:pt x="2463" y="3031"/>
                </a:lnTo>
                <a:lnTo>
                  <a:pt x="2437" y="2998"/>
                </a:lnTo>
                <a:lnTo>
                  <a:pt x="2411" y="2965"/>
                </a:lnTo>
                <a:lnTo>
                  <a:pt x="2385" y="2932"/>
                </a:lnTo>
                <a:lnTo>
                  <a:pt x="2360" y="2898"/>
                </a:lnTo>
                <a:lnTo>
                  <a:pt x="2335" y="2863"/>
                </a:lnTo>
                <a:lnTo>
                  <a:pt x="2310" y="2828"/>
                </a:lnTo>
                <a:lnTo>
                  <a:pt x="2286" y="2793"/>
                </a:lnTo>
                <a:lnTo>
                  <a:pt x="2263" y="2757"/>
                </a:lnTo>
                <a:lnTo>
                  <a:pt x="2241" y="2721"/>
                </a:lnTo>
                <a:lnTo>
                  <a:pt x="2218" y="2685"/>
                </a:lnTo>
                <a:lnTo>
                  <a:pt x="2196" y="2649"/>
                </a:lnTo>
                <a:lnTo>
                  <a:pt x="2175" y="2612"/>
                </a:lnTo>
                <a:lnTo>
                  <a:pt x="2154" y="2574"/>
                </a:lnTo>
                <a:lnTo>
                  <a:pt x="2134" y="2536"/>
                </a:lnTo>
                <a:lnTo>
                  <a:pt x="2124" y="2488"/>
                </a:lnTo>
                <a:lnTo>
                  <a:pt x="2116" y="2440"/>
                </a:lnTo>
                <a:lnTo>
                  <a:pt x="2111" y="2395"/>
                </a:lnTo>
                <a:lnTo>
                  <a:pt x="2106" y="2351"/>
                </a:lnTo>
                <a:lnTo>
                  <a:pt x="2104" y="2307"/>
                </a:lnTo>
                <a:lnTo>
                  <a:pt x="2104" y="2265"/>
                </a:lnTo>
                <a:lnTo>
                  <a:pt x="2106" y="2225"/>
                </a:lnTo>
                <a:lnTo>
                  <a:pt x="2111" y="2185"/>
                </a:lnTo>
                <a:lnTo>
                  <a:pt x="2116" y="2147"/>
                </a:lnTo>
                <a:lnTo>
                  <a:pt x="2123" y="2110"/>
                </a:lnTo>
                <a:lnTo>
                  <a:pt x="2133" y="2074"/>
                </a:lnTo>
                <a:lnTo>
                  <a:pt x="2144" y="2039"/>
                </a:lnTo>
                <a:lnTo>
                  <a:pt x="2158" y="2006"/>
                </a:lnTo>
                <a:lnTo>
                  <a:pt x="2173" y="1974"/>
                </a:lnTo>
                <a:lnTo>
                  <a:pt x="2191" y="1943"/>
                </a:lnTo>
                <a:lnTo>
                  <a:pt x="2210" y="1913"/>
                </a:lnTo>
                <a:lnTo>
                  <a:pt x="2231" y="1885"/>
                </a:lnTo>
                <a:lnTo>
                  <a:pt x="2254" y="1857"/>
                </a:lnTo>
                <a:lnTo>
                  <a:pt x="2279" y="1832"/>
                </a:lnTo>
                <a:lnTo>
                  <a:pt x="2306" y="1807"/>
                </a:lnTo>
                <a:lnTo>
                  <a:pt x="2335" y="1784"/>
                </a:lnTo>
                <a:lnTo>
                  <a:pt x="2365" y="1761"/>
                </a:lnTo>
                <a:lnTo>
                  <a:pt x="2398" y="1740"/>
                </a:lnTo>
                <a:lnTo>
                  <a:pt x="2433" y="1720"/>
                </a:lnTo>
                <a:lnTo>
                  <a:pt x="2469" y="1701"/>
                </a:lnTo>
                <a:lnTo>
                  <a:pt x="2507" y="1684"/>
                </a:lnTo>
                <a:lnTo>
                  <a:pt x="2548" y="1668"/>
                </a:lnTo>
                <a:lnTo>
                  <a:pt x="2590" y="1653"/>
                </a:lnTo>
                <a:lnTo>
                  <a:pt x="2634" y="1639"/>
                </a:lnTo>
                <a:lnTo>
                  <a:pt x="2680" y="1626"/>
                </a:lnTo>
                <a:lnTo>
                  <a:pt x="2728" y="1616"/>
                </a:lnTo>
                <a:lnTo>
                  <a:pt x="2778" y="1605"/>
                </a:lnTo>
                <a:lnTo>
                  <a:pt x="2896" y="1592"/>
                </a:lnTo>
                <a:lnTo>
                  <a:pt x="3014" y="1580"/>
                </a:lnTo>
                <a:lnTo>
                  <a:pt x="3133" y="1568"/>
                </a:lnTo>
                <a:lnTo>
                  <a:pt x="3252" y="1556"/>
                </a:lnTo>
                <a:lnTo>
                  <a:pt x="3371" y="1546"/>
                </a:lnTo>
                <a:lnTo>
                  <a:pt x="3490" y="1535"/>
                </a:lnTo>
                <a:lnTo>
                  <a:pt x="3609" y="1526"/>
                </a:lnTo>
                <a:lnTo>
                  <a:pt x="3729" y="1515"/>
                </a:lnTo>
                <a:lnTo>
                  <a:pt x="3848" y="1507"/>
                </a:lnTo>
                <a:lnTo>
                  <a:pt x="3968" y="1497"/>
                </a:lnTo>
                <a:lnTo>
                  <a:pt x="4088" y="1489"/>
                </a:lnTo>
                <a:lnTo>
                  <a:pt x="4208" y="1480"/>
                </a:lnTo>
                <a:lnTo>
                  <a:pt x="4329" y="1473"/>
                </a:lnTo>
                <a:lnTo>
                  <a:pt x="4449" y="1466"/>
                </a:lnTo>
                <a:lnTo>
                  <a:pt x="4570" y="1458"/>
                </a:lnTo>
                <a:lnTo>
                  <a:pt x="4691" y="1452"/>
                </a:lnTo>
                <a:lnTo>
                  <a:pt x="4731" y="1413"/>
                </a:lnTo>
                <a:lnTo>
                  <a:pt x="4771" y="1371"/>
                </a:lnTo>
                <a:lnTo>
                  <a:pt x="4812" y="1325"/>
                </a:lnTo>
                <a:lnTo>
                  <a:pt x="4855" y="1278"/>
                </a:lnTo>
                <a:lnTo>
                  <a:pt x="4896" y="1227"/>
                </a:lnTo>
                <a:lnTo>
                  <a:pt x="4938" y="1173"/>
                </a:lnTo>
                <a:lnTo>
                  <a:pt x="4981" y="1117"/>
                </a:lnTo>
                <a:lnTo>
                  <a:pt x="5025" y="1058"/>
                </a:lnTo>
                <a:lnTo>
                  <a:pt x="5068" y="997"/>
                </a:lnTo>
                <a:lnTo>
                  <a:pt x="5111" y="932"/>
                </a:lnTo>
                <a:lnTo>
                  <a:pt x="5155" y="865"/>
                </a:lnTo>
                <a:lnTo>
                  <a:pt x="5201" y="794"/>
                </a:lnTo>
                <a:lnTo>
                  <a:pt x="5246" y="722"/>
                </a:lnTo>
                <a:lnTo>
                  <a:pt x="5292" y="646"/>
                </a:lnTo>
                <a:lnTo>
                  <a:pt x="5337" y="568"/>
                </a:lnTo>
                <a:lnTo>
                  <a:pt x="5384" y="487"/>
                </a:lnTo>
                <a:lnTo>
                  <a:pt x="5400" y="450"/>
                </a:lnTo>
                <a:lnTo>
                  <a:pt x="5416" y="414"/>
                </a:lnTo>
                <a:lnTo>
                  <a:pt x="5433" y="379"/>
                </a:lnTo>
                <a:lnTo>
                  <a:pt x="5451" y="346"/>
                </a:lnTo>
                <a:lnTo>
                  <a:pt x="5468" y="314"/>
                </a:lnTo>
                <a:lnTo>
                  <a:pt x="5486" y="285"/>
                </a:lnTo>
                <a:lnTo>
                  <a:pt x="5504" y="256"/>
                </a:lnTo>
                <a:lnTo>
                  <a:pt x="5523" y="229"/>
                </a:lnTo>
                <a:lnTo>
                  <a:pt x="5542" y="204"/>
                </a:lnTo>
                <a:lnTo>
                  <a:pt x="5562" y="180"/>
                </a:lnTo>
                <a:lnTo>
                  <a:pt x="5581" y="157"/>
                </a:lnTo>
                <a:lnTo>
                  <a:pt x="5601" y="137"/>
                </a:lnTo>
                <a:lnTo>
                  <a:pt x="5622" y="117"/>
                </a:lnTo>
                <a:lnTo>
                  <a:pt x="5642" y="99"/>
                </a:lnTo>
                <a:lnTo>
                  <a:pt x="5663" y="83"/>
                </a:lnTo>
                <a:lnTo>
                  <a:pt x="5685" y="67"/>
                </a:lnTo>
                <a:lnTo>
                  <a:pt x="5707" y="55"/>
                </a:lnTo>
                <a:lnTo>
                  <a:pt x="5729" y="42"/>
                </a:lnTo>
                <a:lnTo>
                  <a:pt x="5752" y="31"/>
                </a:lnTo>
                <a:lnTo>
                  <a:pt x="5774" y="23"/>
                </a:lnTo>
                <a:lnTo>
                  <a:pt x="5797" y="16"/>
                </a:lnTo>
                <a:lnTo>
                  <a:pt x="5822" y="9"/>
                </a:lnTo>
                <a:lnTo>
                  <a:pt x="5845" y="5"/>
                </a:lnTo>
                <a:lnTo>
                  <a:pt x="5870" y="2"/>
                </a:lnTo>
                <a:lnTo>
                  <a:pt x="5895" y="0"/>
                </a:lnTo>
                <a:lnTo>
                  <a:pt x="5920" y="0"/>
                </a:lnTo>
                <a:lnTo>
                  <a:pt x="5945" y="1"/>
                </a:lnTo>
                <a:lnTo>
                  <a:pt x="5971" y="4"/>
                </a:lnTo>
                <a:lnTo>
                  <a:pt x="5997" y="8"/>
                </a:lnTo>
                <a:lnTo>
                  <a:pt x="6023" y="15"/>
                </a:lnTo>
                <a:lnTo>
                  <a:pt x="6050" y="22"/>
                </a:lnTo>
                <a:lnTo>
                  <a:pt x="6077" y="30"/>
                </a:lnTo>
                <a:lnTo>
                  <a:pt x="6113" y="43"/>
                </a:lnTo>
                <a:lnTo>
                  <a:pt x="6147" y="56"/>
                </a:lnTo>
                <a:lnTo>
                  <a:pt x="6181" y="69"/>
                </a:lnTo>
                <a:lnTo>
                  <a:pt x="6212" y="83"/>
                </a:lnTo>
                <a:lnTo>
                  <a:pt x="6243" y="97"/>
                </a:lnTo>
                <a:lnTo>
                  <a:pt x="6272" y="112"/>
                </a:lnTo>
                <a:lnTo>
                  <a:pt x="6302" y="126"/>
                </a:lnTo>
                <a:lnTo>
                  <a:pt x="6329" y="141"/>
                </a:lnTo>
                <a:lnTo>
                  <a:pt x="6356" y="156"/>
                </a:lnTo>
                <a:lnTo>
                  <a:pt x="6381" y="172"/>
                </a:lnTo>
                <a:lnTo>
                  <a:pt x="6404" y="188"/>
                </a:lnTo>
                <a:lnTo>
                  <a:pt x="6428" y="204"/>
                </a:lnTo>
                <a:lnTo>
                  <a:pt x="6450" y="220"/>
                </a:lnTo>
                <a:lnTo>
                  <a:pt x="6471" y="237"/>
                </a:lnTo>
                <a:lnTo>
                  <a:pt x="6490" y="254"/>
                </a:lnTo>
                <a:lnTo>
                  <a:pt x="6509" y="271"/>
                </a:lnTo>
                <a:lnTo>
                  <a:pt x="6526" y="289"/>
                </a:lnTo>
                <a:lnTo>
                  <a:pt x="6543" y="306"/>
                </a:lnTo>
                <a:lnTo>
                  <a:pt x="6558" y="325"/>
                </a:lnTo>
                <a:lnTo>
                  <a:pt x="6571" y="343"/>
                </a:lnTo>
                <a:lnTo>
                  <a:pt x="6584" y="362"/>
                </a:lnTo>
                <a:lnTo>
                  <a:pt x="6597" y="381"/>
                </a:lnTo>
                <a:lnTo>
                  <a:pt x="6607" y="400"/>
                </a:lnTo>
                <a:lnTo>
                  <a:pt x="6617" y="420"/>
                </a:lnTo>
                <a:lnTo>
                  <a:pt x="6625" y="440"/>
                </a:lnTo>
                <a:lnTo>
                  <a:pt x="6632" y="460"/>
                </a:lnTo>
                <a:lnTo>
                  <a:pt x="6638" y="480"/>
                </a:lnTo>
                <a:lnTo>
                  <a:pt x="6643" y="501"/>
                </a:lnTo>
                <a:lnTo>
                  <a:pt x="6647" y="523"/>
                </a:lnTo>
                <a:lnTo>
                  <a:pt x="6650" y="544"/>
                </a:lnTo>
                <a:lnTo>
                  <a:pt x="6651" y="566"/>
                </a:lnTo>
                <a:lnTo>
                  <a:pt x="6653" y="588"/>
                </a:lnTo>
                <a:lnTo>
                  <a:pt x="6635" y="632"/>
                </a:lnTo>
                <a:lnTo>
                  <a:pt x="6618" y="678"/>
                </a:lnTo>
                <a:lnTo>
                  <a:pt x="6600" y="723"/>
                </a:lnTo>
                <a:lnTo>
                  <a:pt x="6581" y="769"/>
                </a:lnTo>
                <a:lnTo>
                  <a:pt x="6562" y="815"/>
                </a:lnTo>
                <a:lnTo>
                  <a:pt x="6542" y="862"/>
                </a:lnTo>
                <a:lnTo>
                  <a:pt x="6522" y="909"/>
                </a:lnTo>
                <a:lnTo>
                  <a:pt x="6501" y="957"/>
                </a:lnTo>
                <a:lnTo>
                  <a:pt x="6479" y="1004"/>
                </a:lnTo>
                <a:lnTo>
                  <a:pt x="6457" y="1053"/>
                </a:lnTo>
                <a:lnTo>
                  <a:pt x="6435" y="1101"/>
                </a:lnTo>
                <a:lnTo>
                  <a:pt x="6412" y="1150"/>
                </a:lnTo>
                <a:lnTo>
                  <a:pt x="6388" y="1200"/>
                </a:lnTo>
                <a:lnTo>
                  <a:pt x="6364" y="1250"/>
                </a:lnTo>
                <a:lnTo>
                  <a:pt x="6339" y="1300"/>
                </a:lnTo>
                <a:lnTo>
                  <a:pt x="6314" y="1351"/>
                </a:lnTo>
                <a:lnTo>
                  <a:pt x="6367" y="1338"/>
                </a:lnTo>
                <a:lnTo>
                  <a:pt x="6424" y="1325"/>
                </a:lnTo>
                <a:lnTo>
                  <a:pt x="6486" y="1313"/>
                </a:lnTo>
                <a:lnTo>
                  <a:pt x="6552" y="1299"/>
                </a:lnTo>
                <a:lnTo>
                  <a:pt x="6622" y="1286"/>
                </a:lnTo>
                <a:lnTo>
                  <a:pt x="6697" y="1275"/>
                </a:lnTo>
                <a:lnTo>
                  <a:pt x="6775" y="1262"/>
                </a:lnTo>
                <a:lnTo>
                  <a:pt x="6857" y="1250"/>
                </a:lnTo>
                <a:lnTo>
                  <a:pt x="6872" y="1253"/>
                </a:lnTo>
                <a:lnTo>
                  <a:pt x="6886" y="1257"/>
                </a:lnTo>
                <a:lnTo>
                  <a:pt x="6900" y="1262"/>
                </a:lnTo>
                <a:lnTo>
                  <a:pt x="6913" y="1266"/>
                </a:lnTo>
                <a:lnTo>
                  <a:pt x="6926" y="1272"/>
                </a:lnTo>
                <a:lnTo>
                  <a:pt x="6939" y="1279"/>
                </a:lnTo>
                <a:lnTo>
                  <a:pt x="6950" y="1285"/>
                </a:lnTo>
                <a:lnTo>
                  <a:pt x="6962" y="1294"/>
                </a:lnTo>
                <a:lnTo>
                  <a:pt x="6973" y="1301"/>
                </a:lnTo>
                <a:lnTo>
                  <a:pt x="6985" y="1310"/>
                </a:lnTo>
                <a:lnTo>
                  <a:pt x="6996" y="1319"/>
                </a:lnTo>
                <a:lnTo>
                  <a:pt x="7005" y="1329"/>
                </a:lnTo>
                <a:lnTo>
                  <a:pt x="7016" y="1340"/>
                </a:lnTo>
                <a:lnTo>
                  <a:pt x="7025" y="1351"/>
                </a:lnTo>
                <a:lnTo>
                  <a:pt x="7034" y="1363"/>
                </a:lnTo>
                <a:lnTo>
                  <a:pt x="7043" y="1375"/>
                </a:lnTo>
                <a:lnTo>
                  <a:pt x="7052" y="1389"/>
                </a:lnTo>
                <a:lnTo>
                  <a:pt x="7059" y="1401"/>
                </a:lnTo>
                <a:lnTo>
                  <a:pt x="7066" y="1416"/>
                </a:lnTo>
                <a:lnTo>
                  <a:pt x="7074" y="1431"/>
                </a:lnTo>
                <a:lnTo>
                  <a:pt x="7080" y="1446"/>
                </a:lnTo>
                <a:lnTo>
                  <a:pt x="7088" y="1461"/>
                </a:lnTo>
                <a:lnTo>
                  <a:pt x="7093" y="1478"/>
                </a:lnTo>
                <a:lnTo>
                  <a:pt x="7099" y="1495"/>
                </a:lnTo>
                <a:lnTo>
                  <a:pt x="7109" y="1532"/>
                </a:lnTo>
                <a:lnTo>
                  <a:pt x="7117" y="1570"/>
                </a:lnTo>
                <a:lnTo>
                  <a:pt x="7123" y="1611"/>
                </a:lnTo>
                <a:lnTo>
                  <a:pt x="7129" y="1655"/>
                </a:lnTo>
                <a:lnTo>
                  <a:pt x="7141" y="1657"/>
                </a:lnTo>
                <a:lnTo>
                  <a:pt x="7154" y="1659"/>
                </a:lnTo>
                <a:lnTo>
                  <a:pt x="7166" y="1661"/>
                </a:lnTo>
                <a:lnTo>
                  <a:pt x="7177" y="1661"/>
                </a:lnTo>
                <a:lnTo>
                  <a:pt x="7190" y="1661"/>
                </a:lnTo>
                <a:lnTo>
                  <a:pt x="7202" y="1660"/>
                </a:lnTo>
                <a:lnTo>
                  <a:pt x="7213" y="1658"/>
                </a:lnTo>
                <a:lnTo>
                  <a:pt x="7225" y="1655"/>
                </a:lnTo>
                <a:lnTo>
                  <a:pt x="7236" y="1652"/>
                </a:lnTo>
                <a:lnTo>
                  <a:pt x="7248" y="1647"/>
                </a:lnTo>
                <a:lnTo>
                  <a:pt x="7259" y="1642"/>
                </a:lnTo>
                <a:lnTo>
                  <a:pt x="7270" y="1636"/>
                </a:lnTo>
                <a:lnTo>
                  <a:pt x="7281" y="1629"/>
                </a:lnTo>
                <a:lnTo>
                  <a:pt x="7291" y="1622"/>
                </a:lnTo>
                <a:lnTo>
                  <a:pt x="7303" y="1614"/>
                </a:lnTo>
                <a:lnTo>
                  <a:pt x="7313" y="1604"/>
                </a:lnTo>
                <a:lnTo>
                  <a:pt x="7324" y="1595"/>
                </a:lnTo>
                <a:lnTo>
                  <a:pt x="7333" y="1584"/>
                </a:lnTo>
                <a:lnTo>
                  <a:pt x="7344" y="1572"/>
                </a:lnTo>
                <a:lnTo>
                  <a:pt x="7355" y="1561"/>
                </a:lnTo>
                <a:lnTo>
                  <a:pt x="7364" y="1547"/>
                </a:lnTo>
                <a:lnTo>
                  <a:pt x="7375" y="1533"/>
                </a:lnTo>
                <a:lnTo>
                  <a:pt x="7384" y="1518"/>
                </a:lnTo>
                <a:lnTo>
                  <a:pt x="7394" y="1504"/>
                </a:lnTo>
                <a:lnTo>
                  <a:pt x="7413" y="1470"/>
                </a:lnTo>
                <a:lnTo>
                  <a:pt x="7432" y="1433"/>
                </a:lnTo>
                <a:lnTo>
                  <a:pt x="7450" y="1394"/>
                </a:lnTo>
                <a:lnTo>
                  <a:pt x="7467" y="1351"/>
                </a:lnTo>
                <a:lnTo>
                  <a:pt x="7475" y="1332"/>
                </a:lnTo>
                <a:lnTo>
                  <a:pt x="7483" y="1314"/>
                </a:lnTo>
                <a:lnTo>
                  <a:pt x="7492" y="1297"/>
                </a:lnTo>
                <a:lnTo>
                  <a:pt x="7502" y="1280"/>
                </a:lnTo>
                <a:lnTo>
                  <a:pt x="7513" y="1264"/>
                </a:lnTo>
                <a:lnTo>
                  <a:pt x="7525" y="1248"/>
                </a:lnTo>
                <a:lnTo>
                  <a:pt x="7537" y="1233"/>
                </a:lnTo>
                <a:lnTo>
                  <a:pt x="7551" y="1220"/>
                </a:lnTo>
                <a:lnTo>
                  <a:pt x="7565" y="1207"/>
                </a:lnTo>
                <a:lnTo>
                  <a:pt x="7579" y="1194"/>
                </a:lnTo>
                <a:lnTo>
                  <a:pt x="7595" y="1183"/>
                </a:lnTo>
                <a:lnTo>
                  <a:pt x="7612" y="1171"/>
                </a:lnTo>
                <a:lnTo>
                  <a:pt x="7629" y="1160"/>
                </a:lnTo>
                <a:lnTo>
                  <a:pt x="7647" y="1151"/>
                </a:lnTo>
                <a:lnTo>
                  <a:pt x="7666" y="1142"/>
                </a:lnTo>
                <a:lnTo>
                  <a:pt x="7686" y="1134"/>
                </a:lnTo>
                <a:lnTo>
                  <a:pt x="7706" y="1127"/>
                </a:lnTo>
                <a:lnTo>
                  <a:pt x="7727" y="1119"/>
                </a:lnTo>
                <a:lnTo>
                  <a:pt x="7749" y="1113"/>
                </a:lnTo>
                <a:lnTo>
                  <a:pt x="7773" y="1108"/>
                </a:lnTo>
                <a:lnTo>
                  <a:pt x="7796" y="1103"/>
                </a:lnTo>
                <a:lnTo>
                  <a:pt x="7820" y="1099"/>
                </a:lnTo>
                <a:lnTo>
                  <a:pt x="7846" y="1096"/>
                </a:lnTo>
                <a:lnTo>
                  <a:pt x="7872" y="1093"/>
                </a:lnTo>
                <a:lnTo>
                  <a:pt x="7898" y="1091"/>
                </a:lnTo>
                <a:lnTo>
                  <a:pt x="7926" y="1090"/>
                </a:lnTo>
                <a:lnTo>
                  <a:pt x="7954" y="1089"/>
                </a:lnTo>
                <a:lnTo>
                  <a:pt x="7984" y="1089"/>
                </a:lnTo>
                <a:lnTo>
                  <a:pt x="8013" y="1090"/>
                </a:lnTo>
                <a:lnTo>
                  <a:pt x="8044" y="1092"/>
                </a:lnTo>
                <a:lnTo>
                  <a:pt x="8076" y="1094"/>
                </a:lnTo>
                <a:lnTo>
                  <a:pt x="8108" y="1097"/>
                </a:lnTo>
                <a:lnTo>
                  <a:pt x="8144" y="1110"/>
                </a:lnTo>
                <a:lnTo>
                  <a:pt x="8179" y="1123"/>
                </a:lnTo>
                <a:lnTo>
                  <a:pt x="8213" y="1137"/>
                </a:lnTo>
                <a:lnTo>
                  <a:pt x="8247" y="1151"/>
                </a:lnTo>
                <a:lnTo>
                  <a:pt x="8280" y="1167"/>
                </a:lnTo>
                <a:lnTo>
                  <a:pt x="8312" y="1182"/>
                </a:lnTo>
                <a:lnTo>
                  <a:pt x="8344" y="1197"/>
                </a:lnTo>
                <a:lnTo>
                  <a:pt x="8376" y="1214"/>
                </a:lnTo>
                <a:lnTo>
                  <a:pt x="8406" y="1231"/>
                </a:lnTo>
                <a:lnTo>
                  <a:pt x="8436" y="1248"/>
                </a:lnTo>
                <a:lnTo>
                  <a:pt x="8464" y="1266"/>
                </a:lnTo>
                <a:lnTo>
                  <a:pt x="8493" y="1285"/>
                </a:lnTo>
                <a:lnTo>
                  <a:pt x="8521" y="1304"/>
                </a:lnTo>
                <a:lnTo>
                  <a:pt x="8548" y="1323"/>
                </a:lnTo>
                <a:lnTo>
                  <a:pt x="8574" y="1343"/>
                </a:lnTo>
                <a:lnTo>
                  <a:pt x="8600" y="1363"/>
                </a:lnTo>
                <a:lnTo>
                  <a:pt x="8626" y="1384"/>
                </a:lnTo>
                <a:lnTo>
                  <a:pt x="8650" y="1405"/>
                </a:lnTo>
                <a:lnTo>
                  <a:pt x="8673" y="1428"/>
                </a:lnTo>
                <a:lnTo>
                  <a:pt x="8696" y="1450"/>
                </a:lnTo>
                <a:lnTo>
                  <a:pt x="8719" y="1472"/>
                </a:lnTo>
                <a:lnTo>
                  <a:pt x="8741" y="1495"/>
                </a:lnTo>
                <a:lnTo>
                  <a:pt x="8762" y="1520"/>
                </a:lnTo>
                <a:lnTo>
                  <a:pt x="8783" y="1544"/>
                </a:lnTo>
                <a:lnTo>
                  <a:pt x="8802" y="1568"/>
                </a:lnTo>
                <a:lnTo>
                  <a:pt x="8822" y="1593"/>
                </a:lnTo>
                <a:lnTo>
                  <a:pt x="8840" y="1620"/>
                </a:lnTo>
                <a:lnTo>
                  <a:pt x="8858" y="1645"/>
                </a:lnTo>
                <a:lnTo>
                  <a:pt x="8875" y="1673"/>
                </a:lnTo>
                <a:lnTo>
                  <a:pt x="8892" y="1700"/>
                </a:lnTo>
                <a:lnTo>
                  <a:pt x="8908" y="1728"/>
                </a:lnTo>
                <a:lnTo>
                  <a:pt x="8923" y="1755"/>
                </a:lnTo>
                <a:lnTo>
                  <a:pt x="8940" y="1811"/>
                </a:lnTo>
                <a:lnTo>
                  <a:pt x="8957" y="1866"/>
                </a:lnTo>
                <a:lnTo>
                  <a:pt x="8974" y="1922"/>
                </a:lnTo>
                <a:lnTo>
                  <a:pt x="8990" y="1978"/>
                </a:lnTo>
                <a:lnTo>
                  <a:pt x="9005" y="2034"/>
                </a:lnTo>
                <a:lnTo>
                  <a:pt x="9018" y="2090"/>
                </a:lnTo>
                <a:lnTo>
                  <a:pt x="9033" y="2146"/>
                </a:lnTo>
                <a:lnTo>
                  <a:pt x="9046" y="2202"/>
                </a:lnTo>
                <a:lnTo>
                  <a:pt x="9059" y="2259"/>
                </a:lnTo>
                <a:lnTo>
                  <a:pt x="9070" y="2315"/>
                </a:lnTo>
                <a:lnTo>
                  <a:pt x="9082" y="2372"/>
                </a:lnTo>
                <a:lnTo>
                  <a:pt x="9092" y="2429"/>
                </a:lnTo>
                <a:lnTo>
                  <a:pt x="9103" y="2486"/>
                </a:lnTo>
                <a:lnTo>
                  <a:pt x="9112" y="2543"/>
                </a:lnTo>
                <a:lnTo>
                  <a:pt x="9121" y="2601"/>
                </a:lnTo>
                <a:lnTo>
                  <a:pt x="9129" y="2658"/>
                </a:lnTo>
                <a:lnTo>
                  <a:pt x="9137" y="2716"/>
                </a:lnTo>
                <a:lnTo>
                  <a:pt x="9144" y="2774"/>
                </a:lnTo>
                <a:lnTo>
                  <a:pt x="9150" y="2832"/>
                </a:lnTo>
                <a:lnTo>
                  <a:pt x="9156" y="2890"/>
                </a:lnTo>
                <a:lnTo>
                  <a:pt x="9161" y="2948"/>
                </a:lnTo>
                <a:lnTo>
                  <a:pt x="9165" y="3008"/>
                </a:lnTo>
                <a:lnTo>
                  <a:pt x="9169" y="3066"/>
                </a:lnTo>
                <a:lnTo>
                  <a:pt x="9173" y="3125"/>
                </a:lnTo>
                <a:lnTo>
                  <a:pt x="9176" y="3184"/>
                </a:lnTo>
                <a:lnTo>
                  <a:pt x="9178" y="3243"/>
                </a:lnTo>
                <a:lnTo>
                  <a:pt x="9179" y="3302"/>
                </a:lnTo>
                <a:lnTo>
                  <a:pt x="9180" y="3362"/>
                </a:lnTo>
                <a:lnTo>
                  <a:pt x="9180" y="3422"/>
                </a:lnTo>
                <a:lnTo>
                  <a:pt x="9180" y="3482"/>
                </a:lnTo>
                <a:lnTo>
                  <a:pt x="9179" y="3542"/>
                </a:lnTo>
                <a:lnTo>
                  <a:pt x="9177" y="3602"/>
                </a:lnTo>
                <a:lnTo>
                  <a:pt x="9159" y="3693"/>
                </a:lnTo>
                <a:lnTo>
                  <a:pt x="9139" y="3783"/>
                </a:lnTo>
                <a:lnTo>
                  <a:pt x="9119" y="3872"/>
                </a:lnTo>
                <a:lnTo>
                  <a:pt x="9099" y="3958"/>
                </a:lnTo>
                <a:lnTo>
                  <a:pt x="9077" y="4043"/>
                </a:lnTo>
                <a:lnTo>
                  <a:pt x="9054" y="4126"/>
                </a:lnTo>
                <a:lnTo>
                  <a:pt x="9031" y="4208"/>
                </a:lnTo>
                <a:lnTo>
                  <a:pt x="9007" y="4289"/>
                </a:lnTo>
                <a:lnTo>
                  <a:pt x="8983" y="4367"/>
                </a:lnTo>
                <a:lnTo>
                  <a:pt x="8956" y="4444"/>
                </a:lnTo>
                <a:lnTo>
                  <a:pt x="8931" y="4519"/>
                </a:lnTo>
                <a:lnTo>
                  <a:pt x="8903" y="4593"/>
                </a:lnTo>
                <a:lnTo>
                  <a:pt x="8875" y="4666"/>
                </a:lnTo>
                <a:lnTo>
                  <a:pt x="8846" y="4735"/>
                </a:lnTo>
                <a:lnTo>
                  <a:pt x="8817" y="4805"/>
                </a:lnTo>
                <a:lnTo>
                  <a:pt x="8787" y="4873"/>
                </a:lnTo>
                <a:lnTo>
                  <a:pt x="8756" y="4938"/>
                </a:lnTo>
                <a:lnTo>
                  <a:pt x="8724" y="5003"/>
                </a:lnTo>
                <a:lnTo>
                  <a:pt x="8691" y="5065"/>
                </a:lnTo>
                <a:lnTo>
                  <a:pt x="8657" y="5126"/>
                </a:lnTo>
                <a:lnTo>
                  <a:pt x="8624" y="5185"/>
                </a:lnTo>
                <a:lnTo>
                  <a:pt x="8589" y="5243"/>
                </a:lnTo>
                <a:lnTo>
                  <a:pt x="8553" y="5300"/>
                </a:lnTo>
                <a:lnTo>
                  <a:pt x="8516" y="5354"/>
                </a:lnTo>
                <a:lnTo>
                  <a:pt x="8479" y="5408"/>
                </a:lnTo>
                <a:lnTo>
                  <a:pt x="8441" y="5459"/>
                </a:lnTo>
                <a:lnTo>
                  <a:pt x="8402" y="5510"/>
                </a:lnTo>
                <a:lnTo>
                  <a:pt x="8362" y="5557"/>
                </a:lnTo>
                <a:lnTo>
                  <a:pt x="8322" y="5605"/>
                </a:lnTo>
                <a:lnTo>
                  <a:pt x="8280" y="5650"/>
                </a:lnTo>
                <a:lnTo>
                  <a:pt x="8238" y="5693"/>
                </a:lnTo>
                <a:lnTo>
                  <a:pt x="8195" y="5736"/>
                </a:lnTo>
                <a:lnTo>
                  <a:pt x="8261" y="5723"/>
                </a:lnTo>
                <a:lnTo>
                  <a:pt x="8328" y="5710"/>
                </a:lnTo>
                <a:lnTo>
                  <a:pt x="8397" y="5698"/>
                </a:lnTo>
                <a:lnTo>
                  <a:pt x="8465" y="5685"/>
                </a:lnTo>
                <a:lnTo>
                  <a:pt x="8536" y="5672"/>
                </a:lnTo>
                <a:lnTo>
                  <a:pt x="8608" y="5661"/>
                </a:lnTo>
                <a:lnTo>
                  <a:pt x="8680" y="5648"/>
                </a:lnTo>
                <a:lnTo>
                  <a:pt x="8753" y="5635"/>
                </a:lnTo>
                <a:lnTo>
                  <a:pt x="8828" y="5623"/>
                </a:lnTo>
                <a:lnTo>
                  <a:pt x="8903" y="5610"/>
                </a:lnTo>
                <a:lnTo>
                  <a:pt x="8980" y="5597"/>
                </a:lnTo>
                <a:lnTo>
                  <a:pt x="9059" y="5585"/>
                </a:lnTo>
                <a:lnTo>
                  <a:pt x="9137" y="5572"/>
                </a:lnTo>
                <a:lnTo>
                  <a:pt x="9217" y="5558"/>
                </a:lnTo>
                <a:lnTo>
                  <a:pt x="9297" y="5545"/>
                </a:lnTo>
                <a:lnTo>
                  <a:pt x="9380" y="5533"/>
                </a:lnTo>
                <a:lnTo>
                  <a:pt x="9440" y="5482"/>
                </a:lnTo>
                <a:lnTo>
                  <a:pt x="9500" y="5431"/>
                </a:lnTo>
                <a:lnTo>
                  <a:pt x="9558" y="5382"/>
                </a:lnTo>
                <a:lnTo>
                  <a:pt x="9616" y="5332"/>
                </a:lnTo>
                <a:lnTo>
                  <a:pt x="9673" y="5284"/>
                </a:lnTo>
                <a:lnTo>
                  <a:pt x="9728" y="5235"/>
                </a:lnTo>
                <a:lnTo>
                  <a:pt x="9783" y="5186"/>
                </a:lnTo>
                <a:lnTo>
                  <a:pt x="9837" y="5138"/>
                </a:lnTo>
                <a:lnTo>
                  <a:pt x="9888" y="5091"/>
                </a:lnTo>
                <a:lnTo>
                  <a:pt x="9940" y="5044"/>
                </a:lnTo>
                <a:lnTo>
                  <a:pt x="9991" y="4997"/>
                </a:lnTo>
                <a:lnTo>
                  <a:pt x="10039" y="4951"/>
                </a:lnTo>
                <a:lnTo>
                  <a:pt x="10088" y="4905"/>
                </a:lnTo>
                <a:lnTo>
                  <a:pt x="10134" y="4859"/>
                </a:lnTo>
                <a:lnTo>
                  <a:pt x="10181" y="4815"/>
                </a:lnTo>
                <a:lnTo>
                  <a:pt x="10226" y="4770"/>
                </a:lnTo>
                <a:lnTo>
                  <a:pt x="10186" y="4668"/>
                </a:lnTo>
                <a:lnTo>
                  <a:pt x="10148" y="4565"/>
                </a:lnTo>
                <a:lnTo>
                  <a:pt x="10111" y="4462"/>
                </a:lnTo>
                <a:lnTo>
                  <a:pt x="10075" y="4358"/>
                </a:lnTo>
                <a:lnTo>
                  <a:pt x="10040" y="4253"/>
                </a:lnTo>
                <a:lnTo>
                  <a:pt x="10007" y="4147"/>
                </a:lnTo>
                <a:lnTo>
                  <a:pt x="9974" y="4040"/>
                </a:lnTo>
                <a:lnTo>
                  <a:pt x="9942" y="3933"/>
                </a:lnTo>
                <a:lnTo>
                  <a:pt x="9913" y="3825"/>
                </a:lnTo>
                <a:lnTo>
                  <a:pt x="9883" y="3716"/>
                </a:lnTo>
                <a:lnTo>
                  <a:pt x="9856" y="3606"/>
                </a:lnTo>
                <a:lnTo>
                  <a:pt x="9829" y="3496"/>
                </a:lnTo>
                <a:lnTo>
                  <a:pt x="9804" y="3384"/>
                </a:lnTo>
                <a:lnTo>
                  <a:pt x="9780" y="3272"/>
                </a:lnTo>
                <a:lnTo>
                  <a:pt x="9756" y="3159"/>
                </a:lnTo>
                <a:lnTo>
                  <a:pt x="9735" y="3045"/>
                </a:lnTo>
                <a:lnTo>
                  <a:pt x="9727" y="2932"/>
                </a:lnTo>
                <a:lnTo>
                  <a:pt x="9722" y="2821"/>
                </a:lnTo>
                <a:lnTo>
                  <a:pt x="9718" y="2713"/>
                </a:lnTo>
                <a:lnTo>
                  <a:pt x="9717" y="2608"/>
                </a:lnTo>
                <a:lnTo>
                  <a:pt x="9717" y="2557"/>
                </a:lnTo>
                <a:lnTo>
                  <a:pt x="9718" y="2506"/>
                </a:lnTo>
                <a:lnTo>
                  <a:pt x="9719" y="2455"/>
                </a:lnTo>
                <a:lnTo>
                  <a:pt x="9722" y="2406"/>
                </a:lnTo>
                <a:lnTo>
                  <a:pt x="9724" y="2357"/>
                </a:lnTo>
                <a:lnTo>
                  <a:pt x="9727" y="2308"/>
                </a:lnTo>
                <a:lnTo>
                  <a:pt x="9730" y="2261"/>
                </a:lnTo>
                <a:lnTo>
                  <a:pt x="9734" y="2214"/>
                </a:lnTo>
                <a:lnTo>
                  <a:pt x="9738" y="2168"/>
                </a:lnTo>
                <a:lnTo>
                  <a:pt x="9744" y="2123"/>
                </a:lnTo>
                <a:lnTo>
                  <a:pt x="9749" y="2077"/>
                </a:lnTo>
                <a:lnTo>
                  <a:pt x="9755" y="2033"/>
                </a:lnTo>
                <a:lnTo>
                  <a:pt x="9763" y="1989"/>
                </a:lnTo>
                <a:lnTo>
                  <a:pt x="9769" y="1946"/>
                </a:lnTo>
                <a:lnTo>
                  <a:pt x="9778" y="1904"/>
                </a:lnTo>
                <a:lnTo>
                  <a:pt x="9786" y="1863"/>
                </a:lnTo>
                <a:lnTo>
                  <a:pt x="9794" y="1822"/>
                </a:lnTo>
                <a:lnTo>
                  <a:pt x="9804" y="1781"/>
                </a:lnTo>
                <a:lnTo>
                  <a:pt x="9813" y="1741"/>
                </a:lnTo>
                <a:lnTo>
                  <a:pt x="9824" y="1702"/>
                </a:lnTo>
                <a:lnTo>
                  <a:pt x="9835" y="1664"/>
                </a:lnTo>
                <a:lnTo>
                  <a:pt x="9846" y="1626"/>
                </a:lnTo>
                <a:lnTo>
                  <a:pt x="9858" y="1589"/>
                </a:lnTo>
                <a:lnTo>
                  <a:pt x="9870" y="1553"/>
                </a:lnTo>
                <a:lnTo>
                  <a:pt x="9903" y="1515"/>
                </a:lnTo>
                <a:lnTo>
                  <a:pt x="9937" y="1478"/>
                </a:lnTo>
                <a:lnTo>
                  <a:pt x="9971" y="1441"/>
                </a:lnTo>
                <a:lnTo>
                  <a:pt x="10005" y="1407"/>
                </a:lnTo>
                <a:lnTo>
                  <a:pt x="10039" y="1371"/>
                </a:lnTo>
                <a:lnTo>
                  <a:pt x="10074" y="1337"/>
                </a:lnTo>
                <a:lnTo>
                  <a:pt x="10109" y="1303"/>
                </a:lnTo>
                <a:lnTo>
                  <a:pt x="10145" y="1270"/>
                </a:lnTo>
                <a:lnTo>
                  <a:pt x="10181" y="1239"/>
                </a:lnTo>
                <a:lnTo>
                  <a:pt x="10218" y="1207"/>
                </a:lnTo>
                <a:lnTo>
                  <a:pt x="10255" y="1176"/>
                </a:lnTo>
                <a:lnTo>
                  <a:pt x="10292" y="1146"/>
                </a:lnTo>
                <a:lnTo>
                  <a:pt x="10330" y="1116"/>
                </a:lnTo>
                <a:lnTo>
                  <a:pt x="10368" y="1088"/>
                </a:lnTo>
                <a:lnTo>
                  <a:pt x="10407" y="1060"/>
                </a:lnTo>
                <a:lnTo>
                  <a:pt x="10445" y="1033"/>
                </a:lnTo>
                <a:lnTo>
                  <a:pt x="10485" y="1005"/>
                </a:lnTo>
                <a:lnTo>
                  <a:pt x="10524" y="980"/>
                </a:lnTo>
                <a:lnTo>
                  <a:pt x="10564" y="954"/>
                </a:lnTo>
                <a:lnTo>
                  <a:pt x="10604" y="930"/>
                </a:lnTo>
                <a:lnTo>
                  <a:pt x="10645" y="906"/>
                </a:lnTo>
                <a:lnTo>
                  <a:pt x="10687" y="883"/>
                </a:lnTo>
                <a:lnTo>
                  <a:pt x="10729" y="861"/>
                </a:lnTo>
                <a:lnTo>
                  <a:pt x="10770" y="838"/>
                </a:lnTo>
                <a:lnTo>
                  <a:pt x="10813" y="817"/>
                </a:lnTo>
                <a:lnTo>
                  <a:pt x="10855" y="797"/>
                </a:lnTo>
                <a:lnTo>
                  <a:pt x="10899" y="777"/>
                </a:lnTo>
                <a:lnTo>
                  <a:pt x="10943" y="758"/>
                </a:lnTo>
                <a:lnTo>
                  <a:pt x="10986" y="740"/>
                </a:lnTo>
                <a:lnTo>
                  <a:pt x="11032" y="722"/>
                </a:lnTo>
                <a:lnTo>
                  <a:pt x="11076" y="705"/>
                </a:lnTo>
                <a:lnTo>
                  <a:pt x="11122" y="689"/>
                </a:lnTo>
                <a:lnTo>
                  <a:pt x="11172" y="689"/>
                </a:lnTo>
                <a:lnTo>
                  <a:pt x="11221" y="692"/>
                </a:lnTo>
                <a:lnTo>
                  <a:pt x="11269" y="695"/>
                </a:lnTo>
                <a:lnTo>
                  <a:pt x="11316" y="699"/>
                </a:lnTo>
                <a:lnTo>
                  <a:pt x="11361" y="704"/>
                </a:lnTo>
                <a:lnTo>
                  <a:pt x="11406" y="711"/>
                </a:lnTo>
                <a:lnTo>
                  <a:pt x="11449" y="719"/>
                </a:lnTo>
                <a:lnTo>
                  <a:pt x="11490" y="727"/>
                </a:lnTo>
                <a:lnTo>
                  <a:pt x="11531" y="738"/>
                </a:lnTo>
                <a:lnTo>
                  <a:pt x="11570" y="750"/>
                </a:lnTo>
                <a:lnTo>
                  <a:pt x="11609" y="762"/>
                </a:lnTo>
                <a:lnTo>
                  <a:pt x="11646" y="776"/>
                </a:lnTo>
                <a:lnTo>
                  <a:pt x="11682" y="791"/>
                </a:lnTo>
                <a:lnTo>
                  <a:pt x="11717" y="807"/>
                </a:lnTo>
                <a:lnTo>
                  <a:pt x="11751" y="824"/>
                </a:lnTo>
                <a:lnTo>
                  <a:pt x="11783" y="843"/>
                </a:lnTo>
                <a:lnTo>
                  <a:pt x="11804" y="841"/>
                </a:lnTo>
                <a:lnTo>
                  <a:pt x="11827" y="839"/>
                </a:lnTo>
                <a:lnTo>
                  <a:pt x="11853" y="835"/>
                </a:lnTo>
                <a:lnTo>
                  <a:pt x="11883" y="830"/>
                </a:lnTo>
                <a:lnTo>
                  <a:pt x="11914" y="822"/>
                </a:lnTo>
                <a:lnTo>
                  <a:pt x="11949" y="814"/>
                </a:lnTo>
                <a:lnTo>
                  <a:pt x="11987" y="803"/>
                </a:lnTo>
                <a:lnTo>
                  <a:pt x="12028" y="792"/>
                </a:lnTo>
                <a:lnTo>
                  <a:pt x="12072" y="778"/>
                </a:lnTo>
                <a:lnTo>
                  <a:pt x="12118" y="763"/>
                </a:lnTo>
                <a:lnTo>
                  <a:pt x="12168" y="747"/>
                </a:lnTo>
                <a:lnTo>
                  <a:pt x="12221" y="728"/>
                </a:lnTo>
                <a:lnTo>
                  <a:pt x="12334" y="687"/>
                </a:lnTo>
                <a:lnTo>
                  <a:pt x="12459" y="640"/>
                </a:lnTo>
                <a:lnTo>
                  <a:pt x="12532" y="627"/>
                </a:lnTo>
                <a:lnTo>
                  <a:pt x="12605" y="615"/>
                </a:lnTo>
                <a:lnTo>
                  <a:pt x="12678" y="605"/>
                </a:lnTo>
                <a:lnTo>
                  <a:pt x="12752" y="595"/>
                </a:lnTo>
                <a:lnTo>
                  <a:pt x="12827" y="586"/>
                </a:lnTo>
                <a:lnTo>
                  <a:pt x="12901" y="577"/>
                </a:lnTo>
                <a:lnTo>
                  <a:pt x="12976" y="570"/>
                </a:lnTo>
                <a:lnTo>
                  <a:pt x="13052" y="564"/>
                </a:lnTo>
                <a:lnTo>
                  <a:pt x="13128" y="557"/>
                </a:lnTo>
                <a:lnTo>
                  <a:pt x="13206" y="552"/>
                </a:lnTo>
                <a:lnTo>
                  <a:pt x="13284" y="548"/>
                </a:lnTo>
                <a:lnTo>
                  <a:pt x="13362" y="545"/>
                </a:lnTo>
                <a:lnTo>
                  <a:pt x="13440" y="543"/>
                </a:lnTo>
                <a:lnTo>
                  <a:pt x="13519" y="540"/>
                </a:lnTo>
                <a:lnTo>
                  <a:pt x="13598" y="539"/>
                </a:lnTo>
                <a:lnTo>
                  <a:pt x="13679" y="538"/>
                </a:lnTo>
                <a:lnTo>
                  <a:pt x="13730" y="508"/>
                </a:lnTo>
                <a:lnTo>
                  <a:pt x="13782" y="479"/>
                </a:lnTo>
                <a:lnTo>
                  <a:pt x="13831" y="454"/>
                </a:lnTo>
                <a:lnTo>
                  <a:pt x="13879" y="431"/>
                </a:lnTo>
                <a:lnTo>
                  <a:pt x="13926" y="410"/>
                </a:lnTo>
                <a:lnTo>
                  <a:pt x="13970" y="391"/>
                </a:lnTo>
                <a:lnTo>
                  <a:pt x="14013" y="375"/>
                </a:lnTo>
                <a:lnTo>
                  <a:pt x="14055" y="360"/>
                </a:lnTo>
                <a:lnTo>
                  <a:pt x="14097" y="349"/>
                </a:lnTo>
                <a:lnTo>
                  <a:pt x="14136" y="340"/>
                </a:lnTo>
                <a:lnTo>
                  <a:pt x="14173" y="332"/>
                </a:lnTo>
                <a:lnTo>
                  <a:pt x="14210" y="328"/>
                </a:lnTo>
                <a:lnTo>
                  <a:pt x="14226" y="327"/>
                </a:lnTo>
                <a:lnTo>
                  <a:pt x="14244" y="326"/>
                </a:lnTo>
                <a:lnTo>
                  <a:pt x="14261" y="326"/>
                </a:lnTo>
                <a:lnTo>
                  <a:pt x="14277" y="326"/>
                </a:lnTo>
                <a:lnTo>
                  <a:pt x="14294" y="327"/>
                </a:lnTo>
                <a:lnTo>
                  <a:pt x="14310" y="329"/>
                </a:lnTo>
                <a:lnTo>
                  <a:pt x="14325" y="331"/>
                </a:lnTo>
                <a:lnTo>
                  <a:pt x="14339" y="333"/>
                </a:lnTo>
                <a:lnTo>
                  <a:pt x="14394" y="379"/>
                </a:lnTo>
                <a:lnTo>
                  <a:pt x="14449" y="424"/>
                </a:lnTo>
                <a:lnTo>
                  <a:pt x="14503" y="471"/>
                </a:lnTo>
                <a:lnTo>
                  <a:pt x="14557" y="518"/>
                </a:lnTo>
                <a:lnTo>
                  <a:pt x="14611" y="566"/>
                </a:lnTo>
                <a:lnTo>
                  <a:pt x="14665" y="614"/>
                </a:lnTo>
                <a:lnTo>
                  <a:pt x="14717" y="664"/>
                </a:lnTo>
                <a:lnTo>
                  <a:pt x="14771" y="715"/>
                </a:lnTo>
                <a:lnTo>
                  <a:pt x="14824" y="765"/>
                </a:lnTo>
                <a:lnTo>
                  <a:pt x="14876" y="818"/>
                </a:lnTo>
                <a:lnTo>
                  <a:pt x="14929" y="871"/>
                </a:lnTo>
                <a:lnTo>
                  <a:pt x="14980" y="924"/>
                </a:lnTo>
                <a:lnTo>
                  <a:pt x="15032" y="979"/>
                </a:lnTo>
                <a:lnTo>
                  <a:pt x="15084" y="1034"/>
                </a:lnTo>
                <a:lnTo>
                  <a:pt x="15135" y="1090"/>
                </a:lnTo>
                <a:lnTo>
                  <a:pt x="15186" y="1146"/>
                </a:lnTo>
                <a:lnTo>
                  <a:pt x="15202" y="1178"/>
                </a:lnTo>
                <a:lnTo>
                  <a:pt x="15216" y="1210"/>
                </a:lnTo>
                <a:lnTo>
                  <a:pt x="15228" y="1244"/>
                </a:lnTo>
                <a:lnTo>
                  <a:pt x="15240" y="1277"/>
                </a:lnTo>
                <a:lnTo>
                  <a:pt x="15249" y="1310"/>
                </a:lnTo>
                <a:lnTo>
                  <a:pt x="15259" y="1345"/>
                </a:lnTo>
                <a:lnTo>
                  <a:pt x="15266" y="1379"/>
                </a:lnTo>
                <a:lnTo>
                  <a:pt x="15274" y="1415"/>
                </a:lnTo>
                <a:lnTo>
                  <a:pt x="15279" y="1450"/>
                </a:lnTo>
                <a:lnTo>
                  <a:pt x="15283" y="1486"/>
                </a:lnTo>
                <a:lnTo>
                  <a:pt x="15286" y="1523"/>
                </a:lnTo>
                <a:lnTo>
                  <a:pt x="15289" y="1559"/>
                </a:lnTo>
                <a:lnTo>
                  <a:pt x="15289" y="1597"/>
                </a:lnTo>
                <a:lnTo>
                  <a:pt x="15289" y="1634"/>
                </a:lnTo>
                <a:lnTo>
                  <a:pt x="15286" y="1672"/>
                </a:lnTo>
                <a:lnTo>
                  <a:pt x="15283" y="1710"/>
                </a:lnTo>
                <a:lnTo>
                  <a:pt x="15279" y="1749"/>
                </a:lnTo>
                <a:lnTo>
                  <a:pt x="15274" y="1788"/>
                </a:lnTo>
                <a:lnTo>
                  <a:pt x="15266" y="1828"/>
                </a:lnTo>
                <a:lnTo>
                  <a:pt x="15259" y="1868"/>
                </a:lnTo>
                <a:lnTo>
                  <a:pt x="15249" y="1908"/>
                </a:lnTo>
                <a:lnTo>
                  <a:pt x="15239" y="1949"/>
                </a:lnTo>
                <a:lnTo>
                  <a:pt x="15227" y="1991"/>
                </a:lnTo>
                <a:lnTo>
                  <a:pt x="15215" y="2033"/>
                </a:lnTo>
                <a:lnTo>
                  <a:pt x="15201" y="2075"/>
                </a:lnTo>
                <a:lnTo>
                  <a:pt x="15185" y="2117"/>
                </a:lnTo>
                <a:lnTo>
                  <a:pt x="15169" y="2161"/>
                </a:lnTo>
                <a:lnTo>
                  <a:pt x="15151" y="2204"/>
                </a:lnTo>
                <a:lnTo>
                  <a:pt x="15132" y="2248"/>
                </a:lnTo>
                <a:lnTo>
                  <a:pt x="15112" y="2293"/>
                </a:lnTo>
                <a:lnTo>
                  <a:pt x="15091" y="2337"/>
                </a:lnTo>
                <a:lnTo>
                  <a:pt x="15068" y="2382"/>
                </a:lnTo>
                <a:lnTo>
                  <a:pt x="15012" y="2477"/>
                </a:lnTo>
                <a:lnTo>
                  <a:pt x="14956" y="2571"/>
                </a:lnTo>
                <a:lnTo>
                  <a:pt x="14899" y="2663"/>
                </a:lnTo>
                <a:lnTo>
                  <a:pt x="14842" y="2754"/>
                </a:lnTo>
                <a:lnTo>
                  <a:pt x="14784" y="2844"/>
                </a:lnTo>
                <a:lnTo>
                  <a:pt x="14726" y="2933"/>
                </a:lnTo>
                <a:lnTo>
                  <a:pt x="14666" y="3020"/>
                </a:lnTo>
                <a:lnTo>
                  <a:pt x="14607" y="3107"/>
                </a:lnTo>
                <a:lnTo>
                  <a:pt x="14545" y="3192"/>
                </a:lnTo>
                <a:lnTo>
                  <a:pt x="14484" y="3276"/>
                </a:lnTo>
                <a:lnTo>
                  <a:pt x="14423" y="3359"/>
                </a:lnTo>
                <a:lnTo>
                  <a:pt x="14359" y="3441"/>
                </a:lnTo>
                <a:lnTo>
                  <a:pt x="14296" y="3521"/>
                </a:lnTo>
                <a:lnTo>
                  <a:pt x="14233" y="3600"/>
                </a:lnTo>
                <a:lnTo>
                  <a:pt x="14168" y="3678"/>
                </a:lnTo>
                <a:lnTo>
                  <a:pt x="14103" y="3755"/>
                </a:lnTo>
                <a:lnTo>
                  <a:pt x="14071" y="3793"/>
                </a:lnTo>
                <a:lnTo>
                  <a:pt x="14042" y="3831"/>
                </a:lnTo>
                <a:lnTo>
                  <a:pt x="14013" y="3869"/>
                </a:lnTo>
                <a:lnTo>
                  <a:pt x="13986" y="3907"/>
                </a:lnTo>
                <a:lnTo>
                  <a:pt x="13960" y="3945"/>
                </a:lnTo>
                <a:lnTo>
                  <a:pt x="13935" y="3983"/>
                </a:lnTo>
                <a:lnTo>
                  <a:pt x="13912" y="4021"/>
                </a:lnTo>
                <a:lnTo>
                  <a:pt x="13891" y="4060"/>
                </a:lnTo>
                <a:lnTo>
                  <a:pt x="13870" y="4098"/>
                </a:lnTo>
                <a:lnTo>
                  <a:pt x="13851" y="4136"/>
                </a:lnTo>
                <a:lnTo>
                  <a:pt x="13833" y="4174"/>
                </a:lnTo>
                <a:lnTo>
                  <a:pt x="13816" y="4212"/>
                </a:lnTo>
                <a:lnTo>
                  <a:pt x="13800" y="4250"/>
                </a:lnTo>
                <a:lnTo>
                  <a:pt x="13786" y="4289"/>
                </a:lnTo>
                <a:lnTo>
                  <a:pt x="13774" y="4327"/>
                </a:lnTo>
                <a:lnTo>
                  <a:pt x="13762" y="4365"/>
                </a:lnTo>
                <a:lnTo>
                  <a:pt x="13749" y="4387"/>
                </a:lnTo>
                <a:lnTo>
                  <a:pt x="13736" y="4407"/>
                </a:lnTo>
                <a:lnTo>
                  <a:pt x="13721" y="4427"/>
                </a:lnTo>
                <a:lnTo>
                  <a:pt x="13705" y="4445"/>
                </a:lnTo>
                <a:lnTo>
                  <a:pt x="13689" y="4463"/>
                </a:lnTo>
                <a:lnTo>
                  <a:pt x="13671" y="4479"/>
                </a:lnTo>
                <a:lnTo>
                  <a:pt x="13653" y="4494"/>
                </a:lnTo>
                <a:lnTo>
                  <a:pt x="13634" y="4507"/>
                </a:lnTo>
                <a:lnTo>
                  <a:pt x="13614" y="4521"/>
                </a:lnTo>
                <a:lnTo>
                  <a:pt x="13594" y="4533"/>
                </a:lnTo>
                <a:lnTo>
                  <a:pt x="13572" y="4543"/>
                </a:lnTo>
                <a:lnTo>
                  <a:pt x="13550" y="4553"/>
                </a:lnTo>
                <a:lnTo>
                  <a:pt x="13525" y="4561"/>
                </a:lnTo>
                <a:lnTo>
                  <a:pt x="13501" y="4569"/>
                </a:lnTo>
                <a:lnTo>
                  <a:pt x="13477" y="4575"/>
                </a:lnTo>
                <a:lnTo>
                  <a:pt x="13450" y="4580"/>
                </a:lnTo>
                <a:lnTo>
                  <a:pt x="13423" y="4584"/>
                </a:lnTo>
                <a:lnTo>
                  <a:pt x="13396" y="4588"/>
                </a:lnTo>
                <a:lnTo>
                  <a:pt x="13367" y="4590"/>
                </a:lnTo>
                <a:lnTo>
                  <a:pt x="13338" y="4591"/>
                </a:lnTo>
                <a:lnTo>
                  <a:pt x="13307" y="4591"/>
                </a:lnTo>
                <a:lnTo>
                  <a:pt x="13276" y="4590"/>
                </a:lnTo>
                <a:lnTo>
                  <a:pt x="13244" y="4588"/>
                </a:lnTo>
                <a:lnTo>
                  <a:pt x="13211" y="4583"/>
                </a:lnTo>
                <a:lnTo>
                  <a:pt x="13177" y="4579"/>
                </a:lnTo>
                <a:lnTo>
                  <a:pt x="13142" y="4574"/>
                </a:lnTo>
                <a:lnTo>
                  <a:pt x="13106" y="4568"/>
                </a:lnTo>
                <a:lnTo>
                  <a:pt x="13070" y="4560"/>
                </a:lnTo>
                <a:lnTo>
                  <a:pt x="13032" y="4551"/>
                </a:lnTo>
                <a:lnTo>
                  <a:pt x="12994" y="4541"/>
                </a:lnTo>
                <a:lnTo>
                  <a:pt x="12955" y="4531"/>
                </a:lnTo>
                <a:lnTo>
                  <a:pt x="12915" y="4518"/>
                </a:lnTo>
                <a:lnTo>
                  <a:pt x="12910" y="4513"/>
                </a:lnTo>
                <a:lnTo>
                  <a:pt x="12904" y="4507"/>
                </a:lnTo>
                <a:lnTo>
                  <a:pt x="12895" y="4503"/>
                </a:lnTo>
                <a:lnTo>
                  <a:pt x="12887" y="4500"/>
                </a:lnTo>
                <a:lnTo>
                  <a:pt x="12877" y="4499"/>
                </a:lnTo>
                <a:lnTo>
                  <a:pt x="12867" y="4498"/>
                </a:lnTo>
                <a:lnTo>
                  <a:pt x="12854" y="4498"/>
                </a:lnTo>
                <a:lnTo>
                  <a:pt x="12841" y="4499"/>
                </a:lnTo>
                <a:lnTo>
                  <a:pt x="12828" y="4500"/>
                </a:lnTo>
                <a:lnTo>
                  <a:pt x="12813" y="4503"/>
                </a:lnTo>
                <a:lnTo>
                  <a:pt x="12797" y="4507"/>
                </a:lnTo>
                <a:lnTo>
                  <a:pt x="12779" y="4513"/>
                </a:lnTo>
                <a:lnTo>
                  <a:pt x="12761" y="4518"/>
                </a:lnTo>
                <a:lnTo>
                  <a:pt x="12742" y="4525"/>
                </a:lnTo>
                <a:lnTo>
                  <a:pt x="12722" y="4534"/>
                </a:lnTo>
                <a:lnTo>
                  <a:pt x="12701" y="4542"/>
                </a:lnTo>
                <a:lnTo>
                  <a:pt x="12656" y="4563"/>
                </a:lnTo>
                <a:lnTo>
                  <a:pt x="12606" y="4589"/>
                </a:lnTo>
                <a:lnTo>
                  <a:pt x="12552" y="4617"/>
                </a:lnTo>
                <a:lnTo>
                  <a:pt x="12495" y="4650"/>
                </a:lnTo>
                <a:lnTo>
                  <a:pt x="12433" y="4687"/>
                </a:lnTo>
                <a:lnTo>
                  <a:pt x="12366" y="4728"/>
                </a:lnTo>
                <a:lnTo>
                  <a:pt x="12297" y="4772"/>
                </a:lnTo>
                <a:lnTo>
                  <a:pt x="12223" y="4822"/>
                </a:lnTo>
                <a:lnTo>
                  <a:pt x="12139" y="4846"/>
                </a:lnTo>
                <a:lnTo>
                  <a:pt x="12055" y="4870"/>
                </a:lnTo>
                <a:lnTo>
                  <a:pt x="11969" y="4891"/>
                </a:lnTo>
                <a:lnTo>
                  <a:pt x="11883" y="4911"/>
                </a:lnTo>
                <a:lnTo>
                  <a:pt x="11795" y="4929"/>
                </a:lnTo>
                <a:lnTo>
                  <a:pt x="11706" y="4946"/>
                </a:lnTo>
                <a:lnTo>
                  <a:pt x="11616" y="4960"/>
                </a:lnTo>
                <a:lnTo>
                  <a:pt x="11525" y="4974"/>
                </a:lnTo>
                <a:lnTo>
                  <a:pt x="11432" y="4986"/>
                </a:lnTo>
                <a:lnTo>
                  <a:pt x="11338" y="4996"/>
                </a:lnTo>
                <a:lnTo>
                  <a:pt x="11243" y="5005"/>
                </a:lnTo>
                <a:lnTo>
                  <a:pt x="11147" y="5012"/>
                </a:lnTo>
                <a:lnTo>
                  <a:pt x="11049" y="5017"/>
                </a:lnTo>
                <a:lnTo>
                  <a:pt x="10950" y="5021"/>
                </a:lnTo>
                <a:lnTo>
                  <a:pt x="10850" y="5024"/>
                </a:lnTo>
                <a:lnTo>
                  <a:pt x="10749" y="5024"/>
                </a:lnTo>
                <a:lnTo>
                  <a:pt x="10226" y="5380"/>
                </a:lnTo>
                <a:close/>
                <a:moveTo>
                  <a:pt x="10512" y="6515"/>
                </a:moveTo>
                <a:lnTo>
                  <a:pt x="10350" y="6572"/>
                </a:lnTo>
                <a:lnTo>
                  <a:pt x="10188" y="6626"/>
                </a:lnTo>
                <a:lnTo>
                  <a:pt x="10027" y="6679"/>
                </a:lnTo>
                <a:lnTo>
                  <a:pt x="9867" y="6730"/>
                </a:lnTo>
                <a:lnTo>
                  <a:pt x="9707" y="6780"/>
                </a:lnTo>
                <a:lnTo>
                  <a:pt x="9547" y="6829"/>
                </a:lnTo>
                <a:lnTo>
                  <a:pt x="9389" y="6875"/>
                </a:lnTo>
                <a:lnTo>
                  <a:pt x="9232" y="6921"/>
                </a:lnTo>
                <a:lnTo>
                  <a:pt x="9074" y="6964"/>
                </a:lnTo>
                <a:lnTo>
                  <a:pt x="8917" y="7006"/>
                </a:lnTo>
                <a:lnTo>
                  <a:pt x="8761" y="7047"/>
                </a:lnTo>
                <a:lnTo>
                  <a:pt x="8606" y="7086"/>
                </a:lnTo>
                <a:lnTo>
                  <a:pt x="8450" y="7123"/>
                </a:lnTo>
                <a:lnTo>
                  <a:pt x="8296" y="7159"/>
                </a:lnTo>
                <a:lnTo>
                  <a:pt x="8143" y="7194"/>
                </a:lnTo>
                <a:lnTo>
                  <a:pt x="7990" y="7227"/>
                </a:lnTo>
                <a:lnTo>
                  <a:pt x="7974" y="7289"/>
                </a:lnTo>
                <a:lnTo>
                  <a:pt x="7960" y="7350"/>
                </a:lnTo>
                <a:lnTo>
                  <a:pt x="7943" y="7410"/>
                </a:lnTo>
                <a:lnTo>
                  <a:pt x="7926" y="7468"/>
                </a:lnTo>
                <a:lnTo>
                  <a:pt x="7908" y="7524"/>
                </a:lnTo>
                <a:lnTo>
                  <a:pt x="7890" y="7579"/>
                </a:lnTo>
                <a:lnTo>
                  <a:pt x="7871" y="7631"/>
                </a:lnTo>
                <a:lnTo>
                  <a:pt x="7851" y="7683"/>
                </a:lnTo>
                <a:lnTo>
                  <a:pt x="7831" y="7734"/>
                </a:lnTo>
                <a:lnTo>
                  <a:pt x="7810" y="7781"/>
                </a:lnTo>
                <a:lnTo>
                  <a:pt x="7787" y="7829"/>
                </a:lnTo>
                <a:lnTo>
                  <a:pt x="7765" y="7874"/>
                </a:lnTo>
                <a:lnTo>
                  <a:pt x="7742" y="7918"/>
                </a:lnTo>
                <a:lnTo>
                  <a:pt x="7719" y="7960"/>
                </a:lnTo>
                <a:lnTo>
                  <a:pt x="7695" y="8000"/>
                </a:lnTo>
                <a:lnTo>
                  <a:pt x="7669" y="8038"/>
                </a:lnTo>
                <a:lnTo>
                  <a:pt x="7804" y="7983"/>
                </a:lnTo>
                <a:lnTo>
                  <a:pt x="7936" y="7929"/>
                </a:lnTo>
                <a:lnTo>
                  <a:pt x="8064" y="7878"/>
                </a:lnTo>
                <a:lnTo>
                  <a:pt x="8189" y="7830"/>
                </a:lnTo>
                <a:lnTo>
                  <a:pt x="8309" y="7783"/>
                </a:lnTo>
                <a:lnTo>
                  <a:pt x="8425" y="7739"/>
                </a:lnTo>
                <a:lnTo>
                  <a:pt x="8538" y="7697"/>
                </a:lnTo>
                <a:lnTo>
                  <a:pt x="8647" y="7658"/>
                </a:lnTo>
                <a:lnTo>
                  <a:pt x="8751" y="7621"/>
                </a:lnTo>
                <a:lnTo>
                  <a:pt x="8853" y="7586"/>
                </a:lnTo>
                <a:lnTo>
                  <a:pt x="8950" y="7554"/>
                </a:lnTo>
                <a:lnTo>
                  <a:pt x="9044" y="7524"/>
                </a:lnTo>
                <a:lnTo>
                  <a:pt x="9134" y="7496"/>
                </a:lnTo>
                <a:lnTo>
                  <a:pt x="9219" y="7472"/>
                </a:lnTo>
                <a:lnTo>
                  <a:pt x="9301" y="7449"/>
                </a:lnTo>
                <a:lnTo>
                  <a:pt x="9380" y="7429"/>
                </a:lnTo>
                <a:lnTo>
                  <a:pt x="9416" y="7423"/>
                </a:lnTo>
                <a:lnTo>
                  <a:pt x="9453" y="7418"/>
                </a:lnTo>
                <a:lnTo>
                  <a:pt x="9489" y="7414"/>
                </a:lnTo>
                <a:lnTo>
                  <a:pt x="9525" y="7410"/>
                </a:lnTo>
                <a:lnTo>
                  <a:pt x="9559" y="7407"/>
                </a:lnTo>
                <a:lnTo>
                  <a:pt x="9593" y="7405"/>
                </a:lnTo>
                <a:lnTo>
                  <a:pt x="9626" y="7404"/>
                </a:lnTo>
                <a:lnTo>
                  <a:pt x="9658" y="7404"/>
                </a:lnTo>
                <a:lnTo>
                  <a:pt x="9689" y="7404"/>
                </a:lnTo>
                <a:lnTo>
                  <a:pt x="9719" y="7405"/>
                </a:lnTo>
                <a:lnTo>
                  <a:pt x="9749" y="7407"/>
                </a:lnTo>
                <a:lnTo>
                  <a:pt x="9779" y="7411"/>
                </a:lnTo>
                <a:lnTo>
                  <a:pt x="9806" y="7414"/>
                </a:lnTo>
                <a:lnTo>
                  <a:pt x="9833" y="7418"/>
                </a:lnTo>
                <a:lnTo>
                  <a:pt x="9860" y="7423"/>
                </a:lnTo>
                <a:lnTo>
                  <a:pt x="9886" y="7430"/>
                </a:lnTo>
                <a:lnTo>
                  <a:pt x="9911" y="7436"/>
                </a:lnTo>
                <a:lnTo>
                  <a:pt x="9935" y="7443"/>
                </a:lnTo>
                <a:lnTo>
                  <a:pt x="9959" y="7452"/>
                </a:lnTo>
                <a:lnTo>
                  <a:pt x="9981" y="7461"/>
                </a:lnTo>
                <a:lnTo>
                  <a:pt x="10003" y="7471"/>
                </a:lnTo>
                <a:lnTo>
                  <a:pt x="10025" y="7482"/>
                </a:lnTo>
                <a:lnTo>
                  <a:pt x="10045" y="7494"/>
                </a:lnTo>
                <a:lnTo>
                  <a:pt x="10064" y="7506"/>
                </a:lnTo>
                <a:lnTo>
                  <a:pt x="10083" y="7519"/>
                </a:lnTo>
                <a:lnTo>
                  <a:pt x="10101" y="7533"/>
                </a:lnTo>
                <a:lnTo>
                  <a:pt x="10117" y="7548"/>
                </a:lnTo>
                <a:lnTo>
                  <a:pt x="10134" y="7564"/>
                </a:lnTo>
                <a:lnTo>
                  <a:pt x="10149" y="7580"/>
                </a:lnTo>
                <a:lnTo>
                  <a:pt x="10164" y="7596"/>
                </a:lnTo>
                <a:lnTo>
                  <a:pt x="10178" y="7615"/>
                </a:lnTo>
                <a:lnTo>
                  <a:pt x="10191" y="7633"/>
                </a:lnTo>
                <a:lnTo>
                  <a:pt x="10185" y="7673"/>
                </a:lnTo>
                <a:lnTo>
                  <a:pt x="10179" y="7712"/>
                </a:lnTo>
                <a:lnTo>
                  <a:pt x="10173" y="7752"/>
                </a:lnTo>
                <a:lnTo>
                  <a:pt x="10169" y="7792"/>
                </a:lnTo>
                <a:lnTo>
                  <a:pt x="10161" y="7876"/>
                </a:lnTo>
                <a:lnTo>
                  <a:pt x="10153" y="7963"/>
                </a:lnTo>
                <a:lnTo>
                  <a:pt x="10148" y="8054"/>
                </a:lnTo>
                <a:lnTo>
                  <a:pt x="10145" y="8148"/>
                </a:lnTo>
                <a:lnTo>
                  <a:pt x="10143" y="8245"/>
                </a:lnTo>
                <a:lnTo>
                  <a:pt x="10142" y="8345"/>
                </a:lnTo>
                <a:lnTo>
                  <a:pt x="10041" y="8400"/>
                </a:lnTo>
                <a:lnTo>
                  <a:pt x="9941" y="8454"/>
                </a:lnTo>
                <a:lnTo>
                  <a:pt x="9844" y="8505"/>
                </a:lnTo>
                <a:lnTo>
                  <a:pt x="9748" y="8553"/>
                </a:lnTo>
                <a:lnTo>
                  <a:pt x="9653" y="8600"/>
                </a:lnTo>
                <a:lnTo>
                  <a:pt x="9560" y="8644"/>
                </a:lnTo>
                <a:lnTo>
                  <a:pt x="9469" y="8686"/>
                </a:lnTo>
                <a:lnTo>
                  <a:pt x="9380" y="8725"/>
                </a:lnTo>
                <a:lnTo>
                  <a:pt x="9291" y="8762"/>
                </a:lnTo>
                <a:lnTo>
                  <a:pt x="9204" y="8797"/>
                </a:lnTo>
                <a:lnTo>
                  <a:pt x="9119" y="8829"/>
                </a:lnTo>
                <a:lnTo>
                  <a:pt x="9035" y="8860"/>
                </a:lnTo>
                <a:lnTo>
                  <a:pt x="8954" y="8887"/>
                </a:lnTo>
                <a:lnTo>
                  <a:pt x="8874" y="8911"/>
                </a:lnTo>
                <a:lnTo>
                  <a:pt x="8795" y="8935"/>
                </a:lnTo>
                <a:lnTo>
                  <a:pt x="8718" y="8955"/>
                </a:lnTo>
                <a:lnTo>
                  <a:pt x="8671" y="8957"/>
                </a:lnTo>
                <a:lnTo>
                  <a:pt x="8625" y="8959"/>
                </a:lnTo>
                <a:lnTo>
                  <a:pt x="8579" y="8959"/>
                </a:lnTo>
                <a:lnTo>
                  <a:pt x="8535" y="8958"/>
                </a:lnTo>
                <a:lnTo>
                  <a:pt x="8491" y="8956"/>
                </a:lnTo>
                <a:lnTo>
                  <a:pt x="8448" y="8954"/>
                </a:lnTo>
                <a:lnTo>
                  <a:pt x="8406" y="8949"/>
                </a:lnTo>
                <a:lnTo>
                  <a:pt x="8365" y="8944"/>
                </a:lnTo>
                <a:lnTo>
                  <a:pt x="8324" y="8938"/>
                </a:lnTo>
                <a:lnTo>
                  <a:pt x="8285" y="8930"/>
                </a:lnTo>
                <a:lnTo>
                  <a:pt x="8246" y="8923"/>
                </a:lnTo>
                <a:lnTo>
                  <a:pt x="8208" y="8913"/>
                </a:lnTo>
                <a:lnTo>
                  <a:pt x="8171" y="8903"/>
                </a:lnTo>
                <a:lnTo>
                  <a:pt x="8134" y="8891"/>
                </a:lnTo>
                <a:lnTo>
                  <a:pt x="8098" y="8879"/>
                </a:lnTo>
                <a:lnTo>
                  <a:pt x="8063" y="8865"/>
                </a:lnTo>
                <a:lnTo>
                  <a:pt x="8029" y="8850"/>
                </a:lnTo>
                <a:lnTo>
                  <a:pt x="7996" y="8834"/>
                </a:lnTo>
                <a:lnTo>
                  <a:pt x="7964" y="8817"/>
                </a:lnTo>
                <a:lnTo>
                  <a:pt x="7932" y="8798"/>
                </a:lnTo>
                <a:lnTo>
                  <a:pt x="7901" y="8779"/>
                </a:lnTo>
                <a:lnTo>
                  <a:pt x="7872" y="8759"/>
                </a:lnTo>
                <a:lnTo>
                  <a:pt x="7842" y="8738"/>
                </a:lnTo>
                <a:lnTo>
                  <a:pt x="7814" y="8715"/>
                </a:lnTo>
                <a:lnTo>
                  <a:pt x="7786" y="8692"/>
                </a:lnTo>
                <a:lnTo>
                  <a:pt x="7760" y="8666"/>
                </a:lnTo>
                <a:lnTo>
                  <a:pt x="7735" y="8641"/>
                </a:lnTo>
                <a:lnTo>
                  <a:pt x="7709" y="8614"/>
                </a:lnTo>
                <a:lnTo>
                  <a:pt x="7685" y="8586"/>
                </a:lnTo>
                <a:lnTo>
                  <a:pt x="7662" y="8556"/>
                </a:lnTo>
                <a:lnTo>
                  <a:pt x="7639" y="8527"/>
                </a:lnTo>
                <a:lnTo>
                  <a:pt x="7617" y="8495"/>
                </a:lnTo>
                <a:lnTo>
                  <a:pt x="7598" y="8590"/>
                </a:lnTo>
                <a:lnTo>
                  <a:pt x="7581" y="8685"/>
                </a:lnTo>
                <a:lnTo>
                  <a:pt x="7564" y="8779"/>
                </a:lnTo>
                <a:lnTo>
                  <a:pt x="7548" y="8873"/>
                </a:lnTo>
                <a:lnTo>
                  <a:pt x="7532" y="8967"/>
                </a:lnTo>
                <a:lnTo>
                  <a:pt x="7518" y="9060"/>
                </a:lnTo>
                <a:lnTo>
                  <a:pt x="7505" y="9153"/>
                </a:lnTo>
                <a:lnTo>
                  <a:pt x="7491" y="9245"/>
                </a:lnTo>
                <a:lnTo>
                  <a:pt x="7479" y="9337"/>
                </a:lnTo>
                <a:lnTo>
                  <a:pt x="7468" y="9429"/>
                </a:lnTo>
                <a:lnTo>
                  <a:pt x="7457" y="9520"/>
                </a:lnTo>
                <a:lnTo>
                  <a:pt x="7446" y="9610"/>
                </a:lnTo>
                <a:lnTo>
                  <a:pt x="7438" y="9700"/>
                </a:lnTo>
                <a:lnTo>
                  <a:pt x="7430" y="9790"/>
                </a:lnTo>
                <a:lnTo>
                  <a:pt x="7422" y="9880"/>
                </a:lnTo>
                <a:lnTo>
                  <a:pt x="7415" y="9969"/>
                </a:lnTo>
                <a:lnTo>
                  <a:pt x="7489" y="9919"/>
                </a:lnTo>
                <a:lnTo>
                  <a:pt x="7563" y="9870"/>
                </a:lnTo>
                <a:lnTo>
                  <a:pt x="7634" y="9824"/>
                </a:lnTo>
                <a:lnTo>
                  <a:pt x="7707" y="9778"/>
                </a:lnTo>
                <a:lnTo>
                  <a:pt x="7779" y="9734"/>
                </a:lnTo>
                <a:lnTo>
                  <a:pt x="7850" y="9692"/>
                </a:lnTo>
                <a:lnTo>
                  <a:pt x="7920" y="9651"/>
                </a:lnTo>
                <a:lnTo>
                  <a:pt x="7990" y="9610"/>
                </a:lnTo>
                <a:lnTo>
                  <a:pt x="8060" y="9572"/>
                </a:lnTo>
                <a:lnTo>
                  <a:pt x="8128" y="9537"/>
                </a:lnTo>
                <a:lnTo>
                  <a:pt x="8196" y="9501"/>
                </a:lnTo>
                <a:lnTo>
                  <a:pt x="8264" y="9467"/>
                </a:lnTo>
                <a:lnTo>
                  <a:pt x="8331" y="9435"/>
                </a:lnTo>
                <a:lnTo>
                  <a:pt x="8398" y="9405"/>
                </a:lnTo>
                <a:lnTo>
                  <a:pt x="8463" y="9375"/>
                </a:lnTo>
                <a:lnTo>
                  <a:pt x="8529" y="9348"/>
                </a:lnTo>
                <a:lnTo>
                  <a:pt x="8594" y="9321"/>
                </a:lnTo>
                <a:lnTo>
                  <a:pt x="8658" y="9296"/>
                </a:lnTo>
                <a:lnTo>
                  <a:pt x="8722" y="9273"/>
                </a:lnTo>
                <a:lnTo>
                  <a:pt x="8785" y="9251"/>
                </a:lnTo>
                <a:lnTo>
                  <a:pt x="8847" y="9230"/>
                </a:lnTo>
                <a:lnTo>
                  <a:pt x="8909" y="9211"/>
                </a:lnTo>
                <a:lnTo>
                  <a:pt x="8971" y="9194"/>
                </a:lnTo>
                <a:lnTo>
                  <a:pt x="9031" y="9179"/>
                </a:lnTo>
                <a:lnTo>
                  <a:pt x="9091" y="9164"/>
                </a:lnTo>
                <a:lnTo>
                  <a:pt x="9151" y="9151"/>
                </a:lnTo>
                <a:lnTo>
                  <a:pt x="9211" y="9139"/>
                </a:lnTo>
                <a:lnTo>
                  <a:pt x="9269" y="9130"/>
                </a:lnTo>
                <a:lnTo>
                  <a:pt x="9327" y="9122"/>
                </a:lnTo>
                <a:lnTo>
                  <a:pt x="9385" y="9114"/>
                </a:lnTo>
                <a:lnTo>
                  <a:pt x="9442" y="9109"/>
                </a:lnTo>
                <a:lnTo>
                  <a:pt x="9498" y="9105"/>
                </a:lnTo>
                <a:lnTo>
                  <a:pt x="9552" y="9099"/>
                </a:lnTo>
                <a:lnTo>
                  <a:pt x="9603" y="9097"/>
                </a:lnTo>
                <a:lnTo>
                  <a:pt x="9653" y="9095"/>
                </a:lnTo>
                <a:lnTo>
                  <a:pt x="9700" y="9096"/>
                </a:lnTo>
                <a:lnTo>
                  <a:pt x="9746" y="9099"/>
                </a:lnTo>
                <a:lnTo>
                  <a:pt x="9789" y="9104"/>
                </a:lnTo>
                <a:lnTo>
                  <a:pt x="9810" y="9107"/>
                </a:lnTo>
                <a:lnTo>
                  <a:pt x="9830" y="9110"/>
                </a:lnTo>
                <a:lnTo>
                  <a:pt x="9850" y="9114"/>
                </a:lnTo>
                <a:lnTo>
                  <a:pt x="9869" y="9118"/>
                </a:lnTo>
                <a:lnTo>
                  <a:pt x="9888" y="9124"/>
                </a:lnTo>
                <a:lnTo>
                  <a:pt x="9907" y="9129"/>
                </a:lnTo>
                <a:lnTo>
                  <a:pt x="9924" y="9135"/>
                </a:lnTo>
                <a:lnTo>
                  <a:pt x="9942" y="9142"/>
                </a:lnTo>
                <a:lnTo>
                  <a:pt x="9959" y="9149"/>
                </a:lnTo>
                <a:lnTo>
                  <a:pt x="9975" y="9156"/>
                </a:lnTo>
                <a:lnTo>
                  <a:pt x="9991" y="9164"/>
                </a:lnTo>
                <a:lnTo>
                  <a:pt x="10006" y="9172"/>
                </a:lnTo>
                <a:lnTo>
                  <a:pt x="10020" y="9182"/>
                </a:lnTo>
                <a:lnTo>
                  <a:pt x="10034" y="9191"/>
                </a:lnTo>
                <a:lnTo>
                  <a:pt x="10048" y="9201"/>
                </a:lnTo>
                <a:lnTo>
                  <a:pt x="10060" y="9211"/>
                </a:lnTo>
                <a:lnTo>
                  <a:pt x="10073" y="9222"/>
                </a:lnTo>
                <a:lnTo>
                  <a:pt x="10085" y="9233"/>
                </a:lnTo>
                <a:lnTo>
                  <a:pt x="10096" y="9245"/>
                </a:lnTo>
                <a:lnTo>
                  <a:pt x="10108" y="9258"/>
                </a:lnTo>
                <a:lnTo>
                  <a:pt x="10115" y="9322"/>
                </a:lnTo>
                <a:lnTo>
                  <a:pt x="10123" y="9386"/>
                </a:lnTo>
                <a:lnTo>
                  <a:pt x="10128" y="9449"/>
                </a:lnTo>
                <a:lnTo>
                  <a:pt x="10133" y="9512"/>
                </a:lnTo>
                <a:lnTo>
                  <a:pt x="10138" y="9576"/>
                </a:lnTo>
                <a:lnTo>
                  <a:pt x="10140" y="9639"/>
                </a:lnTo>
                <a:lnTo>
                  <a:pt x="10142" y="9702"/>
                </a:lnTo>
                <a:lnTo>
                  <a:pt x="10142" y="9767"/>
                </a:lnTo>
                <a:lnTo>
                  <a:pt x="10158" y="9810"/>
                </a:lnTo>
                <a:lnTo>
                  <a:pt x="10171" y="9852"/>
                </a:lnTo>
                <a:lnTo>
                  <a:pt x="10182" y="9892"/>
                </a:lnTo>
                <a:lnTo>
                  <a:pt x="10190" y="9932"/>
                </a:lnTo>
                <a:lnTo>
                  <a:pt x="10197" y="9970"/>
                </a:lnTo>
                <a:lnTo>
                  <a:pt x="10200" y="10005"/>
                </a:lnTo>
                <a:lnTo>
                  <a:pt x="10201" y="10022"/>
                </a:lnTo>
                <a:lnTo>
                  <a:pt x="10202" y="10039"/>
                </a:lnTo>
                <a:lnTo>
                  <a:pt x="10201" y="10056"/>
                </a:lnTo>
                <a:lnTo>
                  <a:pt x="10201" y="10072"/>
                </a:lnTo>
                <a:lnTo>
                  <a:pt x="10199" y="10088"/>
                </a:lnTo>
                <a:lnTo>
                  <a:pt x="10198" y="10103"/>
                </a:lnTo>
                <a:lnTo>
                  <a:pt x="10195" y="10117"/>
                </a:lnTo>
                <a:lnTo>
                  <a:pt x="10191" y="10132"/>
                </a:lnTo>
                <a:lnTo>
                  <a:pt x="10188" y="10147"/>
                </a:lnTo>
                <a:lnTo>
                  <a:pt x="10183" y="10161"/>
                </a:lnTo>
                <a:lnTo>
                  <a:pt x="10179" y="10173"/>
                </a:lnTo>
                <a:lnTo>
                  <a:pt x="10173" y="10186"/>
                </a:lnTo>
                <a:lnTo>
                  <a:pt x="10167" y="10199"/>
                </a:lnTo>
                <a:lnTo>
                  <a:pt x="10160" y="10211"/>
                </a:lnTo>
                <a:lnTo>
                  <a:pt x="10152" y="10223"/>
                </a:lnTo>
                <a:lnTo>
                  <a:pt x="10145" y="10235"/>
                </a:lnTo>
                <a:lnTo>
                  <a:pt x="10136" y="10245"/>
                </a:lnTo>
                <a:lnTo>
                  <a:pt x="10127" y="10256"/>
                </a:lnTo>
                <a:lnTo>
                  <a:pt x="10117" y="10265"/>
                </a:lnTo>
                <a:lnTo>
                  <a:pt x="10108" y="10275"/>
                </a:lnTo>
                <a:lnTo>
                  <a:pt x="10054" y="10317"/>
                </a:lnTo>
                <a:lnTo>
                  <a:pt x="10000" y="10357"/>
                </a:lnTo>
                <a:lnTo>
                  <a:pt x="9948" y="10396"/>
                </a:lnTo>
                <a:lnTo>
                  <a:pt x="9896" y="10434"/>
                </a:lnTo>
                <a:lnTo>
                  <a:pt x="9843" y="10471"/>
                </a:lnTo>
                <a:lnTo>
                  <a:pt x="9791" y="10507"/>
                </a:lnTo>
                <a:lnTo>
                  <a:pt x="9741" y="10541"/>
                </a:lnTo>
                <a:lnTo>
                  <a:pt x="9690" y="10575"/>
                </a:lnTo>
                <a:lnTo>
                  <a:pt x="9639" y="10606"/>
                </a:lnTo>
                <a:lnTo>
                  <a:pt x="9590" y="10637"/>
                </a:lnTo>
                <a:lnTo>
                  <a:pt x="9540" y="10667"/>
                </a:lnTo>
                <a:lnTo>
                  <a:pt x="9491" y="10695"/>
                </a:lnTo>
                <a:lnTo>
                  <a:pt x="9443" y="10722"/>
                </a:lnTo>
                <a:lnTo>
                  <a:pt x="9394" y="10748"/>
                </a:lnTo>
                <a:lnTo>
                  <a:pt x="9347" y="10772"/>
                </a:lnTo>
                <a:lnTo>
                  <a:pt x="9299" y="10795"/>
                </a:lnTo>
                <a:lnTo>
                  <a:pt x="9253" y="10818"/>
                </a:lnTo>
                <a:lnTo>
                  <a:pt x="9205" y="10839"/>
                </a:lnTo>
                <a:lnTo>
                  <a:pt x="9160" y="10859"/>
                </a:lnTo>
                <a:lnTo>
                  <a:pt x="9115" y="10877"/>
                </a:lnTo>
                <a:lnTo>
                  <a:pt x="9069" y="10894"/>
                </a:lnTo>
                <a:lnTo>
                  <a:pt x="9024" y="10911"/>
                </a:lnTo>
                <a:lnTo>
                  <a:pt x="8979" y="10925"/>
                </a:lnTo>
                <a:lnTo>
                  <a:pt x="8936" y="10938"/>
                </a:lnTo>
                <a:lnTo>
                  <a:pt x="8892" y="10951"/>
                </a:lnTo>
                <a:lnTo>
                  <a:pt x="8850" y="10962"/>
                </a:lnTo>
                <a:lnTo>
                  <a:pt x="8806" y="10972"/>
                </a:lnTo>
                <a:lnTo>
                  <a:pt x="8764" y="10981"/>
                </a:lnTo>
                <a:lnTo>
                  <a:pt x="8723" y="10989"/>
                </a:lnTo>
                <a:lnTo>
                  <a:pt x="8681" y="10995"/>
                </a:lnTo>
                <a:lnTo>
                  <a:pt x="8639" y="10999"/>
                </a:lnTo>
                <a:lnTo>
                  <a:pt x="8599" y="11004"/>
                </a:lnTo>
                <a:lnTo>
                  <a:pt x="8552" y="11004"/>
                </a:lnTo>
                <a:lnTo>
                  <a:pt x="8504" y="11002"/>
                </a:lnTo>
                <a:lnTo>
                  <a:pt x="8458" y="11000"/>
                </a:lnTo>
                <a:lnTo>
                  <a:pt x="8412" y="10997"/>
                </a:lnTo>
                <a:lnTo>
                  <a:pt x="8367" y="10994"/>
                </a:lnTo>
                <a:lnTo>
                  <a:pt x="8323" y="10990"/>
                </a:lnTo>
                <a:lnTo>
                  <a:pt x="8279" y="10985"/>
                </a:lnTo>
                <a:lnTo>
                  <a:pt x="8237" y="10978"/>
                </a:lnTo>
                <a:lnTo>
                  <a:pt x="8196" y="10972"/>
                </a:lnTo>
                <a:lnTo>
                  <a:pt x="8155" y="10963"/>
                </a:lnTo>
                <a:lnTo>
                  <a:pt x="8116" y="10956"/>
                </a:lnTo>
                <a:lnTo>
                  <a:pt x="8077" y="10946"/>
                </a:lnTo>
                <a:lnTo>
                  <a:pt x="8038" y="10936"/>
                </a:lnTo>
                <a:lnTo>
                  <a:pt x="8001" y="10925"/>
                </a:lnTo>
                <a:lnTo>
                  <a:pt x="7964" y="10914"/>
                </a:lnTo>
                <a:lnTo>
                  <a:pt x="7928" y="10902"/>
                </a:lnTo>
                <a:lnTo>
                  <a:pt x="7893" y="10888"/>
                </a:lnTo>
                <a:lnTo>
                  <a:pt x="7859" y="10875"/>
                </a:lnTo>
                <a:lnTo>
                  <a:pt x="7825" y="10860"/>
                </a:lnTo>
                <a:lnTo>
                  <a:pt x="7793" y="10844"/>
                </a:lnTo>
                <a:lnTo>
                  <a:pt x="7761" y="10828"/>
                </a:lnTo>
                <a:lnTo>
                  <a:pt x="7730" y="10811"/>
                </a:lnTo>
                <a:lnTo>
                  <a:pt x="7700" y="10793"/>
                </a:lnTo>
                <a:lnTo>
                  <a:pt x="7671" y="10774"/>
                </a:lnTo>
                <a:lnTo>
                  <a:pt x="7643" y="10755"/>
                </a:lnTo>
                <a:lnTo>
                  <a:pt x="7615" y="10734"/>
                </a:lnTo>
                <a:lnTo>
                  <a:pt x="7588" y="10713"/>
                </a:lnTo>
                <a:lnTo>
                  <a:pt x="7563" y="10692"/>
                </a:lnTo>
                <a:lnTo>
                  <a:pt x="7537" y="10669"/>
                </a:lnTo>
                <a:lnTo>
                  <a:pt x="7513" y="10646"/>
                </a:lnTo>
                <a:lnTo>
                  <a:pt x="7490" y="10621"/>
                </a:lnTo>
                <a:lnTo>
                  <a:pt x="7467" y="10596"/>
                </a:lnTo>
                <a:lnTo>
                  <a:pt x="7457" y="10643"/>
                </a:lnTo>
                <a:lnTo>
                  <a:pt x="7448" y="10690"/>
                </a:lnTo>
                <a:lnTo>
                  <a:pt x="7439" y="10736"/>
                </a:lnTo>
                <a:lnTo>
                  <a:pt x="7432" y="10782"/>
                </a:lnTo>
                <a:lnTo>
                  <a:pt x="7425" y="10826"/>
                </a:lnTo>
                <a:lnTo>
                  <a:pt x="7419" y="10869"/>
                </a:lnTo>
                <a:lnTo>
                  <a:pt x="7415" y="10913"/>
                </a:lnTo>
                <a:lnTo>
                  <a:pt x="7411" y="10955"/>
                </a:lnTo>
                <a:lnTo>
                  <a:pt x="7407" y="10997"/>
                </a:lnTo>
                <a:lnTo>
                  <a:pt x="7405" y="11038"/>
                </a:lnTo>
                <a:lnTo>
                  <a:pt x="7404" y="11079"/>
                </a:lnTo>
                <a:lnTo>
                  <a:pt x="7404" y="11119"/>
                </a:lnTo>
                <a:lnTo>
                  <a:pt x="7404" y="11157"/>
                </a:lnTo>
                <a:lnTo>
                  <a:pt x="7405" y="11196"/>
                </a:lnTo>
                <a:lnTo>
                  <a:pt x="7408" y="11233"/>
                </a:lnTo>
                <a:lnTo>
                  <a:pt x="7412" y="11270"/>
                </a:lnTo>
                <a:lnTo>
                  <a:pt x="7416" y="11306"/>
                </a:lnTo>
                <a:lnTo>
                  <a:pt x="7420" y="11341"/>
                </a:lnTo>
                <a:lnTo>
                  <a:pt x="7426" y="11376"/>
                </a:lnTo>
                <a:lnTo>
                  <a:pt x="7433" y="11410"/>
                </a:lnTo>
                <a:lnTo>
                  <a:pt x="7441" y="11444"/>
                </a:lnTo>
                <a:lnTo>
                  <a:pt x="7450" y="11477"/>
                </a:lnTo>
                <a:lnTo>
                  <a:pt x="7459" y="11508"/>
                </a:lnTo>
                <a:lnTo>
                  <a:pt x="7470" y="11539"/>
                </a:lnTo>
                <a:lnTo>
                  <a:pt x="7480" y="11570"/>
                </a:lnTo>
                <a:lnTo>
                  <a:pt x="7493" y="11600"/>
                </a:lnTo>
                <a:lnTo>
                  <a:pt x="7506" y="11629"/>
                </a:lnTo>
                <a:lnTo>
                  <a:pt x="7520" y="11657"/>
                </a:lnTo>
                <a:lnTo>
                  <a:pt x="7535" y="11685"/>
                </a:lnTo>
                <a:lnTo>
                  <a:pt x="7551" y="11712"/>
                </a:lnTo>
                <a:lnTo>
                  <a:pt x="7568" y="11739"/>
                </a:lnTo>
                <a:lnTo>
                  <a:pt x="7586" y="11764"/>
                </a:lnTo>
                <a:lnTo>
                  <a:pt x="7629" y="11766"/>
                </a:lnTo>
                <a:lnTo>
                  <a:pt x="7673" y="11767"/>
                </a:lnTo>
                <a:lnTo>
                  <a:pt x="7719" y="11768"/>
                </a:lnTo>
                <a:lnTo>
                  <a:pt x="7765" y="11766"/>
                </a:lnTo>
                <a:lnTo>
                  <a:pt x="7812" y="11764"/>
                </a:lnTo>
                <a:lnTo>
                  <a:pt x="7859" y="11760"/>
                </a:lnTo>
                <a:lnTo>
                  <a:pt x="7908" y="11754"/>
                </a:lnTo>
                <a:lnTo>
                  <a:pt x="7957" y="11748"/>
                </a:lnTo>
                <a:lnTo>
                  <a:pt x="8007" y="11741"/>
                </a:lnTo>
                <a:lnTo>
                  <a:pt x="8059" y="11732"/>
                </a:lnTo>
                <a:lnTo>
                  <a:pt x="8111" y="11722"/>
                </a:lnTo>
                <a:lnTo>
                  <a:pt x="8162" y="11710"/>
                </a:lnTo>
                <a:lnTo>
                  <a:pt x="8216" y="11697"/>
                </a:lnTo>
                <a:lnTo>
                  <a:pt x="8270" y="11683"/>
                </a:lnTo>
                <a:lnTo>
                  <a:pt x="8325" y="11668"/>
                </a:lnTo>
                <a:lnTo>
                  <a:pt x="8381" y="11651"/>
                </a:lnTo>
                <a:lnTo>
                  <a:pt x="8437" y="11633"/>
                </a:lnTo>
                <a:lnTo>
                  <a:pt x="8494" y="11613"/>
                </a:lnTo>
                <a:lnTo>
                  <a:pt x="8552" y="11593"/>
                </a:lnTo>
                <a:lnTo>
                  <a:pt x="8611" y="11571"/>
                </a:lnTo>
                <a:lnTo>
                  <a:pt x="8671" y="11547"/>
                </a:lnTo>
                <a:lnTo>
                  <a:pt x="8731" y="11523"/>
                </a:lnTo>
                <a:lnTo>
                  <a:pt x="8793" y="11497"/>
                </a:lnTo>
                <a:lnTo>
                  <a:pt x="8855" y="11470"/>
                </a:lnTo>
                <a:lnTo>
                  <a:pt x="8917" y="11442"/>
                </a:lnTo>
                <a:lnTo>
                  <a:pt x="8980" y="11411"/>
                </a:lnTo>
                <a:lnTo>
                  <a:pt x="9045" y="11381"/>
                </a:lnTo>
                <a:lnTo>
                  <a:pt x="9110" y="11348"/>
                </a:lnTo>
                <a:lnTo>
                  <a:pt x="9177" y="11315"/>
                </a:lnTo>
                <a:lnTo>
                  <a:pt x="9243" y="11279"/>
                </a:lnTo>
                <a:lnTo>
                  <a:pt x="9311" y="11243"/>
                </a:lnTo>
                <a:lnTo>
                  <a:pt x="9380" y="11206"/>
                </a:lnTo>
                <a:lnTo>
                  <a:pt x="9420" y="11184"/>
                </a:lnTo>
                <a:lnTo>
                  <a:pt x="9459" y="11163"/>
                </a:lnTo>
                <a:lnTo>
                  <a:pt x="9499" y="11143"/>
                </a:lnTo>
                <a:lnTo>
                  <a:pt x="9538" y="11124"/>
                </a:lnTo>
                <a:lnTo>
                  <a:pt x="9577" y="11105"/>
                </a:lnTo>
                <a:lnTo>
                  <a:pt x="9616" y="11087"/>
                </a:lnTo>
                <a:lnTo>
                  <a:pt x="9655" y="11070"/>
                </a:lnTo>
                <a:lnTo>
                  <a:pt x="9693" y="11053"/>
                </a:lnTo>
                <a:lnTo>
                  <a:pt x="9731" y="11038"/>
                </a:lnTo>
                <a:lnTo>
                  <a:pt x="9769" y="11024"/>
                </a:lnTo>
                <a:lnTo>
                  <a:pt x="9807" y="11010"/>
                </a:lnTo>
                <a:lnTo>
                  <a:pt x="9844" y="10996"/>
                </a:lnTo>
                <a:lnTo>
                  <a:pt x="9882" y="10985"/>
                </a:lnTo>
                <a:lnTo>
                  <a:pt x="9919" y="10973"/>
                </a:lnTo>
                <a:lnTo>
                  <a:pt x="9956" y="10962"/>
                </a:lnTo>
                <a:lnTo>
                  <a:pt x="9992" y="10952"/>
                </a:lnTo>
                <a:lnTo>
                  <a:pt x="10029" y="10943"/>
                </a:lnTo>
                <a:lnTo>
                  <a:pt x="10065" y="10935"/>
                </a:lnTo>
                <a:lnTo>
                  <a:pt x="10101" y="10926"/>
                </a:lnTo>
                <a:lnTo>
                  <a:pt x="10136" y="10920"/>
                </a:lnTo>
                <a:lnTo>
                  <a:pt x="10171" y="10914"/>
                </a:lnTo>
                <a:lnTo>
                  <a:pt x="10207" y="10908"/>
                </a:lnTo>
                <a:lnTo>
                  <a:pt x="10242" y="10904"/>
                </a:lnTo>
                <a:lnTo>
                  <a:pt x="10277" y="10901"/>
                </a:lnTo>
                <a:lnTo>
                  <a:pt x="10312" y="10898"/>
                </a:lnTo>
                <a:lnTo>
                  <a:pt x="10346" y="10896"/>
                </a:lnTo>
                <a:lnTo>
                  <a:pt x="10379" y="10895"/>
                </a:lnTo>
                <a:lnTo>
                  <a:pt x="10413" y="10894"/>
                </a:lnTo>
                <a:lnTo>
                  <a:pt x="10447" y="10894"/>
                </a:lnTo>
                <a:lnTo>
                  <a:pt x="10481" y="10895"/>
                </a:lnTo>
                <a:lnTo>
                  <a:pt x="10513" y="10897"/>
                </a:lnTo>
                <a:lnTo>
                  <a:pt x="10546" y="10900"/>
                </a:lnTo>
                <a:lnTo>
                  <a:pt x="10512" y="6515"/>
                </a:lnTo>
                <a:close/>
              </a:path>
            </a:pathLst>
          </a:custGeom>
          <a:solidFill>
            <a:srgbClr val="41f1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92" name="Jbiz056" descr=""/>
          <p:cNvPicPr/>
          <p:nvPr/>
        </p:nvPicPr>
        <p:blipFill>
          <a:blip r:embed="rId1"/>
          <a:stretch/>
        </p:blipFill>
        <p:spPr>
          <a:xfrm>
            <a:off x="1447920" y="3200400"/>
            <a:ext cx="1455480" cy="311616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3048120" y="3809880"/>
            <a:ext cx="2971800" cy="2288520"/>
          </a:xfrm>
          <a:prstGeom prst="rect">
            <a:avLst/>
          </a:prstGeom>
          <a:noFill/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Times New Roman"/>
                <a:ea typeface="宋体"/>
              </a:rPr>
              <a:t>非常感</a:t>
            </a:r>
            <a:r>
              <a:rPr b="0" lang="zh-TW" sz="2400" spc="-1" strike="noStrike">
                <a:solidFill>
                  <a:srgbClr val="0000cc"/>
                </a:solidFill>
                <a:latin typeface="Times New Roman"/>
                <a:ea typeface="宋体"/>
              </a:rPr>
              <a:t>謝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Times New Roman"/>
                <a:ea typeface="宋体"/>
              </a:rPr>
              <a:t>大家一年中</a:t>
            </a:r>
            <a:r>
              <a:rPr b="0" lang="zh-TW" sz="2400" spc="-1" strike="noStrike">
                <a:solidFill>
                  <a:srgbClr val="0000cc"/>
                </a:solidFill>
                <a:latin typeface="Times New Roman"/>
                <a:ea typeface="宋体"/>
              </a:rPr>
              <a:t>給</a:t>
            </a:r>
            <a:r>
              <a:rPr b="0" lang="zh-CN" sz="2400" spc="-1" strike="noStrike">
                <a:solidFill>
                  <a:srgbClr val="0000cc"/>
                </a:solidFill>
                <a:latin typeface="Times New Roman"/>
                <a:ea typeface="宋体"/>
              </a:rPr>
              <a:t>予我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Times New Roman"/>
                <a:ea typeface="宋体"/>
              </a:rPr>
              <a:t>的</a:t>
            </a:r>
            <a:r>
              <a:rPr b="0" lang="zh-TW" sz="2400" spc="-1" strike="noStrike">
                <a:solidFill>
                  <a:srgbClr val="0000cc"/>
                </a:solidFill>
                <a:latin typeface="Times New Roman"/>
                <a:ea typeface="宋体"/>
              </a:rPr>
              <a:t>幫</a:t>
            </a:r>
            <a:r>
              <a:rPr b="0" lang="zh-CN" sz="2400" spc="-1" strike="noStrike">
                <a:solidFill>
                  <a:srgbClr val="0000cc"/>
                </a:solidFill>
                <a:latin typeface="Times New Roman"/>
                <a:ea typeface="宋体"/>
              </a:rPr>
              <a:t>助和支持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cc"/>
                </a:solidFill>
                <a:latin typeface="Times New Roman"/>
              </a:rPr>
              <a:t>並期待新的一年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cc"/>
                </a:solidFill>
                <a:latin typeface="Times New Roman"/>
              </a:rPr>
              <a:t>與你有更多的合作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cc"/>
                </a:solidFill>
                <a:latin typeface="Times New Roman"/>
              </a:rPr>
              <a:t>和更愉快的相處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4648320" y="304920"/>
            <a:ext cx="4051080" cy="41907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7162920" y="4800600"/>
            <a:ext cx="1652400" cy="1763640"/>
          </a:xfrm>
          <a:prstGeom prst="rect">
            <a:avLst/>
          </a:prstGeom>
          <a:ln w="0">
            <a:noFill/>
          </a:ln>
        </p:spPr>
      </p:pic>
    </p:spTree>
  </p:cSld>
  <p:transition spd="slow">
    <p:pull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makoto8" descr=""/>
          <p:cNvPicPr/>
          <p:nvPr/>
        </p:nvPicPr>
        <p:blipFill>
          <a:blip r:embed="rId1"/>
          <a:stretch/>
        </p:blipFill>
        <p:spPr>
          <a:xfrm>
            <a:off x="1066680" y="60948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7483680" y="463860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66"/>
                </a:solidFill>
                <a:latin typeface="Times New Roman"/>
                <a:ea typeface="文鼎海報體"/>
              </a:rPr>
              <a:t>夢</a:t>
            </a:r>
            <a:endParaRPr b="0" lang="en-US" sz="7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737760" y="403848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66"/>
                </a:solidFill>
                <a:latin typeface="Times New Roman"/>
                <a:ea typeface="文鼎海報體"/>
              </a:rPr>
              <a:t>美</a:t>
            </a:r>
            <a:endParaRPr b="0" lang="en-US" sz="7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089440" y="236232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66"/>
                </a:solidFill>
                <a:latin typeface="Times New Roman"/>
                <a:ea typeface="文鼎海報體"/>
              </a:rPr>
              <a:t>個</a:t>
            </a:r>
            <a:endParaRPr b="0" lang="en-US" sz="7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251360" y="152388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66"/>
                </a:solidFill>
                <a:latin typeface="Times New Roman"/>
                <a:ea typeface="文鼎海報體"/>
              </a:rPr>
              <a:t>做</a:t>
            </a:r>
            <a:endParaRPr b="0" lang="en-US" sz="7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1752480" y="2209680"/>
            <a:ext cx="61722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3817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40186" dir="1096358" blurRad="0" rotWithShape="0">
                    <a:srgbClr val="808080"/>
                  </a:outerShdw>
                </a:effectLst>
                <a:latin typeface="文鼎新藝體"/>
              </a:rPr>
              <a:t>新年進步  身體健康</a:t>
            </a:r>
            <a:endParaRPr b="0" lang="en-US" sz="2400" spc="1" strike="noStrike">
              <a:ln w="0">
                <a:noFill/>
              </a:ln>
              <a:solidFill>
                <a:srgbClr val="ff6600"/>
              </a:solidFill>
              <a:effectLst>
                <a:outerShdw dist="40186" dir="1096358" blurRad="0" rotWithShape="0">
                  <a:srgbClr val="808080"/>
                </a:outerShdw>
              </a:effectLst>
              <a:latin typeface="文鼎新藝體"/>
              <a:ea typeface="文鼎新藝體"/>
            </a:endParaRPr>
          </a:p>
        </p:txBody>
      </p:sp>
      <p:sp>
        <p:nvSpPr>
          <p:cNvPr id="143" name=""/>
          <p:cNvSpPr/>
          <p:nvPr/>
        </p:nvSpPr>
        <p:spPr>
          <a:xfrm>
            <a:off x="1676520" y="838080"/>
            <a:ext cx="19969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0" spc="-1" strike="noStrike">
                <a:solidFill>
                  <a:srgbClr val="ff0000"/>
                </a:solidFill>
                <a:latin typeface="Times New Roman"/>
                <a:ea typeface="文鼎勘亭流"/>
              </a:rPr>
              <a:t>祝</a:t>
            </a:r>
            <a:endParaRPr b="0" lang="en-US" sz="10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143000" y="1143000"/>
            <a:ext cx="1469880" cy="1482840"/>
          </a:xfrm>
          <a:custGeom>
            <a:avLst/>
            <a:gdLst/>
            <a:ahLst/>
            <a:rect l="l" t="t" r="r" b="b"/>
            <a:pathLst>
              <a:path w="3706" h="3736">
                <a:moveTo>
                  <a:pt x="1324" y="3416"/>
                </a:moveTo>
                <a:lnTo>
                  <a:pt x="1281" y="3210"/>
                </a:lnTo>
                <a:lnTo>
                  <a:pt x="1271" y="3066"/>
                </a:lnTo>
                <a:lnTo>
                  <a:pt x="1289" y="2729"/>
                </a:lnTo>
                <a:lnTo>
                  <a:pt x="1305" y="2248"/>
                </a:lnTo>
                <a:lnTo>
                  <a:pt x="1320" y="2069"/>
                </a:lnTo>
                <a:lnTo>
                  <a:pt x="1348" y="2027"/>
                </a:lnTo>
                <a:lnTo>
                  <a:pt x="1482" y="1774"/>
                </a:lnTo>
                <a:lnTo>
                  <a:pt x="1404" y="1869"/>
                </a:lnTo>
                <a:lnTo>
                  <a:pt x="1265" y="1957"/>
                </a:lnTo>
                <a:lnTo>
                  <a:pt x="1084" y="1924"/>
                </a:lnTo>
                <a:lnTo>
                  <a:pt x="1056" y="1881"/>
                </a:lnTo>
                <a:lnTo>
                  <a:pt x="989" y="1794"/>
                </a:lnTo>
                <a:lnTo>
                  <a:pt x="976" y="2078"/>
                </a:lnTo>
                <a:lnTo>
                  <a:pt x="934" y="2555"/>
                </a:lnTo>
                <a:lnTo>
                  <a:pt x="781" y="3098"/>
                </a:lnTo>
                <a:lnTo>
                  <a:pt x="501" y="3551"/>
                </a:lnTo>
                <a:lnTo>
                  <a:pt x="310" y="3659"/>
                </a:lnTo>
                <a:lnTo>
                  <a:pt x="95" y="3667"/>
                </a:lnTo>
                <a:lnTo>
                  <a:pt x="40" y="3614"/>
                </a:lnTo>
                <a:lnTo>
                  <a:pt x="64" y="3407"/>
                </a:lnTo>
                <a:lnTo>
                  <a:pt x="142" y="3247"/>
                </a:lnTo>
                <a:lnTo>
                  <a:pt x="306" y="2975"/>
                </a:lnTo>
                <a:lnTo>
                  <a:pt x="402" y="2748"/>
                </a:lnTo>
                <a:lnTo>
                  <a:pt x="503" y="2271"/>
                </a:lnTo>
                <a:lnTo>
                  <a:pt x="542" y="1557"/>
                </a:lnTo>
                <a:lnTo>
                  <a:pt x="594" y="1268"/>
                </a:lnTo>
                <a:lnTo>
                  <a:pt x="652" y="1202"/>
                </a:lnTo>
                <a:lnTo>
                  <a:pt x="759" y="1069"/>
                </a:lnTo>
                <a:lnTo>
                  <a:pt x="452" y="1069"/>
                </a:lnTo>
                <a:lnTo>
                  <a:pt x="342" y="1069"/>
                </a:lnTo>
                <a:lnTo>
                  <a:pt x="129" y="998"/>
                </a:lnTo>
                <a:lnTo>
                  <a:pt x="0" y="885"/>
                </a:lnTo>
                <a:lnTo>
                  <a:pt x="2" y="842"/>
                </a:lnTo>
                <a:lnTo>
                  <a:pt x="4" y="810"/>
                </a:lnTo>
                <a:lnTo>
                  <a:pt x="216" y="623"/>
                </a:lnTo>
                <a:lnTo>
                  <a:pt x="452" y="623"/>
                </a:lnTo>
                <a:lnTo>
                  <a:pt x="930" y="623"/>
                </a:lnTo>
                <a:lnTo>
                  <a:pt x="848" y="607"/>
                </a:lnTo>
                <a:lnTo>
                  <a:pt x="747" y="562"/>
                </a:lnTo>
                <a:lnTo>
                  <a:pt x="643" y="424"/>
                </a:lnTo>
                <a:lnTo>
                  <a:pt x="633" y="257"/>
                </a:lnTo>
                <a:lnTo>
                  <a:pt x="657" y="164"/>
                </a:lnTo>
                <a:lnTo>
                  <a:pt x="671" y="108"/>
                </a:lnTo>
                <a:lnTo>
                  <a:pt x="720" y="63"/>
                </a:lnTo>
                <a:lnTo>
                  <a:pt x="810" y="77"/>
                </a:lnTo>
                <a:lnTo>
                  <a:pt x="1038" y="114"/>
                </a:lnTo>
                <a:lnTo>
                  <a:pt x="1186" y="390"/>
                </a:lnTo>
                <a:lnTo>
                  <a:pt x="1149" y="523"/>
                </a:lnTo>
                <a:lnTo>
                  <a:pt x="1123" y="623"/>
                </a:lnTo>
                <a:lnTo>
                  <a:pt x="1409" y="623"/>
                </a:lnTo>
                <a:lnTo>
                  <a:pt x="1492" y="623"/>
                </a:lnTo>
                <a:lnTo>
                  <a:pt x="1697" y="679"/>
                </a:lnTo>
                <a:lnTo>
                  <a:pt x="1844" y="791"/>
                </a:lnTo>
                <a:lnTo>
                  <a:pt x="1856" y="903"/>
                </a:lnTo>
                <a:lnTo>
                  <a:pt x="1754" y="971"/>
                </a:lnTo>
                <a:lnTo>
                  <a:pt x="1699" y="1007"/>
                </a:lnTo>
                <a:lnTo>
                  <a:pt x="1470" y="1069"/>
                </a:lnTo>
                <a:lnTo>
                  <a:pt x="1401" y="1069"/>
                </a:lnTo>
                <a:lnTo>
                  <a:pt x="851" y="1069"/>
                </a:lnTo>
                <a:lnTo>
                  <a:pt x="907" y="1162"/>
                </a:lnTo>
                <a:lnTo>
                  <a:pt x="1002" y="1367"/>
                </a:lnTo>
                <a:lnTo>
                  <a:pt x="997" y="1475"/>
                </a:lnTo>
                <a:lnTo>
                  <a:pt x="995" y="1688"/>
                </a:lnTo>
                <a:lnTo>
                  <a:pt x="1027" y="1632"/>
                </a:lnTo>
                <a:lnTo>
                  <a:pt x="1121" y="1526"/>
                </a:lnTo>
                <a:lnTo>
                  <a:pt x="1260" y="1508"/>
                </a:lnTo>
                <a:lnTo>
                  <a:pt x="1354" y="1496"/>
                </a:lnTo>
                <a:lnTo>
                  <a:pt x="1597" y="1567"/>
                </a:lnTo>
                <a:lnTo>
                  <a:pt x="1760" y="1749"/>
                </a:lnTo>
                <a:lnTo>
                  <a:pt x="1764" y="2112"/>
                </a:lnTo>
                <a:lnTo>
                  <a:pt x="1762" y="2277"/>
                </a:lnTo>
                <a:lnTo>
                  <a:pt x="1754" y="2652"/>
                </a:lnTo>
                <a:lnTo>
                  <a:pt x="1742" y="3028"/>
                </a:lnTo>
                <a:lnTo>
                  <a:pt x="1691" y="3289"/>
                </a:lnTo>
                <a:lnTo>
                  <a:pt x="1597" y="3525"/>
                </a:lnTo>
                <a:lnTo>
                  <a:pt x="1261" y="3728"/>
                </a:lnTo>
                <a:lnTo>
                  <a:pt x="1090" y="3723"/>
                </a:lnTo>
                <a:lnTo>
                  <a:pt x="926" y="3719"/>
                </a:lnTo>
                <a:lnTo>
                  <a:pt x="729" y="3560"/>
                </a:lnTo>
                <a:lnTo>
                  <a:pt x="731" y="3509"/>
                </a:lnTo>
                <a:lnTo>
                  <a:pt x="731" y="3474"/>
                </a:lnTo>
                <a:lnTo>
                  <a:pt x="911" y="3280"/>
                </a:lnTo>
                <a:lnTo>
                  <a:pt x="1025" y="3269"/>
                </a:lnTo>
                <a:lnTo>
                  <a:pt x="1131" y="3261"/>
                </a:lnTo>
                <a:lnTo>
                  <a:pt x="1324" y="3416"/>
                </a:lnTo>
                <a:close/>
                <a:moveTo>
                  <a:pt x="2593" y="864"/>
                </a:moveTo>
                <a:lnTo>
                  <a:pt x="2733" y="789"/>
                </a:lnTo>
                <a:lnTo>
                  <a:pt x="2836" y="789"/>
                </a:lnTo>
                <a:lnTo>
                  <a:pt x="3251" y="789"/>
                </a:lnTo>
                <a:lnTo>
                  <a:pt x="3335" y="789"/>
                </a:lnTo>
                <a:lnTo>
                  <a:pt x="3534" y="858"/>
                </a:lnTo>
                <a:lnTo>
                  <a:pt x="3662" y="968"/>
                </a:lnTo>
                <a:lnTo>
                  <a:pt x="3668" y="1060"/>
                </a:lnTo>
                <a:lnTo>
                  <a:pt x="3595" y="1121"/>
                </a:lnTo>
                <a:lnTo>
                  <a:pt x="3536" y="1171"/>
                </a:lnTo>
                <a:lnTo>
                  <a:pt x="3347" y="1236"/>
                </a:lnTo>
                <a:lnTo>
                  <a:pt x="3276" y="1236"/>
                </a:lnTo>
                <a:lnTo>
                  <a:pt x="3153" y="1236"/>
                </a:lnTo>
                <a:lnTo>
                  <a:pt x="3237" y="1406"/>
                </a:lnTo>
                <a:lnTo>
                  <a:pt x="3288" y="1593"/>
                </a:lnTo>
                <a:lnTo>
                  <a:pt x="3278" y="1887"/>
                </a:lnTo>
                <a:lnTo>
                  <a:pt x="3158" y="2561"/>
                </a:lnTo>
                <a:lnTo>
                  <a:pt x="3055" y="2780"/>
                </a:lnTo>
                <a:lnTo>
                  <a:pt x="2995" y="2914"/>
                </a:lnTo>
                <a:lnTo>
                  <a:pt x="3112" y="3021"/>
                </a:lnTo>
                <a:lnTo>
                  <a:pt x="3200" y="3084"/>
                </a:lnTo>
                <a:lnTo>
                  <a:pt x="3505" y="3275"/>
                </a:lnTo>
                <a:lnTo>
                  <a:pt x="3644" y="3425"/>
                </a:lnTo>
                <a:lnTo>
                  <a:pt x="3706" y="3630"/>
                </a:lnTo>
                <a:lnTo>
                  <a:pt x="3648" y="3707"/>
                </a:lnTo>
                <a:lnTo>
                  <a:pt x="3360" y="3736"/>
                </a:lnTo>
                <a:lnTo>
                  <a:pt x="2969" y="3525"/>
                </a:lnTo>
                <a:lnTo>
                  <a:pt x="2714" y="3276"/>
                </a:lnTo>
                <a:lnTo>
                  <a:pt x="2427" y="3521"/>
                </a:lnTo>
                <a:lnTo>
                  <a:pt x="2197" y="3649"/>
                </a:lnTo>
                <a:lnTo>
                  <a:pt x="1921" y="3698"/>
                </a:lnTo>
                <a:lnTo>
                  <a:pt x="1712" y="3659"/>
                </a:lnTo>
                <a:lnTo>
                  <a:pt x="1671" y="3584"/>
                </a:lnTo>
                <a:lnTo>
                  <a:pt x="1786" y="3386"/>
                </a:lnTo>
                <a:lnTo>
                  <a:pt x="1905" y="3278"/>
                </a:lnTo>
                <a:lnTo>
                  <a:pt x="2266" y="3063"/>
                </a:lnTo>
                <a:lnTo>
                  <a:pt x="2402" y="2934"/>
                </a:lnTo>
                <a:lnTo>
                  <a:pt x="2323" y="2776"/>
                </a:lnTo>
                <a:lnTo>
                  <a:pt x="2203" y="2504"/>
                </a:lnTo>
                <a:lnTo>
                  <a:pt x="2118" y="2147"/>
                </a:lnTo>
                <a:lnTo>
                  <a:pt x="2134" y="2054"/>
                </a:lnTo>
                <a:lnTo>
                  <a:pt x="2167" y="1781"/>
                </a:lnTo>
                <a:lnTo>
                  <a:pt x="2085" y="1851"/>
                </a:lnTo>
                <a:lnTo>
                  <a:pt x="1868" y="1961"/>
                </a:lnTo>
                <a:lnTo>
                  <a:pt x="1790" y="1873"/>
                </a:lnTo>
                <a:lnTo>
                  <a:pt x="1788" y="1664"/>
                </a:lnTo>
                <a:lnTo>
                  <a:pt x="1828" y="1528"/>
                </a:lnTo>
                <a:lnTo>
                  <a:pt x="1850" y="1452"/>
                </a:lnTo>
                <a:lnTo>
                  <a:pt x="1990" y="1104"/>
                </a:lnTo>
                <a:lnTo>
                  <a:pt x="2038" y="950"/>
                </a:lnTo>
                <a:lnTo>
                  <a:pt x="2148" y="408"/>
                </a:lnTo>
                <a:lnTo>
                  <a:pt x="2241" y="158"/>
                </a:lnTo>
                <a:lnTo>
                  <a:pt x="2432" y="0"/>
                </a:lnTo>
                <a:lnTo>
                  <a:pt x="2485" y="18"/>
                </a:lnTo>
                <a:lnTo>
                  <a:pt x="2516" y="30"/>
                </a:lnTo>
                <a:lnTo>
                  <a:pt x="2593" y="154"/>
                </a:lnTo>
                <a:lnTo>
                  <a:pt x="2638" y="367"/>
                </a:lnTo>
                <a:lnTo>
                  <a:pt x="2623" y="492"/>
                </a:lnTo>
                <a:lnTo>
                  <a:pt x="2612" y="565"/>
                </a:lnTo>
                <a:lnTo>
                  <a:pt x="2576" y="696"/>
                </a:lnTo>
                <a:lnTo>
                  <a:pt x="2506" y="936"/>
                </a:lnTo>
                <a:lnTo>
                  <a:pt x="2593" y="864"/>
                </a:lnTo>
                <a:close/>
                <a:moveTo>
                  <a:pt x="2356" y="1767"/>
                </a:moveTo>
                <a:lnTo>
                  <a:pt x="2479" y="1905"/>
                </a:lnTo>
                <a:lnTo>
                  <a:pt x="2530" y="2061"/>
                </a:lnTo>
                <a:lnTo>
                  <a:pt x="2623" y="2377"/>
                </a:lnTo>
                <a:lnTo>
                  <a:pt x="2679" y="2508"/>
                </a:lnTo>
                <a:lnTo>
                  <a:pt x="2748" y="2269"/>
                </a:lnTo>
                <a:lnTo>
                  <a:pt x="2796" y="2043"/>
                </a:lnTo>
                <a:lnTo>
                  <a:pt x="2855" y="1615"/>
                </a:lnTo>
                <a:lnTo>
                  <a:pt x="2929" y="1408"/>
                </a:lnTo>
                <a:lnTo>
                  <a:pt x="3065" y="1236"/>
                </a:lnTo>
                <a:lnTo>
                  <a:pt x="2857" y="1236"/>
                </a:lnTo>
                <a:lnTo>
                  <a:pt x="2686" y="1236"/>
                </a:lnTo>
                <a:lnTo>
                  <a:pt x="2472" y="1057"/>
                </a:lnTo>
                <a:lnTo>
                  <a:pt x="2374" y="1372"/>
                </a:lnTo>
                <a:lnTo>
                  <a:pt x="2337" y="1449"/>
                </a:lnTo>
                <a:lnTo>
                  <a:pt x="2229" y="1681"/>
                </a:lnTo>
                <a:lnTo>
                  <a:pt x="2356" y="1767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8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2438280"/>
            <a:ext cx="1468440" cy="1454400"/>
          </a:xfrm>
          <a:custGeom>
            <a:avLst/>
            <a:gdLst/>
            <a:ahLst/>
            <a:rect l="l" t="t" r="r" b="b"/>
            <a:pathLst>
              <a:path w="3701" h="3661">
                <a:moveTo>
                  <a:pt x="1576" y="1955"/>
                </a:moveTo>
                <a:lnTo>
                  <a:pt x="1708" y="1806"/>
                </a:lnTo>
                <a:lnTo>
                  <a:pt x="1851" y="1794"/>
                </a:lnTo>
                <a:lnTo>
                  <a:pt x="1911" y="1790"/>
                </a:lnTo>
                <a:lnTo>
                  <a:pt x="2007" y="1826"/>
                </a:lnTo>
                <a:lnTo>
                  <a:pt x="2167" y="1950"/>
                </a:lnTo>
                <a:lnTo>
                  <a:pt x="2168" y="2007"/>
                </a:lnTo>
                <a:lnTo>
                  <a:pt x="2123" y="2053"/>
                </a:lnTo>
                <a:lnTo>
                  <a:pt x="2061" y="2114"/>
                </a:lnTo>
                <a:lnTo>
                  <a:pt x="1911" y="2186"/>
                </a:lnTo>
                <a:lnTo>
                  <a:pt x="1846" y="2182"/>
                </a:lnTo>
                <a:lnTo>
                  <a:pt x="1753" y="2179"/>
                </a:lnTo>
                <a:lnTo>
                  <a:pt x="1655" y="2093"/>
                </a:lnTo>
                <a:lnTo>
                  <a:pt x="1615" y="2058"/>
                </a:lnTo>
                <a:lnTo>
                  <a:pt x="1576" y="2023"/>
                </a:lnTo>
                <a:lnTo>
                  <a:pt x="1576" y="2689"/>
                </a:lnTo>
                <a:lnTo>
                  <a:pt x="1650" y="2604"/>
                </a:lnTo>
                <a:lnTo>
                  <a:pt x="1794" y="2524"/>
                </a:lnTo>
                <a:lnTo>
                  <a:pt x="1898" y="2522"/>
                </a:lnTo>
                <a:lnTo>
                  <a:pt x="1970" y="2522"/>
                </a:lnTo>
                <a:lnTo>
                  <a:pt x="2061" y="2557"/>
                </a:lnTo>
                <a:lnTo>
                  <a:pt x="2214" y="2677"/>
                </a:lnTo>
                <a:lnTo>
                  <a:pt x="2216" y="2733"/>
                </a:lnTo>
                <a:lnTo>
                  <a:pt x="2168" y="2780"/>
                </a:lnTo>
                <a:lnTo>
                  <a:pt x="2038" y="2910"/>
                </a:lnTo>
                <a:lnTo>
                  <a:pt x="1891" y="2908"/>
                </a:lnTo>
                <a:lnTo>
                  <a:pt x="1784" y="2908"/>
                </a:lnTo>
                <a:lnTo>
                  <a:pt x="1694" y="2842"/>
                </a:lnTo>
                <a:lnTo>
                  <a:pt x="1635" y="2791"/>
                </a:lnTo>
                <a:lnTo>
                  <a:pt x="1576" y="2742"/>
                </a:lnTo>
                <a:lnTo>
                  <a:pt x="1576" y="3127"/>
                </a:lnTo>
                <a:lnTo>
                  <a:pt x="1576" y="3283"/>
                </a:lnTo>
                <a:lnTo>
                  <a:pt x="1501" y="3482"/>
                </a:lnTo>
                <a:lnTo>
                  <a:pt x="1377" y="3643"/>
                </a:lnTo>
                <a:lnTo>
                  <a:pt x="1319" y="3645"/>
                </a:lnTo>
                <a:lnTo>
                  <a:pt x="1272" y="3571"/>
                </a:lnTo>
                <a:lnTo>
                  <a:pt x="1200" y="3462"/>
                </a:lnTo>
                <a:lnTo>
                  <a:pt x="1140" y="3272"/>
                </a:lnTo>
                <a:lnTo>
                  <a:pt x="1140" y="3122"/>
                </a:lnTo>
                <a:lnTo>
                  <a:pt x="1138" y="722"/>
                </a:lnTo>
                <a:lnTo>
                  <a:pt x="1137" y="576"/>
                </a:lnTo>
                <a:lnTo>
                  <a:pt x="1205" y="374"/>
                </a:lnTo>
                <a:lnTo>
                  <a:pt x="1347" y="158"/>
                </a:lnTo>
                <a:lnTo>
                  <a:pt x="1368" y="158"/>
                </a:lnTo>
                <a:lnTo>
                  <a:pt x="1408" y="160"/>
                </a:lnTo>
                <a:lnTo>
                  <a:pt x="1501" y="341"/>
                </a:lnTo>
                <a:lnTo>
                  <a:pt x="1570" y="257"/>
                </a:lnTo>
                <a:lnTo>
                  <a:pt x="1694" y="169"/>
                </a:lnTo>
                <a:lnTo>
                  <a:pt x="1807" y="158"/>
                </a:lnTo>
                <a:lnTo>
                  <a:pt x="1893" y="150"/>
                </a:lnTo>
                <a:lnTo>
                  <a:pt x="2112" y="199"/>
                </a:lnTo>
                <a:lnTo>
                  <a:pt x="2249" y="344"/>
                </a:lnTo>
                <a:lnTo>
                  <a:pt x="2249" y="605"/>
                </a:lnTo>
                <a:lnTo>
                  <a:pt x="2247" y="933"/>
                </a:lnTo>
                <a:lnTo>
                  <a:pt x="2245" y="1065"/>
                </a:lnTo>
                <a:lnTo>
                  <a:pt x="2178" y="1283"/>
                </a:lnTo>
                <a:lnTo>
                  <a:pt x="2074" y="1432"/>
                </a:lnTo>
                <a:lnTo>
                  <a:pt x="2036" y="1427"/>
                </a:lnTo>
                <a:lnTo>
                  <a:pt x="2004" y="1425"/>
                </a:lnTo>
                <a:lnTo>
                  <a:pt x="1898" y="1294"/>
                </a:lnTo>
                <a:lnTo>
                  <a:pt x="1809" y="1430"/>
                </a:lnTo>
                <a:lnTo>
                  <a:pt x="1661" y="1427"/>
                </a:lnTo>
                <a:lnTo>
                  <a:pt x="1573" y="1306"/>
                </a:lnTo>
                <a:lnTo>
                  <a:pt x="1576" y="1955"/>
                </a:lnTo>
                <a:close/>
                <a:moveTo>
                  <a:pt x="1576" y="1191"/>
                </a:moveTo>
                <a:lnTo>
                  <a:pt x="1667" y="1057"/>
                </a:lnTo>
                <a:lnTo>
                  <a:pt x="1734" y="1054"/>
                </a:lnTo>
                <a:lnTo>
                  <a:pt x="1800" y="1054"/>
                </a:lnTo>
                <a:lnTo>
                  <a:pt x="1879" y="1169"/>
                </a:lnTo>
                <a:lnTo>
                  <a:pt x="1848" y="1094"/>
                </a:lnTo>
                <a:lnTo>
                  <a:pt x="1820" y="990"/>
                </a:lnTo>
                <a:lnTo>
                  <a:pt x="1824" y="724"/>
                </a:lnTo>
                <a:lnTo>
                  <a:pt x="1862" y="654"/>
                </a:lnTo>
                <a:lnTo>
                  <a:pt x="1958" y="444"/>
                </a:lnTo>
                <a:lnTo>
                  <a:pt x="1898" y="503"/>
                </a:lnTo>
                <a:lnTo>
                  <a:pt x="1799" y="568"/>
                </a:lnTo>
                <a:lnTo>
                  <a:pt x="1627" y="564"/>
                </a:lnTo>
                <a:lnTo>
                  <a:pt x="1587" y="505"/>
                </a:lnTo>
                <a:lnTo>
                  <a:pt x="1515" y="416"/>
                </a:lnTo>
                <a:lnTo>
                  <a:pt x="1542" y="520"/>
                </a:lnTo>
                <a:lnTo>
                  <a:pt x="1576" y="677"/>
                </a:lnTo>
                <a:lnTo>
                  <a:pt x="1576" y="764"/>
                </a:lnTo>
                <a:lnTo>
                  <a:pt x="1576" y="1191"/>
                </a:lnTo>
                <a:close/>
                <a:moveTo>
                  <a:pt x="2828" y="2473"/>
                </a:moveTo>
                <a:lnTo>
                  <a:pt x="2868" y="2413"/>
                </a:lnTo>
                <a:lnTo>
                  <a:pt x="2889" y="2382"/>
                </a:lnTo>
                <a:lnTo>
                  <a:pt x="3027" y="2168"/>
                </a:lnTo>
                <a:lnTo>
                  <a:pt x="3112" y="2046"/>
                </a:lnTo>
                <a:lnTo>
                  <a:pt x="3159" y="2005"/>
                </a:lnTo>
                <a:lnTo>
                  <a:pt x="3283" y="1890"/>
                </a:lnTo>
                <a:lnTo>
                  <a:pt x="3124" y="1983"/>
                </a:lnTo>
                <a:lnTo>
                  <a:pt x="2921" y="2055"/>
                </a:lnTo>
                <a:lnTo>
                  <a:pt x="2777" y="2060"/>
                </a:lnTo>
                <a:lnTo>
                  <a:pt x="2560" y="2070"/>
                </a:lnTo>
                <a:lnTo>
                  <a:pt x="2348" y="1990"/>
                </a:lnTo>
                <a:lnTo>
                  <a:pt x="2199" y="1885"/>
                </a:lnTo>
                <a:lnTo>
                  <a:pt x="2201" y="1855"/>
                </a:lnTo>
                <a:lnTo>
                  <a:pt x="2201" y="1831"/>
                </a:lnTo>
                <a:lnTo>
                  <a:pt x="2346" y="1727"/>
                </a:lnTo>
                <a:lnTo>
                  <a:pt x="2546" y="1652"/>
                </a:lnTo>
                <a:lnTo>
                  <a:pt x="2783" y="1652"/>
                </a:lnTo>
                <a:lnTo>
                  <a:pt x="3082" y="1652"/>
                </a:lnTo>
                <a:lnTo>
                  <a:pt x="3367" y="1652"/>
                </a:lnTo>
                <a:lnTo>
                  <a:pt x="3528" y="1820"/>
                </a:lnTo>
                <a:lnTo>
                  <a:pt x="3524" y="1945"/>
                </a:lnTo>
                <a:lnTo>
                  <a:pt x="3519" y="2015"/>
                </a:lnTo>
                <a:lnTo>
                  <a:pt x="3346" y="2475"/>
                </a:lnTo>
                <a:lnTo>
                  <a:pt x="3074" y="2852"/>
                </a:lnTo>
                <a:lnTo>
                  <a:pt x="3180" y="2992"/>
                </a:lnTo>
                <a:lnTo>
                  <a:pt x="3302" y="3083"/>
                </a:lnTo>
                <a:lnTo>
                  <a:pt x="3463" y="3206"/>
                </a:lnTo>
                <a:lnTo>
                  <a:pt x="3540" y="3277"/>
                </a:lnTo>
                <a:lnTo>
                  <a:pt x="3701" y="3554"/>
                </a:lnTo>
                <a:lnTo>
                  <a:pt x="3659" y="3620"/>
                </a:lnTo>
                <a:lnTo>
                  <a:pt x="3337" y="3622"/>
                </a:lnTo>
                <a:lnTo>
                  <a:pt x="3138" y="3519"/>
                </a:lnTo>
                <a:lnTo>
                  <a:pt x="2893" y="3335"/>
                </a:lnTo>
                <a:lnTo>
                  <a:pt x="2864" y="3294"/>
                </a:lnTo>
                <a:lnTo>
                  <a:pt x="2777" y="3188"/>
                </a:lnTo>
                <a:lnTo>
                  <a:pt x="2481" y="3454"/>
                </a:lnTo>
                <a:lnTo>
                  <a:pt x="2184" y="3596"/>
                </a:lnTo>
                <a:lnTo>
                  <a:pt x="1837" y="3592"/>
                </a:lnTo>
                <a:lnTo>
                  <a:pt x="1800" y="3527"/>
                </a:lnTo>
                <a:lnTo>
                  <a:pt x="1934" y="3290"/>
                </a:lnTo>
                <a:lnTo>
                  <a:pt x="2096" y="3153"/>
                </a:lnTo>
                <a:lnTo>
                  <a:pt x="2396" y="2936"/>
                </a:lnTo>
                <a:lnTo>
                  <a:pt x="2515" y="2809"/>
                </a:lnTo>
                <a:lnTo>
                  <a:pt x="2481" y="2755"/>
                </a:lnTo>
                <a:lnTo>
                  <a:pt x="2406" y="2606"/>
                </a:lnTo>
                <a:lnTo>
                  <a:pt x="2373" y="2408"/>
                </a:lnTo>
                <a:lnTo>
                  <a:pt x="2385" y="2123"/>
                </a:lnTo>
                <a:lnTo>
                  <a:pt x="2462" y="2109"/>
                </a:lnTo>
                <a:lnTo>
                  <a:pt x="2627" y="2202"/>
                </a:lnTo>
                <a:lnTo>
                  <a:pt x="2720" y="2295"/>
                </a:lnTo>
                <a:lnTo>
                  <a:pt x="2828" y="2473"/>
                </a:lnTo>
                <a:close/>
                <a:moveTo>
                  <a:pt x="3050" y="1410"/>
                </a:moveTo>
                <a:lnTo>
                  <a:pt x="2917" y="1485"/>
                </a:lnTo>
                <a:lnTo>
                  <a:pt x="2783" y="1488"/>
                </a:lnTo>
                <a:lnTo>
                  <a:pt x="2625" y="1496"/>
                </a:lnTo>
                <a:lnTo>
                  <a:pt x="2508" y="1443"/>
                </a:lnTo>
                <a:lnTo>
                  <a:pt x="2324" y="1329"/>
                </a:lnTo>
                <a:lnTo>
                  <a:pt x="2310" y="1268"/>
                </a:lnTo>
                <a:lnTo>
                  <a:pt x="2413" y="1191"/>
                </a:lnTo>
                <a:lnTo>
                  <a:pt x="2562" y="1080"/>
                </a:lnTo>
                <a:lnTo>
                  <a:pt x="2714" y="1069"/>
                </a:lnTo>
                <a:lnTo>
                  <a:pt x="2893" y="1057"/>
                </a:lnTo>
                <a:lnTo>
                  <a:pt x="2968" y="1122"/>
                </a:lnTo>
                <a:lnTo>
                  <a:pt x="3120" y="1238"/>
                </a:lnTo>
                <a:lnTo>
                  <a:pt x="3089" y="1140"/>
                </a:lnTo>
                <a:lnTo>
                  <a:pt x="3055" y="964"/>
                </a:lnTo>
                <a:lnTo>
                  <a:pt x="3092" y="662"/>
                </a:lnTo>
                <a:lnTo>
                  <a:pt x="3139" y="594"/>
                </a:lnTo>
                <a:lnTo>
                  <a:pt x="3252" y="408"/>
                </a:lnTo>
                <a:lnTo>
                  <a:pt x="3171" y="491"/>
                </a:lnTo>
                <a:lnTo>
                  <a:pt x="3041" y="571"/>
                </a:lnTo>
                <a:lnTo>
                  <a:pt x="2901" y="586"/>
                </a:lnTo>
                <a:lnTo>
                  <a:pt x="2720" y="605"/>
                </a:lnTo>
                <a:lnTo>
                  <a:pt x="2460" y="505"/>
                </a:lnTo>
                <a:lnTo>
                  <a:pt x="2350" y="416"/>
                </a:lnTo>
                <a:lnTo>
                  <a:pt x="2354" y="382"/>
                </a:lnTo>
                <a:lnTo>
                  <a:pt x="2354" y="359"/>
                </a:lnTo>
                <a:lnTo>
                  <a:pt x="2570" y="160"/>
                </a:lnTo>
                <a:lnTo>
                  <a:pt x="2915" y="164"/>
                </a:lnTo>
                <a:lnTo>
                  <a:pt x="3049" y="166"/>
                </a:lnTo>
                <a:lnTo>
                  <a:pt x="3180" y="168"/>
                </a:lnTo>
                <a:lnTo>
                  <a:pt x="3360" y="206"/>
                </a:lnTo>
                <a:lnTo>
                  <a:pt x="3477" y="333"/>
                </a:lnTo>
                <a:lnTo>
                  <a:pt x="3498" y="511"/>
                </a:lnTo>
                <a:lnTo>
                  <a:pt x="3498" y="627"/>
                </a:lnTo>
                <a:lnTo>
                  <a:pt x="3496" y="986"/>
                </a:lnTo>
                <a:lnTo>
                  <a:pt x="3494" y="1089"/>
                </a:lnTo>
                <a:lnTo>
                  <a:pt x="3433" y="1327"/>
                </a:lnTo>
                <a:lnTo>
                  <a:pt x="3301" y="1500"/>
                </a:lnTo>
                <a:lnTo>
                  <a:pt x="3297" y="1488"/>
                </a:lnTo>
                <a:lnTo>
                  <a:pt x="3139" y="1319"/>
                </a:lnTo>
                <a:lnTo>
                  <a:pt x="3050" y="1410"/>
                </a:lnTo>
                <a:close/>
                <a:moveTo>
                  <a:pt x="756" y="1116"/>
                </a:moveTo>
                <a:lnTo>
                  <a:pt x="789" y="1210"/>
                </a:lnTo>
                <a:lnTo>
                  <a:pt x="845" y="1374"/>
                </a:lnTo>
                <a:lnTo>
                  <a:pt x="875" y="1558"/>
                </a:lnTo>
                <a:lnTo>
                  <a:pt x="875" y="1666"/>
                </a:lnTo>
                <a:lnTo>
                  <a:pt x="875" y="3145"/>
                </a:lnTo>
                <a:lnTo>
                  <a:pt x="875" y="3296"/>
                </a:lnTo>
                <a:lnTo>
                  <a:pt x="798" y="3507"/>
                </a:lnTo>
                <a:lnTo>
                  <a:pt x="675" y="3661"/>
                </a:lnTo>
                <a:lnTo>
                  <a:pt x="650" y="3659"/>
                </a:lnTo>
                <a:lnTo>
                  <a:pt x="621" y="3659"/>
                </a:lnTo>
                <a:lnTo>
                  <a:pt x="498" y="3475"/>
                </a:lnTo>
                <a:lnTo>
                  <a:pt x="439" y="3288"/>
                </a:lnTo>
                <a:lnTo>
                  <a:pt x="439" y="3137"/>
                </a:lnTo>
                <a:lnTo>
                  <a:pt x="439" y="1883"/>
                </a:lnTo>
                <a:lnTo>
                  <a:pt x="439" y="1768"/>
                </a:lnTo>
                <a:lnTo>
                  <a:pt x="472" y="1693"/>
                </a:lnTo>
                <a:lnTo>
                  <a:pt x="559" y="1474"/>
                </a:lnTo>
                <a:lnTo>
                  <a:pt x="453" y="1698"/>
                </a:lnTo>
                <a:lnTo>
                  <a:pt x="323" y="1834"/>
                </a:lnTo>
                <a:lnTo>
                  <a:pt x="73" y="1971"/>
                </a:lnTo>
                <a:lnTo>
                  <a:pt x="15" y="1932"/>
                </a:lnTo>
                <a:lnTo>
                  <a:pt x="0" y="1623"/>
                </a:lnTo>
                <a:lnTo>
                  <a:pt x="96" y="1360"/>
                </a:lnTo>
                <a:lnTo>
                  <a:pt x="152" y="1213"/>
                </a:lnTo>
                <a:lnTo>
                  <a:pt x="481" y="493"/>
                </a:lnTo>
                <a:lnTo>
                  <a:pt x="695" y="151"/>
                </a:lnTo>
                <a:lnTo>
                  <a:pt x="941" y="0"/>
                </a:lnTo>
                <a:lnTo>
                  <a:pt x="997" y="20"/>
                </a:lnTo>
                <a:lnTo>
                  <a:pt x="1004" y="333"/>
                </a:lnTo>
                <a:lnTo>
                  <a:pt x="1000" y="382"/>
                </a:lnTo>
                <a:lnTo>
                  <a:pt x="989" y="501"/>
                </a:lnTo>
                <a:lnTo>
                  <a:pt x="968" y="565"/>
                </a:lnTo>
                <a:lnTo>
                  <a:pt x="944" y="632"/>
                </a:lnTo>
                <a:lnTo>
                  <a:pt x="918" y="703"/>
                </a:lnTo>
                <a:lnTo>
                  <a:pt x="890" y="778"/>
                </a:lnTo>
                <a:lnTo>
                  <a:pt x="860" y="857"/>
                </a:lnTo>
                <a:lnTo>
                  <a:pt x="828" y="939"/>
                </a:lnTo>
                <a:lnTo>
                  <a:pt x="793" y="1026"/>
                </a:lnTo>
                <a:lnTo>
                  <a:pt x="756" y="1116"/>
                </a:lnTo>
                <a:close/>
              </a:path>
            </a:pathLst>
          </a:custGeom>
          <a:solidFill>
            <a:srgbClr val="41f141"/>
          </a:solidFill>
          <a:ln w="0">
            <a:noFill/>
          </a:ln>
          <a:effectLst>
            <a:outerShdw dist="17819" dir="2700000" blurRad="0" rotWithShape="0">
              <a:srgbClr val="269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81680" y="2438280"/>
            <a:ext cx="1422360" cy="1481400"/>
          </a:xfrm>
          <a:custGeom>
            <a:avLst/>
            <a:gdLst/>
            <a:ahLst/>
            <a:rect l="l" t="t" r="r" b="b"/>
            <a:pathLst>
              <a:path w="3585" h="3734">
                <a:moveTo>
                  <a:pt x="932" y="1656"/>
                </a:moveTo>
                <a:lnTo>
                  <a:pt x="928" y="1598"/>
                </a:lnTo>
                <a:lnTo>
                  <a:pt x="932" y="1484"/>
                </a:lnTo>
                <a:lnTo>
                  <a:pt x="993" y="1257"/>
                </a:lnTo>
                <a:lnTo>
                  <a:pt x="1030" y="1222"/>
                </a:lnTo>
                <a:lnTo>
                  <a:pt x="1142" y="1102"/>
                </a:lnTo>
                <a:lnTo>
                  <a:pt x="936" y="1084"/>
                </a:lnTo>
                <a:lnTo>
                  <a:pt x="904" y="1037"/>
                </a:lnTo>
                <a:lnTo>
                  <a:pt x="825" y="942"/>
                </a:lnTo>
                <a:lnTo>
                  <a:pt x="762" y="1107"/>
                </a:lnTo>
                <a:lnTo>
                  <a:pt x="627" y="1382"/>
                </a:lnTo>
                <a:lnTo>
                  <a:pt x="402" y="1551"/>
                </a:lnTo>
                <a:lnTo>
                  <a:pt x="199" y="1593"/>
                </a:lnTo>
                <a:lnTo>
                  <a:pt x="148" y="1528"/>
                </a:lnTo>
                <a:lnTo>
                  <a:pt x="142" y="1392"/>
                </a:lnTo>
                <a:lnTo>
                  <a:pt x="160" y="1309"/>
                </a:lnTo>
                <a:lnTo>
                  <a:pt x="179" y="1213"/>
                </a:lnTo>
                <a:lnTo>
                  <a:pt x="225" y="1115"/>
                </a:lnTo>
                <a:lnTo>
                  <a:pt x="370" y="852"/>
                </a:lnTo>
                <a:lnTo>
                  <a:pt x="415" y="761"/>
                </a:lnTo>
                <a:lnTo>
                  <a:pt x="451" y="650"/>
                </a:lnTo>
                <a:lnTo>
                  <a:pt x="519" y="404"/>
                </a:lnTo>
                <a:lnTo>
                  <a:pt x="553" y="276"/>
                </a:lnTo>
                <a:lnTo>
                  <a:pt x="657" y="113"/>
                </a:lnTo>
                <a:lnTo>
                  <a:pt x="855" y="0"/>
                </a:lnTo>
                <a:lnTo>
                  <a:pt x="958" y="38"/>
                </a:lnTo>
                <a:lnTo>
                  <a:pt x="1019" y="255"/>
                </a:lnTo>
                <a:lnTo>
                  <a:pt x="1011" y="356"/>
                </a:lnTo>
                <a:lnTo>
                  <a:pt x="999" y="479"/>
                </a:lnTo>
                <a:lnTo>
                  <a:pt x="969" y="547"/>
                </a:lnTo>
                <a:lnTo>
                  <a:pt x="857" y="830"/>
                </a:lnTo>
                <a:lnTo>
                  <a:pt x="1023" y="712"/>
                </a:lnTo>
                <a:lnTo>
                  <a:pt x="1175" y="673"/>
                </a:lnTo>
                <a:lnTo>
                  <a:pt x="1395" y="657"/>
                </a:lnTo>
                <a:lnTo>
                  <a:pt x="1495" y="664"/>
                </a:lnTo>
                <a:lnTo>
                  <a:pt x="1765" y="690"/>
                </a:lnTo>
                <a:lnTo>
                  <a:pt x="1938" y="842"/>
                </a:lnTo>
                <a:lnTo>
                  <a:pt x="1940" y="930"/>
                </a:lnTo>
                <a:lnTo>
                  <a:pt x="1862" y="990"/>
                </a:lnTo>
                <a:lnTo>
                  <a:pt x="1710" y="1102"/>
                </a:lnTo>
                <a:lnTo>
                  <a:pt x="1490" y="1102"/>
                </a:lnTo>
                <a:lnTo>
                  <a:pt x="1243" y="1102"/>
                </a:lnTo>
                <a:lnTo>
                  <a:pt x="1399" y="1315"/>
                </a:lnTo>
                <a:lnTo>
                  <a:pt x="1391" y="1430"/>
                </a:lnTo>
                <a:lnTo>
                  <a:pt x="1389" y="1656"/>
                </a:lnTo>
                <a:lnTo>
                  <a:pt x="1523" y="1656"/>
                </a:lnTo>
                <a:lnTo>
                  <a:pt x="1602" y="1656"/>
                </a:lnTo>
                <a:lnTo>
                  <a:pt x="1803" y="1712"/>
                </a:lnTo>
                <a:lnTo>
                  <a:pt x="1972" y="1828"/>
                </a:lnTo>
                <a:lnTo>
                  <a:pt x="1974" y="1922"/>
                </a:lnTo>
                <a:lnTo>
                  <a:pt x="1901" y="1981"/>
                </a:lnTo>
                <a:lnTo>
                  <a:pt x="1826" y="2040"/>
                </a:lnTo>
                <a:lnTo>
                  <a:pt x="1591" y="2106"/>
                </a:lnTo>
                <a:lnTo>
                  <a:pt x="1515" y="2102"/>
                </a:lnTo>
                <a:lnTo>
                  <a:pt x="1365" y="2098"/>
                </a:lnTo>
                <a:lnTo>
                  <a:pt x="1345" y="2286"/>
                </a:lnTo>
                <a:lnTo>
                  <a:pt x="1337" y="2320"/>
                </a:lnTo>
                <a:lnTo>
                  <a:pt x="1290" y="2541"/>
                </a:lnTo>
                <a:lnTo>
                  <a:pt x="1434" y="2561"/>
                </a:lnTo>
                <a:lnTo>
                  <a:pt x="1681" y="2656"/>
                </a:lnTo>
                <a:lnTo>
                  <a:pt x="1893" y="2987"/>
                </a:lnTo>
                <a:lnTo>
                  <a:pt x="1977" y="3204"/>
                </a:lnTo>
                <a:lnTo>
                  <a:pt x="1985" y="3460"/>
                </a:lnTo>
                <a:lnTo>
                  <a:pt x="1899" y="3512"/>
                </a:lnTo>
                <a:lnTo>
                  <a:pt x="1704" y="3465"/>
                </a:lnTo>
                <a:lnTo>
                  <a:pt x="1562" y="3353"/>
                </a:lnTo>
                <a:lnTo>
                  <a:pt x="1285" y="2958"/>
                </a:lnTo>
                <a:lnTo>
                  <a:pt x="1282" y="2906"/>
                </a:lnTo>
                <a:lnTo>
                  <a:pt x="1249" y="2687"/>
                </a:lnTo>
                <a:lnTo>
                  <a:pt x="1172" y="2941"/>
                </a:lnTo>
                <a:lnTo>
                  <a:pt x="1046" y="3172"/>
                </a:lnTo>
                <a:lnTo>
                  <a:pt x="739" y="3522"/>
                </a:lnTo>
                <a:lnTo>
                  <a:pt x="542" y="3669"/>
                </a:lnTo>
                <a:lnTo>
                  <a:pt x="361" y="3734"/>
                </a:lnTo>
                <a:lnTo>
                  <a:pt x="160" y="3704"/>
                </a:lnTo>
                <a:lnTo>
                  <a:pt x="120" y="3639"/>
                </a:lnTo>
                <a:lnTo>
                  <a:pt x="161" y="3456"/>
                </a:lnTo>
                <a:lnTo>
                  <a:pt x="244" y="3310"/>
                </a:lnTo>
                <a:lnTo>
                  <a:pt x="519" y="3060"/>
                </a:lnTo>
                <a:lnTo>
                  <a:pt x="727" y="2839"/>
                </a:lnTo>
                <a:lnTo>
                  <a:pt x="861" y="2346"/>
                </a:lnTo>
                <a:lnTo>
                  <a:pt x="877" y="2222"/>
                </a:lnTo>
                <a:lnTo>
                  <a:pt x="893" y="2098"/>
                </a:lnTo>
                <a:lnTo>
                  <a:pt x="471" y="2102"/>
                </a:lnTo>
                <a:lnTo>
                  <a:pt x="202" y="2106"/>
                </a:lnTo>
                <a:lnTo>
                  <a:pt x="0" y="1922"/>
                </a:lnTo>
                <a:lnTo>
                  <a:pt x="0" y="1881"/>
                </a:lnTo>
                <a:lnTo>
                  <a:pt x="0" y="1843"/>
                </a:lnTo>
                <a:lnTo>
                  <a:pt x="228" y="1656"/>
                </a:lnTo>
                <a:lnTo>
                  <a:pt x="471" y="1656"/>
                </a:lnTo>
                <a:lnTo>
                  <a:pt x="932" y="1656"/>
                </a:lnTo>
                <a:close/>
                <a:moveTo>
                  <a:pt x="3585" y="1096"/>
                </a:moveTo>
                <a:lnTo>
                  <a:pt x="3585" y="2973"/>
                </a:lnTo>
                <a:lnTo>
                  <a:pt x="3585" y="3046"/>
                </a:lnTo>
                <a:lnTo>
                  <a:pt x="3532" y="3274"/>
                </a:lnTo>
                <a:lnTo>
                  <a:pt x="3413" y="3446"/>
                </a:lnTo>
                <a:lnTo>
                  <a:pt x="3370" y="3444"/>
                </a:lnTo>
                <a:lnTo>
                  <a:pt x="3299" y="3444"/>
                </a:lnTo>
                <a:lnTo>
                  <a:pt x="3205" y="3257"/>
                </a:lnTo>
                <a:lnTo>
                  <a:pt x="3135" y="3318"/>
                </a:lnTo>
                <a:lnTo>
                  <a:pt x="2978" y="3426"/>
                </a:lnTo>
                <a:lnTo>
                  <a:pt x="2614" y="3454"/>
                </a:lnTo>
                <a:lnTo>
                  <a:pt x="2539" y="3357"/>
                </a:lnTo>
                <a:lnTo>
                  <a:pt x="2441" y="3251"/>
                </a:lnTo>
                <a:lnTo>
                  <a:pt x="2360" y="3438"/>
                </a:lnTo>
                <a:lnTo>
                  <a:pt x="2273" y="3437"/>
                </a:lnTo>
                <a:lnTo>
                  <a:pt x="2218" y="3437"/>
                </a:lnTo>
                <a:lnTo>
                  <a:pt x="2096" y="3234"/>
                </a:lnTo>
                <a:lnTo>
                  <a:pt x="2049" y="3038"/>
                </a:lnTo>
                <a:lnTo>
                  <a:pt x="2049" y="2973"/>
                </a:lnTo>
                <a:lnTo>
                  <a:pt x="2049" y="1096"/>
                </a:lnTo>
                <a:lnTo>
                  <a:pt x="2049" y="1007"/>
                </a:lnTo>
                <a:lnTo>
                  <a:pt x="2091" y="787"/>
                </a:lnTo>
                <a:lnTo>
                  <a:pt x="2216" y="559"/>
                </a:lnTo>
                <a:lnTo>
                  <a:pt x="2281" y="570"/>
                </a:lnTo>
                <a:lnTo>
                  <a:pt x="2341" y="580"/>
                </a:lnTo>
                <a:lnTo>
                  <a:pt x="2433" y="751"/>
                </a:lnTo>
                <a:lnTo>
                  <a:pt x="2567" y="636"/>
                </a:lnTo>
                <a:lnTo>
                  <a:pt x="2724" y="572"/>
                </a:lnTo>
                <a:lnTo>
                  <a:pt x="2847" y="564"/>
                </a:lnTo>
                <a:lnTo>
                  <a:pt x="2939" y="559"/>
                </a:lnTo>
                <a:lnTo>
                  <a:pt x="3356" y="592"/>
                </a:lnTo>
                <a:lnTo>
                  <a:pt x="3550" y="743"/>
                </a:lnTo>
                <a:lnTo>
                  <a:pt x="3585" y="952"/>
                </a:lnTo>
                <a:lnTo>
                  <a:pt x="3585" y="1096"/>
                </a:lnTo>
                <a:close/>
                <a:moveTo>
                  <a:pt x="3185" y="927"/>
                </a:moveTo>
                <a:lnTo>
                  <a:pt x="2997" y="1031"/>
                </a:lnTo>
                <a:lnTo>
                  <a:pt x="2780" y="1009"/>
                </a:lnTo>
                <a:lnTo>
                  <a:pt x="2642" y="998"/>
                </a:lnTo>
                <a:lnTo>
                  <a:pt x="2606" y="965"/>
                </a:lnTo>
                <a:lnTo>
                  <a:pt x="2460" y="858"/>
                </a:lnTo>
                <a:lnTo>
                  <a:pt x="2484" y="928"/>
                </a:lnTo>
                <a:lnTo>
                  <a:pt x="2514" y="1045"/>
                </a:lnTo>
                <a:lnTo>
                  <a:pt x="2514" y="1149"/>
                </a:lnTo>
                <a:lnTo>
                  <a:pt x="2514" y="2847"/>
                </a:lnTo>
                <a:lnTo>
                  <a:pt x="2514" y="3008"/>
                </a:lnTo>
                <a:lnTo>
                  <a:pt x="2494" y="3060"/>
                </a:lnTo>
                <a:lnTo>
                  <a:pt x="2460" y="3157"/>
                </a:lnTo>
                <a:lnTo>
                  <a:pt x="2543" y="3087"/>
                </a:lnTo>
                <a:lnTo>
                  <a:pt x="2693" y="3005"/>
                </a:lnTo>
                <a:lnTo>
                  <a:pt x="3010" y="3010"/>
                </a:lnTo>
                <a:lnTo>
                  <a:pt x="3079" y="3073"/>
                </a:lnTo>
                <a:lnTo>
                  <a:pt x="3179" y="3157"/>
                </a:lnTo>
                <a:lnTo>
                  <a:pt x="3154" y="3081"/>
                </a:lnTo>
                <a:lnTo>
                  <a:pt x="3132" y="2973"/>
                </a:lnTo>
                <a:lnTo>
                  <a:pt x="3132" y="2833"/>
                </a:lnTo>
                <a:lnTo>
                  <a:pt x="3132" y="1270"/>
                </a:lnTo>
                <a:lnTo>
                  <a:pt x="3132" y="1070"/>
                </a:lnTo>
                <a:lnTo>
                  <a:pt x="3165" y="1018"/>
                </a:lnTo>
                <a:lnTo>
                  <a:pt x="3286" y="790"/>
                </a:lnTo>
                <a:lnTo>
                  <a:pt x="3185" y="927"/>
                </a:lnTo>
                <a:close/>
              </a:path>
            </a:pathLst>
          </a:custGeom>
          <a:solidFill>
            <a:srgbClr val="9a7f32"/>
          </a:solidFill>
          <a:ln w="0">
            <a:noFill/>
          </a:ln>
          <a:effectLst>
            <a:outerShdw dist="17819" dir="2700000" blurRad="0" rotWithShape="0">
              <a:srgbClr val="5c4b1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954680" y="3276720"/>
            <a:ext cx="1095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0" spc="-1" strike="noStrike">
                <a:solidFill>
                  <a:srgbClr val="ff0066"/>
                </a:solidFill>
                <a:latin typeface="Times New Roman"/>
                <a:ea typeface="文鼎勘亭流"/>
              </a:rPr>
              <a:t>須</a:t>
            </a:r>
            <a:endParaRPr b="0" lang="en-US" sz="1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cat1" descr=""/>
          <p:cNvPicPr/>
          <p:nvPr/>
        </p:nvPicPr>
        <p:blipFill>
          <a:blip r:embed="rId1"/>
          <a:stretch/>
        </p:blipFill>
        <p:spPr>
          <a:xfrm>
            <a:off x="1143000" y="53352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1236600" y="5342040"/>
            <a:ext cx="801720" cy="792000"/>
          </a:xfrm>
          <a:custGeom>
            <a:avLst/>
            <a:gdLst/>
            <a:ahLst/>
            <a:rect l="l" t="t" r="r" b="b"/>
            <a:pathLst>
              <a:path w="4046" h="3994">
                <a:moveTo>
                  <a:pt x="766" y="787"/>
                </a:moveTo>
                <a:lnTo>
                  <a:pt x="763" y="819"/>
                </a:lnTo>
                <a:lnTo>
                  <a:pt x="759" y="847"/>
                </a:lnTo>
                <a:lnTo>
                  <a:pt x="757" y="860"/>
                </a:lnTo>
                <a:lnTo>
                  <a:pt x="753" y="872"/>
                </a:lnTo>
                <a:lnTo>
                  <a:pt x="750" y="882"/>
                </a:lnTo>
                <a:lnTo>
                  <a:pt x="746" y="892"/>
                </a:lnTo>
                <a:lnTo>
                  <a:pt x="742" y="900"/>
                </a:lnTo>
                <a:lnTo>
                  <a:pt x="737" y="908"/>
                </a:lnTo>
                <a:lnTo>
                  <a:pt x="733" y="915"/>
                </a:lnTo>
                <a:lnTo>
                  <a:pt x="728" y="922"/>
                </a:lnTo>
                <a:lnTo>
                  <a:pt x="723" y="926"/>
                </a:lnTo>
                <a:lnTo>
                  <a:pt x="717" y="931"/>
                </a:lnTo>
                <a:lnTo>
                  <a:pt x="710" y="933"/>
                </a:lnTo>
                <a:lnTo>
                  <a:pt x="704" y="935"/>
                </a:lnTo>
                <a:lnTo>
                  <a:pt x="681" y="943"/>
                </a:lnTo>
                <a:lnTo>
                  <a:pt x="658" y="949"/>
                </a:lnTo>
                <a:lnTo>
                  <a:pt x="637" y="953"/>
                </a:lnTo>
                <a:lnTo>
                  <a:pt x="617" y="957"/>
                </a:lnTo>
                <a:lnTo>
                  <a:pt x="596" y="959"/>
                </a:lnTo>
                <a:lnTo>
                  <a:pt x="577" y="959"/>
                </a:lnTo>
                <a:lnTo>
                  <a:pt x="558" y="958"/>
                </a:lnTo>
                <a:lnTo>
                  <a:pt x="540" y="956"/>
                </a:lnTo>
                <a:lnTo>
                  <a:pt x="523" y="951"/>
                </a:lnTo>
                <a:lnTo>
                  <a:pt x="506" y="945"/>
                </a:lnTo>
                <a:lnTo>
                  <a:pt x="490" y="939"/>
                </a:lnTo>
                <a:lnTo>
                  <a:pt x="475" y="930"/>
                </a:lnTo>
                <a:lnTo>
                  <a:pt x="460" y="921"/>
                </a:lnTo>
                <a:lnTo>
                  <a:pt x="446" y="909"/>
                </a:lnTo>
                <a:lnTo>
                  <a:pt x="433" y="896"/>
                </a:lnTo>
                <a:lnTo>
                  <a:pt x="420" y="882"/>
                </a:lnTo>
                <a:lnTo>
                  <a:pt x="378" y="833"/>
                </a:lnTo>
                <a:lnTo>
                  <a:pt x="336" y="782"/>
                </a:lnTo>
                <a:lnTo>
                  <a:pt x="293" y="726"/>
                </a:lnTo>
                <a:lnTo>
                  <a:pt x="250" y="669"/>
                </a:lnTo>
                <a:lnTo>
                  <a:pt x="207" y="608"/>
                </a:lnTo>
                <a:lnTo>
                  <a:pt x="164" y="545"/>
                </a:lnTo>
                <a:lnTo>
                  <a:pt x="122" y="478"/>
                </a:lnTo>
                <a:lnTo>
                  <a:pt x="79" y="408"/>
                </a:lnTo>
                <a:lnTo>
                  <a:pt x="79" y="377"/>
                </a:lnTo>
                <a:lnTo>
                  <a:pt x="81" y="349"/>
                </a:lnTo>
                <a:lnTo>
                  <a:pt x="84" y="321"/>
                </a:lnTo>
                <a:lnTo>
                  <a:pt x="89" y="295"/>
                </a:lnTo>
                <a:lnTo>
                  <a:pt x="94" y="270"/>
                </a:lnTo>
                <a:lnTo>
                  <a:pt x="101" y="245"/>
                </a:lnTo>
                <a:lnTo>
                  <a:pt x="110" y="223"/>
                </a:lnTo>
                <a:lnTo>
                  <a:pt x="119" y="202"/>
                </a:lnTo>
                <a:lnTo>
                  <a:pt x="138" y="194"/>
                </a:lnTo>
                <a:lnTo>
                  <a:pt x="158" y="188"/>
                </a:lnTo>
                <a:lnTo>
                  <a:pt x="176" y="183"/>
                </a:lnTo>
                <a:lnTo>
                  <a:pt x="194" y="180"/>
                </a:lnTo>
                <a:lnTo>
                  <a:pt x="212" y="176"/>
                </a:lnTo>
                <a:lnTo>
                  <a:pt x="230" y="175"/>
                </a:lnTo>
                <a:lnTo>
                  <a:pt x="247" y="175"/>
                </a:lnTo>
                <a:lnTo>
                  <a:pt x="264" y="176"/>
                </a:lnTo>
                <a:lnTo>
                  <a:pt x="281" y="179"/>
                </a:lnTo>
                <a:lnTo>
                  <a:pt x="298" y="182"/>
                </a:lnTo>
                <a:lnTo>
                  <a:pt x="313" y="188"/>
                </a:lnTo>
                <a:lnTo>
                  <a:pt x="329" y="193"/>
                </a:lnTo>
                <a:lnTo>
                  <a:pt x="345" y="201"/>
                </a:lnTo>
                <a:lnTo>
                  <a:pt x="361" y="209"/>
                </a:lnTo>
                <a:lnTo>
                  <a:pt x="376" y="219"/>
                </a:lnTo>
                <a:lnTo>
                  <a:pt x="391" y="231"/>
                </a:lnTo>
                <a:lnTo>
                  <a:pt x="383" y="215"/>
                </a:lnTo>
                <a:lnTo>
                  <a:pt x="766" y="787"/>
                </a:lnTo>
                <a:close/>
                <a:moveTo>
                  <a:pt x="231" y="1405"/>
                </a:moveTo>
                <a:lnTo>
                  <a:pt x="264" y="1401"/>
                </a:lnTo>
                <a:lnTo>
                  <a:pt x="296" y="1398"/>
                </a:lnTo>
                <a:lnTo>
                  <a:pt x="331" y="1396"/>
                </a:lnTo>
                <a:lnTo>
                  <a:pt x="365" y="1395"/>
                </a:lnTo>
                <a:lnTo>
                  <a:pt x="401" y="1395"/>
                </a:lnTo>
                <a:lnTo>
                  <a:pt x="437" y="1396"/>
                </a:lnTo>
                <a:lnTo>
                  <a:pt x="473" y="1398"/>
                </a:lnTo>
                <a:lnTo>
                  <a:pt x="512" y="1402"/>
                </a:lnTo>
                <a:lnTo>
                  <a:pt x="550" y="1406"/>
                </a:lnTo>
                <a:lnTo>
                  <a:pt x="589" y="1412"/>
                </a:lnTo>
                <a:lnTo>
                  <a:pt x="628" y="1419"/>
                </a:lnTo>
                <a:lnTo>
                  <a:pt x="669" y="1425"/>
                </a:lnTo>
                <a:lnTo>
                  <a:pt x="709" y="1434"/>
                </a:lnTo>
                <a:lnTo>
                  <a:pt x="751" y="1445"/>
                </a:lnTo>
                <a:lnTo>
                  <a:pt x="793" y="1455"/>
                </a:lnTo>
                <a:lnTo>
                  <a:pt x="836" y="1467"/>
                </a:lnTo>
                <a:lnTo>
                  <a:pt x="850" y="1486"/>
                </a:lnTo>
                <a:lnTo>
                  <a:pt x="864" y="1506"/>
                </a:lnTo>
                <a:lnTo>
                  <a:pt x="875" y="1524"/>
                </a:lnTo>
                <a:lnTo>
                  <a:pt x="885" y="1542"/>
                </a:lnTo>
                <a:lnTo>
                  <a:pt x="893" y="1560"/>
                </a:lnTo>
                <a:lnTo>
                  <a:pt x="901" y="1577"/>
                </a:lnTo>
                <a:lnTo>
                  <a:pt x="906" y="1595"/>
                </a:lnTo>
                <a:lnTo>
                  <a:pt x="910" y="1611"/>
                </a:lnTo>
                <a:lnTo>
                  <a:pt x="906" y="1624"/>
                </a:lnTo>
                <a:lnTo>
                  <a:pt x="900" y="1638"/>
                </a:lnTo>
                <a:lnTo>
                  <a:pt x="893" y="1650"/>
                </a:lnTo>
                <a:lnTo>
                  <a:pt x="885" y="1663"/>
                </a:lnTo>
                <a:lnTo>
                  <a:pt x="875" y="1675"/>
                </a:lnTo>
                <a:lnTo>
                  <a:pt x="866" y="1686"/>
                </a:lnTo>
                <a:lnTo>
                  <a:pt x="855" y="1698"/>
                </a:lnTo>
                <a:lnTo>
                  <a:pt x="842" y="1708"/>
                </a:lnTo>
                <a:lnTo>
                  <a:pt x="829" y="1718"/>
                </a:lnTo>
                <a:lnTo>
                  <a:pt x="814" y="1728"/>
                </a:lnTo>
                <a:lnTo>
                  <a:pt x="798" y="1737"/>
                </a:lnTo>
                <a:lnTo>
                  <a:pt x="781" y="1745"/>
                </a:lnTo>
                <a:lnTo>
                  <a:pt x="763" y="1754"/>
                </a:lnTo>
                <a:lnTo>
                  <a:pt x="745" y="1762"/>
                </a:lnTo>
                <a:lnTo>
                  <a:pt x="725" y="1769"/>
                </a:lnTo>
                <a:lnTo>
                  <a:pt x="704" y="1775"/>
                </a:lnTo>
                <a:lnTo>
                  <a:pt x="638" y="1781"/>
                </a:lnTo>
                <a:lnTo>
                  <a:pt x="570" y="1784"/>
                </a:lnTo>
                <a:lnTo>
                  <a:pt x="501" y="1786"/>
                </a:lnTo>
                <a:lnTo>
                  <a:pt x="428" y="1784"/>
                </a:lnTo>
                <a:lnTo>
                  <a:pt x="354" y="1781"/>
                </a:lnTo>
                <a:lnTo>
                  <a:pt x="278" y="1775"/>
                </a:lnTo>
                <a:lnTo>
                  <a:pt x="201" y="1769"/>
                </a:lnTo>
                <a:lnTo>
                  <a:pt x="119" y="1760"/>
                </a:lnTo>
                <a:lnTo>
                  <a:pt x="108" y="1748"/>
                </a:lnTo>
                <a:lnTo>
                  <a:pt x="97" y="1736"/>
                </a:lnTo>
                <a:lnTo>
                  <a:pt x="87" y="1725"/>
                </a:lnTo>
                <a:lnTo>
                  <a:pt x="78" y="1712"/>
                </a:lnTo>
                <a:lnTo>
                  <a:pt x="70" y="1700"/>
                </a:lnTo>
                <a:lnTo>
                  <a:pt x="63" y="1686"/>
                </a:lnTo>
                <a:lnTo>
                  <a:pt x="57" y="1674"/>
                </a:lnTo>
                <a:lnTo>
                  <a:pt x="52" y="1660"/>
                </a:lnTo>
                <a:lnTo>
                  <a:pt x="48" y="1647"/>
                </a:lnTo>
                <a:lnTo>
                  <a:pt x="45" y="1633"/>
                </a:lnTo>
                <a:lnTo>
                  <a:pt x="43" y="1618"/>
                </a:lnTo>
                <a:lnTo>
                  <a:pt x="41" y="1605"/>
                </a:lnTo>
                <a:lnTo>
                  <a:pt x="40" y="1590"/>
                </a:lnTo>
                <a:lnTo>
                  <a:pt x="41" y="1576"/>
                </a:lnTo>
                <a:lnTo>
                  <a:pt x="44" y="1560"/>
                </a:lnTo>
                <a:lnTo>
                  <a:pt x="46" y="1545"/>
                </a:lnTo>
                <a:lnTo>
                  <a:pt x="48" y="1535"/>
                </a:lnTo>
                <a:lnTo>
                  <a:pt x="50" y="1526"/>
                </a:lnTo>
                <a:lnTo>
                  <a:pt x="54" y="1516"/>
                </a:lnTo>
                <a:lnTo>
                  <a:pt x="58" y="1507"/>
                </a:lnTo>
                <a:lnTo>
                  <a:pt x="63" y="1498"/>
                </a:lnTo>
                <a:lnTo>
                  <a:pt x="69" y="1489"/>
                </a:lnTo>
                <a:lnTo>
                  <a:pt x="74" y="1480"/>
                </a:lnTo>
                <a:lnTo>
                  <a:pt x="82" y="1471"/>
                </a:lnTo>
                <a:lnTo>
                  <a:pt x="90" y="1463"/>
                </a:lnTo>
                <a:lnTo>
                  <a:pt x="98" y="1454"/>
                </a:lnTo>
                <a:lnTo>
                  <a:pt x="107" y="1446"/>
                </a:lnTo>
                <a:lnTo>
                  <a:pt x="117" y="1437"/>
                </a:lnTo>
                <a:lnTo>
                  <a:pt x="140" y="1421"/>
                </a:lnTo>
                <a:lnTo>
                  <a:pt x="164" y="1405"/>
                </a:lnTo>
                <a:lnTo>
                  <a:pt x="231" y="1405"/>
                </a:lnTo>
                <a:close/>
                <a:moveTo>
                  <a:pt x="704" y="2245"/>
                </a:moveTo>
                <a:lnTo>
                  <a:pt x="710" y="2236"/>
                </a:lnTo>
                <a:lnTo>
                  <a:pt x="717" y="2227"/>
                </a:lnTo>
                <a:lnTo>
                  <a:pt x="724" y="2219"/>
                </a:lnTo>
                <a:lnTo>
                  <a:pt x="732" y="2211"/>
                </a:lnTo>
                <a:lnTo>
                  <a:pt x="741" y="2206"/>
                </a:lnTo>
                <a:lnTo>
                  <a:pt x="750" y="2199"/>
                </a:lnTo>
                <a:lnTo>
                  <a:pt x="759" y="2194"/>
                </a:lnTo>
                <a:lnTo>
                  <a:pt x="770" y="2190"/>
                </a:lnTo>
                <a:lnTo>
                  <a:pt x="781" y="2187"/>
                </a:lnTo>
                <a:lnTo>
                  <a:pt x="793" y="2183"/>
                </a:lnTo>
                <a:lnTo>
                  <a:pt x="805" y="2181"/>
                </a:lnTo>
                <a:lnTo>
                  <a:pt x="819" y="2180"/>
                </a:lnTo>
                <a:lnTo>
                  <a:pt x="832" y="2179"/>
                </a:lnTo>
                <a:lnTo>
                  <a:pt x="846" y="2179"/>
                </a:lnTo>
                <a:lnTo>
                  <a:pt x="862" y="2179"/>
                </a:lnTo>
                <a:lnTo>
                  <a:pt x="877" y="2180"/>
                </a:lnTo>
                <a:lnTo>
                  <a:pt x="887" y="2191"/>
                </a:lnTo>
                <a:lnTo>
                  <a:pt x="901" y="2202"/>
                </a:lnTo>
                <a:lnTo>
                  <a:pt x="915" y="2212"/>
                </a:lnTo>
                <a:lnTo>
                  <a:pt x="930" y="2220"/>
                </a:lnTo>
                <a:lnTo>
                  <a:pt x="952" y="2328"/>
                </a:lnTo>
                <a:lnTo>
                  <a:pt x="749" y="2855"/>
                </a:lnTo>
                <a:lnTo>
                  <a:pt x="704" y="2978"/>
                </a:lnTo>
                <a:lnTo>
                  <a:pt x="681" y="3042"/>
                </a:lnTo>
                <a:lnTo>
                  <a:pt x="657" y="3106"/>
                </a:lnTo>
                <a:lnTo>
                  <a:pt x="633" y="3170"/>
                </a:lnTo>
                <a:lnTo>
                  <a:pt x="609" y="3233"/>
                </a:lnTo>
                <a:lnTo>
                  <a:pt x="583" y="3297"/>
                </a:lnTo>
                <a:lnTo>
                  <a:pt x="558" y="3359"/>
                </a:lnTo>
                <a:lnTo>
                  <a:pt x="532" y="3422"/>
                </a:lnTo>
                <a:lnTo>
                  <a:pt x="506" y="3484"/>
                </a:lnTo>
                <a:lnTo>
                  <a:pt x="480" y="3547"/>
                </a:lnTo>
                <a:lnTo>
                  <a:pt x="453" y="3609"/>
                </a:lnTo>
                <a:lnTo>
                  <a:pt x="426" y="3671"/>
                </a:lnTo>
                <a:lnTo>
                  <a:pt x="398" y="3734"/>
                </a:lnTo>
                <a:lnTo>
                  <a:pt x="371" y="3796"/>
                </a:lnTo>
                <a:lnTo>
                  <a:pt x="342" y="3857"/>
                </a:lnTo>
                <a:lnTo>
                  <a:pt x="313" y="3919"/>
                </a:lnTo>
                <a:lnTo>
                  <a:pt x="284" y="3980"/>
                </a:lnTo>
                <a:lnTo>
                  <a:pt x="269" y="3984"/>
                </a:lnTo>
                <a:lnTo>
                  <a:pt x="255" y="3988"/>
                </a:lnTo>
                <a:lnTo>
                  <a:pt x="240" y="3991"/>
                </a:lnTo>
                <a:lnTo>
                  <a:pt x="224" y="3992"/>
                </a:lnTo>
                <a:lnTo>
                  <a:pt x="210" y="3993"/>
                </a:lnTo>
                <a:lnTo>
                  <a:pt x="195" y="3993"/>
                </a:lnTo>
                <a:lnTo>
                  <a:pt x="180" y="3992"/>
                </a:lnTo>
                <a:lnTo>
                  <a:pt x="166" y="3990"/>
                </a:lnTo>
                <a:lnTo>
                  <a:pt x="150" y="3987"/>
                </a:lnTo>
                <a:lnTo>
                  <a:pt x="135" y="3983"/>
                </a:lnTo>
                <a:lnTo>
                  <a:pt x="120" y="3978"/>
                </a:lnTo>
                <a:lnTo>
                  <a:pt x="106" y="3972"/>
                </a:lnTo>
                <a:lnTo>
                  <a:pt x="91" y="3965"/>
                </a:lnTo>
                <a:lnTo>
                  <a:pt x="75" y="3957"/>
                </a:lnTo>
                <a:lnTo>
                  <a:pt x="61" y="3948"/>
                </a:lnTo>
                <a:lnTo>
                  <a:pt x="46" y="3938"/>
                </a:lnTo>
                <a:lnTo>
                  <a:pt x="38" y="3924"/>
                </a:lnTo>
                <a:lnTo>
                  <a:pt x="31" y="3911"/>
                </a:lnTo>
                <a:lnTo>
                  <a:pt x="26" y="3897"/>
                </a:lnTo>
                <a:lnTo>
                  <a:pt x="20" y="3883"/>
                </a:lnTo>
                <a:lnTo>
                  <a:pt x="16" y="3869"/>
                </a:lnTo>
                <a:lnTo>
                  <a:pt x="11" y="3854"/>
                </a:lnTo>
                <a:lnTo>
                  <a:pt x="8" y="3840"/>
                </a:lnTo>
                <a:lnTo>
                  <a:pt x="4" y="3824"/>
                </a:lnTo>
                <a:lnTo>
                  <a:pt x="2" y="3809"/>
                </a:lnTo>
                <a:lnTo>
                  <a:pt x="1" y="3793"/>
                </a:lnTo>
                <a:lnTo>
                  <a:pt x="0" y="3778"/>
                </a:lnTo>
                <a:lnTo>
                  <a:pt x="0" y="3762"/>
                </a:lnTo>
                <a:lnTo>
                  <a:pt x="0" y="3746"/>
                </a:lnTo>
                <a:lnTo>
                  <a:pt x="1" y="3729"/>
                </a:lnTo>
                <a:lnTo>
                  <a:pt x="2" y="3712"/>
                </a:lnTo>
                <a:lnTo>
                  <a:pt x="4" y="3695"/>
                </a:lnTo>
                <a:lnTo>
                  <a:pt x="35" y="3643"/>
                </a:lnTo>
                <a:lnTo>
                  <a:pt x="64" y="3590"/>
                </a:lnTo>
                <a:lnTo>
                  <a:pt x="92" y="3538"/>
                </a:lnTo>
                <a:lnTo>
                  <a:pt x="122" y="3485"/>
                </a:lnTo>
                <a:lnTo>
                  <a:pt x="150" y="3433"/>
                </a:lnTo>
                <a:lnTo>
                  <a:pt x="178" y="3380"/>
                </a:lnTo>
                <a:lnTo>
                  <a:pt x="206" y="3328"/>
                </a:lnTo>
                <a:lnTo>
                  <a:pt x="233" y="3275"/>
                </a:lnTo>
                <a:lnTo>
                  <a:pt x="261" y="3223"/>
                </a:lnTo>
                <a:lnTo>
                  <a:pt x="288" y="3170"/>
                </a:lnTo>
                <a:lnTo>
                  <a:pt x="314" y="3118"/>
                </a:lnTo>
                <a:lnTo>
                  <a:pt x="342" y="3065"/>
                </a:lnTo>
                <a:lnTo>
                  <a:pt x="367" y="3012"/>
                </a:lnTo>
                <a:lnTo>
                  <a:pt x="393" y="2960"/>
                </a:lnTo>
                <a:lnTo>
                  <a:pt x="419" y="2907"/>
                </a:lnTo>
                <a:lnTo>
                  <a:pt x="445" y="2855"/>
                </a:lnTo>
                <a:lnTo>
                  <a:pt x="704" y="2245"/>
                </a:lnTo>
                <a:close/>
                <a:moveTo>
                  <a:pt x="2733" y="1573"/>
                </a:moveTo>
                <a:lnTo>
                  <a:pt x="2731" y="1609"/>
                </a:lnTo>
                <a:lnTo>
                  <a:pt x="2731" y="1644"/>
                </a:lnTo>
                <a:lnTo>
                  <a:pt x="2732" y="1660"/>
                </a:lnTo>
                <a:lnTo>
                  <a:pt x="2734" y="1677"/>
                </a:lnTo>
                <a:lnTo>
                  <a:pt x="2735" y="1692"/>
                </a:lnTo>
                <a:lnTo>
                  <a:pt x="2739" y="1708"/>
                </a:lnTo>
                <a:lnTo>
                  <a:pt x="2742" y="1722"/>
                </a:lnTo>
                <a:lnTo>
                  <a:pt x="2745" y="1737"/>
                </a:lnTo>
                <a:lnTo>
                  <a:pt x="2750" y="1751"/>
                </a:lnTo>
                <a:lnTo>
                  <a:pt x="2754" y="1764"/>
                </a:lnTo>
                <a:lnTo>
                  <a:pt x="2760" y="1777"/>
                </a:lnTo>
                <a:lnTo>
                  <a:pt x="2767" y="1789"/>
                </a:lnTo>
                <a:lnTo>
                  <a:pt x="2772" y="1801"/>
                </a:lnTo>
                <a:lnTo>
                  <a:pt x="2780" y="1813"/>
                </a:lnTo>
                <a:lnTo>
                  <a:pt x="2788" y="1824"/>
                </a:lnTo>
                <a:lnTo>
                  <a:pt x="2796" y="1834"/>
                </a:lnTo>
                <a:lnTo>
                  <a:pt x="2805" y="1844"/>
                </a:lnTo>
                <a:lnTo>
                  <a:pt x="2814" y="1855"/>
                </a:lnTo>
                <a:lnTo>
                  <a:pt x="2824" y="1864"/>
                </a:lnTo>
                <a:lnTo>
                  <a:pt x="2836" y="1873"/>
                </a:lnTo>
                <a:lnTo>
                  <a:pt x="2846" y="1880"/>
                </a:lnTo>
                <a:lnTo>
                  <a:pt x="2858" y="1890"/>
                </a:lnTo>
                <a:lnTo>
                  <a:pt x="2870" y="1896"/>
                </a:lnTo>
                <a:lnTo>
                  <a:pt x="2883" y="1903"/>
                </a:lnTo>
                <a:lnTo>
                  <a:pt x="2896" y="1910"/>
                </a:lnTo>
                <a:lnTo>
                  <a:pt x="2910" y="1917"/>
                </a:lnTo>
                <a:lnTo>
                  <a:pt x="2925" y="1922"/>
                </a:lnTo>
                <a:lnTo>
                  <a:pt x="2939" y="1928"/>
                </a:lnTo>
                <a:lnTo>
                  <a:pt x="2955" y="1932"/>
                </a:lnTo>
                <a:lnTo>
                  <a:pt x="2972" y="1937"/>
                </a:lnTo>
                <a:lnTo>
                  <a:pt x="3506" y="1937"/>
                </a:lnTo>
                <a:lnTo>
                  <a:pt x="3526" y="1941"/>
                </a:lnTo>
                <a:lnTo>
                  <a:pt x="3545" y="1948"/>
                </a:lnTo>
                <a:lnTo>
                  <a:pt x="3562" y="1955"/>
                </a:lnTo>
                <a:lnTo>
                  <a:pt x="3578" y="1962"/>
                </a:lnTo>
                <a:lnTo>
                  <a:pt x="3592" y="1970"/>
                </a:lnTo>
                <a:lnTo>
                  <a:pt x="3606" y="1979"/>
                </a:lnTo>
                <a:lnTo>
                  <a:pt x="3618" y="1988"/>
                </a:lnTo>
                <a:lnTo>
                  <a:pt x="3630" y="1997"/>
                </a:lnTo>
                <a:lnTo>
                  <a:pt x="3640" y="2008"/>
                </a:lnTo>
                <a:lnTo>
                  <a:pt x="3648" y="2018"/>
                </a:lnTo>
                <a:lnTo>
                  <a:pt x="3654" y="2030"/>
                </a:lnTo>
                <a:lnTo>
                  <a:pt x="3661" y="2042"/>
                </a:lnTo>
                <a:lnTo>
                  <a:pt x="3666" y="2054"/>
                </a:lnTo>
                <a:lnTo>
                  <a:pt x="3668" y="2068"/>
                </a:lnTo>
                <a:lnTo>
                  <a:pt x="3670" y="2083"/>
                </a:lnTo>
                <a:lnTo>
                  <a:pt x="3671" y="2097"/>
                </a:lnTo>
                <a:lnTo>
                  <a:pt x="3667" y="2110"/>
                </a:lnTo>
                <a:lnTo>
                  <a:pt x="3661" y="2122"/>
                </a:lnTo>
                <a:lnTo>
                  <a:pt x="3653" y="2135"/>
                </a:lnTo>
                <a:lnTo>
                  <a:pt x="3644" y="2145"/>
                </a:lnTo>
                <a:lnTo>
                  <a:pt x="3632" y="2155"/>
                </a:lnTo>
                <a:lnTo>
                  <a:pt x="3619" y="2165"/>
                </a:lnTo>
                <a:lnTo>
                  <a:pt x="3604" y="2174"/>
                </a:lnTo>
                <a:lnTo>
                  <a:pt x="3587" y="2182"/>
                </a:lnTo>
                <a:lnTo>
                  <a:pt x="3569" y="2189"/>
                </a:lnTo>
                <a:lnTo>
                  <a:pt x="3548" y="2196"/>
                </a:lnTo>
                <a:lnTo>
                  <a:pt x="3526" y="2201"/>
                </a:lnTo>
                <a:lnTo>
                  <a:pt x="3502" y="2207"/>
                </a:lnTo>
                <a:lnTo>
                  <a:pt x="3475" y="2211"/>
                </a:lnTo>
                <a:lnTo>
                  <a:pt x="3448" y="2215"/>
                </a:lnTo>
                <a:lnTo>
                  <a:pt x="3418" y="2218"/>
                </a:lnTo>
                <a:lnTo>
                  <a:pt x="3387" y="2220"/>
                </a:lnTo>
                <a:lnTo>
                  <a:pt x="3000" y="2220"/>
                </a:lnTo>
                <a:lnTo>
                  <a:pt x="2975" y="2233"/>
                </a:lnTo>
                <a:lnTo>
                  <a:pt x="2951" y="2246"/>
                </a:lnTo>
                <a:lnTo>
                  <a:pt x="2928" y="2261"/>
                </a:lnTo>
                <a:lnTo>
                  <a:pt x="2907" y="2276"/>
                </a:lnTo>
                <a:lnTo>
                  <a:pt x="2885" y="2293"/>
                </a:lnTo>
                <a:lnTo>
                  <a:pt x="2866" y="2311"/>
                </a:lnTo>
                <a:lnTo>
                  <a:pt x="2848" y="2329"/>
                </a:lnTo>
                <a:lnTo>
                  <a:pt x="2830" y="2348"/>
                </a:lnTo>
                <a:lnTo>
                  <a:pt x="2814" y="2369"/>
                </a:lnTo>
                <a:lnTo>
                  <a:pt x="2799" y="2391"/>
                </a:lnTo>
                <a:lnTo>
                  <a:pt x="2785" y="2413"/>
                </a:lnTo>
                <a:lnTo>
                  <a:pt x="2772" y="2437"/>
                </a:lnTo>
                <a:lnTo>
                  <a:pt x="2761" y="2462"/>
                </a:lnTo>
                <a:lnTo>
                  <a:pt x="2751" y="2487"/>
                </a:lnTo>
                <a:lnTo>
                  <a:pt x="2741" y="2514"/>
                </a:lnTo>
                <a:lnTo>
                  <a:pt x="2733" y="2542"/>
                </a:lnTo>
                <a:lnTo>
                  <a:pt x="2708" y="3168"/>
                </a:lnTo>
                <a:lnTo>
                  <a:pt x="2713" y="3199"/>
                </a:lnTo>
                <a:lnTo>
                  <a:pt x="2717" y="3230"/>
                </a:lnTo>
                <a:lnTo>
                  <a:pt x="2724" y="3259"/>
                </a:lnTo>
                <a:lnTo>
                  <a:pt x="2732" y="3288"/>
                </a:lnTo>
                <a:lnTo>
                  <a:pt x="2742" y="3315"/>
                </a:lnTo>
                <a:lnTo>
                  <a:pt x="2753" y="3341"/>
                </a:lnTo>
                <a:lnTo>
                  <a:pt x="2766" y="3365"/>
                </a:lnTo>
                <a:lnTo>
                  <a:pt x="2780" y="3390"/>
                </a:lnTo>
                <a:lnTo>
                  <a:pt x="2796" y="3413"/>
                </a:lnTo>
                <a:lnTo>
                  <a:pt x="2813" y="3434"/>
                </a:lnTo>
                <a:lnTo>
                  <a:pt x="2831" y="3456"/>
                </a:lnTo>
                <a:lnTo>
                  <a:pt x="2851" y="3475"/>
                </a:lnTo>
                <a:lnTo>
                  <a:pt x="2873" y="3493"/>
                </a:lnTo>
                <a:lnTo>
                  <a:pt x="2895" y="3511"/>
                </a:lnTo>
                <a:lnTo>
                  <a:pt x="2920" y="3528"/>
                </a:lnTo>
                <a:lnTo>
                  <a:pt x="2946" y="3543"/>
                </a:lnTo>
                <a:lnTo>
                  <a:pt x="3860" y="3597"/>
                </a:lnTo>
                <a:lnTo>
                  <a:pt x="3880" y="3600"/>
                </a:lnTo>
                <a:lnTo>
                  <a:pt x="3899" y="3606"/>
                </a:lnTo>
                <a:lnTo>
                  <a:pt x="3916" y="3612"/>
                </a:lnTo>
                <a:lnTo>
                  <a:pt x="3933" y="3618"/>
                </a:lnTo>
                <a:lnTo>
                  <a:pt x="3949" y="3626"/>
                </a:lnTo>
                <a:lnTo>
                  <a:pt x="3964" y="3635"/>
                </a:lnTo>
                <a:lnTo>
                  <a:pt x="3976" y="3646"/>
                </a:lnTo>
                <a:lnTo>
                  <a:pt x="3988" y="3657"/>
                </a:lnTo>
                <a:lnTo>
                  <a:pt x="4000" y="3668"/>
                </a:lnTo>
                <a:lnTo>
                  <a:pt x="4010" y="3681"/>
                </a:lnTo>
                <a:lnTo>
                  <a:pt x="4018" y="3695"/>
                </a:lnTo>
                <a:lnTo>
                  <a:pt x="4026" y="3710"/>
                </a:lnTo>
                <a:lnTo>
                  <a:pt x="4032" y="3725"/>
                </a:lnTo>
                <a:lnTo>
                  <a:pt x="4038" y="3741"/>
                </a:lnTo>
                <a:lnTo>
                  <a:pt x="4042" y="3760"/>
                </a:lnTo>
                <a:lnTo>
                  <a:pt x="4046" y="3778"/>
                </a:lnTo>
                <a:lnTo>
                  <a:pt x="4041" y="3790"/>
                </a:lnTo>
                <a:lnTo>
                  <a:pt x="4037" y="3800"/>
                </a:lnTo>
                <a:lnTo>
                  <a:pt x="4029" y="3812"/>
                </a:lnTo>
                <a:lnTo>
                  <a:pt x="4020" y="3821"/>
                </a:lnTo>
                <a:lnTo>
                  <a:pt x="4010" y="3831"/>
                </a:lnTo>
                <a:lnTo>
                  <a:pt x="3996" y="3839"/>
                </a:lnTo>
                <a:lnTo>
                  <a:pt x="3983" y="3848"/>
                </a:lnTo>
                <a:lnTo>
                  <a:pt x="3966" y="3856"/>
                </a:lnTo>
                <a:lnTo>
                  <a:pt x="3948" y="3862"/>
                </a:lnTo>
                <a:lnTo>
                  <a:pt x="3927" y="3869"/>
                </a:lnTo>
                <a:lnTo>
                  <a:pt x="3906" y="3875"/>
                </a:lnTo>
                <a:lnTo>
                  <a:pt x="3882" y="3880"/>
                </a:lnTo>
                <a:lnTo>
                  <a:pt x="3856" y="3886"/>
                </a:lnTo>
                <a:lnTo>
                  <a:pt x="3829" y="3891"/>
                </a:lnTo>
                <a:lnTo>
                  <a:pt x="3800" y="3894"/>
                </a:lnTo>
                <a:lnTo>
                  <a:pt x="3770" y="3897"/>
                </a:lnTo>
                <a:lnTo>
                  <a:pt x="2094" y="3897"/>
                </a:lnTo>
                <a:lnTo>
                  <a:pt x="1872" y="3872"/>
                </a:lnTo>
                <a:lnTo>
                  <a:pt x="1854" y="3868"/>
                </a:lnTo>
                <a:lnTo>
                  <a:pt x="1837" y="3865"/>
                </a:lnTo>
                <a:lnTo>
                  <a:pt x="1819" y="3861"/>
                </a:lnTo>
                <a:lnTo>
                  <a:pt x="1801" y="3858"/>
                </a:lnTo>
                <a:lnTo>
                  <a:pt x="1783" y="3857"/>
                </a:lnTo>
                <a:lnTo>
                  <a:pt x="1766" y="3856"/>
                </a:lnTo>
                <a:lnTo>
                  <a:pt x="1749" y="3856"/>
                </a:lnTo>
                <a:lnTo>
                  <a:pt x="1731" y="3856"/>
                </a:lnTo>
                <a:lnTo>
                  <a:pt x="1714" y="3857"/>
                </a:lnTo>
                <a:lnTo>
                  <a:pt x="1697" y="3858"/>
                </a:lnTo>
                <a:lnTo>
                  <a:pt x="1680" y="3861"/>
                </a:lnTo>
                <a:lnTo>
                  <a:pt x="1664" y="3865"/>
                </a:lnTo>
                <a:lnTo>
                  <a:pt x="1647" y="3868"/>
                </a:lnTo>
                <a:lnTo>
                  <a:pt x="1630" y="3874"/>
                </a:lnTo>
                <a:lnTo>
                  <a:pt x="1613" y="3878"/>
                </a:lnTo>
                <a:lnTo>
                  <a:pt x="1597" y="3885"/>
                </a:lnTo>
                <a:lnTo>
                  <a:pt x="1573" y="3903"/>
                </a:lnTo>
                <a:lnTo>
                  <a:pt x="1550" y="3919"/>
                </a:lnTo>
                <a:lnTo>
                  <a:pt x="1525" y="3933"/>
                </a:lnTo>
                <a:lnTo>
                  <a:pt x="1500" y="3947"/>
                </a:lnTo>
                <a:lnTo>
                  <a:pt x="1473" y="3958"/>
                </a:lnTo>
                <a:lnTo>
                  <a:pt x="1446" y="3967"/>
                </a:lnTo>
                <a:lnTo>
                  <a:pt x="1418" y="3976"/>
                </a:lnTo>
                <a:lnTo>
                  <a:pt x="1389" y="3983"/>
                </a:lnTo>
                <a:lnTo>
                  <a:pt x="1359" y="3988"/>
                </a:lnTo>
                <a:lnTo>
                  <a:pt x="1329" y="3991"/>
                </a:lnTo>
                <a:lnTo>
                  <a:pt x="1298" y="3993"/>
                </a:lnTo>
                <a:lnTo>
                  <a:pt x="1265" y="3994"/>
                </a:lnTo>
                <a:lnTo>
                  <a:pt x="1233" y="3993"/>
                </a:lnTo>
                <a:lnTo>
                  <a:pt x="1199" y="3990"/>
                </a:lnTo>
                <a:lnTo>
                  <a:pt x="1164" y="3985"/>
                </a:lnTo>
                <a:lnTo>
                  <a:pt x="1128" y="3980"/>
                </a:lnTo>
                <a:lnTo>
                  <a:pt x="1111" y="3971"/>
                </a:lnTo>
                <a:lnTo>
                  <a:pt x="1094" y="3962"/>
                </a:lnTo>
                <a:lnTo>
                  <a:pt x="1078" y="3950"/>
                </a:lnTo>
                <a:lnTo>
                  <a:pt x="1063" y="3938"/>
                </a:lnTo>
                <a:lnTo>
                  <a:pt x="1050" y="3926"/>
                </a:lnTo>
                <a:lnTo>
                  <a:pt x="1037" y="3911"/>
                </a:lnTo>
                <a:lnTo>
                  <a:pt x="1025" y="3896"/>
                </a:lnTo>
                <a:lnTo>
                  <a:pt x="1015" y="3880"/>
                </a:lnTo>
                <a:lnTo>
                  <a:pt x="1005" y="3862"/>
                </a:lnTo>
                <a:lnTo>
                  <a:pt x="996" y="3844"/>
                </a:lnTo>
                <a:lnTo>
                  <a:pt x="988" y="3825"/>
                </a:lnTo>
                <a:lnTo>
                  <a:pt x="981" y="3805"/>
                </a:lnTo>
                <a:lnTo>
                  <a:pt x="975" y="3783"/>
                </a:lnTo>
                <a:lnTo>
                  <a:pt x="970" y="3761"/>
                </a:lnTo>
                <a:lnTo>
                  <a:pt x="966" y="3737"/>
                </a:lnTo>
                <a:lnTo>
                  <a:pt x="963" y="3712"/>
                </a:lnTo>
                <a:lnTo>
                  <a:pt x="973" y="3700"/>
                </a:lnTo>
                <a:lnTo>
                  <a:pt x="983" y="3687"/>
                </a:lnTo>
                <a:lnTo>
                  <a:pt x="995" y="3676"/>
                </a:lnTo>
                <a:lnTo>
                  <a:pt x="1006" y="3665"/>
                </a:lnTo>
                <a:lnTo>
                  <a:pt x="1019" y="3655"/>
                </a:lnTo>
                <a:lnTo>
                  <a:pt x="1033" y="3643"/>
                </a:lnTo>
                <a:lnTo>
                  <a:pt x="1047" y="3633"/>
                </a:lnTo>
                <a:lnTo>
                  <a:pt x="1062" y="3623"/>
                </a:lnTo>
                <a:lnTo>
                  <a:pt x="1078" y="3614"/>
                </a:lnTo>
                <a:lnTo>
                  <a:pt x="1095" y="3605"/>
                </a:lnTo>
                <a:lnTo>
                  <a:pt x="1112" y="3596"/>
                </a:lnTo>
                <a:lnTo>
                  <a:pt x="1130" y="3587"/>
                </a:lnTo>
                <a:lnTo>
                  <a:pt x="1149" y="3579"/>
                </a:lnTo>
                <a:lnTo>
                  <a:pt x="1168" y="3571"/>
                </a:lnTo>
                <a:lnTo>
                  <a:pt x="1189" y="3563"/>
                </a:lnTo>
                <a:lnTo>
                  <a:pt x="1210" y="3556"/>
                </a:lnTo>
                <a:lnTo>
                  <a:pt x="1236" y="3552"/>
                </a:lnTo>
                <a:lnTo>
                  <a:pt x="1262" y="3548"/>
                </a:lnTo>
                <a:lnTo>
                  <a:pt x="1288" y="3547"/>
                </a:lnTo>
                <a:lnTo>
                  <a:pt x="1314" y="3546"/>
                </a:lnTo>
                <a:lnTo>
                  <a:pt x="1341" y="3547"/>
                </a:lnTo>
                <a:lnTo>
                  <a:pt x="1367" y="3550"/>
                </a:lnTo>
                <a:lnTo>
                  <a:pt x="1394" y="3553"/>
                </a:lnTo>
                <a:lnTo>
                  <a:pt x="1421" y="3557"/>
                </a:lnTo>
                <a:lnTo>
                  <a:pt x="1448" y="3563"/>
                </a:lnTo>
                <a:lnTo>
                  <a:pt x="1475" y="3570"/>
                </a:lnTo>
                <a:lnTo>
                  <a:pt x="1502" y="3579"/>
                </a:lnTo>
                <a:lnTo>
                  <a:pt x="1530" y="3588"/>
                </a:lnTo>
                <a:lnTo>
                  <a:pt x="1557" y="3598"/>
                </a:lnTo>
                <a:lnTo>
                  <a:pt x="1586" y="3610"/>
                </a:lnTo>
                <a:lnTo>
                  <a:pt x="1614" y="3624"/>
                </a:lnTo>
                <a:lnTo>
                  <a:pt x="1642" y="3638"/>
                </a:lnTo>
                <a:lnTo>
                  <a:pt x="1652" y="3648"/>
                </a:lnTo>
                <a:lnTo>
                  <a:pt x="1662" y="3657"/>
                </a:lnTo>
                <a:lnTo>
                  <a:pt x="1674" y="3664"/>
                </a:lnTo>
                <a:lnTo>
                  <a:pt x="1685" y="3669"/>
                </a:lnTo>
                <a:lnTo>
                  <a:pt x="1697" y="3673"/>
                </a:lnTo>
                <a:lnTo>
                  <a:pt x="1711" y="3675"/>
                </a:lnTo>
                <a:lnTo>
                  <a:pt x="1724" y="3676"/>
                </a:lnTo>
                <a:lnTo>
                  <a:pt x="1739" y="3675"/>
                </a:lnTo>
                <a:lnTo>
                  <a:pt x="1754" y="3673"/>
                </a:lnTo>
                <a:lnTo>
                  <a:pt x="1771" y="3669"/>
                </a:lnTo>
                <a:lnTo>
                  <a:pt x="1786" y="3664"/>
                </a:lnTo>
                <a:lnTo>
                  <a:pt x="1805" y="3657"/>
                </a:lnTo>
                <a:lnTo>
                  <a:pt x="1823" y="3648"/>
                </a:lnTo>
                <a:lnTo>
                  <a:pt x="1842" y="3638"/>
                </a:lnTo>
                <a:lnTo>
                  <a:pt x="1861" y="3626"/>
                </a:lnTo>
                <a:lnTo>
                  <a:pt x="1881" y="3614"/>
                </a:lnTo>
                <a:lnTo>
                  <a:pt x="1896" y="3603"/>
                </a:lnTo>
                <a:lnTo>
                  <a:pt x="1911" y="3591"/>
                </a:lnTo>
                <a:lnTo>
                  <a:pt x="1927" y="3582"/>
                </a:lnTo>
                <a:lnTo>
                  <a:pt x="1943" y="3573"/>
                </a:lnTo>
                <a:lnTo>
                  <a:pt x="1961" y="3565"/>
                </a:lnTo>
                <a:lnTo>
                  <a:pt x="1979" y="3560"/>
                </a:lnTo>
                <a:lnTo>
                  <a:pt x="1997" y="3553"/>
                </a:lnTo>
                <a:lnTo>
                  <a:pt x="2017" y="3548"/>
                </a:lnTo>
                <a:lnTo>
                  <a:pt x="2037" y="3545"/>
                </a:lnTo>
                <a:lnTo>
                  <a:pt x="2057" y="3542"/>
                </a:lnTo>
                <a:lnTo>
                  <a:pt x="2079" y="3539"/>
                </a:lnTo>
                <a:lnTo>
                  <a:pt x="2100" y="3538"/>
                </a:lnTo>
                <a:lnTo>
                  <a:pt x="2123" y="3538"/>
                </a:lnTo>
                <a:lnTo>
                  <a:pt x="2145" y="3539"/>
                </a:lnTo>
                <a:lnTo>
                  <a:pt x="2169" y="3540"/>
                </a:lnTo>
                <a:lnTo>
                  <a:pt x="2194" y="3543"/>
                </a:lnTo>
                <a:lnTo>
                  <a:pt x="2205" y="3539"/>
                </a:lnTo>
                <a:lnTo>
                  <a:pt x="2217" y="3535"/>
                </a:lnTo>
                <a:lnTo>
                  <a:pt x="2229" y="3530"/>
                </a:lnTo>
                <a:lnTo>
                  <a:pt x="2240" y="3525"/>
                </a:lnTo>
                <a:lnTo>
                  <a:pt x="2251" y="3519"/>
                </a:lnTo>
                <a:lnTo>
                  <a:pt x="2262" y="3512"/>
                </a:lnTo>
                <a:lnTo>
                  <a:pt x="2273" y="3505"/>
                </a:lnTo>
                <a:lnTo>
                  <a:pt x="2283" y="3498"/>
                </a:lnTo>
                <a:lnTo>
                  <a:pt x="2293" y="3490"/>
                </a:lnTo>
                <a:lnTo>
                  <a:pt x="2303" y="3481"/>
                </a:lnTo>
                <a:lnTo>
                  <a:pt x="2312" y="3472"/>
                </a:lnTo>
                <a:lnTo>
                  <a:pt x="2322" y="3461"/>
                </a:lnTo>
                <a:lnTo>
                  <a:pt x="2340" y="3440"/>
                </a:lnTo>
                <a:lnTo>
                  <a:pt x="2357" y="3415"/>
                </a:lnTo>
                <a:lnTo>
                  <a:pt x="2373" y="3389"/>
                </a:lnTo>
                <a:lnTo>
                  <a:pt x="2389" y="3360"/>
                </a:lnTo>
                <a:lnTo>
                  <a:pt x="2403" y="3329"/>
                </a:lnTo>
                <a:lnTo>
                  <a:pt x="2417" y="3297"/>
                </a:lnTo>
                <a:lnTo>
                  <a:pt x="2429" y="3260"/>
                </a:lnTo>
                <a:lnTo>
                  <a:pt x="2441" y="3222"/>
                </a:lnTo>
                <a:lnTo>
                  <a:pt x="2451" y="3183"/>
                </a:lnTo>
                <a:lnTo>
                  <a:pt x="2461" y="3140"/>
                </a:lnTo>
                <a:lnTo>
                  <a:pt x="2419" y="2542"/>
                </a:lnTo>
                <a:lnTo>
                  <a:pt x="2416" y="2512"/>
                </a:lnTo>
                <a:lnTo>
                  <a:pt x="2410" y="2483"/>
                </a:lnTo>
                <a:lnTo>
                  <a:pt x="2402" y="2455"/>
                </a:lnTo>
                <a:lnTo>
                  <a:pt x="2392" y="2428"/>
                </a:lnTo>
                <a:lnTo>
                  <a:pt x="2381" y="2402"/>
                </a:lnTo>
                <a:lnTo>
                  <a:pt x="2367" y="2377"/>
                </a:lnTo>
                <a:lnTo>
                  <a:pt x="2352" y="2354"/>
                </a:lnTo>
                <a:lnTo>
                  <a:pt x="2335" y="2330"/>
                </a:lnTo>
                <a:lnTo>
                  <a:pt x="2316" y="2307"/>
                </a:lnTo>
                <a:lnTo>
                  <a:pt x="2294" y="2287"/>
                </a:lnTo>
                <a:lnTo>
                  <a:pt x="2272" y="2267"/>
                </a:lnTo>
                <a:lnTo>
                  <a:pt x="2246" y="2247"/>
                </a:lnTo>
                <a:lnTo>
                  <a:pt x="2220" y="2229"/>
                </a:lnTo>
                <a:lnTo>
                  <a:pt x="2190" y="2211"/>
                </a:lnTo>
                <a:lnTo>
                  <a:pt x="2160" y="2196"/>
                </a:lnTo>
                <a:lnTo>
                  <a:pt x="2127" y="2180"/>
                </a:lnTo>
                <a:lnTo>
                  <a:pt x="2110" y="2176"/>
                </a:lnTo>
                <a:lnTo>
                  <a:pt x="2093" y="2174"/>
                </a:lnTo>
                <a:lnTo>
                  <a:pt x="2076" y="2173"/>
                </a:lnTo>
                <a:lnTo>
                  <a:pt x="2059" y="2173"/>
                </a:lnTo>
                <a:lnTo>
                  <a:pt x="2043" y="2174"/>
                </a:lnTo>
                <a:lnTo>
                  <a:pt x="2027" y="2175"/>
                </a:lnTo>
                <a:lnTo>
                  <a:pt x="2010" y="2177"/>
                </a:lnTo>
                <a:lnTo>
                  <a:pt x="1994" y="2181"/>
                </a:lnTo>
                <a:lnTo>
                  <a:pt x="1978" y="2187"/>
                </a:lnTo>
                <a:lnTo>
                  <a:pt x="1962" y="2191"/>
                </a:lnTo>
                <a:lnTo>
                  <a:pt x="1947" y="2198"/>
                </a:lnTo>
                <a:lnTo>
                  <a:pt x="1932" y="2206"/>
                </a:lnTo>
                <a:lnTo>
                  <a:pt x="1916" y="2214"/>
                </a:lnTo>
                <a:lnTo>
                  <a:pt x="1902" y="2224"/>
                </a:lnTo>
                <a:lnTo>
                  <a:pt x="1887" y="2234"/>
                </a:lnTo>
                <a:lnTo>
                  <a:pt x="1872" y="2245"/>
                </a:lnTo>
                <a:lnTo>
                  <a:pt x="1836" y="2258"/>
                </a:lnTo>
                <a:lnTo>
                  <a:pt x="1798" y="2269"/>
                </a:lnTo>
                <a:lnTo>
                  <a:pt x="1757" y="2278"/>
                </a:lnTo>
                <a:lnTo>
                  <a:pt x="1717" y="2286"/>
                </a:lnTo>
                <a:lnTo>
                  <a:pt x="1674" y="2292"/>
                </a:lnTo>
                <a:lnTo>
                  <a:pt x="1629" y="2295"/>
                </a:lnTo>
                <a:lnTo>
                  <a:pt x="1583" y="2298"/>
                </a:lnTo>
                <a:lnTo>
                  <a:pt x="1536" y="2298"/>
                </a:lnTo>
                <a:lnTo>
                  <a:pt x="1518" y="2295"/>
                </a:lnTo>
                <a:lnTo>
                  <a:pt x="1502" y="2290"/>
                </a:lnTo>
                <a:lnTo>
                  <a:pt x="1488" y="2284"/>
                </a:lnTo>
                <a:lnTo>
                  <a:pt x="1473" y="2276"/>
                </a:lnTo>
                <a:lnTo>
                  <a:pt x="1459" y="2268"/>
                </a:lnTo>
                <a:lnTo>
                  <a:pt x="1447" y="2258"/>
                </a:lnTo>
                <a:lnTo>
                  <a:pt x="1436" y="2245"/>
                </a:lnTo>
                <a:lnTo>
                  <a:pt x="1426" y="2233"/>
                </a:lnTo>
                <a:lnTo>
                  <a:pt x="1415" y="2219"/>
                </a:lnTo>
                <a:lnTo>
                  <a:pt x="1407" y="2203"/>
                </a:lnTo>
                <a:lnTo>
                  <a:pt x="1400" y="2187"/>
                </a:lnTo>
                <a:lnTo>
                  <a:pt x="1393" y="2170"/>
                </a:lnTo>
                <a:lnTo>
                  <a:pt x="1387" y="2150"/>
                </a:lnTo>
                <a:lnTo>
                  <a:pt x="1382" y="2130"/>
                </a:lnTo>
                <a:lnTo>
                  <a:pt x="1378" y="2107"/>
                </a:lnTo>
                <a:lnTo>
                  <a:pt x="1375" y="2085"/>
                </a:lnTo>
                <a:lnTo>
                  <a:pt x="1382" y="2068"/>
                </a:lnTo>
                <a:lnTo>
                  <a:pt x="1391" y="2052"/>
                </a:lnTo>
                <a:lnTo>
                  <a:pt x="1401" y="2037"/>
                </a:lnTo>
                <a:lnTo>
                  <a:pt x="1411" y="2023"/>
                </a:lnTo>
                <a:lnTo>
                  <a:pt x="1423" y="2009"/>
                </a:lnTo>
                <a:lnTo>
                  <a:pt x="1437" y="1997"/>
                </a:lnTo>
                <a:lnTo>
                  <a:pt x="1450" y="1984"/>
                </a:lnTo>
                <a:lnTo>
                  <a:pt x="1466" y="1973"/>
                </a:lnTo>
                <a:lnTo>
                  <a:pt x="1483" y="1962"/>
                </a:lnTo>
                <a:lnTo>
                  <a:pt x="1501" y="1952"/>
                </a:lnTo>
                <a:lnTo>
                  <a:pt x="1520" y="1943"/>
                </a:lnTo>
                <a:lnTo>
                  <a:pt x="1541" y="1935"/>
                </a:lnTo>
                <a:lnTo>
                  <a:pt x="1562" y="1927"/>
                </a:lnTo>
                <a:lnTo>
                  <a:pt x="1585" y="1920"/>
                </a:lnTo>
                <a:lnTo>
                  <a:pt x="1608" y="1913"/>
                </a:lnTo>
                <a:lnTo>
                  <a:pt x="1634" y="1908"/>
                </a:lnTo>
                <a:lnTo>
                  <a:pt x="1934" y="1923"/>
                </a:lnTo>
                <a:lnTo>
                  <a:pt x="1951" y="1938"/>
                </a:lnTo>
                <a:lnTo>
                  <a:pt x="1968" y="1950"/>
                </a:lnTo>
                <a:lnTo>
                  <a:pt x="1985" y="1961"/>
                </a:lnTo>
                <a:lnTo>
                  <a:pt x="2001" y="1970"/>
                </a:lnTo>
                <a:lnTo>
                  <a:pt x="2015" y="1976"/>
                </a:lnTo>
                <a:lnTo>
                  <a:pt x="2030" y="1982"/>
                </a:lnTo>
                <a:lnTo>
                  <a:pt x="2044" y="1985"/>
                </a:lnTo>
                <a:lnTo>
                  <a:pt x="2058" y="1987"/>
                </a:lnTo>
                <a:lnTo>
                  <a:pt x="2071" y="1987"/>
                </a:lnTo>
                <a:lnTo>
                  <a:pt x="2083" y="1984"/>
                </a:lnTo>
                <a:lnTo>
                  <a:pt x="2096" y="1981"/>
                </a:lnTo>
                <a:lnTo>
                  <a:pt x="2107" y="1975"/>
                </a:lnTo>
                <a:lnTo>
                  <a:pt x="2118" y="1969"/>
                </a:lnTo>
                <a:lnTo>
                  <a:pt x="2129" y="1960"/>
                </a:lnTo>
                <a:lnTo>
                  <a:pt x="2138" y="1949"/>
                </a:lnTo>
                <a:lnTo>
                  <a:pt x="2149" y="1937"/>
                </a:lnTo>
                <a:lnTo>
                  <a:pt x="2175" y="1919"/>
                </a:lnTo>
                <a:lnTo>
                  <a:pt x="2199" y="1902"/>
                </a:lnTo>
                <a:lnTo>
                  <a:pt x="2222" y="1884"/>
                </a:lnTo>
                <a:lnTo>
                  <a:pt x="2244" y="1866"/>
                </a:lnTo>
                <a:lnTo>
                  <a:pt x="2265" y="1847"/>
                </a:lnTo>
                <a:lnTo>
                  <a:pt x="2284" y="1827"/>
                </a:lnTo>
                <a:lnTo>
                  <a:pt x="2301" y="1807"/>
                </a:lnTo>
                <a:lnTo>
                  <a:pt x="2317" y="1787"/>
                </a:lnTo>
                <a:lnTo>
                  <a:pt x="2331" y="1766"/>
                </a:lnTo>
                <a:lnTo>
                  <a:pt x="2345" y="1746"/>
                </a:lnTo>
                <a:lnTo>
                  <a:pt x="2357" y="1725"/>
                </a:lnTo>
                <a:lnTo>
                  <a:pt x="2367" y="1702"/>
                </a:lnTo>
                <a:lnTo>
                  <a:pt x="2376" y="1681"/>
                </a:lnTo>
                <a:lnTo>
                  <a:pt x="2384" y="1658"/>
                </a:lnTo>
                <a:lnTo>
                  <a:pt x="2390" y="1634"/>
                </a:lnTo>
                <a:lnTo>
                  <a:pt x="2396" y="1611"/>
                </a:lnTo>
                <a:lnTo>
                  <a:pt x="2391" y="1564"/>
                </a:lnTo>
                <a:lnTo>
                  <a:pt x="2385" y="1521"/>
                </a:lnTo>
                <a:lnTo>
                  <a:pt x="2380" y="1480"/>
                </a:lnTo>
                <a:lnTo>
                  <a:pt x="2374" y="1441"/>
                </a:lnTo>
                <a:lnTo>
                  <a:pt x="2366" y="1405"/>
                </a:lnTo>
                <a:lnTo>
                  <a:pt x="2358" y="1371"/>
                </a:lnTo>
                <a:lnTo>
                  <a:pt x="2350" y="1340"/>
                </a:lnTo>
                <a:lnTo>
                  <a:pt x="2341" y="1310"/>
                </a:lnTo>
                <a:lnTo>
                  <a:pt x="2335" y="1284"/>
                </a:lnTo>
                <a:lnTo>
                  <a:pt x="2330" y="1259"/>
                </a:lnTo>
                <a:lnTo>
                  <a:pt x="2329" y="1247"/>
                </a:lnTo>
                <a:lnTo>
                  <a:pt x="2328" y="1236"/>
                </a:lnTo>
                <a:lnTo>
                  <a:pt x="2328" y="1224"/>
                </a:lnTo>
                <a:lnTo>
                  <a:pt x="2329" y="1213"/>
                </a:lnTo>
                <a:lnTo>
                  <a:pt x="2330" y="1203"/>
                </a:lnTo>
                <a:lnTo>
                  <a:pt x="2331" y="1193"/>
                </a:lnTo>
                <a:lnTo>
                  <a:pt x="2334" y="1183"/>
                </a:lnTo>
                <a:lnTo>
                  <a:pt x="2337" y="1172"/>
                </a:lnTo>
                <a:lnTo>
                  <a:pt x="2340" y="1163"/>
                </a:lnTo>
                <a:lnTo>
                  <a:pt x="2344" y="1154"/>
                </a:lnTo>
                <a:lnTo>
                  <a:pt x="2349" y="1145"/>
                </a:lnTo>
                <a:lnTo>
                  <a:pt x="2354" y="1137"/>
                </a:lnTo>
                <a:lnTo>
                  <a:pt x="2321" y="1055"/>
                </a:lnTo>
                <a:lnTo>
                  <a:pt x="2277" y="1039"/>
                </a:lnTo>
                <a:lnTo>
                  <a:pt x="2233" y="1026"/>
                </a:lnTo>
                <a:lnTo>
                  <a:pt x="2190" y="1013"/>
                </a:lnTo>
                <a:lnTo>
                  <a:pt x="2150" y="1002"/>
                </a:lnTo>
                <a:lnTo>
                  <a:pt x="2109" y="993"/>
                </a:lnTo>
                <a:lnTo>
                  <a:pt x="2071" y="986"/>
                </a:lnTo>
                <a:lnTo>
                  <a:pt x="2032" y="980"/>
                </a:lnTo>
                <a:lnTo>
                  <a:pt x="1996" y="977"/>
                </a:lnTo>
                <a:lnTo>
                  <a:pt x="1978" y="969"/>
                </a:lnTo>
                <a:lnTo>
                  <a:pt x="1961" y="961"/>
                </a:lnTo>
                <a:lnTo>
                  <a:pt x="1944" y="956"/>
                </a:lnTo>
                <a:lnTo>
                  <a:pt x="1927" y="951"/>
                </a:lnTo>
                <a:lnTo>
                  <a:pt x="1911" y="948"/>
                </a:lnTo>
                <a:lnTo>
                  <a:pt x="1895" y="945"/>
                </a:lnTo>
                <a:lnTo>
                  <a:pt x="1879" y="944"/>
                </a:lnTo>
                <a:lnTo>
                  <a:pt x="1862" y="944"/>
                </a:lnTo>
                <a:lnTo>
                  <a:pt x="1846" y="945"/>
                </a:lnTo>
                <a:lnTo>
                  <a:pt x="1830" y="949"/>
                </a:lnTo>
                <a:lnTo>
                  <a:pt x="1816" y="952"/>
                </a:lnTo>
                <a:lnTo>
                  <a:pt x="1800" y="957"/>
                </a:lnTo>
                <a:lnTo>
                  <a:pt x="1785" y="964"/>
                </a:lnTo>
                <a:lnTo>
                  <a:pt x="1771" y="970"/>
                </a:lnTo>
                <a:lnTo>
                  <a:pt x="1756" y="979"/>
                </a:lnTo>
                <a:lnTo>
                  <a:pt x="1741" y="988"/>
                </a:lnTo>
                <a:lnTo>
                  <a:pt x="1700" y="1002"/>
                </a:lnTo>
                <a:lnTo>
                  <a:pt x="1657" y="1013"/>
                </a:lnTo>
                <a:lnTo>
                  <a:pt x="1611" y="1023"/>
                </a:lnTo>
                <a:lnTo>
                  <a:pt x="1563" y="1032"/>
                </a:lnTo>
                <a:lnTo>
                  <a:pt x="1514" y="1040"/>
                </a:lnTo>
                <a:lnTo>
                  <a:pt x="1460" y="1046"/>
                </a:lnTo>
                <a:lnTo>
                  <a:pt x="1406" y="1052"/>
                </a:lnTo>
                <a:lnTo>
                  <a:pt x="1350" y="1055"/>
                </a:lnTo>
                <a:lnTo>
                  <a:pt x="1333" y="1053"/>
                </a:lnTo>
                <a:lnTo>
                  <a:pt x="1316" y="1049"/>
                </a:lnTo>
                <a:lnTo>
                  <a:pt x="1301" y="1046"/>
                </a:lnTo>
                <a:lnTo>
                  <a:pt x="1286" y="1040"/>
                </a:lnTo>
                <a:lnTo>
                  <a:pt x="1272" y="1034"/>
                </a:lnTo>
                <a:lnTo>
                  <a:pt x="1259" y="1027"/>
                </a:lnTo>
                <a:lnTo>
                  <a:pt x="1246" y="1018"/>
                </a:lnTo>
                <a:lnTo>
                  <a:pt x="1234" y="1009"/>
                </a:lnTo>
                <a:lnTo>
                  <a:pt x="1222" y="997"/>
                </a:lnTo>
                <a:lnTo>
                  <a:pt x="1212" y="986"/>
                </a:lnTo>
                <a:lnTo>
                  <a:pt x="1202" y="974"/>
                </a:lnTo>
                <a:lnTo>
                  <a:pt x="1193" y="960"/>
                </a:lnTo>
                <a:lnTo>
                  <a:pt x="1185" y="944"/>
                </a:lnTo>
                <a:lnTo>
                  <a:pt x="1177" y="929"/>
                </a:lnTo>
                <a:lnTo>
                  <a:pt x="1171" y="912"/>
                </a:lnTo>
                <a:lnTo>
                  <a:pt x="1165" y="894"/>
                </a:lnTo>
                <a:lnTo>
                  <a:pt x="1165" y="877"/>
                </a:lnTo>
                <a:lnTo>
                  <a:pt x="1167" y="861"/>
                </a:lnTo>
                <a:lnTo>
                  <a:pt x="1171" y="844"/>
                </a:lnTo>
                <a:lnTo>
                  <a:pt x="1176" y="828"/>
                </a:lnTo>
                <a:lnTo>
                  <a:pt x="1182" y="812"/>
                </a:lnTo>
                <a:lnTo>
                  <a:pt x="1190" y="796"/>
                </a:lnTo>
                <a:lnTo>
                  <a:pt x="1199" y="781"/>
                </a:lnTo>
                <a:lnTo>
                  <a:pt x="1209" y="766"/>
                </a:lnTo>
                <a:lnTo>
                  <a:pt x="1220" y="750"/>
                </a:lnTo>
                <a:lnTo>
                  <a:pt x="1234" y="735"/>
                </a:lnTo>
                <a:lnTo>
                  <a:pt x="1248" y="721"/>
                </a:lnTo>
                <a:lnTo>
                  <a:pt x="1264" y="706"/>
                </a:lnTo>
                <a:lnTo>
                  <a:pt x="1281" y="692"/>
                </a:lnTo>
                <a:lnTo>
                  <a:pt x="1300" y="679"/>
                </a:lnTo>
                <a:lnTo>
                  <a:pt x="1321" y="664"/>
                </a:lnTo>
                <a:lnTo>
                  <a:pt x="1342" y="652"/>
                </a:lnTo>
                <a:lnTo>
                  <a:pt x="1362" y="648"/>
                </a:lnTo>
                <a:lnTo>
                  <a:pt x="1383" y="646"/>
                </a:lnTo>
                <a:lnTo>
                  <a:pt x="1404" y="645"/>
                </a:lnTo>
                <a:lnTo>
                  <a:pt x="1427" y="644"/>
                </a:lnTo>
                <a:lnTo>
                  <a:pt x="1448" y="645"/>
                </a:lnTo>
                <a:lnTo>
                  <a:pt x="1472" y="645"/>
                </a:lnTo>
                <a:lnTo>
                  <a:pt x="1495" y="647"/>
                </a:lnTo>
                <a:lnTo>
                  <a:pt x="1519" y="650"/>
                </a:lnTo>
                <a:lnTo>
                  <a:pt x="1543" y="652"/>
                </a:lnTo>
                <a:lnTo>
                  <a:pt x="1568" y="655"/>
                </a:lnTo>
                <a:lnTo>
                  <a:pt x="1594" y="660"/>
                </a:lnTo>
                <a:lnTo>
                  <a:pt x="1620" y="665"/>
                </a:lnTo>
                <a:lnTo>
                  <a:pt x="1673" y="677"/>
                </a:lnTo>
                <a:lnTo>
                  <a:pt x="1729" y="692"/>
                </a:lnTo>
                <a:lnTo>
                  <a:pt x="1745" y="708"/>
                </a:lnTo>
                <a:lnTo>
                  <a:pt x="1761" y="723"/>
                </a:lnTo>
                <a:lnTo>
                  <a:pt x="1775" y="735"/>
                </a:lnTo>
                <a:lnTo>
                  <a:pt x="1791" y="746"/>
                </a:lnTo>
                <a:lnTo>
                  <a:pt x="1806" y="755"/>
                </a:lnTo>
                <a:lnTo>
                  <a:pt x="1820" y="761"/>
                </a:lnTo>
                <a:lnTo>
                  <a:pt x="1835" y="767"/>
                </a:lnTo>
                <a:lnTo>
                  <a:pt x="1849" y="770"/>
                </a:lnTo>
                <a:lnTo>
                  <a:pt x="1863" y="773"/>
                </a:lnTo>
                <a:lnTo>
                  <a:pt x="1877" y="773"/>
                </a:lnTo>
                <a:lnTo>
                  <a:pt x="1890" y="770"/>
                </a:lnTo>
                <a:lnTo>
                  <a:pt x="1904" y="767"/>
                </a:lnTo>
                <a:lnTo>
                  <a:pt x="1917" y="761"/>
                </a:lnTo>
                <a:lnTo>
                  <a:pt x="1930" y="753"/>
                </a:lnTo>
                <a:lnTo>
                  <a:pt x="1942" y="744"/>
                </a:lnTo>
                <a:lnTo>
                  <a:pt x="1955" y="733"/>
                </a:lnTo>
                <a:lnTo>
                  <a:pt x="1977" y="724"/>
                </a:lnTo>
                <a:lnTo>
                  <a:pt x="2002" y="716"/>
                </a:lnTo>
                <a:lnTo>
                  <a:pt x="2029" y="711"/>
                </a:lnTo>
                <a:lnTo>
                  <a:pt x="2058" y="706"/>
                </a:lnTo>
                <a:lnTo>
                  <a:pt x="2089" y="703"/>
                </a:lnTo>
                <a:lnTo>
                  <a:pt x="2121" y="702"/>
                </a:lnTo>
                <a:lnTo>
                  <a:pt x="2156" y="703"/>
                </a:lnTo>
                <a:lnTo>
                  <a:pt x="2194" y="705"/>
                </a:lnTo>
                <a:lnTo>
                  <a:pt x="2213" y="699"/>
                </a:lnTo>
                <a:lnTo>
                  <a:pt x="2231" y="694"/>
                </a:lnTo>
                <a:lnTo>
                  <a:pt x="2249" y="686"/>
                </a:lnTo>
                <a:lnTo>
                  <a:pt x="2265" y="679"/>
                </a:lnTo>
                <a:lnTo>
                  <a:pt x="2281" y="670"/>
                </a:lnTo>
                <a:lnTo>
                  <a:pt x="2294" y="661"/>
                </a:lnTo>
                <a:lnTo>
                  <a:pt x="2308" y="652"/>
                </a:lnTo>
                <a:lnTo>
                  <a:pt x="2320" y="641"/>
                </a:lnTo>
                <a:lnTo>
                  <a:pt x="2331" y="629"/>
                </a:lnTo>
                <a:lnTo>
                  <a:pt x="2341" y="618"/>
                </a:lnTo>
                <a:lnTo>
                  <a:pt x="2350" y="606"/>
                </a:lnTo>
                <a:lnTo>
                  <a:pt x="2358" y="592"/>
                </a:lnTo>
                <a:lnTo>
                  <a:pt x="2365" y="578"/>
                </a:lnTo>
                <a:lnTo>
                  <a:pt x="2371" y="564"/>
                </a:lnTo>
                <a:lnTo>
                  <a:pt x="2375" y="548"/>
                </a:lnTo>
                <a:lnTo>
                  <a:pt x="2379" y="532"/>
                </a:lnTo>
                <a:lnTo>
                  <a:pt x="2373" y="479"/>
                </a:lnTo>
                <a:lnTo>
                  <a:pt x="2367" y="431"/>
                </a:lnTo>
                <a:lnTo>
                  <a:pt x="2362" y="384"/>
                </a:lnTo>
                <a:lnTo>
                  <a:pt x="2357" y="344"/>
                </a:lnTo>
                <a:lnTo>
                  <a:pt x="2353" y="305"/>
                </a:lnTo>
                <a:lnTo>
                  <a:pt x="2348" y="271"/>
                </a:lnTo>
                <a:lnTo>
                  <a:pt x="2345" y="241"/>
                </a:lnTo>
                <a:lnTo>
                  <a:pt x="2341" y="215"/>
                </a:lnTo>
                <a:lnTo>
                  <a:pt x="2345" y="193"/>
                </a:lnTo>
                <a:lnTo>
                  <a:pt x="2349" y="173"/>
                </a:lnTo>
                <a:lnTo>
                  <a:pt x="2355" y="155"/>
                </a:lnTo>
                <a:lnTo>
                  <a:pt x="2363" y="137"/>
                </a:lnTo>
                <a:lnTo>
                  <a:pt x="2371" y="120"/>
                </a:lnTo>
                <a:lnTo>
                  <a:pt x="2380" y="103"/>
                </a:lnTo>
                <a:lnTo>
                  <a:pt x="2391" y="88"/>
                </a:lnTo>
                <a:lnTo>
                  <a:pt x="2403" y="75"/>
                </a:lnTo>
                <a:lnTo>
                  <a:pt x="2417" y="61"/>
                </a:lnTo>
                <a:lnTo>
                  <a:pt x="2432" y="50"/>
                </a:lnTo>
                <a:lnTo>
                  <a:pt x="2447" y="39"/>
                </a:lnTo>
                <a:lnTo>
                  <a:pt x="2466" y="30"/>
                </a:lnTo>
                <a:lnTo>
                  <a:pt x="2484" y="21"/>
                </a:lnTo>
                <a:lnTo>
                  <a:pt x="2504" y="13"/>
                </a:lnTo>
                <a:lnTo>
                  <a:pt x="2525" y="6"/>
                </a:lnTo>
                <a:lnTo>
                  <a:pt x="2548" y="0"/>
                </a:lnTo>
                <a:lnTo>
                  <a:pt x="2572" y="6"/>
                </a:lnTo>
                <a:lnTo>
                  <a:pt x="2594" y="13"/>
                </a:lnTo>
                <a:lnTo>
                  <a:pt x="2616" y="19"/>
                </a:lnTo>
                <a:lnTo>
                  <a:pt x="2636" y="28"/>
                </a:lnTo>
                <a:lnTo>
                  <a:pt x="2655" y="38"/>
                </a:lnTo>
                <a:lnTo>
                  <a:pt x="2673" y="48"/>
                </a:lnTo>
                <a:lnTo>
                  <a:pt x="2690" y="59"/>
                </a:lnTo>
                <a:lnTo>
                  <a:pt x="2706" y="71"/>
                </a:lnTo>
                <a:lnTo>
                  <a:pt x="2720" y="85"/>
                </a:lnTo>
                <a:lnTo>
                  <a:pt x="2735" y="99"/>
                </a:lnTo>
                <a:lnTo>
                  <a:pt x="2748" y="113"/>
                </a:lnTo>
                <a:lnTo>
                  <a:pt x="2759" y="129"/>
                </a:lnTo>
                <a:lnTo>
                  <a:pt x="2770" y="146"/>
                </a:lnTo>
                <a:lnTo>
                  <a:pt x="2779" y="164"/>
                </a:lnTo>
                <a:lnTo>
                  <a:pt x="2787" y="182"/>
                </a:lnTo>
                <a:lnTo>
                  <a:pt x="2795" y="202"/>
                </a:lnTo>
                <a:lnTo>
                  <a:pt x="2786" y="461"/>
                </a:lnTo>
                <a:lnTo>
                  <a:pt x="2789" y="481"/>
                </a:lnTo>
                <a:lnTo>
                  <a:pt x="2794" y="501"/>
                </a:lnTo>
                <a:lnTo>
                  <a:pt x="2799" y="519"/>
                </a:lnTo>
                <a:lnTo>
                  <a:pt x="2807" y="536"/>
                </a:lnTo>
                <a:lnTo>
                  <a:pt x="2815" y="550"/>
                </a:lnTo>
                <a:lnTo>
                  <a:pt x="2825" y="565"/>
                </a:lnTo>
                <a:lnTo>
                  <a:pt x="2837" y="578"/>
                </a:lnTo>
                <a:lnTo>
                  <a:pt x="2850" y="591"/>
                </a:lnTo>
                <a:lnTo>
                  <a:pt x="2864" y="602"/>
                </a:lnTo>
                <a:lnTo>
                  <a:pt x="2880" y="612"/>
                </a:lnTo>
                <a:lnTo>
                  <a:pt x="2896" y="622"/>
                </a:lnTo>
                <a:lnTo>
                  <a:pt x="2914" y="630"/>
                </a:lnTo>
                <a:lnTo>
                  <a:pt x="2934" y="637"/>
                </a:lnTo>
                <a:lnTo>
                  <a:pt x="2955" y="643"/>
                </a:lnTo>
                <a:lnTo>
                  <a:pt x="2977" y="647"/>
                </a:lnTo>
                <a:lnTo>
                  <a:pt x="3000" y="652"/>
                </a:lnTo>
                <a:lnTo>
                  <a:pt x="3440" y="652"/>
                </a:lnTo>
                <a:lnTo>
                  <a:pt x="3692" y="652"/>
                </a:lnTo>
                <a:lnTo>
                  <a:pt x="3711" y="660"/>
                </a:lnTo>
                <a:lnTo>
                  <a:pt x="3730" y="669"/>
                </a:lnTo>
                <a:lnTo>
                  <a:pt x="3747" y="678"/>
                </a:lnTo>
                <a:lnTo>
                  <a:pt x="3764" y="688"/>
                </a:lnTo>
                <a:lnTo>
                  <a:pt x="3780" y="697"/>
                </a:lnTo>
                <a:lnTo>
                  <a:pt x="3793" y="706"/>
                </a:lnTo>
                <a:lnTo>
                  <a:pt x="3807" y="716"/>
                </a:lnTo>
                <a:lnTo>
                  <a:pt x="3820" y="726"/>
                </a:lnTo>
                <a:lnTo>
                  <a:pt x="3832" y="737"/>
                </a:lnTo>
                <a:lnTo>
                  <a:pt x="3842" y="747"/>
                </a:lnTo>
                <a:lnTo>
                  <a:pt x="3852" y="757"/>
                </a:lnTo>
                <a:lnTo>
                  <a:pt x="3860" y="768"/>
                </a:lnTo>
                <a:lnTo>
                  <a:pt x="3868" y="778"/>
                </a:lnTo>
                <a:lnTo>
                  <a:pt x="3874" y="790"/>
                </a:lnTo>
                <a:lnTo>
                  <a:pt x="3880" y="801"/>
                </a:lnTo>
                <a:lnTo>
                  <a:pt x="3885" y="811"/>
                </a:lnTo>
                <a:lnTo>
                  <a:pt x="3882" y="828"/>
                </a:lnTo>
                <a:lnTo>
                  <a:pt x="3879" y="845"/>
                </a:lnTo>
                <a:lnTo>
                  <a:pt x="3874" y="861"/>
                </a:lnTo>
                <a:lnTo>
                  <a:pt x="3868" y="875"/>
                </a:lnTo>
                <a:lnTo>
                  <a:pt x="3859" y="890"/>
                </a:lnTo>
                <a:lnTo>
                  <a:pt x="3848" y="905"/>
                </a:lnTo>
                <a:lnTo>
                  <a:pt x="3837" y="918"/>
                </a:lnTo>
                <a:lnTo>
                  <a:pt x="3824" y="931"/>
                </a:lnTo>
                <a:lnTo>
                  <a:pt x="3809" y="944"/>
                </a:lnTo>
                <a:lnTo>
                  <a:pt x="3792" y="956"/>
                </a:lnTo>
                <a:lnTo>
                  <a:pt x="3774" y="968"/>
                </a:lnTo>
                <a:lnTo>
                  <a:pt x="3755" y="978"/>
                </a:lnTo>
                <a:lnTo>
                  <a:pt x="3732" y="989"/>
                </a:lnTo>
                <a:lnTo>
                  <a:pt x="3710" y="1000"/>
                </a:lnTo>
                <a:lnTo>
                  <a:pt x="3685" y="1009"/>
                </a:lnTo>
                <a:lnTo>
                  <a:pt x="3659" y="1018"/>
                </a:lnTo>
                <a:lnTo>
                  <a:pt x="2795" y="1055"/>
                </a:lnTo>
                <a:lnTo>
                  <a:pt x="2733" y="1573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158920" y="5334120"/>
            <a:ext cx="801720" cy="804600"/>
          </a:xfrm>
          <a:custGeom>
            <a:avLst/>
            <a:gdLst/>
            <a:ahLst/>
            <a:rect l="l" t="t" r="r" b="b"/>
            <a:pathLst>
              <a:path w="4045" h="4057">
                <a:moveTo>
                  <a:pt x="1827" y="148"/>
                </a:moveTo>
                <a:lnTo>
                  <a:pt x="1834" y="132"/>
                </a:lnTo>
                <a:lnTo>
                  <a:pt x="1842" y="117"/>
                </a:lnTo>
                <a:lnTo>
                  <a:pt x="1850" y="103"/>
                </a:lnTo>
                <a:lnTo>
                  <a:pt x="1859" y="89"/>
                </a:lnTo>
                <a:lnTo>
                  <a:pt x="1869" y="77"/>
                </a:lnTo>
                <a:lnTo>
                  <a:pt x="1878" y="65"/>
                </a:lnTo>
                <a:lnTo>
                  <a:pt x="1889" y="55"/>
                </a:lnTo>
                <a:lnTo>
                  <a:pt x="1901" y="45"/>
                </a:lnTo>
                <a:lnTo>
                  <a:pt x="1912" y="36"/>
                </a:lnTo>
                <a:lnTo>
                  <a:pt x="1926" y="28"/>
                </a:lnTo>
                <a:lnTo>
                  <a:pt x="1938" y="21"/>
                </a:lnTo>
                <a:lnTo>
                  <a:pt x="1952" y="16"/>
                </a:lnTo>
                <a:lnTo>
                  <a:pt x="1966" y="10"/>
                </a:lnTo>
                <a:lnTo>
                  <a:pt x="1981" y="6"/>
                </a:lnTo>
                <a:lnTo>
                  <a:pt x="1997" y="2"/>
                </a:lnTo>
                <a:lnTo>
                  <a:pt x="2012" y="0"/>
                </a:lnTo>
                <a:lnTo>
                  <a:pt x="2035" y="2"/>
                </a:lnTo>
                <a:lnTo>
                  <a:pt x="2056" y="7"/>
                </a:lnTo>
                <a:lnTo>
                  <a:pt x="2076" y="11"/>
                </a:lnTo>
                <a:lnTo>
                  <a:pt x="2095" y="17"/>
                </a:lnTo>
                <a:lnTo>
                  <a:pt x="2113" y="24"/>
                </a:lnTo>
                <a:lnTo>
                  <a:pt x="2129" y="32"/>
                </a:lnTo>
                <a:lnTo>
                  <a:pt x="2144" y="40"/>
                </a:lnTo>
                <a:lnTo>
                  <a:pt x="2159" y="50"/>
                </a:lnTo>
                <a:lnTo>
                  <a:pt x="2173" y="61"/>
                </a:lnTo>
                <a:lnTo>
                  <a:pt x="2184" y="72"/>
                </a:lnTo>
                <a:lnTo>
                  <a:pt x="2195" y="85"/>
                </a:lnTo>
                <a:lnTo>
                  <a:pt x="2205" y="99"/>
                </a:lnTo>
                <a:lnTo>
                  <a:pt x="2214" y="114"/>
                </a:lnTo>
                <a:lnTo>
                  <a:pt x="2222" y="130"/>
                </a:lnTo>
                <a:lnTo>
                  <a:pt x="2229" y="147"/>
                </a:lnTo>
                <a:lnTo>
                  <a:pt x="2235" y="165"/>
                </a:lnTo>
                <a:lnTo>
                  <a:pt x="2235" y="198"/>
                </a:lnTo>
                <a:lnTo>
                  <a:pt x="2235" y="231"/>
                </a:lnTo>
                <a:lnTo>
                  <a:pt x="2235" y="264"/>
                </a:lnTo>
                <a:lnTo>
                  <a:pt x="2235" y="297"/>
                </a:lnTo>
                <a:lnTo>
                  <a:pt x="2241" y="312"/>
                </a:lnTo>
                <a:lnTo>
                  <a:pt x="2248" y="326"/>
                </a:lnTo>
                <a:lnTo>
                  <a:pt x="2257" y="340"/>
                </a:lnTo>
                <a:lnTo>
                  <a:pt x="2268" y="352"/>
                </a:lnTo>
                <a:lnTo>
                  <a:pt x="2280" y="364"/>
                </a:lnTo>
                <a:lnTo>
                  <a:pt x="2292" y="375"/>
                </a:lnTo>
                <a:lnTo>
                  <a:pt x="2307" y="384"/>
                </a:lnTo>
                <a:lnTo>
                  <a:pt x="2323" y="393"/>
                </a:lnTo>
                <a:lnTo>
                  <a:pt x="2340" y="400"/>
                </a:lnTo>
                <a:lnTo>
                  <a:pt x="2358" y="407"/>
                </a:lnTo>
                <a:lnTo>
                  <a:pt x="2377" y="412"/>
                </a:lnTo>
                <a:lnTo>
                  <a:pt x="2397" y="417"/>
                </a:lnTo>
                <a:lnTo>
                  <a:pt x="2420" y="420"/>
                </a:lnTo>
                <a:lnTo>
                  <a:pt x="2443" y="422"/>
                </a:lnTo>
                <a:lnTo>
                  <a:pt x="2468" y="425"/>
                </a:lnTo>
                <a:lnTo>
                  <a:pt x="2494" y="425"/>
                </a:lnTo>
                <a:lnTo>
                  <a:pt x="2556" y="426"/>
                </a:lnTo>
                <a:lnTo>
                  <a:pt x="2618" y="427"/>
                </a:lnTo>
                <a:lnTo>
                  <a:pt x="2680" y="429"/>
                </a:lnTo>
                <a:lnTo>
                  <a:pt x="2742" y="430"/>
                </a:lnTo>
                <a:lnTo>
                  <a:pt x="2805" y="431"/>
                </a:lnTo>
                <a:lnTo>
                  <a:pt x="2867" y="431"/>
                </a:lnTo>
                <a:lnTo>
                  <a:pt x="2930" y="433"/>
                </a:lnTo>
                <a:lnTo>
                  <a:pt x="2992" y="434"/>
                </a:lnTo>
                <a:lnTo>
                  <a:pt x="3054" y="435"/>
                </a:lnTo>
                <a:lnTo>
                  <a:pt x="3116" y="435"/>
                </a:lnTo>
                <a:lnTo>
                  <a:pt x="3177" y="436"/>
                </a:lnTo>
                <a:lnTo>
                  <a:pt x="3239" y="436"/>
                </a:lnTo>
                <a:lnTo>
                  <a:pt x="3301" y="436"/>
                </a:lnTo>
                <a:lnTo>
                  <a:pt x="3363" y="436"/>
                </a:lnTo>
                <a:lnTo>
                  <a:pt x="3425" y="437"/>
                </a:lnTo>
                <a:lnTo>
                  <a:pt x="3487" y="437"/>
                </a:lnTo>
                <a:lnTo>
                  <a:pt x="3505" y="442"/>
                </a:lnTo>
                <a:lnTo>
                  <a:pt x="3522" y="448"/>
                </a:lnTo>
                <a:lnTo>
                  <a:pt x="3537" y="454"/>
                </a:lnTo>
                <a:lnTo>
                  <a:pt x="3553" y="462"/>
                </a:lnTo>
                <a:lnTo>
                  <a:pt x="3567" y="469"/>
                </a:lnTo>
                <a:lnTo>
                  <a:pt x="3580" y="477"/>
                </a:lnTo>
                <a:lnTo>
                  <a:pt x="3592" y="486"/>
                </a:lnTo>
                <a:lnTo>
                  <a:pt x="3602" y="495"/>
                </a:lnTo>
                <a:lnTo>
                  <a:pt x="3612" y="504"/>
                </a:lnTo>
                <a:lnTo>
                  <a:pt x="3620" y="514"/>
                </a:lnTo>
                <a:lnTo>
                  <a:pt x="3627" y="525"/>
                </a:lnTo>
                <a:lnTo>
                  <a:pt x="3633" y="535"/>
                </a:lnTo>
                <a:lnTo>
                  <a:pt x="3638" y="548"/>
                </a:lnTo>
                <a:lnTo>
                  <a:pt x="3642" y="559"/>
                </a:lnTo>
                <a:lnTo>
                  <a:pt x="3645" y="571"/>
                </a:lnTo>
                <a:lnTo>
                  <a:pt x="3646" y="585"/>
                </a:lnTo>
                <a:lnTo>
                  <a:pt x="3645" y="595"/>
                </a:lnTo>
                <a:lnTo>
                  <a:pt x="3642" y="605"/>
                </a:lnTo>
                <a:lnTo>
                  <a:pt x="3639" y="614"/>
                </a:lnTo>
                <a:lnTo>
                  <a:pt x="3636" y="624"/>
                </a:lnTo>
                <a:lnTo>
                  <a:pt x="3630" y="634"/>
                </a:lnTo>
                <a:lnTo>
                  <a:pt x="3624" y="643"/>
                </a:lnTo>
                <a:lnTo>
                  <a:pt x="3618" y="652"/>
                </a:lnTo>
                <a:lnTo>
                  <a:pt x="3611" y="661"/>
                </a:lnTo>
                <a:lnTo>
                  <a:pt x="3602" y="669"/>
                </a:lnTo>
                <a:lnTo>
                  <a:pt x="3593" y="676"/>
                </a:lnTo>
                <a:lnTo>
                  <a:pt x="3583" y="685"/>
                </a:lnTo>
                <a:lnTo>
                  <a:pt x="3571" y="692"/>
                </a:lnTo>
                <a:lnTo>
                  <a:pt x="3560" y="700"/>
                </a:lnTo>
                <a:lnTo>
                  <a:pt x="3547" y="707"/>
                </a:lnTo>
                <a:lnTo>
                  <a:pt x="3533" y="715"/>
                </a:lnTo>
                <a:lnTo>
                  <a:pt x="3518" y="722"/>
                </a:lnTo>
                <a:lnTo>
                  <a:pt x="3460" y="722"/>
                </a:lnTo>
                <a:lnTo>
                  <a:pt x="3400" y="722"/>
                </a:lnTo>
                <a:lnTo>
                  <a:pt x="3342" y="723"/>
                </a:lnTo>
                <a:lnTo>
                  <a:pt x="3284" y="724"/>
                </a:lnTo>
                <a:lnTo>
                  <a:pt x="3227" y="726"/>
                </a:lnTo>
                <a:lnTo>
                  <a:pt x="3170" y="728"/>
                </a:lnTo>
                <a:lnTo>
                  <a:pt x="3113" y="731"/>
                </a:lnTo>
                <a:lnTo>
                  <a:pt x="3058" y="733"/>
                </a:lnTo>
                <a:lnTo>
                  <a:pt x="3021" y="744"/>
                </a:lnTo>
                <a:lnTo>
                  <a:pt x="2986" y="758"/>
                </a:lnTo>
                <a:lnTo>
                  <a:pt x="2969" y="765"/>
                </a:lnTo>
                <a:lnTo>
                  <a:pt x="2952" y="772"/>
                </a:lnTo>
                <a:lnTo>
                  <a:pt x="2936" y="780"/>
                </a:lnTo>
                <a:lnTo>
                  <a:pt x="2920" y="788"/>
                </a:lnTo>
                <a:lnTo>
                  <a:pt x="2905" y="797"/>
                </a:lnTo>
                <a:lnTo>
                  <a:pt x="2890" y="806"/>
                </a:lnTo>
                <a:lnTo>
                  <a:pt x="2875" y="815"/>
                </a:lnTo>
                <a:lnTo>
                  <a:pt x="2862" y="825"/>
                </a:lnTo>
                <a:lnTo>
                  <a:pt x="2848" y="836"/>
                </a:lnTo>
                <a:lnTo>
                  <a:pt x="2836" y="847"/>
                </a:lnTo>
                <a:lnTo>
                  <a:pt x="2823" y="858"/>
                </a:lnTo>
                <a:lnTo>
                  <a:pt x="2811" y="870"/>
                </a:lnTo>
                <a:lnTo>
                  <a:pt x="2803" y="899"/>
                </a:lnTo>
                <a:lnTo>
                  <a:pt x="2798" y="927"/>
                </a:lnTo>
                <a:lnTo>
                  <a:pt x="2793" y="954"/>
                </a:lnTo>
                <a:lnTo>
                  <a:pt x="2792" y="980"/>
                </a:lnTo>
                <a:lnTo>
                  <a:pt x="2793" y="993"/>
                </a:lnTo>
                <a:lnTo>
                  <a:pt x="2793" y="1005"/>
                </a:lnTo>
                <a:lnTo>
                  <a:pt x="2795" y="1016"/>
                </a:lnTo>
                <a:lnTo>
                  <a:pt x="2798" y="1028"/>
                </a:lnTo>
                <a:lnTo>
                  <a:pt x="2800" y="1039"/>
                </a:lnTo>
                <a:lnTo>
                  <a:pt x="2803" y="1050"/>
                </a:lnTo>
                <a:lnTo>
                  <a:pt x="2807" y="1062"/>
                </a:lnTo>
                <a:lnTo>
                  <a:pt x="2811" y="1072"/>
                </a:lnTo>
                <a:lnTo>
                  <a:pt x="2829" y="1086"/>
                </a:lnTo>
                <a:lnTo>
                  <a:pt x="2848" y="1100"/>
                </a:lnTo>
                <a:lnTo>
                  <a:pt x="2857" y="1106"/>
                </a:lnTo>
                <a:lnTo>
                  <a:pt x="2867" y="1111"/>
                </a:lnTo>
                <a:lnTo>
                  <a:pt x="2878" y="1116"/>
                </a:lnTo>
                <a:lnTo>
                  <a:pt x="2888" y="1120"/>
                </a:lnTo>
                <a:lnTo>
                  <a:pt x="2909" y="1128"/>
                </a:lnTo>
                <a:lnTo>
                  <a:pt x="2932" y="1133"/>
                </a:lnTo>
                <a:lnTo>
                  <a:pt x="2955" y="1136"/>
                </a:lnTo>
                <a:lnTo>
                  <a:pt x="2980" y="1137"/>
                </a:lnTo>
                <a:lnTo>
                  <a:pt x="3065" y="1139"/>
                </a:lnTo>
                <a:lnTo>
                  <a:pt x="3153" y="1142"/>
                </a:lnTo>
                <a:lnTo>
                  <a:pt x="3243" y="1143"/>
                </a:lnTo>
                <a:lnTo>
                  <a:pt x="3334" y="1143"/>
                </a:lnTo>
                <a:lnTo>
                  <a:pt x="3429" y="1143"/>
                </a:lnTo>
                <a:lnTo>
                  <a:pt x="3525" y="1142"/>
                </a:lnTo>
                <a:lnTo>
                  <a:pt x="3623" y="1139"/>
                </a:lnTo>
                <a:lnTo>
                  <a:pt x="3725" y="1137"/>
                </a:lnTo>
                <a:lnTo>
                  <a:pt x="3741" y="1143"/>
                </a:lnTo>
                <a:lnTo>
                  <a:pt x="3755" y="1148"/>
                </a:lnTo>
                <a:lnTo>
                  <a:pt x="3770" y="1155"/>
                </a:lnTo>
                <a:lnTo>
                  <a:pt x="3782" y="1162"/>
                </a:lnTo>
                <a:lnTo>
                  <a:pt x="3795" y="1169"/>
                </a:lnTo>
                <a:lnTo>
                  <a:pt x="3806" y="1177"/>
                </a:lnTo>
                <a:lnTo>
                  <a:pt x="3816" y="1186"/>
                </a:lnTo>
                <a:lnTo>
                  <a:pt x="3825" y="1195"/>
                </a:lnTo>
                <a:lnTo>
                  <a:pt x="3834" y="1204"/>
                </a:lnTo>
                <a:lnTo>
                  <a:pt x="3841" y="1214"/>
                </a:lnTo>
                <a:lnTo>
                  <a:pt x="3848" y="1225"/>
                </a:lnTo>
                <a:lnTo>
                  <a:pt x="3852" y="1235"/>
                </a:lnTo>
                <a:lnTo>
                  <a:pt x="3857" y="1248"/>
                </a:lnTo>
                <a:lnTo>
                  <a:pt x="3860" y="1259"/>
                </a:lnTo>
                <a:lnTo>
                  <a:pt x="3863" y="1273"/>
                </a:lnTo>
                <a:lnTo>
                  <a:pt x="3865" y="1285"/>
                </a:lnTo>
                <a:lnTo>
                  <a:pt x="3861" y="1295"/>
                </a:lnTo>
                <a:lnTo>
                  <a:pt x="3857" y="1305"/>
                </a:lnTo>
                <a:lnTo>
                  <a:pt x="3852" y="1314"/>
                </a:lnTo>
                <a:lnTo>
                  <a:pt x="3847" y="1322"/>
                </a:lnTo>
                <a:lnTo>
                  <a:pt x="3841" y="1331"/>
                </a:lnTo>
                <a:lnTo>
                  <a:pt x="3834" y="1339"/>
                </a:lnTo>
                <a:lnTo>
                  <a:pt x="3827" y="1346"/>
                </a:lnTo>
                <a:lnTo>
                  <a:pt x="3819" y="1353"/>
                </a:lnTo>
                <a:lnTo>
                  <a:pt x="3810" y="1360"/>
                </a:lnTo>
                <a:lnTo>
                  <a:pt x="3801" y="1366"/>
                </a:lnTo>
                <a:lnTo>
                  <a:pt x="3791" y="1371"/>
                </a:lnTo>
                <a:lnTo>
                  <a:pt x="3781" y="1377"/>
                </a:lnTo>
                <a:lnTo>
                  <a:pt x="3770" y="1381"/>
                </a:lnTo>
                <a:lnTo>
                  <a:pt x="3759" y="1386"/>
                </a:lnTo>
                <a:lnTo>
                  <a:pt x="3746" y="1389"/>
                </a:lnTo>
                <a:lnTo>
                  <a:pt x="3733" y="1392"/>
                </a:lnTo>
                <a:lnTo>
                  <a:pt x="3566" y="1394"/>
                </a:lnTo>
                <a:lnTo>
                  <a:pt x="3398" y="1394"/>
                </a:lnTo>
                <a:lnTo>
                  <a:pt x="3231" y="1395"/>
                </a:lnTo>
                <a:lnTo>
                  <a:pt x="3063" y="1396"/>
                </a:lnTo>
                <a:lnTo>
                  <a:pt x="2895" y="1397"/>
                </a:lnTo>
                <a:lnTo>
                  <a:pt x="2726" y="1398"/>
                </a:lnTo>
                <a:lnTo>
                  <a:pt x="2558" y="1400"/>
                </a:lnTo>
                <a:lnTo>
                  <a:pt x="2390" y="1403"/>
                </a:lnTo>
                <a:lnTo>
                  <a:pt x="2222" y="1406"/>
                </a:lnTo>
                <a:lnTo>
                  <a:pt x="2053" y="1408"/>
                </a:lnTo>
                <a:lnTo>
                  <a:pt x="1884" y="1412"/>
                </a:lnTo>
                <a:lnTo>
                  <a:pt x="1715" y="1416"/>
                </a:lnTo>
                <a:lnTo>
                  <a:pt x="1545" y="1419"/>
                </a:lnTo>
                <a:lnTo>
                  <a:pt x="1376" y="1424"/>
                </a:lnTo>
                <a:lnTo>
                  <a:pt x="1207" y="1429"/>
                </a:lnTo>
                <a:lnTo>
                  <a:pt x="1038" y="1434"/>
                </a:lnTo>
                <a:lnTo>
                  <a:pt x="998" y="1443"/>
                </a:lnTo>
                <a:lnTo>
                  <a:pt x="959" y="1451"/>
                </a:lnTo>
                <a:lnTo>
                  <a:pt x="941" y="1454"/>
                </a:lnTo>
                <a:lnTo>
                  <a:pt x="922" y="1457"/>
                </a:lnTo>
                <a:lnTo>
                  <a:pt x="904" y="1458"/>
                </a:lnTo>
                <a:lnTo>
                  <a:pt x="886" y="1459"/>
                </a:lnTo>
                <a:lnTo>
                  <a:pt x="868" y="1460"/>
                </a:lnTo>
                <a:lnTo>
                  <a:pt x="849" y="1460"/>
                </a:lnTo>
                <a:lnTo>
                  <a:pt x="833" y="1459"/>
                </a:lnTo>
                <a:lnTo>
                  <a:pt x="816" y="1458"/>
                </a:lnTo>
                <a:lnTo>
                  <a:pt x="799" y="1456"/>
                </a:lnTo>
                <a:lnTo>
                  <a:pt x="782" y="1453"/>
                </a:lnTo>
                <a:lnTo>
                  <a:pt x="766" y="1450"/>
                </a:lnTo>
                <a:lnTo>
                  <a:pt x="749" y="1447"/>
                </a:lnTo>
                <a:lnTo>
                  <a:pt x="740" y="1440"/>
                </a:lnTo>
                <a:lnTo>
                  <a:pt x="731" y="1435"/>
                </a:lnTo>
                <a:lnTo>
                  <a:pt x="722" y="1431"/>
                </a:lnTo>
                <a:lnTo>
                  <a:pt x="712" y="1427"/>
                </a:lnTo>
                <a:lnTo>
                  <a:pt x="703" y="1425"/>
                </a:lnTo>
                <a:lnTo>
                  <a:pt x="694" y="1423"/>
                </a:lnTo>
                <a:lnTo>
                  <a:pt x="684" y="1423"/>
                </a:lnTo>
                <a:lnTo>
                  <a:pt x="675" y="1424"/>
                </a:lnTo>
                <a:lnTo>
                  <a:pt x="664" y="1425"/>
                </a:lnTo>
                <a:lnTo>
                  <a:pt x="655" y="1427"/>
                </a:lnTo>
                <a:lnTo>
                  <a:pt x="645" y="1431"/>
                </a:lnTo>
                <a:lnTo>
                  <a:pt x="636" y="1435"/>
                </a:lnTo>
                <a:lnTo>
                  <a:pt x="626" y="1441"/>
                </a:lnTo>
                <a:lnTo>
                  <a:pt x="617" y="1447"/>
                </a:lnTo>
                <a:lnTo>
                  <a:pt x="607" y="1454"/>
                </a:lnTo>
                <a:lnTo>
                  <a:pt x="597" y="1462"/>
                </a:lnTo>
                <a:lnTo>
                  <a:pt x="583" y="1474"/>
                </a:lnTo>
                <a:lnTo>
                  <a:pt x="571" y="1483"/>
                </a:lnTo>
                <a:lnTo>
                  <a:pt x="557" y="1492"/>
                </a:lnTo>
                <a:lnTo>
                  <a:pt x="544" y="1500"/>
                </a:lnTo>
                <a:lnTo>
                  <a:pt x="530" y="1506"/>
                </a:lnTo>
                <a:lnTo>
                  <a:pt x="517" y="1512"/>
                </a:lnTo>
                <a:lnTo>
                  <a:pt x="504" y="1517"/>
                </a:lnTo>
                <a:lnTo>
                  <a:pt x="491" y="1520"/>
                </a:lnTo>
                <a:lnTo>
                  <a:pt x="443" y="1529"/>
                </a:lnTo>
                <a:lnTo>
                  <a:pt x="397" y="1536"/>
                </a:lnTo>
                <a:lnTo>
                  <a:pt x="376" y="1538"/>
                </a:lnTo>
                <a:lnTo>
                  <a:pt x="354" y="1539"/>
                </a:lnTo>
                <a:lnTo>
                  <a:pt x="334" y="1540"/>
                </a:lnTo>
                <a:lnTo>
                  <a:pt x="314" y="1540"/>
                </a:lnTo>
                <a:lnTo>
                  <a:pt x="293" y="1540"/>
                </a:lnTo>
                <a:lnTo>
                  <a:pt x="274" y="1539"/>
                </a:lnTo>
                <a:lnTo>
                  <a:pt x="255" y="1538"/>
                </a:lnTo>
                <a:lnTo>
                  <a:pt x="237" y="1536"/>
                </a:lnTo>
                <a:lnTo>
                  <a:pt x="220" y="1532"/>
                </a:lnTo>
                <a:lnTo>
                  <a:pt x="202" y="1529"/>
                </a:lnTo>
                <a:lnTo>
                  <a:pt x="185" y="1524"/>
                </a:lnTo>
                <a:lnTo>
                  <a:pt x="169" y="1520"/>
                </a:lnTo>
                <a:lnTo>
                  <a:pt x="158" y="1512"/>
                </a:lnTo>
                <a:lnTo>
                  <a:pt x="147" y="1504"/>
                </a:lnTo>
                <a:lnTo>
                  <a:pt x="137" y="1495"/>
                </a:lnTo>
                <a:lnTo>
                  <a:pt x="128" y="1486"/>
                </a:lnTo>
                <a:lnTo>
                  <a:pt x="120" y="1476"/>
                </a:lnTo>
                <a:lnTo>
                  <a:pt x="113" y="1465"/>
                </a:lnTo>
                <a:lnTo>
                  <a:pt x="107" y="1452"/>
                </a:lnTo>
                <a:lnTo>
                  <a:pt x="103" y="1440"/>
                </a:lnTo>
                <a:lnTo>
                  <a:pt x="98" y="1426"/>
                </a:lnTo>
                <a:lnTo>
                  <a:pt x="96" y="1413"/>
                </a:lnTo>
                <a:lnTo>
                  <a:pt x="94" y="1398"/>
                </a:lnTo>
                <a:lnTo>
                  <a:pt x="93" y="1382"/>
                </a:lnTo>
                <a:lnTo>
                  <a:pt x="93" y="1366"/>
                </a:lnTo>
                <a:lnTo>
                  <a:pt x="94" y="1349"/>
                </a:lnTo>
                <a:lnTo>
                  <a:pt x="96" y="1333"/>
                </a:lnTo>
                <a:lnTo>
                  <a:pt x="99" y="1314"/>
                </a:lnTo>
                <a:lnTo>
                  <a:pt x="122" y="1292"/>
                </a:lnTo>
                <a:lnTo>
                  <a:pt x="144" y="1270"/>
                </a:lnTo>
                <a:lnTo>
                  <a:pt x="168" y="1252"/>
                </a:lnTo>
                <a:lnTo>
                  <a:pt x="191" y="1235"/>
                </a:lnTo>
                <a:lnTo>
                  <a:pt x="214" y="1222"/>
                </a:lnTo>
                <a:lnTo>
                  <a:pt x="237" y="1209"/>
                </a:lnTo>
                <a:lnTo>
                  <a:pt x="261" y="1199"/>
                </a:lnTo>
                <a:lnTo>
                  <a:pt x="284" y="1191"/>
                </a:lnTo>
                <a:lnTo>
                  <a:pt x="318" y="1192"/>
                </a:lnTo>
                <a:lnTo>
                  <a:pt x="352" y="1196"/>
                </a:lnTo>
                <a:lnTo>
                  <a:pt x="387" y="1200"/>
                </a:lnTo>
                <a:lnTo>
                  <a:pt x="423" y="1208"/>
                </a:lnTo>
                <a:lnTo>
                  <a:pt x="460" y="1218"/>
                </a:lnTo>
                <a:lnTo>
                  <a:pt x="499" y="1230"/>
                </a:lnTo>
                <a:lnTo>
                  <a:pt x="537" y="1244"/>
                </a:lnTo>
                <a:lnTo>
                  <a:pt x="576" y="1260"/>
                </a:lnTo>
                <a:lnTo>
                  <a:pt x="583" y="1267"/>
                </a:lnTo>
                <a:lnTo>
                  <a:pt x="591" y="1273"/>
                </a:lnTo>
                <a:lnTo>
                  <a:pt x="598" y="1277"/>
                </a:lnTo>
                <a:lnTo>
                  <a:pt x="607" y="1281"/>
                </a:lnTo>
                <a:lnTo>
                  <a:pt x="615" y="1284"/>
                </a:lnTo>
                <a:lnTo>
                  <a:pt x="623" y="1286"/>
                </a:lnTo>
                <a:lnTo>
                  <a:pt x="632" y="1287"/>
                </a:lnTo>
                <a:lnTo>
                  <a:pt x="642" y="1287"/>
                </a:lnTo>
                <a:lnTo>
                  <a:pt x="651" y="1287"/>
                </a:lnTo>
                <a:lnTo>
                  <a:pt x="661" y="1286"/>
                </a:lnTo>
                <a:lnTo>
                  <a:pt x="671" y="1284"/>
                </a:lnTo>
                <a:lnTo>
                  <a:pt x="683" y="1281"/>
                </a:lnTo>
                <a:lnTo>
                  <a:pt x="694" y="1277"/>
                </a:lnTo>
                <a:lnTo>
                  <a:pt x="705" y="1273"/>
                </a:lnTo>
                <a:lnTo>
                  <a:pt x="717" y="1267"/>
                </a:lnTo>
                <a:lnTo>
                  <a:pt x="729" y="1260"/>
                </a:lnTo>
                <a:lnTo>
                  <a:pt x="747" y="1251"/>
                </a:lnTo>
                <a:lnTo>
                  <a:pt x="765" y="1242"/>
                </a:lnTo>
                <a:lnTo>
                  <a:pt x="782" y="1235"/>
                </a:lnTo>
                <a:lnTo>
                  <a:pt x="798" y="1230"/>
                </a:lnTo>
                <a:lnTo>
                  <a:pt x="813" y="1225"/>
                </a:lnTo>
                <a:lnTo>
                  <a:pt x="828" y="1222"/>
                </a:lnTo>
                <a:lnTo>
                  <a:pt x="843" y="1221"/>
                </a:lnTo>
                <a:lnTo>
                  <a:pt x="856" y="1220"/>
                </a:lnTo>
                <a:lnTo>
                  <a:pt x="891" y="1220"/>
                </a:lnTo>
                <a:lnTo>
                  <a:pt x="926" y="1217"/>
                </a:lnTo>
                <a:lnTo>
                  <a:pt x="960" y="1214"/>
                </a:lnTo>
                <a:lnTo>
                  <a:pt x="994" y="1209"/>
                </a:lnTo>
                <a:lnTo>
                  <a:pt x="1028" y="1204"/>
                </a:lnTo>
                <a:lnTo>
                  <a:pt x="1062" y="1196"/>
                </a:lnTo>
                <a:lnTo>
                  <a:pt x="1095" y="1188"/>
                </a:lnTo>
                <a:lnTo>
                  <a:pt x="1128" y="1178"/>
                </a:lnTo>
                <a:lnTo>
                  <a:pt x="1143" y="1163"/>
                </a:lnTo>
                <a:lnTo>
                  <a:pt x="1156" y="1148"/>
                </a:lnTo>
                <a:lnTo>
                  <a:pt x="1168" y="1133"/>
                </a:lnTo>
                <a:lnTo>
                  <a:pt x="1179" y="1117"/>
                </a:lnTo>
                <a:lnTo>
                  <a:pt x="1188" y="1101"/>
                </a:lnTo>
                <a:lnTo>
                  <a:pt x="1196" y="1085"/>
                </a:lnTo>
                <a:lnTo>
                  <a:pt x="1203" y="1068"/>
                </a:lnTo>
                <a:lnTo>
                  <a:pt x="1207" y="1051"/>
                </a:lnTo>
                <a:lnTo>
                  <a:pt x="1210" y="1036"/>
                </a:lnTo>
                <a:lnTo>
                  <a:pt x="1213" y="1017"/>
                </a:lnTo>
                <a:lnTo>
                  <a:pt x="1214" y="1001"/>
                </a:lnTo>
                <a:lnTo>
                  <a:pt x="1214" y="982"/>
                </a:lnTo>
                <a:lnTo>
                  <a:pt x="1212" y="966"/>
                </a:lnTo>
                <a:lnTo>
                  <a:pt x="1208" y="947"/>
                </a:lnTo>
                <a:lnTo>
                  <a:pt x="1204" y="929"/>
                </a:lnTo>
                <a:lnTo>
                  <a:pt x="1198" y="910"/>
                </a:lnTo>
                <a:lnTo>
                  <a:pt x="1196" y="902"/>
                </a:lnTo>
                <a:lnTo>
                  <a:pt x="1192" y="893"/>
                </a:lnTo>
                <a:lnTo>
                  <a:pt x="1188" y="884"/>
                </a:lnTo>
                <a:lnTo>
                  <a:pt x="1183" y="876"/>
                </a:lnTo>
                <a:lnTo>
                  <a:pt x="1178" y="867"/>
                </a:lnTo>
                <a:lnTo>
                  <a:pt x="1171" y="858"/>
                </a:lnTo>
                <a:lnTo>
                  <a:pt x="1164" y="850"/>
                </a:lnTo>
                <a:lnTo>
                  <a:pt x="1156" y="841"/>
                </a:lnTo>
                <a:lnTo>
                  <a:pt x="1137" y="824"/>
                </a:lnTo>
                <a:lnTo>
                  <a:pt x="1116" y="807"/>
                </a:lnTo>
                <a:lnTo>
                  <a:pt x="1091" y="792"/>
                </a:lnTo>
                <a:lnTo>
                  <a:pt x="1062" y="775"/>
                </a:lnTo>
                <a:lnTo>
                  <a:pt x="1051" y="767"/>
                </a:lnTo>
                <a:lnTo>
                  <a:pt x="1040" y="760"/>
                </a:lnTo>
                <a:lnTo>
                  <a:pt x="1030" y="753"/>
                </a:lnTo>
                <a:lnTo>
                  <a:pt x="1020" y="749"/>
                </a:lnTo>
                <a:lnTo>
                  <a:pt x="1009" y="743"/>
                </a:lnTo>
                <a:lnTo>
                  <a:pt x="998" y="740"/>
                </a:lnTo>
                <a:lnTo>
                  <a:pt x="988" y="736"/>
                </a:lnTo>
                <a:lnTo>
                  <a:pt x="978" y="734"/>
                </a:lnTo>
                <a:lnTo>
                  <a:pt x="968" y="733"/>
                </a:lnTo>
                <a:lnTo>
                  <a:pt x="958" y="733"/>
                </a:lnTo>
                <a:lnTo>
                  <a:pt x="948" y="733"/>
                </a:lnTo>
                <a:lnTo>
                  <a:pt x="937" y="734"/>
                </a:lnTo>
                <a:lnTo>
                  <a:pt x="927" y="736"/>
                </a:lnTo>
                <a:lnTo>
                  <a:pt x="917" y="739"/>
                </a:lnTo>
                <a:lnTo>
                  <a:pt x="907" y="742"/>
                </a:lnTo>
                <a:lnTo>
                  <a:pt x="898" y="746"/>
                </a:lnTo>
                <a:lnTo>
                  <a:pt x="884" y="759"/>
                </a:lnTo>
                <a:lnTo>
                  <a:pt x="871" y="769"/>
                </a:lnTo>
                <a:lnTo>
                  <a:pt x="856" y="779"/>
                </a:lnTo>
                <a:lnTo>
                  <a:pt x="843" y="786"/>
                </a:lnTo>
                <a:lnTo>
                  <a:pt x="828" y="792"/>
                </a:lnTo>
                <a:lnTo>
                  <a:pt x="813" y="796"/>
                </a:lnTo>
                <a:lnTo>
                  <a:pt x="798" y="798"/>
                </a:lnTo>
                <a:lnTo>
                  <a:pt x="783" y="800"/>
                </a:lnTo>
                <a:lnTo>
                  <a:pt x="758" y="806"/>
                </a:lnTo>
                <a:lnTo>
                  <a:pt x="733" y="812"/>
                </a:lnTo>
                <a:lnTo>
                  <a:pt x="710" y="818"/>
                </a:lnTo>
                <a:lnTo>
                  <a:pt x="686" y="821"/>
                </a:lnTo>
                <a:lnTo>
                  <a:pt x="662" y="824"/>
                </a:lnTo>
                <a:lnTo>
                  <a:pt x="639" y="827"/>
                </a:lnTo>
                <a:lnTo>
                  <a:pt x="615" y="828"/>
                </a:lnTo>
                <a:lnTo>
                  <a:pt x="592" y="829"/>
                </a:lnTo>
                <a:lnTo>
                  <a:pt x="570" y="828"/>
                </a:lnTo>
                <a:lnTo>
                  <a:pt x="547" y="827"/>
                </a:lnTo>
                <a:lnTo>
                  <a:pt x="525" y="824"/>
                </a:lnTo>
                <a:lnTo>
                  <a:pt x="502" y="821"/>
                </a:lnTo>
                <a:lnTo>
                  <a:pt x="481" y="818"/>
                </a:lnTo>
                <a:lnTo>
                  <a:pt x="459" y="812"/>
                </a:lnTo>
                <a:lnTo>
                  <a:pt x="438" y="806"/>
                </a:lnTo>
                <a:lnTo>
                  <a:pt x="416" y="800"/>
                </a:lnTo>
                <a:lnTo>
                  <a:pt x="404" y="795"/>
                </a:lnTo>
                <a:lnTo>
                  <a:pt x="393" y="789"/>
                </a:lnTo>
                <a:lnTo>
                  <a:pt x="382" y="783"/>
                </a:lnTo>
                <a:lnTo>
                  <a:pt x="373" y="776"/>
                </a:lnTo>
                <a:lnTo>
                  <a:pt x="364" y="768"/>
                </a:lnTo>
                <a:lnTo>
                  <a:pt x="357" y="760"/>
                </a:lnTo>
                <a:lnTo>
                  <a:pt x="349" y="751"/>
                </a:lnTo>
                <a:lnTo>
                  <a:pt x="342" y="741"/>
                </a:lnTo>
                <a:lnTo>
                  <a:pt x="336" y="731"/>
                </a:lnTo>
                <a:lnTo>
                  <a:pt x="332" y="719"/>
                </a:lnTo>
                <a:lnTo>
                  <a:pt x="327" y="708"/>
                </a:lnTo>
                <a:lnTo>
                  <a:pt x="324" y="696"/>
                </a:lnTo>
                <a:lnTo>
                  <a:pt x="322" y="682"/>
                </a:lnTo>
                <a:lnTo>
                  <a:pt x="319" y="669"/>
                </a:lnTo>
                <a:lnTo>
                  <a:pt x="318" y="654"/>
                </a:lnTo>
                <a:lnTo>
                  <a:pt x="318" y="638"/>
                </a:lnTo>
                <a:lnTo>
                  <a:pt x="322" y="620"/>
                </a:lnTo>
                <a:lnTo>
                  <a:pt x="327" y="603"/>
                </a:lnTo>
                <a:lnTo>
                  <a:pt x="334" y="587"/>
                </a:lnTo>
                <a:lnTo>
                  <a:pt x="341" y="571"/>
                </a:lnTo>
                <a:lnTo>
                  <a:pt x="349" y="557"/>
                </a:lnTo>
                <a:lnTo>
                  <a:pt x="358" y="542"/>
                </a:lnTo>
                <a:lnTo>
                  <a:pt x="367" y="530"/>
                </a:lnTo>
                <a:lnTo>
                  <a:pt x="377" y="517"/>
                </a:lnTo>
                <a:lnTo>
                  <a:pt x="388" y="506"/>
                </a:lnTo>
                <a:lnTo>
                  <a:pt x="401" y="496"/>
                </a:lnTo>
                <a:lnTo>
                  <a:pt x="413" y="486"/>
                </a:lnTo>
                <a:lnTo>
                  <a:pt x="428" y="477"/>
                </a:lnTo>
                <a:lnTo>
                  <a:pt x="441" y="469"/>
                </a:lnTo>
                <a:lnTo>
                  <a:pt x="457" y="461"/>
                </a:lnTo>
                <a:lnTo>
                  <a:pt x="474" y="455"/>
                </a:lnTo>
                <a:lnTo>
                  <a:pt x="491" y="449"/>
                </a:lnTo>
                <a:lnTo>
                  <a:pt x="551" y="444"/>
                </a:lnTo>
                <a:lnTo>
                  <a:pt x="606" y="442"/>
                </a:lnTo>
                <a:lnTo>
                  <a:pt x="632" y="442"/>
                </a:lnTo>
                <a:lnTo>
                  <a:pt x="658" y="442"/>
                </a:lnTo>
                <a:lnTo>
                  <a:pt x="681" y="443"/>
                </a:lnTo>
                <a:lnTo>
                  <a:pt x="705" y="444"/>
                </a:lnTo>
                <a:lnTo>
                  <a:pt x="728" y="446"/>
                </a:lnTo>
                <a:lnTo>
                  <a:pt x="749" y="448"/>
                </a:lnTo>
                <a:lnTo>
                  <a:pt x="769" y="452"/>
                </a:lnTo>
                <a:lnTo>
                  <a:pt x="789" y="456"/>
                </a:lnTo>
                <a:lnTo>
                  <a:pt x="807" y="461"/>
                </a:lnTo>
                <a:lnTo>
                  <a:pt x="825" y="466"/>
                </a:lnTo>
                <a:lnTo>
                  <a:pt x="840" y="472"/>
                </a:lnTo>
                <a:lnTo>
                  <a:pt x="856" y="478"/>
                </a:lnTo>
                <a:lnTo>
                  <a:pt x="931" y="544"/>
                </a:lnTo>
                <a:lnTo>
                  <a:pt x="939" y="552"/>
                </a:lnTo>
                <a:lnTo>
                  <a:pt x="948" y="559"/>
                </a:lnTo>
                <a:lnTo>
                  <a:pt x="957" y="566"/>
                </a:lnTo>
                <a:lnTo>
                  <a:pt x="967" y="570"/>
                </a:lnTo>
                <a:lnTo>
                  <a:pt x="977" y="574"/>
                </a:lnTo>
                <a:lnTo>
                  <a:pt x="987" y="577"/>
                </a:lnTo>
                <a:lnTo>
                  <a:pt x="998" y="578"/>
                </a:lnTo>
                <a:lnTo>
                  <a:pt x="1010" y="579"/>
                </a:lnTo>
                <a:lnTo>
                  <a:pt x="1021" y="578"/>
                </a:lnTo>
                <a:lnTo>
                  <a:pt x="1033" y="577"/>
                </a:lnTo>
                <a:lnTo>
                  <a:pt x="1047" y="574"/>
                </a:lnTo>
                <a:lnTo>
                  <a:pt x="1059" y="570"/>
                </a:lnTo>
                <a:lnTo>
                  <a:pt x="1073" y="566"/>
                </a:lnTo>
                <a:lnTo>
                  <a:pt x="1087" y="559"/>
                </a:lnTo>
                <a:lnTo>
                  <a:pt x="1101" y="552"/>
                </a:lnTo>
                <a:lnTo>
                  <a:pt x="1116" y="544"/>
                </a:lnTo>
                <a:lnTo>
                  <a:pt x="1134" y="531"/>
                </a:lnTo>
                <a:lnTo>
                  <a:pt x="1152" y="519"/>
                </a:lnTo>
                <a:lnTo>
                  <a:pt x="1172" y="508"/>
                </a:lnTo>
                <a:lnTo>
                  <a:pt x="1194" y="498"/>
                </a:lnTo>
                <a:lnTo>
                  <a:pt x="1217" y="488"/>
                </a:lnTo>
                <a:lnTo>
                  <a:pt x="1242" y="480"/>
                </a:lnTo>
                <a:lnTo>
                  <a:pt x="1269" y="472"/>
                </a:lnTo>
                <a:lnTo>
                  <a:pt x="1296" y="465"/>
                </a:lnTo>
                <a:lnTo>
                  <a:pt x="1346" y="462"/>
                </a:lnTo>
                <a:lnTo>
                  <a:pt x="1394" y="457"/>
                </a:lnTo>
                <a:lnTo>
                  <a:pt x="1445" y="452"/>
                </a:lnTo>
                <a:lnTo>
                  <a:pt x="1495" y="447"/>
                </a:lnTo>
                <a:lnTo>
                  <a:pt x="1547" y="442"/>
                </a:lnTo>
                <a:lnTo>
                  <a:pt x="1598" y="436"/>
                </a:lnTo>
                <a:lnTo>
                  <a:pt x="1650" y="430"/>
                </a:lnTo>
                <a:lnTo>
                  <a:pt x="1703" y="425"/>
                </a:lnTo>
                <a:lnTo>
                  <a:pt x="1726" y="413"/>
                </a:lnTo>
                <a:lnTo>
                  <a:pt x="1745" y="401"/>
                </a:lnTo>
                <a:lnTo>
                  <a:pt x="1764" y="387"/>
                </a:lnTo>
                <a:lnTo>
                  <a:pt x="1780" y="372"/>
                </a:lnTo>
                <a:lnTo>
                  <a:pt x="1788" y="364"/>
                </a:lnTo>
                <a:lnTo>
                  <a:pt x="1795" y="356"/>
                </a:lnTo>
                <a:lnTo>
                  <a:pt x="1802" y="347"/>
                </a:lnTo>
                <a:lnTo>
                  <a:pt x="1807" y="338"/>
                </a:lnTo>
                <a:lnTo>
                  <a:pt x="1818" y="317"/>
                </a:lnTo>
                <a:lnTo>
                  <a:pt x="1827" y="297"/>
                </a:lnTo>
                <a:lnTo>
                  <a:pt x="1827" y="148"/>
                </a:lnTo>
                <a:close/>
                <a:moveTo>
                  <a:pt x="1614" y="746"/>
                </a:moveTo>
                <a:lnTo>
                  <a:pt x="1591" y="760"/>
                </a:lnTo>
                <a:lnTo>
                  <a:pt x="1568" y="776"/>
                </a:lnTo>
                <a:lnTo>
                  <a:pt x="1548" y="792"/>
                </a:lnTo>
                <a:lnTo>
                  <a:pt x="1530" y="810"/>
                </a:lnTo>
                <a:lnTo>
                  <a:pt x="1513" y="829"/>
                </a:lnTo>
                <a:lnTo>
                  <a:pt x="1498" y="849"/>
                </a:lnTo>
                <a:lnTo>
                  <a:pt x="1485" y="872"/>
                </a:lnTo>
                <a:lnTo>
                  <a:pt x="1473" y="894"/>
                </a:lnTo>
                <a:lnTo>
                  <a:pt x="1473" y="915"/>
                </a:lnTo>
                <a:lnTo>
                  <a:pt x="1474" y="934"/>
                </a:lnTo>
                <a:lnTo>
                  <a:pt x="1477" y="953"/>
                </a:lnTo>
                <a:lnTo>
                  <a:pt x="1482" y="972"/>
                </a:lnTo>
                <a:lnTo>
                  <a:pt x="1488" y="990"/>
                </a:lnTo>
                <a:lnTo>
                  <a:pt x="1496" y="1007"/>
                </a:lnTo>
                <a:lnTo>
                  <a:pt x="1506" y="1024"/>
                </a:lnTo>
                <a:lnTo>
                  <a:pt x="1518" y="1040"/>
                </a:lnTo>
                <a:lnTo>
                  <a:pt x="1532" y="1056"/>
                </a:lnTo>
                <a:lnTo>
                  <a:pt x="1547" y="1072"/>
                </a:lnTo>
                <a:lnTo>
                  <a:pt x="1563" y="1085"/>
                </a:lnTo>
                <a:lnTo>
                  <a:pt x="1583" y="1100"/>
                </a:lnTo>
                <a:lnTo>
                  <a:pt x="1603" y="1113"/>
                </a:lnTo>
                <a:lnTo>
                  <a:pt x="1626" y="1126"/>
                </a:lnTo>
                <a:lnTo>
                  <a:pt x="1649" y="1138"/>
                </a:lnTo>
                <a:lnTo>
                  <a:pt x="1675" y="1150"/>
                </a:lnTo>
                <a:lnTo>
                  <a:pt x="1748" y="1156"/>
                </a:lnTo>
                <a:lnTo>
                  <a:pt x="1822" y="1161"/>
                </a:lnTo>
                <a:lnTo>
                  <a:pt x="1894" y="1165"/>
                </a:lnTo>
                <a:lnTo>
                  <a:pt x="1967" y="1168"/>
                </a:lnTo>
                <a:lnTo>
                  <a:pt x="2041" y="1169"/>
                </a:lnTo>
                <a:lnTo>
                  <a:pt x="2114" y="1170"/>
                </a:lnTo>
                <a:lnTo>
                  <a:pt x="2186" y="1169"/>
                </a:lnTo>
                <a:lnTo>
                  <a:pt x="2259" y="1165"/>
                </a:lnTo>
                <a:lnTo>
                  <a:pt x="2288" y="1159"/>
                </a:lnTo>
                <a:lnTo>
                  <a:pt x="2315" y="1152"/>
                </a:lnTo>
                <a:lnTo>
                  <a:pt x="2341" y="1144"/>
                </a:lnTo>
                <a:lnTo>
                  <a:pt x="2364" y="1136"/>
                </a:lnTo>
                <a:lnTo>
                  <a:pt x="2387" y="1127"/>
                </a:lnTo>
                <a:lnTo>
                  <a:pt x="2407" y="1118"/>
                </a:lnTo>
                <a:lnTo>
                  <a:pt x="2426" y="1109"/>
                </a:lnTo>
                <a:lnTo>
                  <a:pt x="2443" y="1099"/>
                </a:lnTo>
                <a:lnTo>
                  <a:pt x="2459" y="1089"/>
                </a:lnTo>
                <a:lnTo>
                  <a:pt x="2474" y="1078"/>
                </a:lnTo>
                <a:lnTo>
                  <a:pt x="2486" y="1067"/>
                </a:lnTo>
                <a:lnTo>
                  <a:pt x="2497" y="1056"/>
                </a:lnTo>
                <a:lnTo>
                  <a:pt x="2508" y="1043"/>
                </a:lnTo>
                <a:lnTo>
                  <a:pt x="2516" y="1031"/>
                </a:lnTo>
                <a:lnTo>
                  <a:pt x="2522" y="1019"/>
                </a:lnTo>
                <a:lnTo>
                  <a:pt x="2527" y="1005"/>
                </a:lnTo>
                <a:lnTo>
                  <a:pt x="2535" y="990"/>
                </a:lnTo>
                <a:lnTo>
                  <a:pt x="2540" y="975"/>
                </a:lnTo>
                <a:lnTo>
                  <a:pt x="2545" y="959"/>
                </a:lnTo>
                <a:lnTo>
                  <a:pt x="2548" y="943"/>
                </a:lnTo>
                <a:lnTo>
                  <a:pt x="2549" y="927"/>
                </a:lnTo>
                <a:lnTo>
                  <a:pt x="2549" y="911"/>
                </a:lnTo>
                <a:lnTo>
                  <a:pt x="2547" y="895"/>
                </a:lnTo>
                <a:lnTo>
                  <a:pt x="2545" y="879"/>
                </a:lnTo>
                <a:lnTo>
                  <a:pt x="2540" y="863"/>
                </a:lnTo>
                <a:lnTo>
                  <a:pt x="2534" y="846"/>
                </a:lnTo>
                <a:lnTo>
                  <a:pt x="2526" y="830"/>
                </a:lnTo>
                <a:lnTo>
                  <a:pt x="2517" y="813"/>
                </a:lnTo>
                <a:lnTo>
                  <a:pt x="2507" y="796"/>
                </a:lnTo>
                <a:lnTo>
                  <a:pt x="2494" y="780"/>
                </a:lnTo>
                <a:lnTo>
                  <a:pt x="2481" y="763"/>
                </a:lnTo>
                <a:lnTo>
                  <a:pt x="2465" y="746"/>
                </a:lnTo>
                <a:lnTo>
                  <a:pt x="2413" y="742"/>
                </a:lnTo>
                <a:lnTo>
                  <a:pt x="2361" y="737"/>
                </a:lnTo>
                <a:lnTo>
                  <a:pt x="2309" y="735"/>
                </a:lnTo>
                <a:lnTo>
                  <a:pt x="2256" y="732"/>
                </a:lnTo>
                <a:lnTo>
                  <a:pt x="2204" y="731"/>
                </a:lnTo>
                <a:lnTo>
                  <a:pt x="2151" y="728"/>
                </a:lnTo>
                <a:lnTo>
                  <a:pt x="2098" y="728"/>
                </a:lnTo>
                <a:lnTo>
                  <a:pt x="2045" y="727"/>
                </a:lnTo>
                <a:lnTo>
                  <a:pt x="1991" y="728"/>
                </a:lnTo>
                <a:lnTo>
                  <a:pt x="1938" y="728"/>
                </a:lnTo>
                <a:lnTo>
                  <a:pt x="1885" y="731"/>
                </a:lnTo>
                <a:lnTo>
                  <a:pt x="1831" y="732"/>
                </a:lnTo>
                <a:lnTo>
                  <a:pt x="1777" y="735"/>
                </a:lnTo>
                <a:lnTo>
                  <a:pt x="1723" y="737"/>
                </a:lnTo>
                <a:lnTo>
                  <a:pt x="1668" y="742"/>
                </a:lnTo>
                <a:lnTo>
                  <a:pt x="1614" y="746"/>
                </a:lnTo>
                <a:close/>
                <a:moveTo>
                  <a:pt x="692" y="1776"/>
                </a:moveTo>
                <a:lnTo>
                  <a:pt x="722" y="1763"/>
                </a:lnTo>
                <a:lnTo>
                  <a:pt x="751" y="1750"/>
                </a:lnTo>
                <a:lnTo>
                  <a:pt x="782" y="1739"/>
                </a:lnTo>
                <a:lnTo>
                  <a:pt x="811" y="1728"/>
                </a:lnTo>
                <a:lnTo>
                  <a:pt x="842" y="1718"/>
                </a:lnTo>
                <a:lnTo>
                  <a:pt x="871" y="1709"/>
                </a:lnTo>
                <a:lnTo>
                  <a:pt x="901" y="1701"/>
                </a:lnTo>
                <a:lnTo>
                  <a:pt x="931" y="1693"/>
                </a:lnTo>
                <a:lnTo>
                  <a:pt x="960" y="1685"/>
                </a:lnTo>
                <a:lnTo>
                  <a:pt x="990" y="1679"/>
                </a:lnTo>
                <a:lnTo>
                  <a:pt x="1020" y="1674"/>
                </a:lnTo>
                <a:lnTo>
                  <a:pt x="1050" y="1668"/>
                </a:lnTo>
                <a:lnTo>
                  <a:pt x="1080" y="1665"/>
                </a:lnTo>
                <a:lnTo>
                  <a:pt x="1110" y="1661"/>
                </a:lnTo>
                <a:lnTo>
                  <a:pt x="1139" y="1658"/>
                </a:lnTo>
                <a:lnTo>
                  <a:pt x="1170" y="1657"/>
                </a:lnTo>
                <a:lnTo>
                  <a:pt x="1253" y="1652"/>
                </a:lnTo>
                <a:lnTo>
                  <a:pt x="1336" y="1648"/>
                </a:lnTo>
                <a:lnTo>
                  <a:pt x="1419" y="1643"/>
                </a:lnTo>
                <a:lnTo>
                  <a:pt x="1501" y="1640"/>
                </a:lnTo>
                <a:lnTo>
                  <a:pt x="1585" y="1636"/>
                </a:lnTo>
                <a:lnTo>
                  <a:pt x="1667" y="1633"/>
                </a:lnTo>
                <a:lnTo>
                  <a:pt x="1750" y="1631"/>
                </a:lnTo>
                <a:lnTo>
                  <a:pt x="1832" y="1628"/>
                </a:lnTo>
                <a:lnTo>
                  <a:pt x="1914" y="1627"/>
                </a:lnTo>
                <a:lnTo>
                  <a:pt x="1997" y="1626"/>
                </a:lnTo>
                <a:lnTo>
                  <a:pt x="2078" y="1625"/>
                </a:lnTo>
                <a:lnTo>
                  <a:pt x="2160" y="1625"/>
                </a:lnTo>
                <a:lnTo>
                  <a:pt x="2241" y="1625"/>
                </a:lnTo>
                <a:lnTo>
                  <a:pt x="2324" y="1625"/>
                </a:lnTo>
                <a:lnTo>
                  <a:pt x="2405" y="1626"/>
                </a:lnTo>
                <a:lnTo>
                  <a:pt x="2486" y="1627"/>
                </a:lnTo>
                <a:lnTo>
                  <a:pt x="2502" y="1628"/>
                </a:lnTo>
                <a:lnTo>
                  <a:pt x="2520" y="1631"/>
                </a:lnTo>
                <a:lnTo>
                  <a:pt x="2539" y="1633"/>
                </a:lnTo>
                <a:lnTo>
                  <a:pt x="2560" y="1637"/>
                </a:lnTo>
                <a:lnTo>
                  <a:pt x="2582" y="1643"/>
                </a:lnTo>
                <a:lnTo>
                  <a:pt x="2606" y="1651"/>
                </a:lnTo>
                <a:lnTo>
                  <a:pt x="2632" y="1659"/>
                </a:lnTo>
                <a:lnTo>
                  <a:pt x="2659" y="1668"/>
                </a:lnTo>
                <a:lnTo>
                  <a:pt x="2667" y="1675"/>
                </a:lnTo>
                <a:lnTo>
                  <a:pt x="2675" y="1680"/>
                </a:lnTo>
                <a:lnTo>
                  <a:pt x="2681" y="1685"/>
                </a:lnTo>
                <a:lnTo>
                  <a:pt x="2689" y="1688"/>
                </a:lnTo>
                <a:lnTo>
                  <a:pt x="2696" y="1692"/>
                </a:lnTo>
                <a:lnTo>
                  <a:pt x="2704" y="1694"/>
                </a:lnTo>
                <a:lnTo>
                  <a:pt x="2711" y="1695"/>
                </a:lnTo>
                <a:lnTo>
                  <a:pt x="2719" y="1695"/>
                </a:lnTo>
                <a:lnTo>
                  <a:pt x="2725" y="1695"/>
                </a:lnTo>
                <a:lnTo>
                  <a:pt x="2732" y="1694"/>
                </a:lnTo>
                <a:lnTo>
                  <a:pt x="2740" y="1692"/>
                </a:lnTo>
                <a:lnTo>
                  <a:pt x="2747" y="1688"/>
                </a:lnTo>
                <a:lnTo>
                  <a:pt x="2754" y="1685"/>
                </a:lnTo>
                <a:lnTo>
                  <a:pt x="2760" y="1680"/>
                </a:lnTo>
                <a:lnTo>
                  <a:pt x="2767" y="1675"/>
                </a:lnTo>
                <a:lnTo>
                  <a:pt x="2774" y="1668"/>
                </a:lnTo>
                <a:lnTo>
                  <a:pt x="2796" y="1659"/>
                </a:lnTo>
                <a:lnTo>
                  <a:pt x="2819" y="1651"/>
                </a:lnTo>
                <a:lnTo>
                  <a:pt x="2840" y="1643"/>
                </a:lnTo>
                <a:lnTo>
                  <a:pt x="2863" y="1637"/>
                </a:lnTo>
                <a:lnTo>
                  <a:pt x="2884" y="1633"/>
                </a:lnTo>
                <a:lnTo>
                  <a:pt x="2906" y="1631"/>
                </a:lnTo>
                <a:lnTo>
                  <a:pt x="2926" y="1628"/>
                </a:lnTo>
                <a:lnTo>
                  <a:pt x="2946" y="1627"/>
                </a:lnTo>
                <a:lnTo>
                  <a:pt x="2995" y="1635"/>
                </a:lnTo>
                <a:lnTo>
                  <a:pt x="3042" y="1645"/>
                </a:lnTo>
                <a:lnTo>
                  <a:pt x="3087" y="1657"/>
                </a:lnTo>
                <a:lnTo>
                  <a:pt x="3133" y="1669"/>
                </a:lnTo>
                <a:lnTo>
                  <a:pt x="3178" y="1683"/>
                </a:lnTo>
                <a:lnTo>
                  <a:pt x="3221" y="1698"/>
                </a:lnTo>
                <a:lnTo>
                  <a:pt x="3263" y="1715"/>
                </a:lnTo>
                <a:lnTo>
                  <a:pt x="3305" y="1735"/>
                </a:lnTo>
                <a:lnTo>
                  <a:pt x="3329" y="1765"/>
                </a:lnTo>
                <a:lnTo>
                  <a:pt x="3351" y="1796"/>
                </a:lnTo>
                <a:lnTo>
                  <a:pt x="3374" y="1826"/>
                </a:lnTo>
                <a:lnTo>
                  <a:pt x="3395" y="1856"/>
                </a:lnTo>
                <a:lnTo>
                  <a:pt x="3417" y="1887"/>
                </a:lnTo>
                <a:lnTo>
                  <a:pt x="3438" y="1917"/>
                </a:lnTo>
                <a:lnTo>
                  <a:pt x="3459" y="1948"/>
                </a:lnTo>
                <a:lnTo>
                  <a:pt x="3478" y="1977"/>
                </a:lnTo>
                <a:lnTo>
                  <a:pt x="3487" y="2010"/>
                </a:lnTo>
                <a:lnTo>
                  <a:pt x="3496" y="2043"/>
                </a:lnTo>
                <a:lnTo>
                  <a:pt x="3503" y="2077"/>
                </a:lnTo>
                <a:lnTo>
                  <a:pt x="3509" y="2112"/>
                </a:lnTo>
                <a:lnTo>
                  <a:pt x="3515" y="2147"/>
                </a:lnTo>
                <a:lnTo>
                  <a:pt x="3519" y="2183"/>
                </a:lnTo>
                <a:lnTo>
                  <a:pt x="3523" y="2219"/>
                </a:lnTo>
                <a:lnTo>
                  <a:pt x="3525" y="2256"/>
                </a:lnTo>
                <a:lnTo>
                  <a:pt x="3526" y="2295"/>
                </a:lnTo>
                <a:lnTo>
                  <a:pt x="3527" y="2334"/>
                </a:lnTo>
                <a:lnTo>
                  <a:pt x="3527" y="2374"/>
                </a:lnTo>
                <a:lnTo>
                  <a:pt x="3526" y="2414"/>
                </a:lnTo>
                <a:lnTo>
                  <a:pt x="3523" y="2455"/>
                </a:lnTo>
                <a:lnTo>
                  <a:pt x="3521" y="2497"/>
                </a:lnTo>
                <a:lnTo>
                  <a:pt x="3516" y="2540"/>
                </a:lnTo>
                <a:lnTo>
                  <a:pt x="3510" y="2583"/>
                </a:lnTo>
                <a:lnTo>
                  <a:pt x="3498" y="2613"/>
                </a:lnTo>
                <a:lnTo>
                  <a:pt x="3484" y="2641"/>
                </a:lnTo>
                <a:lnTo>
                  <a:pt x="3470" y="2667"/>
                </a:lnTo>
                <a:lnTo>
                  <a:pt x="3455" y="2692"/>
                </a:lnTo>
                <a:lnTo>
                  <a:pt x="3439" y="2715"/>
                </a:lnTo>
                <a:lnTo>
                  <a:pt x="3424" y="2735"/>
                </a:lnTo>
                <a:lnTo>
                  <a:pt x="3406" y="2754"/>
                </a:lnTo>
                <a:lnTo>
                  <a:pt x="3389" y="2771"/>
                </a:lnTo>
                <a:lnTo>
                  <a:pt x="3369" y="2787"/>
                </a:lnTo>
                <a:lnTo>
                  <a:pt x="3350" y="2801"/>
                </a:lnTo>
                <a:lnTo>
                  <a:pt x="3330" y="2812"/>
                </a:lnTo>
                <a:lnTo>
                  <a:pt x="3310" y="2822"/>
                </a:lnTo>
                <a:lnTo>
                  <a:pt x="3288" y="2830"/>
                </a:lnTo>
                <a:lnTo>
                  <a:pt x="3266" y="2836"/>
                </a:lnTo>
                <a:lnTo>
                  <a:pt x="3242" y="2840"/>
                </a:lnTo>
                <a:lnTo>
                  <a:pt x="3218" y="2842"/>
                </a:lnTo>
                <a:lnTo>
                  <a:pt x="3065" y="2848"/>
                </a:lnTo>
                <a:lnTo>
                  <a:pt x="2911" y="2852"/>
                </a:lnTo>
                <a:lnTo>
                  <a:pt x="2758" y="2857"/>
                </a:lnTo>
                <a:lnTo>
                  <a:pt x="2605" y="2862"/>
                </a:lnTo>
                <a:lnTo>
                  <a:pt x="2452" y="2866"/>
                </a:lnTo>
                <a:lnTo>
                  <a:pt x="2299" y="2871"/>
                </a:lnTo>
                <a:lnTo>
                  <a:pt x="2147" y="2874"/>
                </a:lnTo>
                <a:lnTo>
                  <a:pt x="1994" y="2877"/>
                </a:lnTo>
                <a:lnTo>
                  <a:pt x="1842" y="2881"/>
                </a:lnTo>
                <a:lnTo>
                  <a:pt x="1690" y="2884"/>
                </a:lnTo>
                <a:lnTo>
                  <a:pt x="1539" y="2888"/>
                </a:lnTo>
                <a:lnTo>
                  <a:pt x="1386" y="2891"/>
                </a:lnTo>
                <a:lnTo>
                  <a:pt x="1235" y="2893"/>
                </a:lnTo>
                <a:lnTo>
                  <a:pt x="1084" y="2895"/>
                </a:lnTo>
                <a:lnTo>
                  <a:pt x="933" y="2898"/>
                </a:lnTo>
                <a:lnTo>
                  <a:pt x="783" y="2900"/>
                </a:lnTo>
                <a:lnTo>
                  <a:pt x="754" y="2888"/>
                </a:lnTo>
                <a:lnTo>
                  <a:pt x="727" y="2874"/>
                </a:lnTo>
                <a:lnTo>
                  <a:pt x="701" y="2859"/>
                </a:lnTo>
                <a:lnTo>
                  <a:pt x="676" y="2843"/>
                </a:lnTo>
                <a:lnTo>
                  <a:pt x="653" y="2827"/>
                </a:lnTo>
                <a:lnTo>
                  <a:pt x="633" y="2807"/>
                </a:lnTo>
                <a:lnTo>
                  <a:pt x="614" y="2788"/>
                </a:lnTo>
                <a:lnTo>
                  <a:pt x="596" y="2768"/>
                </a:lnTo>
                <a:lnTo>
                  <a:pt x="580" y="2745"/>
                </a:lnTo>
                <a:lnTo>
                  <a:pt x="566" y="2723"/>
                </a:lnTo>
                <a:lnTo>
                  <a:pt x="553" y="2698"/>
                </a:lnTo>
                <a:lnTo>
                  <a:pt x="543" y="2673"/>
                </a:lnTo>
                <a:lnTo>
                  <a:pt x="533" y="2646"/>
                </a:lnTo>
                <a:lnTo>
                  <a:pt x="526" y="2618"/>
                </a:lnTo>
                <a:lnTo>
                  <a:pt x="519" y="2588"/>
                </a:lnTo>
                <a:lnTo>
                  <a:pt x="514" y="2559"/>
                </a:lnTo>
                <a:lnTo>
                  <a:pt x="511" y="2516"/>
                </a:lnTo>
                <a:lnTo>
                  <a:pt x="508" y="2474"/>
                </a:lnTo>
                <a:lnTo>
                  <a:pt x="507" y="2432"/>
                </a:lnTo>
                <a:lnTo>
                  <a:pt x="507" y="2392"/>
                </a:lnTo>
                <a:lnTo>
                  <a:pt x="507" y="2350"/>
                </a:lnTo>
                <a:lnTo>
                  <a:pt x="509" y="2309"/>
                </a:lnTo>
                <a:lnTo>
                  <a:pt x="512" y="2269"/>
                </a:lnTo>
                <a:lnTo>
                  <a:pt x="517" y="2228"/>
                </a:lnTo>
                <a:lnTo>
                  <a:pt x="522" y="2187"/>
                </a:lnTo>
                <a:lnTo>
                  <a:pt x="530" y="2148"/>
                </a:lnTo>
                <a:lnTo>
                  <a:pt x="538" y="2107"/>
                </a:lnTo>
                <a:lnTo>
                  <a:pt x="547" y="2068"/>
                </a:lnTo>
                <a:lnTo>
                  <a:pt x="558" y="2028"/>
                </a:lnTo>
                <a:lnTo>
                  <a:pt x="570" y="1990"/>
                </a:lnTo>
                <a:lnTo>
                  <a:pt x="583" y="1950"/>
                </a:lnTo>
                <a:lnTo>
                  <a:pt x="597" y="1912"/>
                </a:lnTo>
                <a:lnTo>
                  <a:pt x="692" y="1776"/>
                </a:lnTo>
                <a:close/>
                <a:moveTo>
                  <a:pt x="1276" y="2155"/>
                </a:moveTo>
                <a:lnTo>
                  <a:pt x="1306" y="2161"/>
                </a:lnTo>
                <a:lnTo>
                  <a:pt x="1337" y="2166"/>
                </a:lnTo>
                <a:lnTo>
                  <a:pt x="1367" y="2170"/>
                </a:lnTo>
                <a:lnTo>
                  <a:pt x="1399" y="2174"/>
                </a:lnTo>
                <a:lnTo>
                  <a:pt x="1429" y="2176"/>
                </a:lnTo>
                <a:lnTo>
                  <a:pt x="1461" y="2177"/>
                </a:lnTo>
                <a:lnTo>
                  <a:pt x="1494" y="2178"/>
                </a:lnTo>
                <a:lnTo>
                  <a:pt x="1525" y="2177"/>
                </a:lnTo>
                <a:lnTo>
                  <a:pt x="1558" y="2176"/>
                </a:lnTo>
                <a:lnTo>
                  <a:pt x="1591" y="2174"/>
                </a:lnTo>
                <a:lnTo>
                  <a:pt x="1624" y="2170"/>
                </a:lnTo>
                <a:lnTo>
                  <a:pt x="1657" y="2166"/>
                </a:lnTo>
                <a:lnTo>
                  <a:pt x="1691" y="2160"/>
                </a:lnTo>
                <a:lnTo>
                  <a:pt x="1725" y="2153"/>
                </a:lnTo>
                <a:lnTo>
                  <a:pt x="1760" y="2147"/>
                </a:lnTo>
                <a:lnTo>
                  <a:pt x="1795" y="2138"/>
                </a:lnTo>
                <a:lnTo>
                  <a:pt x="1862" y="2133"/>
                </a:lnTo>
                <a:lnTo>
                  <a:pt x="1931" y="2129"/>
                </a:lnTo>
                <a:lnTo>
                  <a:pt x="1999" y="2124"/>
                </a:lnTo>
                <a:lnTo>
                  <a:pt x="2068" y="2120"/>
                </a:lnTo>
                <a:lnTo>
                  <a:pt x="2135" y="2116"/>
                </a:lnTo>
                <a:lnTo>
                  <a:pt x="2203" y="2113"/>
                </a:lnTo>
                <a:lnTo>
                  <a:pt x="2271" y="2111"/>
                </a:lnTo>
                <a:lnTo>
                  <a:pt x="2338" y="2107"/>
                </a:lnTo>
                <a:lnTo>
                  <a:pt x="2405" y="2105"/>
                </a:lnTo>
                <a:lnTo>
                  <a:pt x="2473" y="2103"/>
                </a:lnTo>
                <a:lnTo>
                  <a:pt x="2539" y="2102"/>
                </a:lnTo>
                <a:lnTo>
                  <a:pt x="2606" y="2099"/>
                </a:lnTo>
                <a:lnTo>
                  <a:pt x="2673" y="2099"/>
                </a:lnTo>
                <a:lnTo>
                  <a:pt x="2740" y="2098"/>
                </a:lnTo>
                <a:lnTo>
                  <a:pt x="2807" y="2097"/>
                </a:lnTo>
                <a:lnTo>
                  <a:pt x="2872" y="2097"/>
                </a:lnTo>
                <a:lnTo>
                  <a:pt x="2886" y="2099"/>
                </a:lnTo>
                <a:lnTo>
                  <a:pt x="2898" y="2103"/>
                </a:lnTo>
                <a:lnTo>
                  <a:pt x="2910" y="2105"/>
                </a:lnTo>
                <a:lnTo>
                  <a:pt x="2923" y="2109"/>
                </a:lnTo>
                <a:lnTo>
                  <a:pt x="2933" y="2113"/>
                </a:lnTo>
                <a:lnTo>
                  <a:pt x="2944" y="2118"/>
                </a:lnTo>
                <a:lnTo>
                  <a:pt x="2954" y="2123"/>
                </a:lnTo>
                <a:lnTo>
                  <a:pt x="2964" y="2129"/>
                </a:lnTo>
                <a:lnTo>
                  <a:pt x="2973" y="2135"/>
                </a:lnTo>
                <a:lnTo>
                  <a:pt x="2983" y="2141"/>
                </a:lnTo>
                <a:lnTo>
                  <a:pt x="2990" y="2149"/>
                </a:lnTo>
                <a:lnTo>
                  <a:pt x="2998" y="2157"/>
                </a:lnTo>
                <a:lnTo>
                  <a:pt x="3006" y="2165"/>
                </a:lnTo>
                <a:lnTo>
                  <a:pt x="3013" y="2173"/>
                </a:lnTo>
                <a:lnTo>
                  <a:pt x="3019" y="2182"/>
                </a:lnTo>
                <a:lnTo>
                  <a:pt x="3025" y="2192"/>
                </a:lnTo>
                <a:lnTo>
                  <a:pt x="3023" y="2207"/>
                </a:lnTo>
                <a:lnTo>
                  <a:pt x="3021" y="2221"/>
                </a:lnTo>
                <a:lnTo>
                  <a:pt x="3017" y="2235"/>
                </a:lnTo>
                <a:lnTo>
                  <a:pt x="3014" y="2247"/>
                </a:lnTo>
                <a:lnTo>
                  <a:pt x="3011" y="2260"/>
                </a:lnTo>
                <a:lnTo>
                  <a:pt x="3005" y="2271"/>
                </a:lnTo>
                <a:lnTo>
                  <a:pt x="3001" y="2281"/>
                </a:lnTo>
                <a:lnTo>
                  <a:pt x="2994" y="2291"/>
                </a:lnTo>
                <a:lnTo>
                  <a:pt x="2988" y="2299"/>
                </a:lnTo>
                <a:lnTo>
                  <a:pt x="2981" y="2308"/>
                </a:lnTo>
                <a:lnTo>
                  <a:pt x="2973" y="2315"/>
                </a:lnTo>
                <a:lnTo>
                  <a:pt x="2966" y="2322"/>
                </a:lnTo>
                <a:lnTo>
                  <a:pt x="2957" y="2327"/>
                </a:lnTo>
                <a:lnTo>
                  <a:pt x="2946" y="2332"/>
                </a:lnTo>
                <a:lnTo>
                  <a:pt x="2937" y="2336"/>
                </a:lnTo>
                <a:lnTo>
                  <a:pt x="2926" y="2340"/>
                </a:lnTo>
                <a:lnTo>
                  <a:pt x="2854" y="2343"/>
                </a:lnTo>
                <a:lnTo>
                  <a:pt x="2781" y="2347"/>
                </a:lnTo>
                <a:lnTo>
                  <a:pt x="2707" y="2349"/>
                </a:lnTo>
                <a:lnTo>
                  <a:pt x="2635" y="2351"/>
                </a:lnTo>
                <a:lnTo>
                  <a:pt x="2563" y="2352"/>
                </a:lnTo>
                <a:lnTo>
                  <a:pt x="2491" y="2353"/>
                </a:lnTo>
                <a:lnTo>
                  <a:pt x="2419" y="2354"/>
                </a:lnTo>
                <a:lnTo>
                  <a:pt x="2346" y="2354"/>
                </a:lnTo>
                <a:lnTo>
                  <a:pt x="2274" y="2354"/>
                </a:lnTo>
                <a:lnTo>
                  <a:pt x="2202" y="2353"/>
                </a:lnTo>
                <a:lnTo>
                  <a:pt x="2131" y="2352"/>
                </a:lnTo>
                <a:lnTo>
                  <a:pt x="2059" y="2351"/>
                </a:lnTo>
                <a:lnTo>
                  <a:pt x="1988" y="2349"/>
                </a:lnTo>
                <a:lnTo>
                  <a:pt x="1917" y="2347"/>
                </a:lnTo>
                <a:lnTo>
                  <a:pt x="1845" y="2343"/>
                </a:lnTo>
                <a:lnTo>
                  <a:pt x="1774" y="2340"/>
                </a:lnTo>
                <a:lnTo>
                  <a:pt x="1754" y="2343"/>
                </a:lnTo>
                <a:lnTo>
                  <a:pt x="1735" y="2344"/>
                </a:lnTo>
                <a:lnTo>
                  <a:pt x="1716" y="2344"/>
                </a:lnTo>
                <a:lnTo>
                  <a:pt x="1697" y="2342"/>
                </a:lnTo>
                <a:lnTo>
                  <a:pt x="1679" y="2338"/>
                </a:lnTo>
                <a:lnTo>
                  <a:pt x="1659" y="2332"/>
                </a:lnTo>
                <a:lnTo>
                  <a:pt x="1640" y="2325"/>
                </a:lnTo>
                <a:lnTo>
                  <a:pt x="1622" y="2315"/>
                </a:lnTo>
                <a:lnTo>
                  <a:pt x="1607" y="2316"/>
                </a:lnTo>
                <a:lnTo>
                  <a:pt x="1589" y="2317"/>
                </a:lnTo>
                <a:lnTo>
                  <a:pt x="1569" y="2318"/>
                </a:lnTo>
                <a:lnTo>
                  <a:pt x="1547" y="2322"/>
                </a:lnTo>
                <a:lnTo>
                  <a:pt x="1522" y="2325"/>
                </a:lnTo>
                <a:lnTo>
                  <a:pt x="1494" y="2330"/>
                </a:lnTo>
                <a:lnTo>
                  <a:pt x="1462" y="2334"/>
                </a:lnTo>
                <a:lnTo>
                  <a:pt x="1428" y="2340"/>
                </a:lnTo>
                <a:lnTo>
                  <a:pt x="1413" y="2350"/>
                </a:lnTo>
                <a:lnTo>
                  <a:pt x="1398" y="2358"/>
                </a:lnTo>
                <a:lnTo>
                  <a:pt x="1383" y="2365"/>
                </a:lnTo>
                <a:lnTo>
                  <a:pt x="1368" y="2371"/>
                </a:lnTo>
                <a:lnTo>
                  <a:pt x="1355" y="2376"/>
                </a:lnTo>
                <a:lnTo>
                  <a:pt x="1340" y="2378"/>
                </a:lnTo>
                <a:lnTo>
                  <a:pt x="1327" y="2380"/>
                </a:lnTo>
                <a:lnTo>
                  <a:pt x="1313" y="2382"/>
                </a:lnTo>
                <a:lnTo>
                  <a:pt x="968" y="2410"/>
                </a:lnTo>
                <a:lnTo>
                  <a:pt x="937" y="2427"/>
                </a:lnTo>
                <a:lnTo>
                  <a:pt x="910" y="2443"/>
                </a:lnTo>
                <a:lnTo>
                  <a:pt x="899" y="2452"/>
                </a:lnTo>
                <a:lnTo>
                  <a:pt x="889" y="2460"/>
                </a:lnTo>
                <a:lnTo>
                  <a:pt x="879" y="2467"/>
                </a:lnTo>
                <a:lnTo>
                  <a:pt x="871" y="2476"/>
                </a:lnTo>
                <a:lnTo>
                  <a:pt x="864" y="2484"/>
                </a:lnTo>
                <a:lnTo>
                  <a:pt x="857" y="2492"/>
                </a:lnTo>
                <a:lnTo>
                  <a:pt x="853" y="2500"/>
                </a:lnTo>
                <a:lnTo>
                  <a:pt x="849" y="2509"/>
                </a:lnTo>
                <a:lnTo>
                  <a:pt x="846" y="2517"/>
                </a:lnTo>
                <a:lnTo>
                  <a:pt x="845" y="2525"/>
                </a:lnTo>
                <a:lnTo>
                  <a:pt x="844" y="2533"/>
                </a:lnTo>
                <a:lnTo>
                  <a:pt x="844" y="2542"/>
                </a:lnTo>
                <a:lnTo>
                  <a:pt x="847" y="2552"/>
                </a:lnTo>
                <a:lnTo>
                  <a:pt x="852" y="2562"/>
                </a:lnTo>
                <a:lnTo>
                  <a:pt x="855" y="2570"/>
                </a:lnTo>
                <a:lnTo>
                  <a:pt x="860" y="2579"/>
                </a:lnTo>
                <a:lnTo>
                  <a:pt x="865" y="2586"/>
                </a:lnTo>
                <a:lnTo>
                  <a:pt x="871" y="2593"/>
                </a:lnTo>
                <a:lnTo>
                  <a:pt x="877" y="2598"/>
                </a:lnTo>
                <a:lnTo>
                  <a:pt x="883" y="2604"/>
                </a:lnTo>
                <a:lnTo>
                  <a:pt x="890" y="2607"/>
                </a:lnTo>
                <a:lnTo>
                  <a:pt x="898" y="2612"/>
                </a:lnTo>
                <a:lnTo>
                  <a:pt x="905" y="2614"/>
                </a:lnTo>
                <a:lnTo>
                  <a:pt x="914" y="2616"/>
                </a:lnTo>
                <a:lnTo>
                  <a:pt x="923" y="2618"/>
                </a:lnTo>
                <a:lnTo>
                  <a:pt x="932" y="2618"/>
                </a:lnTo>
                <a:lnTo>
                  <a:pt x="941" y="2618"/>
                </a:lnTo>
                <a:lnTo>
                  <a:pt x="951" y="2616"/>
                </a:lnTo>
                <a:lnTo>
                  <a:pt x="1081" y="2614"/>
                </a:lnTo>
                <a:lnTo>
                  <a:pt x="1210" y="2613"/>
                </a:lnTo>
                <a:lnTo>
                  <a:pt x="1340" y="2611"/>
                </a:lnTo>
                <a:lnTo>
                  <a:pt x="1470" y="2610"/>
                </a:lnTo>
                <a:lnTo>
                  <a:pt x="1601" y="2607"/>
                </a:lnTo>
                <a:lnTo>
                  <a:pt x="1730" y="2605"/>
                </a:lnTo>
                <a:lnTo>
                  <a:pt x="1860" y="2604"/>
                </a:lnTo>
                <a:lnTo>
                  <a:pt x="1990" y="2602"/>
                </a:lnTo>
                <a:lnTo>
                  <a:pt x="2121" y="2600"/>
                </a:lnTo>
                <a:lnTo>
                  <a:pt x="2250" y="2597"/>
                </a:lnTo>
                <a:lnTo>
                  <a:pt x="2381" y="2595"/>
                </a:lnTo>
                <a:lnTo>
                  <a:pt x="2511" y="2593"/>
                </a:lnTo>
                <a:lnTo>
                  <a:pt x="2642" y="2591"/>
                </a:lnTo>
                <a:lnTo>
                  <a:pt x="2772" y="2588"/>
                </a:lnTo>
                <a:lnTo>
                  <a:pt x="2902" y="2586"/>
                </a:lnTo>
                <a:lnTo>
                  <a:pt x="3033" y="2583"/>
                </a:lnTo>
                <a:lnTo>
                  <a:pt x="3055" y="2575"/>
                </a:lnTo>
                <a:lnTo>
                  <a:pt x="3075" y="2566"/>
                </a:lnTo>
                <a:lnTo>
                  <a:pt x="3094" y="2557"/>
                </a:lnTo>
                <a:lnTo>
                  <a:pt x="3112" y="2548"/>
                </a:lnTo>
                <a:lnTo>
                  <a:pt x="3129" y="2539"/>
                </a:lnTo>
                <a:lnTo>
                  <a:pt x="3145" y="2528"/>
                </a:lnTo>
                <a:lnTo>
                  <a:pt x="3160" y="2517"/>
                </a:lnTo>
                <a:lnTo>
                  <a:pt x="3173" y="2507"/>
                </a:lnTo>
                <a:lnTo>
                  <a:pt x="3186" y="2496"/>
                </a:lnTo>
                <a:lnTo>
                  <a:pt x="3197" y="2484"/>
                </a:lnTo>
                <a:lnTo>
                  <a:pt x="3207" y="2473"/>
                </a:lnTo>
                <a:lnTo>
                  <a:pt x="3215" y="2461"/>
                </a:lnTo>
                <a:lnTo>
                  <a:pt x="3223" y="2448"/>
                </a:lnTo>
                <a:lnTo>
                  <a:pt x="3230" y="2436"/>
                </a:lnTo>
                <a:lnTo>
                  <a:pt x="3235" y="2423"/>
                </a:lnTo>
                <a:lnTo>
                  <a:pt x="3239" y="2410"/>
                </a:lnTo>
                <a:lnTo>
                  <a:pt x="3240" y="2378"/>
                </a:lnTo>
                <a:lnTo>
                  <a:pt x="3240" y="2348"/>
                </a:lnTo>
                <a:lnTo>
                  <a:pt x="3239" y="2317"/>
                </a:lnTo>
                <a:lnTo>
                  <a:pt x="3236" y="2288"/>
                </a:lnTo>
                <a:lnTo>
                  <a:pt x="3233" y="2260"/>
                </a:lnTo>
                <a:lnTo>
                  <a:pt x="3230" y="2231"/>
                </a:lnTo>
                <a:lnTo>
                  <a:pt x="3224" y="2204"/>
                </a:lnTo>
                <a:lnTo>
                  <a:pt x="3218" y="2177"/>
                </a:lnTo>
                <a:lnTo>
                  <a:pt x="3212" y="2151"/>
                </a:lnTo>
                <a:lnTo>
                  <a:pt x="3205" y="2126"/>
                </a:lnTo>
                <a:lnTo>
                  <a:pt x="3196" y="2102"/>
                </a:lnTo>
                <a:lnTo>
                  <a:pt x="3187" y="2078"/>
                </a:lnTo>
                <a:lnTo>
                  <a:pt x="3177" y="2055"/>
                </a:lnTo>
                <a:lnTo>
                  <a:pt x="3165" y="2033"/>
                </a:lnTo>
                <a:lnTo>
                  <a:pt x="3153" y="2011"/>
                </a:lnTo>
                <a:lnTo>
                  <a:pt x="3140" y="1990"/>
                </a:lnTo>
                <a:lnTo>
                  <a:pt x="3133" y="1978"/>
                </a:lnTo>
                <a:lnTo>
                  <a:pt x="3124" y="1967"/>
                </a:lnTo>
                <a:lnTo>
                  <a:pt x="3114" y="1958"/>
                </a:lnTo>
                <a:lnTo>
                  <a:pt x="3105" y="1948"/>
                </a:lnTo>
                <a:lnTo>
                  <a:pt x="3096" y="1940"/>
                </a:lnTo>
                <a:lnTo>
                  <a:pt x="3086" y="1932"/>
                </a:lnTo>
                <a:lnTo>
                  <a:pt x="3075" y="1925"/>
                </a:lnTo>
                <a:lnTo>
                  <a:pt x="3064" y="1919"/>
                </a:lnTo>
                <a:lnTo>
                  <a:pt x="3052" y="1913"/>
                </a:lnTo>
                <a:lnTo>
                  <a:pt x="3041" y="1908"/>
                </a:lnTo>
                <a:lnTo>
                  <a:pt x="3029" y="1905"/>
                </a:lnTo>
                <a:lnTo>
                  <a:pt x="3015" y="1902"/>
                </a:lnTo>
                <a:lnTo>
                  <a:pt x="3002" y="1898"/>
                </a:lnTo>
                <a:lnTo>
                  <a:pt x="2988" y="1897"/>
                </a:lnTo>
                <a:lnTo>
                  <a:pt x="2975" y="1896"/>
                </a:lnTo>
                <a:lnTo>
                  <a:pt x="2960" y="1896"/>
                </a:lnTo>
                <a:lnTo>
                  <a:pt x="2937" y="1892"/>
                </a:lnTo>
                <a:lnTo>
                  <a:pt x="2916" y="1887"/>
                </a:lnTo>
                <a:lnTo>
                  <a:pt x="2895" y="1882"/>
                </a:lnTo>
                <a:lnTo>
                  <a:pt x="2872" y="1876"/>
                </a:lnTo>
                <a:lnTo>
                  <a:pt x="2851" y="1868"/>
                </a:lnTo>
                <a:lnTo>
                  <a:pt x="2829" y="1860"/>
                </a:lnTo>
                <a:lnTo>
                  <a:pt x="2808" y="1851"/>
                </a:lnTo>
                <a:lnTo>
                  <a:pt x="2786" y="1842"/>
                </a:lnTo>
                <a:lnTo>
                  <a:pt x="2777" y="1838"/>
                </a:lnTo>
                <a:lnTo>
                  <a:pt x="2767" y="1836"/>
                </a:lnTo>
                <a:lnTo>
                  <a:pt x="2758" y="1835"/>
                </a:lnTo>
                <a:lnTo>
                  <a:pt x="2748" y="1834"/>
                </a:lnTo>
                <a:lnTo>
                  <a:pt x="2739" y="1834"/>
                </a:lnTo>
                <a:lnTo>
                  <a:pt x="2729" y="1834"/>
                </a:lnTo>
                <a:lnTo>
                  <a:pt x="2719" y="1835"/>
                </a:lnTo>
                <a:lnTo>
                  <a:pt x="2710" y="1836"/>
                </a:lnTo>
                <a:lnTo>
                  <a:pt x="2689" y="1842"/>
                </a:lnTo>
                <a:lnTo>
                  <a:pt x="2668" y="1849"/>
                </a:lnTo>
                <a:lnTo>
                  <a:pt x="2648" y="1859"/>
                </a:lnTo>
                <a:lnTo>
                  <a:pt x="2626" y="1870"/>
                </a:lnTo>
                <a:lnTo>
                  <a:pt x="2601" y="1876"/>
                </a:lnTo>
                <a:lnTo>
                  <a:pt x="2576" y="1880"/>
                </a:lnTo>
                <a:lnTo>
                  <a:pt x="2550" y="1884"/>
                </a:lnTo>
                <a:lnTo>
                  <a:pt x="2526" y="1886"/>
                </a:lnTo>
                <a:lnTo>
                  <a:pt x="2500" y="1887"/>
                </a:lnTo>
                <a:lnTo>
                  <a:pt x="2474" y="1887"/>
                </a:lnTo>
                <a:lnTo>
                  <a:pt x="2447" y="1886"/>
                </a:lnTo>
                <a:lnTo>
                  <a:pt x="2420" y="1882"/>
                </a:lnTo>
                <a:lnTo>
                  <a:pt x="2334" y="1886"/>
                </a:lnTo>
                <a:lnTo>
                  <a:pt x="2247" y="1889"/>
                </a:lnTo>
                <a:lnTo>
                  <a:pt x="2161" y="1893"/>
                </a:lnTo>
                <a:lnTo>
                  <a:pt x="2076" y="1895"/>
                </a:lnTo>
                <a:lnTo>
                  <a:pt x="1990" y="1898"/>
                </a:lnTo>
                <a:lnTo>
                  <a:pt x="1903" y="1901"/>
                </a:lnTo>
                <a:lnTo>
                  <a:pt x="1817" y="1903"/>
                </a:lnTo>
                <a:lnTo>
                  <a:pt x="1732" y="1904"/>
                </a:lnTo>
                <a:lnTo>
                  <a:pt x="1646" y="1906"/>
                </a:lnTo>
                <a:lnTo>
                  <a:pt x="1561" y="1907"/>
                </a:lnTo>
                <a:lnTo>
                  <a:pt x="1476" y="1908"/>
                </a:lnTo>
                <a:lnTo>
                  <a:pt x="1390" y="1910"/>
                </a:lnTo>
                <a:lnTo>
                  <a:pt x="1305" y="1911"/>
                </a:lnTo>
                <a:lnTo>
                  <a:pt x="1219" y="1911"/>
                </a:lnTo>
                <a:lnTo>
                  <a:pt x="1135" y="1912"/>
                </a:lnTo>
                <a:lnTo>
                  <a:pt x="1050" y="1912"/>
                </a:lnTo>
                <a:lnTo>
                  <a:pt x="923" y="1977"/>
                </a:lnTo>
                <a:lnTo>
                  <a:pt x="917" y="1995"/>
                </a:lnTo>
                <a:lnTo>
                  <a:pt x="913" y="2012"/>
                </a:lnTo>
                <a:lnTo>
                  <a:pt x="910" y="2028"/>
                </a:lnTo>
                <a:lnTo>
                  <a:pt x="908" y="2043"/>
                </a:lnTo>
                <a:lnTo>
                  <a:pt x="907" y="2056"/>
                </a:lnTo>
                <a:lnTo>
                  <a:pt x="907" y="2068"/>
                </a:lnTo>
                <a:lnTo>
                  <a:pt x="909" y="2079"/>
                </a:lnTo>
                <a:lnTo>
                  <a:pt x="912" y="2089"/>
                </a:lnTo>
                <a:lnTo>
                  <a:pt x="915" y="2098"/>
                </a:lnTo>
                <a:lnTo>
                  <a:pt x="919" y="2105"/>
                </a:lnTo>
                <a:lnTo>
                  <a:pt x="924" y="2112"/>
                </a:lnTo>
                <a:lnTo>
                  <a:pt x="931" y="2117"/>
                </a:lnTo>
                <a:lnTo>
                  <a:pt x="939" y="2121"/>
                </a:lnTo>
                <a:lnTo>
                  <a:pt x="948" y="2124"/>
                </a:lnTo>
                <a:lnTo>
                  <a:pt x="957" y="2125"/>
                </a:lnTo>
                <a:lnTo>
                  <a:pt x="968" y="2126"/>
                </a:lnTo>
                <a:lnTo>
                  <a:pt x="1276" y="2155"/>
                </a:lnTo>
                <a:close/>
                <a:moveTo>
                  <a:pt x="856" y="3044"/>
                </a:moveTo>
                <a:lnTo>
                  <a:pt x="873" y="3058"/>
                </a:lnTo>
                <a:lnTo>
                  <a:pt x="888" y="3073"/>
                </a:lnTo>
                <a:lnTo>
                  <a:pt x="902" y="3087"/>
                </a:lnTo>
                <a:lnTo>
                  <a:pt x="914" y="3102"/>
                </a:lnTo>
                <a:lnTo>
                  <a:pt x="925" y="3118"/>
                </a:lnTo>
                <a:lnTo>
                  <a:pt x="934" y="3134"/>
                </a:lnTo>
                <a:lnTo>
                  <a:pt x="942" y="3149"/>
                </a:lnTo>
                <a:lnTo>
                  <a:pt x="948" y="3165"/>
                </a:lnTo>
                <a:lnTo>
                  <a:pt x="952" y="3181"/>
                </a:lnTo>
                <a:lnTo>
                  <a:pt x="956" y="3198"/>
                </a:lnTo>
                <a:lnTo>
                  <a:pt x="958" y="3215"/>
                </a:lnTo>
                <a:lnTo>
                  <a:pt x="958" y="3232"/>
                </a:lnTo>
                <a:lnTo>
                  <a:pt x="956" y="3250"/>
                </a:lnTo>
                <a:lnTo>
                  <a:pt x="953" y="3267"/>
                </a:lnTo>
                <a:lnTo>
                  <a:pt x="949" y="3285"/>
                </a:lnTo>
                <a:lnTo>
                  <a:pt x="943" y="3304"/>
                </a:lnTo>
                <a:lnTo>
                  <a:pt x="909" y="3365"/>
                </a:lnTo>
                <a:lnTo>
                  <a:pt x="875" y="3425"/>
                </a:lnTo>
                <a:lnTo>
                  <a:pt x="840" y="3483"/>
                </a:lnTo>
                <a:lnTo>
                  <a:pt x="805" y="3538"/>
                </a:lnTo>
                <a:lnTo>
                  <a:pt x="768" y="3591"/>
                </a:lnTo>
                <a:lnTo>
                  <a:pt x="730" y="3642"/>
                </a:lnTo>
                <a:lnTo>
                  <a:pt x="692" y="3692"/>
                </a:lnTo>
                <a:lnTo>
                  <a:pt x="652" y="3738"/>
                </a:lnTo>
                <a:lnTo>
                  <a:pt x="611" y="3782"/>
                </a:lnTo>
                <a:lnTo>
                  <a:pt x="569" y="3825"/>
                </a:lnTo>
                <a:lnTo>
                  <a:pt x="548" y="3845"/>
                </a:lnTo>
                <a:lnTo>
                  <a:pt x="527" y="3865"/>
                </a:lnTo>
                <a:lnTo>
                  <a:pt x="504" y="3885"/>
                </a:lnTo>
                <a:lnTo>
                  <a:pt x="483" y="3903"/>
                </a:lnTo>
                <a:lnTo>
                  <a:pt x="460" y="3921"/>
                </a:lnTo>
                <a:lnTo>
                  <a:pt x="438" y="3939"/>
                </a:lnTo>
                <a:lnTo>
                  <a:pt x="415" y="3956"/>
                </a:lnTo>
                <a:lnTo>
                  <a:pt x="392" y="3973"/>
                </a:lnTo>
                <a:lnTo>
                  <a:pt x="369" y="3989"/>
                </a:lnTo>
                <a:lnTo>
                  <a:pt x="345" y="4004"/>
                </a:lnTo>
                <a:lnTo>
                  <a:pt x="322" y="4019"/>
                </a:lnTo>
                <a:lnTo>
                  <a:pt x="297" y="4034"/>
                </a:lnTo>
                <a:lnTo>
                  <a:pt x="273" y="4042"/>
                </a:lnTo>
                <a:lnTo>
                  <a:pt x="249" y="4047"/>
                </a:lnTo>
                <a:lnTo>
                  <a:pt x="227" y="4053"/>
                </a:lnTo>
                <a:lnTo>
                  <a:pt x="205" y="4055"/>
                </a:lnTo>
                <a:lnTo>
                  <a:pt x="185" y="4057"/>
                </a:lnTo>
                <a:lnTo>
                  <a:pt x="165" y="4057"/>
                </a:lnTo>
                <a:lnTo>
                  <a:pt x="146" y="4055"/>
                </a:lnTo>
                <a:lnTo>
                  <a:pt x="129" y="4052"/>
                </a:lnTo>
                <a:lnTo>
                  <a:pt x="111" y="4047"/>
                </a:lnTo>
                <a:lnTo>
                  <a:pt x="95" y="4040"/>
                </a:lnTo>
                <a:lnTo>
                  <a:pt x="80" y="4033"/>
                </a:lnTo>
                <a:lnTo>
                  <a:pt x="66" y="4022"/>
                </a:lnTo>
                <a:lnTo>
                  <a:pt x="52" y="4011"/>
                </a:lnTo>
                <a:lnTo>
                  <a:pt x="40" y="3999"/>
                </a:lnTo>
                <a:lnTo>
                  <a:pt x="28" y="3984"/>
                </a:lnTo>
                <a:lnTo>
                  <a:pt x="17" y="3967"/>
                </a:lnTo>
                <a:lnTo>
                  <a:pt x="10" y="3946"/>
                </a:lnTo>
                <a:lnTo>
                  <a:pt x="6" y="3924"/>
                </a:lnTo>
                <a:lnTo>
                  <a:pt x="2" y="3904"/>
                </a:lnTo>
                <a:lnTo>
                  <a:pt x="0" y="3884"/>
                </a:lnTo>
                <a:lnTo>
                  <a:pt x="0" y="3863"/>
                </a:lnTo>
                <a:lnTo>
                  <a:pt x="1" y="3844"/>
                </a:lnTo>
                <a:lnTo>
                  <a:pt x="5" y="3825"/>
                </a:lnTo>
                <a:lnTo>
                  <a:pt x="9" y="3807"/>
                </a:lnTo>
                <a:lnTo>
                  <a:pt x="15" y="3789"/>
                </a:lnTo>
                <a:lnTo>
                  <a:pt x="22" y="3772"/>
                </a:lnTo>
                <a:lnTo>
                  <a:pt x="31" y="3755"/>
                </a:lnTo>
                <a:lnTo>
                  <a:pt x="42" y="3739"/>
                </a:lnTo>
                <a:lnTo>
                  <a:pt x="53" y="3723"/>
                </a:lnTo>
                <a:lnTo>
                  <a:pt x="68" y="3708"/>
                </a:lnTo>
                <a:lnTo>
                  <a:pt x="82" y="3694"/>
                </a:lnTo>
                <a:lnTo>
                  <a:pt x="99" y="3679"/>
                </a:lnTo>
                <a:lnTo>
                  <a:pt x="131" y="3666"/>
                </a:lnTo>
                <a:lnTo>
                  <a:pt x="164" y="3650"/>
                </a:lnTo>
                <a:lnTo>
                  <a:pt x="195" y="3633"/>
                </a:lnTo>
                <a:lnTo>
                  <a:pt x="226" y="3616"/>
                </a:lnTo>
                <a:lnTo>
                  <a:pt x="256" y="3597"/>
                </a:lnTo>
                <a:lnTo>
                  <a:pt x="287" y="3576"/>
                </a:lnTo>
                <a:lnTo>
                  <a:pt x="317" y="3555"/>
                </a:lnTo>
                <a:lnTo>
                  <a:pt x="346" y="3531"/>
                </a:lnTo>
                <a:lnTo>
                  <a:pt x="376" y="3507"/>
                </a:lnTo>
                <a:lnTo>
                  <a:pt x="404" y="3483"/>
                </a:lnTo>
                <a:lnTo>
                  <a:pt x="432" y="3456"/>
                </a:lnTo>
                <a:lnTo>
                  <a:pt x="460" y="3427"/>
                </a:lnTo>
                <a:lnTo>
                  <a:pt x="487" y="3399"/>
                </a:lnTo>
                <a:lnTo>
                  <a:pt x="516" y="3369"/>
                </a:lnTo>
                <a:lnTo>
                  <a:pt x="542" y="3337"/>
                </a:lnTo>
                <a:lnTo>
                  <a:pt x="569" y="3304"/>
                </a:lnTo>
                <a:lnTo>
                  <a:pt x="578" y="3283"/>
                </a:lnTo>
                <a:lnTo>
                  <a:pt x="586" y="3262"/>
                </a:lnTo>
                <a:lnTo>
                  <a:pt x="595" y="3240"/>
                </a:lnTo>
                <a:lnTo>
                  <a:pt x="602" y="3218"/>
                </a:lnTo>
                <a:lnTo>
                  <a:pt x="610" y="3196"/>
                </a:lnTo>
                <a:lnTo>
                  <a:pt x="617" y="3173"/>
                </a:lnTo>
                <a:lnTo>
                  <a:pt x="624" y="3151"/>
                </a:lnTo>
                <a:lnTo>
                  <a:pt x="631" y="3127"/>
                </a:lnTo>
                <a:lnTo>
                  <a:pt x="640" y="3113"/>
                </a:lnTo>
                <a:lnTo>
                  <a:pt x="650" y="3102"/>
                </a:lnTo>
                <a:lnTo>
                  <a:pt x="661" y="3091"/>
                </a:lnTo>
                <a:lnTo>
                  <a:pt x="672" y="3082"/>
                </a:lnTo>
                <a:lnTo>
                  <a:pt x="684" y="3073"/>
                </a:lnTo>
                <a:lnTo>
                  <a:pt x="696" y="3065"/>
                </a:lnTo>
                <a:lnTo>
                  <a:pt x="710" y="3058"/>
                </a:lnTo>
                <a:lnTo>
                  <a:pt x="724" y="3052"/>
                </a:lnTo>
                <a:lnTo>
                  <a:pt x="738" y="3048"/>
                </a:lnTo>
                <a:lnTo>
                  <a:pt x="754" y="3044"/>
                </a:lnTo>
                <a:lnTo>
                  <a:pt x="769" y="3042"/>
                </a:lnTo>
                <a:lnTo>
                  <a:pt x="785" y="3040"/>
                </a:lnTo>
                <a:lnTo>
                  <a:pt x="802" y="3040"/>
                </a:lnTo>
                <a:lnTo>
                  <a:pt x="819" y="3040"/>
                </a:lnTo>
                <a:lnTo>
                  <a:pt x="837" y="3042"/>
                </a:lnTo>
                <a:lnTo>
                  <a:pt x="856" y="3044"/>
                </a:lnTo>
                <a:close/>
                <a:moveTo>
                  <a:pt x="3894" y="3654"/>
                </a:moveTo>
                <a:lnTo>
                  <a:pt x="3911" y="3661"/>
                </a:lnTo>
                <a:lnTo>
                  <a:pt x="3928" y="3669"/>
                </a:lnTo>
                <a:lnTo>
                  <a:pt x="3942" y="3678"/>
                </a:lnTo>
                <a:lnTo>
                  <a:pt x="3957" y="3688"/>
                </a:lnTo>
                <a:lnTo>
                  <a:pt x="3970" y="3698"/>
                </a:lnTo>
                <a:lnTo>
                  <a:pt x="3982" y="3710"/>
                </a:lnTo>
                <a:lnTo>
                  <a:pt x="3993" y="3722"/>
                </a:lnTo>
                <a:lnTo>
                  <a:pt x="4003" y="3736"/>
                </a:lnTo>
                <a:lnTo>
                  <a:pt x="4012" y="3750"/>
                </a:lnTo>
                <a:lnTo>
                  <a:pt x="4020" y="3765"/>
                </a:lnTo>
                <a:lnTo>
                  <a:pt x="4027" y="3781"/>
                </a:lnTo>
                <a:lnTo>
                  <a:pt x="4033" y="3798"/>
                </a:lnTo>
                <a:lnTo>
                  <a:pt x="4037" y="3815"/>
                </a:lnTo>
                <a:lnTo>
                  <a:pt x="4042" y="3833"/>
                </a:lnTo>
                <a:lnTo>
                  <a:pt x="4044" y="3853"/>
                </a:lnTo>
                <a:lnTo>
                  <a:pt x="4045" y="3872"/>
                </a:lnTo>
                <a:lnTo>
                  <a:pt x="4038" y="3887"/>
                </a:lnTo>
                <a:lnTo>
                  <a:pt x="4030" y="3900"/>
                </a:lnTo>
                <a:lnTo>
                  <a:pt x="4021" y="3914"/>
                </a:lnTo>
                <a:lnTo>
                  <a:pt x="4012" y="3925"/>
                </a:lnTo>
                <a:lnTo>
                  <a:pt x="4001" y="3938"/>
                </a:lnTo>
                <a:lnTo>
                  <a:pt x="3990" y="3948"/>
                </a:lnTo>
                <a:lnTo>
                  <a:pt x="3979" y="3957"/>
                </a:lnTo>
                <a:lnTo>
                  <a:pt x="3965" y="3966"/>
                </a:lnTo>
                <a:lnTo>
                  <a:pt x="3951" y="3974"/>
                </a:lnTo>
                <a:lnTo>
                  <a:pt x="3937" y="3982"/>
                </a:lnTo>
                <a:lnTo>
                  <a:pt x="3921" y="3989"/>
                </a:lnTo>
                <a:lnTo>
                  <a:pt x="3905" y="3994"/>
                </a:lnTo>
                <a:lnTo>
                  <a:pt x="3888" y="3999"/>
                </a:lnTo>
                <a:lnTo>
                  <a:pt x="3870" y="4003"/>
                </a:lnTo>
                <a:lnTo>
                  <a:pt x="3851" y="4005"/>
                </a:lnTo>
                <a:lnTo>
                  <a:pt x="3832" y="4008"/>
                </a:lnTo>
                <a:lnTo>
                  <a:pt x="3716" y="4015"/>
                </a:lnTo>
                <a:lnTo>
                  <a:pt x="3601" y="4020"/>
                </a:lnTo>
                <a:lnTo>
                  <a:pt x="3487" y="4025"/>
                </a:lnTo>
                <a:lnTo>
                  <a:pt x="3372" y="4029"/>
                </a:lnTo>
                <a:lnTo>
                  <a:pt x="3258" y="4033"/>
                </a:lnTo>
                <a:lnTo>
                  <a:pt x="3145" y="4035"/>
                </a:lnTo>
                <a:lnTo>
                  <a:pt x="3032" y="4037"/>
                </a:lnTo>
                <a:lnTo>
                  <a:pt x="2919" y="4038"/>
                </a:lnTo>
                <a:lnTo>
                  <a:pt x="2807" y="4038"/>
                </a:lnTo>
                <a:lnTo>
                  <a:pt x="2695" y="4038"/>
                </a:lnTo>
                <a:lnTo>
                  <a:pt x="2583" y="4037"/>
                </a:lnTo>
                <a:lnTo>
                  <a:pt x="2473" y="4036"/>
                </a:lnTo>
                <a:lnTo>
                  <a:pt x="2362" y="4033"/>
                </a:lnTo>
                <a:lnTo>
                  <a:pt x="2252" y="4029"/>
                </a:lnTo>
                <a:lnTo>
                  <a:pt x="2142" y="4026"/>
                </a:lnTo>
                <a:lnTo>
                  <a:pt x="2033" y="4021"/>
                </a:lnTo>
                <a:lnTo>
                  <a:pt x="1972" y="4012"/>
                </a:lnTo>
                <a:lnTo>
                  <a:pt x="1913" y="4003"/>
                </a:lnTo>
                <a:lnTo>
                  <a:pt x="1858" y="3993"/>
                </a:lnTo>
                <a:lnTo>
                  <a:pt x="1804" y="3982"/>
                </a:lnTo>
                <a:lnTo>
                  <a:pt x="1752" y="3970"/>
                </a:lnTo>
                <a:lnTo>
                  <a:pt x="1703" y="3957"/>
                </a:lnTo>
                <a:lnTo>
                  <a:pt x="1656" y="3944"/>
                </a:lnTo>
                <a:lnTo>
                  <a:pt x="1612" y="3930"/>
                </a:lnTo>
                <a:lnTo>
                  <a:pt x="1569" y="3915"/>
                </a:lnTo>
                <a:lnTo>
                  <a:pt x="1530" y="3899"/>
                </a:lnTo>
                <a:lnTo>
                  <a:pt x="1492" y="3884"/>
                </a:lnTo>
                <a:lnTo>
                  <a:pt x="1457" y="3867"/>
                </a:lnTo>
                <a:lnTo>
                  <a:pt x="1425" y="3849"/>
                </a:lnTo>
                <a:lnTo>
                  <a:pt x="1395" y="3830"/>
                </a:lnTo>
                <a:lnTo>
                  <a:pt x="1367" y="3810"/>
                </a:lnTo>
                <a:lnTo>
                  <a:pt x="1342" y="3790"/>
                </a:lnTo>
                <a:lnTo>
                  <a:pt x="1328" y="3763"/>
                </a:lnTo>
                <a:lnTo>
                  <a:pt x="1315" y="3734"/>
                </a:lnTo>
                <a:lnTo>
                  <a:pt x="1304" y="3706"/>
                </a:lnTo>
                <a:lnTo>
                  <a:pt x="1294" y="3677"/>
                </a:lnTo>
                <a:lnTo>
                  <a:pt x="1286" y="3647"/>
                </a:lnTo>
                <a:lnTo>
                  <a:pt x="1279" y="3617"/>
                </a:lnTo>
                <a:lnTo>
                  <a:pt x="1274" y="3587"/>
                </a:lnTo>
                <a:lnTo>
                  <a:pt x="1269" y="3556"/>
                </a:lnTo>
                <a:lnTo>
                  <a:pt x="1267" y="3524"/>
                </a:lnTo>
                <a:lnTo>
                  <a:pt x="1266" y="3492"/>
                </a:lnTo>
                <a:lnTo>
                  <a:pt x="1266" y="3459"/>
                </a:lnTo>
                <a:lnTo>
                  <a:pt x="1267" y="3426"/>
                </a:lnTo>
                <a:lnTo>
                  <a:pt x="1270" y="3392"/>
                </a:lnTo>
                <a:lnTo>
                  <a:pt x="1275" y="3357"/>
                </a:lnTo>
                <a:lnTo>
                  <a:pt x="1281" y="3323"/>
                </a:lnTo>
                <a:lnTo>
                  <a:pt x="1289" y="3287"/>
                </a:lnTo>
                <a:lnTo>
                  <a:pt x="1296" y="3266"/>
                </a:lnTo>
                <a:lnTo>
                  <a:pt x="1303" y="3245"/>
                </a:lnTo>
                <a:lnTo>
                  <a:pt x="1312" y="3225"/>
                </a:lnTo>
                <a:lnTo>
                  <a:pt x="1320" y="3205"/>
                </a:lnTo>
                <a:lnTo>
                  <a:pt x="1330" y="3186"/>
                </a:lnTo>
                <a:lnTo>
                  <a:pt x="1339" y="3168"/>
                </a:lnTo>
                <a:lnTo>
                  <a:pt x="1350" y="3148"/>
                </a:lnTo>
                <a:lnTo>
                  <a:pt x="1362" y="3131"/>
                </a:lnTo>
                <a:lnTo>
                  <a:pt x="1373" y="3113"/>
                </a:lnTo>
                <a:lnTo>
                  <a:pt x="1385" y="3098"/>
                </a:lnTo>
                <a:lnTo>
                  <a:pt x="1399" y="3081"/>
                </a:lnTo>
                <a:lnTo>
                  <a:pt x="1412" y="3065"/>
                </a:lnTo>
                <a:lnTo>
                  <a:pt x="1427" y="3050"/>
                </a:lnTo>
                <a:lnTo>
                  <a:pt x="1442" y="3035"/>
                </a:lnTo>
                <a:lnTo>
                  <a:pt x="1457" y="3022"/>
                </a:lnTo>
                <a:lnTo>
                  <a:pt x="1473" y="3008"/>
                </a:lnTo>
                <a:lnTo>
                  <a:pt x="1492" y="2999"/>
                </a:lnTo>
                <a:lnTo>
                  <a:pt x="1510" y="2993"/>
                </a:lnTo>
                <a:lnTo>
                  <a:pt x="1529" y="2986"/>
                </a:lnTo>
                <a:lnTo>
                  <a:pt x="1545" y="2981"/>
                </a:lnTo>
                <a:lnTo>
                  <a:pt x="1563" y="2978"/>
                </a:lnTo>
                <a:lnTo>
                  <a:pt x="1580" y="2974"/>
                </a:lnTo>
                <a:lnTo>
                  <a:pt x="1597" y="2973"/>
                </a:lnTo>
                <a:lnTo>
                  <a:pt x="1614" y="2972"/>
                </a:lnTo>
                <a:lnTo>
                  <a:pt x="1631" y="2973"/>
                </a:lnTo>
                <a:lnTo>
                  <a:pt x="1648" y="2974"/>
                </a:lnTo>
                <a:lnTo>
                  <a:pt x="1664" y="2978"/>
                </a:lnTo>
                <a:lnTo>
                  <a:pt x="1680" y="2981"/>
                </a:lnTo>
                <a:lnTo>
                  <a:pt x="1695" y="2986"/>
                </a:lnTo>
                <a:lnTo>
                  <a:pt x="1711" y="2993"/>
                </a:lnTo>
                <a:lnTo>
                  <a:pt x="1726" y="2999"/>
                </a:lnTo>
                <a:lnTo>
                  <a:pt x="1741" y="3008"/>
                </a:lnTo>
                <a:lnTo>
                  <a:pt x="1751" y="3026"/>
                </a:lnTo>
                <a:lnTo>
                  <a:pt x="1760" y="3044"/>
                </a:lnTo>
                <a:lnTo>
                  <a:pt x="1767" y="3061"/>
                </a:lnTo>
                <a:lnTo>
                  <a:pt x="1772" y="3079"/>
                </a:lnTo>
                <a:lnTo>
                  <a:pt x="1777" y="3096"/>
                </a:lnTo>
                <a:lnTo>
                  <a:pt x="1779" y="3113"/>
                </a:lnTo>
                <a:lnTo>
                  <a:pt x="1780" y="3129"/>
                </a:lnTo>
                <a:lnTo>
                  <a:pt x="1779" y="3145"/>
                </a:lnTo>
                <a:lnTo>
                  <a:pt x="1777" y="3161"/>
                </a:lnTo>
                <a:lnTo>
                  <a:pt x="1773" y="3177"/>
                </a:lnTo>
                <a:lnTo>
                  <a:pt x="1769" y="3192"/>
                </a:lnTo>
                <a:lnTo>
                  <a:pt x="1762" y="3207"/>
                </a:lnTo>
                <a:lnTo>
                  <a:pt x="1754" y="3222"/>
                </a:lnTo>
                <a:lnTo>
                  <a:pt x="1744" y="3235"/>
                </a:lnTo>
                <a:lnTo>
                  <a:pt x="1734" y="3249"/>
                </a:lnTo>
                <a:lnTo>
                  <a:pt x="1720" y="3264"/>
                </a:lnTo>
                <a:lnTo>
                  <a:pt x="1708" y="3275"/>
                </a:lnTo>
                <a:lnTo>
                  <a:pt x="1695" y="3288"/>
                </a:lnTo>
                <a:lnTo>
                  <a:pt x="1684" y="3302"/>
                </a:lnTo>
                <a:lnTo>
                  <a:pt x="1674" y="3315"/>
                </a:lnTo>
                <a:lnTo>
                  <a:pt x="1664" y="3331"/>
                </a:lnTo>
                <a:lnTo>
                  <a:pt x="1656" y="3347"/>
                </a:lnTo>
                <a:lnTo>
                  <a:pt x="1648" y="3363"/>
                </a:lnTo>
                <a:lnTo>
                  <a:pt x="1640" y="3380"/>
                </a:lnTo>
                <a:lnTo>
                  <a:pt x="1635" y="3398"/>
                </a:lnTo>
                <a:lnTo>
                  <a:pt x="1629" y="3417"/>
                </a:lnTo>
                <a:lnTo>
                  <a:pt x="1624" y="3436"/>
                </a:lnTo>
                <a:lnTo>
                  <a:pt x="1621" y="3456"/>
                </a:lnTo>
                <a:lnTo>
                  <a:pt x="1618" y="3477"/>
                </a:lnTo>
                <a:lnTo>
                  <a:pt x="1615" y="3498"/>
                </a:lnTo>
                <a:lnTo>
                  <a:pt x="1614" y="3520"/>
                </a:lnTo>
                <a:lnTo>
                  <a:pt x="1614" y="3542"/>
                </a:lnTo>
                <a:lnTo>
                  <a:pt x="1629" y="3559"/>
                </a:lnTo>
                <a:lnTo>
                  <a:pt x="1645" y="3575"/>
                </a:lnTo>
                <a:lnTo>
                  <a:pt x="1662" y="3591"/>
                </a:lnTo>
                <a:lnTo>
                  <a:pt x="1680" y="3606"/>
                </a:lnTo>
                <a:lnTo>
                  <a:pt x="1699" y="3620"/>
                </a:lnTo>
                <a:lnTo>
                  <a:pt x="1719" y="3634"/>
                </a:lnTo>
                <a:lnTo>
                  <a:pt x="1741" y="3647"/>
                </a:lnTo>
                <a:lnTo>
                  <a:pt x="1763" y="3660"/>
                </a:lnTo>
                <a:lnTo>
                  <a:pt x="1787" y="3671"/>
                </a:lnTo>
                <a:lnTo>
                  <a:pt x="1811" y="3683"/>
                </a:lnTo>
                <a:lnTo>
                  <a:pt x="1836" y="3693"/>
                </a:lnTo>
                <a:lnTo>
                  <a:pt x="1862" y="3703"/>
                </a:lnTo>
                <a:lnTo>
                  <a:pt x="1891" y="3712"/>
                </a:lnTo>
                <a:lnTo>
                  <a:pt x="1919" y="3721"/>
                </a:lnTo>
                <a:lnTo>
                  <a:pt x="1949" y="3729"/>
                </a:lnTo>
                <a:lnTo>
                  <a:pt x="1980" y="3737"/>
                </a:lnTo>
                <a:lnTo>
                  <a:pt x="2044" y="3740"/>
                </a:lnTo>
                <a:lnTo>
                  <a:pt x="2109" y="3742"/>
                </a:lnTo>
                <a:lnTo>
                  <a:pt x="2176" y="3745"/>
                </a:lnTo>
                <a:lnTo>
                  <a:pt x="2244" y="3745"/>
                </a:lnTo>
                <a:lnTo>
                  <a:pt x="2314" y="3745"/>
                </a:lnTo>
                <a:lnTo>
                  <a:pt x="2384" y="3742"/>
                </a:lnTo>
                <a:lnTo>
                  <a:pt x="2455" y="3740"/>
                </a:lnTo>
                <a:lnTo>
                  <a:pt x="2527" y="3737"/>
                </a:lnTo>
                <a:lnTo>
                  <a:pt x="2565" y="3703"/>
                </a:lnTo>
                <a:lnTo>
                  <a:pt x="2602" y="3667"/>
                </a:lnTo>
                <a:lnTo>
                  <a:pt x="2640" y="3631"/>
                </a:lnTo>
                <a:lnTo>
                  <a:pt x="2676" y="3593"/>
                </a:lnTo>
                <a:lnTo>
                  <a:pt x="2713" y="3556"/>
                </a:lnTo>
                <a:lnTo>
                  <a:pt x="2748" y="3517"/>
                </a:lnTo>
                <a:lnTo>
                  <a:pt x="2784" y="3477"/>
                </a:lnTo>
                <a:lnTo>
                  <a:pt x="2819" y="3436"/>
                </a:lnTo>
                <a:lnTo>
                  <a:pt x="2842" y="3383"/>
                </a:lnTo>
                <a:lnTo>
                  <a:pt x="2864" y="3331"/>
                </a:lnTo>
                <a:lnTo>
                  <a:pt x="2887" y="3280"/>
                </a:lnTo>
                <a:lnTo>
                  <a:pt x="2910" y="3231"/>
                </a:lnTo>
                <a:lnTo>
                  <a:pt x="2935" y="3182"/>
                </a:lnTo>
                <a:lnTo>
                  <a:pt x="2960" y="3135"/>
                </a:lnTo>
                <a:lnTo>
                  <a:pt x="2986" y="3090"/>
                </a:lnTo>
                <a:lnTo>
                  <a:pt x="3013" y="3044"/>
                </a:lnTo>
                <a:lnTo>
                  <a:pt x="3031" y="3037"/>
                </a:lnTo>
                <a:lnTo>
                  <a:pt x="3048" y="3030"/>
                </a:lnTo>
                <a:lnTo>
                  <a:pt x="3065" y="3025"/>
                </a:lnTo>
                <a:lnTo>
                  <a:pt x="3082" y="3021"/>
                </a:lnTo>
                <a:lnTo>
                  <a:pt x="3098" y="3017"/>
                </a:lnTo>
                <a:lnTo>
                  <a:pt x="3113" y="3016"/>
                </a:lnTo>
                <a:lnTo>
                  <a:pt x="3128" y="3015"/>
                </a:lnTo>
                <a:lnTo>
                  <a:pt x="3144" y="3016"/>
                </a:lnTo>
                <a:lnTo>
                  <a:pt x="3157" y="3017"/>
                </a:lnTo>
                <a:lnTo>
                  <a:pt x="3172" y="3021"/>
                </a:lnTo>
                <a:lnTo>
                  <a:pt x="3186" y="3024"/>
                </a:lnTo>
                <a:lnTo>
                  <a:pt x="3199" y="3030"/>
                </a:lnTo>
                <a:lnTo>
                  <a:pt x="3212" y="3035"/>
                </a:lnTo>
                <a:lnTo>
                  <a:pt x="3224" y="3043"/>
                </a:lnTo>
                <a:lnTo>
                  <a:pt x="3236" y="3051"/>
                </a:lnTo>
                <a:lnTo>
                  <a:pt x="3248" y="3061"/>
                </a:lnTo>
                <a:lnTo>
                  <a:pt x="3257" y="3072"/>
                </a:lnTo>
                <a:lnTo>
                  <a:pt x="3265" y="3082"/>
                </a:lnTo>
                <a:lnTo>
                  <a:pt x="3272" y="3092"/>
                </a:lnTo>
                <a:lnTo>
                  <a:pt x="3279" y="3103"/>
                </a:lnTo>
                <a:lnTo>
                  <a:pt x="3284" y="3114"/>
                </a:lnTo>
                <a:lnTo>
                  <a:pt x="3288" y="3126"/>
                </a:lnTo>
                <a:lnTo>
                  <a:pt x="3293" y="3138"/>
                </a:lnTo>
                <a:lnTo>
                  <a:pt x="3295" y="3151"/>
                </a:lnTo>
                <a:lnTo>
                  <a:pt x="3296" y="3163"/>
                </a:lnTo>
                <a:lnTo>
                  <a:pt x="3297" y="3177"/>
                </a:lnTo>
                <a:lnTo>
                  <a:pt x="3296" y="3190"/>
                </a:lnTo>
                <a:lnTo>
                  <a:pt x="3295" y="3204"/>
                </a:lnTo>
                <a:lnTo>
                  <a:pt x="3293" y="3218"/>
                </a:lnTo>
                <a:lnTo>
                  <a:pt x="3289" y="3233"/>
                </a:lnTo>
                <a:lnTo>
                  <a:pt x="3286" y="3248"/>
                </a:lnTo>
                <a:lnTo>
                  <a:pt x="3280" y="3264"/>
                </a:lnTo>
                <a:lnTo>
                  <a:pt x="3262" y="3296"/>
                </a:lnTo>
                <a:lnTo>
                  <a:pt x="3242" y="3328"/>
                </a:lnTo>
                <a:lnTo>
                  <a:pt x="3221" y="3358"/>
                </a:lnTo>
                <a:lnTo>
                  <a:pt x="3197" y="3388"/>
                </a:lnTo>
                <a:lnTo>
                  <a:pt x="3172" y="3415"/>
                </a:lnTo>
                <a:lnTo>
                  <a:pt x="3145" y="3441"/>
                </a:lnTo>
                <a:lnTo>
                  <a:pt x="3117" y="3466"/>
                </a:lnTo>
                <a:lnTo>
                  <a:pt x="3086" y="3489"/>
                </a:lnTo>
                <a:lnTo>
                  <a:pt x="3068" y="3511"/>
                </a:lnTo>
                <a:lnTo>
                  <a:pt x="3051" y="3532"/>
                </a:lnTo>
                <a:lnTo>
                  <a:pt x="3034" y="3555"/>
                </a:lnTo>
                <a:lnTo>
                  <a:pt x="3017" y="3577"/>
                </a:lnTo>
                <a:lnTo>
                  <a:pt x="3002" y="3602"/>
                </a:lnTo>
                <a:lnTo>
                  <a:pt x="2987" y="3627"/>
                </a:lnTo>
                <a:lnTo>
                  <a:pt x="2973" y="3653"/>
                </a:lnTo>
                <a:lnTo>
                  <a:pt x="2960" y="3679"/>
                </a:lnTo>
                <a:lnTo>
                  <a:pt x="2976" y="3689"/>
                </a:lnTo>
                <a:lnTo>
                  <a:pt x="2992" y="3698"/>
                </a:lnTo>
                <a:lnTo>
                  <a:pt x="3007" y="3704"/>
                </a:lnTo>
                <a:lnTo>
                  <a:pt x="3022" y="3708"/>
                </a:lnTo>
                <a:lnTo>
                  <a:pt x="3037" y="3712"/>
                </a:lnTo>
                <a:lnTo>
                  <a:pt x="3051" y="3712"/>
                </a:lnTo>
                <a:lnTo>
                  <a:pt x="3065" y="3711"/>
                </a:lnTo>
                <a:lnTo>
                  <a:pt x="3078" y="3708"/>
                </a:lnTo>
                <a:lnTo>
                  <a:pt x="3894" y="3654"/>
                </a:lnTo>
                <a:close/>
                <a:moveTo>
                  <a:pt x="2502" y="3020"/>
                </a:moveTo>
                <a:lnTo>
                  <a:pt x="2513" y="3032"/>
                </a:lnTo>
                <a:lnTo>
                  <a:pt x="2523" y="3043"/>
                </a:lnTo>
                <a:lnTo>
                  <a:pt x="2532" y="3056"/>
                </a:lnTo>
                <a:lnTo>
                  <a:pt x="2540" y="3068"/>
                </a:lnTo>
                <a:lnTo>
                  <a:pt x="2547" y="3081"/>
                </a:lnTo>
                <a:lnTo>
                  <a:pt x="2553" y="3093"/>
                </a:lnTo>
                <a:lnTo>
                  <a:pt x="2558" y="3105"/>
                </a:lnTo>
                <a:lnTo>
                  <a:pt x="2562" y="3118"/>
                </a:lnTo>
                <a:lnTo>
                  <a:pt x="2565" y="3130"/>
                </a:lnTo>
                <a:lnTo>
                  <a:pt x="2567" y="3143"/>
                </a:lnTo>
                <a:lnTo>
                  <a:pt x="2569" y="3156"/>
                </a:lnTo>
                <a:lnTo>
                  <a:pt x="2569" y="3169"/>
                </a:lnTo>
                <a:lnTo>
                  <a:pt x="2567" y="3182"/>
                </a:lnTo>
                <a:lnTo>
                  <a:pt x="2566" y="3195"/>
                </a:lnTo>
                <a:lnTo>
                  <a:pt x="2564" y="3208"/>
                </a:lnTo>
                <a:lnTo>
                  <a:pt x="2560" y="3222"/>
                </a:lnTo>
                <a:lnTo>
                  <a:pt x="2536" y="3259"/>
                </a:lnTo>
                <a:lnTo>
                  <a:pt x="2512" y="3296"/>
                </a:lnTo>
                <a:lnTo>
                  <a:pt x="2487" y="3332"/>
                </a:lnTo>
                <a:lnTo>
                  <a:pt x="2463" y="3370"/>
                </a:lnTo>
                <a:lnTo>
                  <a:pt x="2437" y="3407"/>
                </a:lnTo>
                <a:lnTo>
                  <a:pt x="2412" y="3444"/>
                </a:lnTo>
                <a:lnTo>
                  <a:pt x="2385" y="3481"/>
                </a:lnTo>
                <a:lnTo>
                  <a:pt x="2359" y="3519"/>
                </a:lnTo>
                <a:lnTo>
                  <a:pt x="2343" y="3528"/>
                </a:lnTo>
                <a:lnTo>
                  <a:pt x="2328" y="3537"/>
                </a:lnTo>
                <a:lnTo>
                  <a:pt x="2312" y="3545"/>
                </a:lnTo>
                <a:lnTo>
                  <a:pt x="2298" y="3553"/>
                </a:lnTo>
                <a:lnTo>
                  <a:pt x="2283" y="3559"/>
                </a:lnTo>
                <a:lnTo>
                  <a:pt x="2268" y="3564"/>
                </a:lnTo>
                <a:lnTo>
                  <a:pt x="2254" y="3570"/>
                </a:lnTo>
                <a:lnTo>
                  <a:pt x="2239" y="3573"/>
                </a:lnTo>
                <a:lnTo>
                  <a:pt x="2225" y="3576"/>
                </a:lnTo>
                <a:lnTo>
                  <a:pt x="2211" y="3577"/>
                </a:lnTo>
                <a:lnTo>
                  <a:pt x="2196" y="3579"/>
                </a:lnTo>
                <a:lnTo>
                  <a:pt x="2183" y="3580"/>
                </a:lnTo>
                <a:lnTo>
                  <a:pt x="2168" y="3579"/>
                </a:lnTo>
                <a:lnTo>
                  <a:pt x="2155" y="3577"/>
                </a:lnTo>
                <a:lnTo>
                  <a:pt x="2141" y="3575"/>
                </a:lnTo>
                <a:lnTo>
                  <a:pt x="2127" y="3572"/>
                </a:lnTo>
                <a:lnTo>
                  <a:pt x="2118" y="3561"/>
                </a:lnTo>
                <a:lnTo>
                  <a:pt x="2109" y="3550"/>
                </a:lnTo>
                <a:lnTo>
                  <a:pt x="2102" y="3538"/>
                </a:lnTo>
                <a:lnTo>
                  <a:pt x="2096" y="3526"/>
                </a:lnTo>
                <a:lnTo>
                  <a:pt x="2091" y="3513"/>
                </a:lnTo>
                <a:lnTo>
                  <a:pt x="2088" y="3500"/>
                </a:lnTo>
                <a:lnTo>
                  <a:pt x="2086" y="3485"/>
                </a:lnTo>
                <a:lnTo>
                  <a:pt x="2085" y="3470"/>
                </a:lnTo>
                <a:lnTo>
                  <a:pt x="2086" y="3454"/>
                </a:lnTo>
                <a:lnTo>
                  <a:pt x="2088" y="3439"/>
                </a:lnTo>
                <a:lnTo>
                  <a:pt x="2091" y="3422"/>
                </a:lnTo>
                <a:lnTo>
                  <a:pt x="2096" y="3405"/>
                </a:lnTo>
                <a:lnTo>
                  <a:pt x="2102" y="3387"/>
                </a:lnTo>
                <a:lnTo>
                  <a:pt x="2109" y="3367"/>
                </a:lnTo>
                <a:lnTo>
                  <a:pt x="2118" y="3349"/>
                </a:lnTo>
                <a:lnTo>
                  <a:pt x="2127" y="3329"/>
                </a:lnTo>
                <a:lnTo>
                  <a:pt x="2149" y="3299"/>
                </a:lnTo>
                <a:lnTo>
                  <a:pt x="2170" y="3267"/>
                </a:lnTo>
                <a:lnTo>
                  <a:pt x="2190" y="3235"/>
                </a:lnTo>
                <a:lnTo>
                  <a:pt x="2209" y="3203"/>
                </a:lnTo>
                <a:lnTo>
                  <a:pt x="2228" y="3168"/>
                </a:lnTo>
                <a:lnTo>
                  <a:pt x="2246" y="3134"/>
                </a:lnTo>
                <a:lnTo>
                  <a:pt x="2264" y="3098"/>
                </a:lnTo>
                <a:lnTo>
                  <a:pt x="2281" y="3061"/>
                </a:lnTo>
                <a:lnTo>
                  <a:pt x="2294" y="3051"/>
                </a:lnTo>
                <a:lnTo>
                  <a:pt x="2309" y="3042"/>
                </a:lnTo>
                <a:lnTo>
                  <a:pt x="2324" y="3034"/>
                </a:lnTo>
                <a:lnTo>
                  <a:pt x="2337" y="3028"/>
                </a:lnTo>
                <a:lnTo>
                  <a:pt x="2352" y="3022"/>
                </a:lnTo>
                <a:lnTo>
                  <a:pt x="2366" y="3016"/>
                </a:lnTo>
                <a:lnTo>
                  <a:pt x="2379" y="3013"/>
                </a:lnTo>
                <a:lnTo>
                  <a:pt x="2394" y="3009"/>
                </a:lnTo>
                <a:lnTo>
                  <a:pt x="2407" y="3007"/>
                </a:lnTo>
                <a:lnTo>
                  <a:pt x="2421" y="3006"/>
                </a:lnTo>
                <a:lnTo>
                  <a:pt x="2434" y="3006"/>
                </a:lnTo>
                <a:lnTo>
                  <a:pt x="2449" y="3007"/>
                </a:lnTo>
                <a:lnTo>
                  <a:pt x="2463" y="3008"/>
                </a:lnTo>
                <a:lnTo>
                  <a:pt x="2476" y="3012"/>
                </a:lnTo>
                <a:lnTo>
                  <a:pt x="2488" y="3015"/>
                </a:lnTo>
                <a:lnTo>
                  <a:pt x="2502" y="3020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1240" y="5342040"/>
            <a:ext cx="797040" cy="795240"/>
          </a:xfrm>
          <a:custGeom>
            <a:avLst/>
            <a:gdLst/>
            <a:ahLst/>
            <a:rect l="l" t="t" r="r" b="b"/>
            <a:pathLst>
              <a:path w="4015" h="4008">
                <a:moveTo>
                  <a:pt x="963" y="3856"/>
                </a:moveTo>
                <a:lnTo>
                  <a:pt x="960" y="3876"/>
                </a:lnTo>
                <a:lnTo>
                  <a:pt x="957" y="3894"/>
                </a:lnTo>
                <a:lnTo>
                  <a:pt x="951" y="3911"/>
                </a:lnTo>
                <a:lnTo>
                  <a:pt x="945" y="3926"/>
                </a:lnTo>
                <a:lnTo>
                  <a:pt x="936" y="3939"/>
                </a:lnTo>
                <a:lnTo>
                  <a:pt x="927" y="3950"/>
                </a:lnTo>
                <a:lnTo>
                  <a:pt x="916" y="3961"/>
                </a:lnTo>
                <a:lnTo>
                  <a:pt x="903" y="3970"/>
                </a:lnTo>
                <a:lnTo>
                  <a:pt x="889" y="3976"/>
                </a:lnTo>
                <a:lnTo>
                  <a:pt x="873" y="3982"/>
                </a:lnTo>
                <a:lnTo>
                  <a:pt x="856" y="3985"/>
                </a:lnTo>
                <a:lnTo>
                  <a:pt x="838" y="3988"/>
                </a:lnTo>
                <a:lnTo>
                  <a:pt x="818" y="3988"/>
                </a:lnTo>
                <a:lnTo>
                  <a:pt x="796" y="3987"/>
                </a:lnTo>
                <a:lnTo>
                  <a:pt x="773" y="3984"/>
                </a:lnTo>
                <a:lnTo>
                  <a:pt x="749" y="3980"/>
                </a:lnTo>
                <a:lnTo>
                  <a:pt x="739" y="3964"/>
                </a:lnTo>
                <a:lnTo>
                  <a:pt x="731" y="3947"/>
                </a:lnTo>
                <a:lnTo>
                  <a:pt x="723" y="3928"/>
                </a:lnTo>
                <a:lnTo>
                  <a:pt x="716" y="3909"/>
                </a:lnTo>
                <a:lnTo>
                  <a:pt x="709" y="3888"/>
                </a:lnTo>
                <a:lnTo>
                  <a:pt x="704" y="3866"/>
                </a:lnTo>
                <a:lnTo>
                  <a:pt x="699" y="3843"/>
                </a:lnTo>
                <a:lnTo>
                  <a:pt x="695" y="3819"/>
                </a:lnTo>
                <a:lnTo>
                  <a:pt x="693" y="3793"/>
                </a:lnTo>
                <a:lnTo>
                  <a:pt x="689" y="3767"/>
                </a:lnTo>
                <a:lnTo>
                  <a:pt x="688" y="3739"/>
                </a:lnTo>
                <a:lnTo>
                  <a:pt x="687" y="3711"/>
                </a:lnTo>
                <a:lnTo>
                  <a:pt x="687" y="3682"/>
                </a:lnTo>
                <a:lnTo>
                  <a:pt x="688" y="3650"/>
                </a:lnTo>
                <a:lnTo>
                  <a:pt x="689" y="3618"/>
                </a:lnTo>
                <a:lnTo>
                  <a:pt x="691" y="3585"/>
                </a:lnTo>
                <a:lnTo>
                  <a:pt x="716" y="2126"/>
                </a:lnTo>
                <a:lnTo>
                  <a:pt x="713" y="2103"/>
                </a:lnTo>
                <a:lnTo>
                  <a:pt x="708" y="2080"/>
                </a:lnTo>
                <a:lnTo>
                  <a:pt x="704" y="2060"/>
                </a:lnTo>
                <a:lnTo>
                  <a:pt x="698" y="2040"/>
                </a:lnTo>
                <a:lnTo>
                  <a:pt x="691" y="2021"/>
                </a:lnTo>
                <a:lnTo>
                  <a:pt x="685" y="2002"/>
                </a:lnTo>
                <a:lnTo>
                  <a:pt x="677" y="1987"/>
                </a:lnTo>
                <a:lnTo>
                  <a:pt x="668" y="1971"/>
                </a:lnTo>
                <a:lnTo>
                  <a:pt x="659" y="1956"/>
                </a:lnTo>
                <a:lnTo>
                  <a:pt x="649" y="1943"/>
                </a:lnTo>
                <a:lnTo>
                  <a:pt x="637" y="1930"/>
                </a:lnTo>
                <a:lnTo>
                  <a:pt x="626" y="1918"/>
                </a:lnTo>
                <a:lnTo>
                  <a:pt x="614" y="1908"/>
                </a:lnTo>
                <a:lnTo>
                  <a:pt x="600" y="1899"/>
                </a:lnTo>
                <a:lnTo>
                  <a:pt x="587" y="1891"/>
                </a:lnTo>
                <a:lnTo>
                  <a:pt x="572" y="1883"/>
                </a:lnTo>
                <a:lnTo>
                  <a:pt x="524" y="1910"/>
                </a:lnTo>
                <a:lnTo>
                  <a:pt x="479" y="1935"/>
                </a:lnTo>
                <a:lnTo>
                  <a:pt x="435" y="1956"/>
                </a:lnTo>
                <a:lnTo>
                  <a:pt x="395" y="1975"/>
                </a:lnTo>
                <a:lnTo>
                  <a:pt x="354" y="1992"/>
                </a:lnTo>
                <a:lnTo>
                  <a:pt x="317" y="2006"/>
                </a:lnTo>
                <a:lnTo>
                  <a:pt x="282" y="2017"/>
                </a:lnTo>
                <a:lnTo>
                  <a:pt x="248" y="2026"/>
                </a:lnTo>
                <a:lnTo>
                  <a:pt x="231" y="2030"/>
                </a:lnTo>
                <a:lnTo>
                  <a:pt x="217" y="2033"/>
                </a:lnTo>
                <a:lnTo>
                  <a:pt x="201" y="2034"/>
                </a:lnTo>
                <a:lnTo>
                  <a:pt x="186" y="2036"/>
                </a:lnTo>
                <a:lnTo>
                  <a:pt x="173" y="2036"/>
                </a:lnTo>
                <a:lnTo>
                  <a:pt x="159" y="2036"/>
                </a:lnTo>
                <a:lnTo>
                  <a:pt x="145" y="2036"/>
                </a:lnTo>
                <a:lnTo>
                  <a:pt x="133" y="2035"/>
                </a:lnTo>
                <a:lnTo>
                  <a:pt x="121" y="2033"/>
                </a:lnTo>
                <a:lnTo>
                  <a:pt x="109" y="2031"/>
                </a:lnTo>
                <a:lnTo>
                  <a:pt x="98" y="2028"/>
                </a:lnTo>
                <a:lnTo>
                  <a:pt x="87" y="2024"/>
                </a:lnTo>
                <a:lnTo>
                  <a:pt x="77" y="2019"/>
                </a:lnTo>
                <a:lnTo>
                  <a:pt x="67" y="2015"/>
                </a:lnTo>
                <a:lnTo>
                  <a:pt x="57" y="2009"/>
                </a:lnTo>
                <a:lnTo>
                  <a:pt x="50" y="2002"/>
                </a:lnTo>
                <a:lnTo>
                  <a:pt x="36" y="1978"/>
                </a:lnTo>
                <a:lnTo>
                  <a:pt x="25" y="1953"/>
                </a:lnTo>
                <a:lnTo>
                  <a:pt x="16" y="1928"/>
                </a:lnTo>
                <a:lnTo>
                  <a:pt x="8" y="1904"/>
                </a:lnTo>
                <a:lnTo>
                  <a:pt x="3" y="1880"/>
                </a:lnTo>
                <a:lnTo>
                  <a:pt x="1" y="1857"/>
                </a:lnTo>
                <a:lnTo>
                  <a:pt x="0" y="1833"/>
                </a:lnTo>
                <a:lnTo>
                  <a:pt x="1" y="1810"/>
                </a:lnTo>
                <a:lnTo>
                  <a:pt x="4" y="1788"/>
                </a:lnTo>
                <a:lnTo>
                  <a:pt x="10" y="1766"/>
                </a:lnTo>
                <a:lnTo>
                  <a:pt x="18" y="1744"/>
                </a:lnTo>
                <a:lnTo>
                  <a:pt x="27" y="1722"/>
                </a:lnTo>
                <a:lnTo>
                  <a:pt x="38" y="1701"/>
                </a:lnTo>
                <a:lnTo>
                  <a:pt x="53" y="1681"/>
                </a:lnTo>
                <a:lnTo>
                  <a:pt x="69" y="1660"/>
                </a:lnTo>
                <a:lnTo>
                  <a:pt x="87" y="1640"/>
                </a:lnTo>
                <a:lnTo>
                  <a:pt x="118" y="1624"/>
                </a:lnTo>
                <a:lnTo>
                  <a:pt x="149" y="1608"/>
                </a:lnTo>
                <a:lnTo>
                  <a:pt x="180" y="1591"/>
                </a:lnTo>
                <a:lnTo>
                  <a:pt x="211" y="1573"/>
                </a:lnTo>
                <a:lnTo>
                  <a:pt x="241" y="1555"/>
                </a:lnTo>
                <a:lnTo>
                  <a:pt x="272" y="1537"/>
                </a:lnTo>
                <a:lnTo>
                  <a:pt x="301" y="1518"/>
                </a:lnTo>
                <a:lnTo>
                  <a:pt x="330" y="1498"/>
                </a:lnTo>
                <a:lnTo>
                  <a:pt x="360" y="1477"/>
                </a:lnTo>
                <a:lnTo>
                  <a:pt x="388" y="1457"/>
                </a:lnTo>
                <a:lnTo>
                  <a:pt x="416" y="1436"/>
                </a:lnTo>
                <a:lnTo>
                  <a:pt x="444" y="1414"/>
                </a:lnTo>
                <a:lnTo>
                  <a:pt x="471" y="1392"/>
                </a:lnTo>
                <a:lnTo>
                  <a:pt x="499" y="1368"/>
                </a:lnTo>
                <a:lnTo>
                  <a:pt x="526" y="1344"/>
                </a:lnTo>
                <a:lnTo>
                  <a:pt x="553" y="1319"/>
                </a:lnTo>
                <a:lnTo>
                  <a:pt x="579" y="1294"/>
                </a:lnTo>
                <a:lnTo>
                  <a:pt x="605" y="1270"/>
                </a:lnTo>
                <a:lnTo>
                  <a:pt x="629" y="1244"/>
                </a:lnTo>
                <a:lnTo>
                  <a:pt x="655" y="1216"/>
                </a:lnTo>
                <a:lnTo>
                  <a:pt x="680" y="1189"/>
                </a:lnTo>
                <a:lnTo>
                  <a:pt x="704" y="1162"/>
                </a:lnTo>
                <a:lnTo>
                  <a:pt x="729" y="1134"/>
                </a:lnTo>
                <a:lnTo>
                  <a:pt x="752" y="1105"/>
                </a:lnTo>
                <a:lnTo>
                  <a:pt x="776" y="1075"/>
                </a:lnTo>
                <a:lnTo>
                  <a:pt x="799" y="1045"/>
                </a:lnTo>
                <a:lnTo>
                  <a:pt x="821" y="1014"/>
                </a:lnTo>
                <a:lnTo>
                  <a:pt x="844" y="984"/>
                </a:lnTo>
                <a:lnTo>
                  <a:pt x="866" y="952"/>
                </a:lnTo>
                <a:lnTo>
                  <a:pt x="888" y="919"/>
                </a:lnTo>
                <a:lnTo>
                  <a:pt x="909" y="887"/>
                </a:lnTo>
                <a:lnTo>
                  <a:pt x="929" y="853"/>
                </a:lnTo>
                <a:lnTo>
                  <a:pt x="950" y="816"/>
                </a:lnTo>
                <a:lnTo>
                  <a:pt x="968" y="778"/>
                </a:lnTo>
                <a:lnTo>
                  <a:pt x="984" y="740"/>
                </a:lnTo>
                <a:lnTo>
                  <a:pt x="999" y="702"/>
                </a:lnTo>
                <a:lnTo>
                  <a:pt x="1013" y="663"/>
                </a:lnTo>
                <a:lnTo>
                  <a:pt x="1026" y="625"/>
                </a:lnTo>
                <a:lnTo>
                  <a:pt x="1038" y="585"/>
                </a:lnTo>
                <a:lnTo>
                  <a:pt x="1047" y="546"/>
                </a:lnTo>
                <a:lnTo>
                  <a:pt x="1056" y="505"/>
                </a:lnTo>
                <a:lnTo>
                  <a:pt x="1063" y="464"/>
                </a:lnTo>
                <a:lnTo>
                  <a:pt x="1069" y="424"/>
                </a:lnTo>
                <a:lnTo>
                  <a:pt x="1074" y="383"/>
                </a:lnTo>
                <a:lnTo>
                  <a:pt x="1076" y="341"/>
                </a:lnTo>
                <a:lnTo>
                  <a:pt x="1078" y="300"/>
                </a:lnTo>
                <a:lnTo>
                  <a:pt x="1078" y="258"/>
                </a:lnTo>
                <a:lnTo>
                  <a:pt x="1078" y="215"/>
                </a:lnTo>
                <a:lnTo>
                  <a:pt x="1079" y="197"/>
                </a:lnTo>
                <a:lnTo>
                  <a:pt x="1083" y="180"/>
                </a:lnTo>
                <a:lnTo>
                  <a:pt x="1086" y="164"/>
                </a:lnTo>
                <a:lnTo>
                  <a:pt x="1091" y="148"/>
                </a:lnTo>
                <a:lnTo>
                  <a:pt x="1096" y="132"/>
                </a:lnTo>
                <a:lnTo>
                  <a:pt x="1102" y="119"/>
                </a:lnTo>
                <a:lnTo>
                  <a:pt x="1109" y="105"/>
                </a:lnTo>
                <a:lnTo>
                  <a:pt x="1117" y="92"/>
                </a:lnTo>
                <a:lnTo>
                  <a:pt x="1126" y="79"/>
                </a:lnTo>
                <a:lnTo>
                  <a:pt x="1135" y="68"/>
                </a:lnTo>
                <a:lnTo>
                  <a:pt x="1146" y="57"/>
                </a:lnTo>
                <a:lnTo>
                  <a:pt x="1156" y="47"/>
                </a:lnTo>
                <a:lnTo>
                  <a:pt x="1169" y="38"/>
                </a:lnTo>
                <a:lnTo>
                  <a:pt x="1182" y="28"/>
                </a:lnTo>
                <a:lnTo>
                  <a:pt x="1196" y="21"/>
                </a:lnTo>
                <a:lnTo>
                  <a:pt x="1210" y="13"/>
                </a:lnTo>
                <a:lnTo>
                  <a:pt x="1227" y="14"/>
                </a:lnTo>
                <a:lnTo>
                  <a:pt x="1244" y="15"/>
                </a:lnTo>
                <a:lnTo>
                  <a:pt x="1260" y="17"/>
                </a:lnTo>
                <a:lnTo>
                  <a:pt x="1276" y="19"/>
                </a:lnTo>
                <a:lnTo>
                  <a:pt x="1290" y="23"/>
                </a:lnTo>
                <a:lnTo>
                  <a:pt x="1304" y="27"/>
                </a:lnTo>
                <a:lnTo>
                  <a:pt x="1317" y="33"/>
                </a:lnTo>
                <a:lnTo>
                  <a:pt x="1330" y="40"/>
                </a:lnTo>
                <a:lnTo>
                  <a:pt x="1342" y="47"/>
                </a:lnTo>
                <a:lnTo>
                  <a:pt x="1354" y="54"/>
                </a:lnTo>
                <a:lnTo>
                  <a:pt x="1365" y="64"/>
                </a:lnTo>
                <a:lnTo>
                  <a:pt x="1375" y="73"/>
                </a:lnTo>
                <a:lnTo>
                  <a:pt x="1384" y="83"/>
                </a:lnTo>
                <a:lnTo>
                  <a:pt x="1393" y="94"/>
                </a:lnTo>
                <a:lnTo>
                  <a:pt x="1401" y="106"/>
                </a:lnTo>
                <a:lnTo>
                  <a:pt x="1409" y="119"/>
                </a:lnTo>
                <a:lnTo>
                  <a:pt x="1416" y="132"/>
                </a:lnTo>
                <a:lnTo>
                  <a:pt x="1421" y="147"/>
                </a:lnTo>
                <a:lnTo>
                  <a:pt x="1427" y="163"/>
                </a:lnTo>
                <a:lnTo>
                  <a:pt x="1431" y="179"/>
                </a:lnTo>
                <a:lnTo>
                  <a:pt x="1436" y="196"/>
                </a:lnTo>
                <a:lnTo>
                  <a:pt x="1439" y="214"/>
                </a:lnTo>
                <a:lnTo>
                  <a:pt x="1442" y="232"/>
                </a:lnTo>
                <a:lnTo>
                  <a:pt x="1444" y="251"/>
                </a:lnTo>
                <a:lnTo>
                  <a:pt x="1445" y="271"/>
                </a:lnTo>
                <a:lnTo>
                  <a:pt x="1446" y="293"/>
                </a:lnTo>
                <a:lnTo>
                  <a:pt x="1446" y="314"/>
                </a:lnTo>
                <a:lnTo>
                  <a:pt x="1445" y="338"/>
                </a:lnTo>
                <a:lnTo>
                  <a:pt x="1444" y="362"/>
                </a:lnTo>
                <a:lnTo>
                  <a:pt x="1442" y="385"/>
                </a:lnTo>
                <a:lnTo>
                  <a:pt x="1439" y="411"/>
                </a:lnTo>
                <a:lnTo>
                  <a:pt x="1436" y="437"/>
                </a:lnTo>
                <a:lnTo>
                  <a:pt x="1102" y="1244"/>
                </a:lnTo>
                <a:lnTo>
                  <a:pt x="1085" y="1305"/>
                </a:lnTo>
                <a:lnTo>
                  <a:pt x="1069" y="1364"/>
                </a:lnTo>
                <a:lnTo>
                  <a:pt x="1055" y="1425"/>
                </a:lnTo>
                <a:lnTo>
                  <a:pt x="1040" y="1486"/>
                </a:lnTo>
                <a:lnTo>
                  <a:pt x="1026" y="1548"/>
                </a:lnTo>
                <a:lnTo>
                  <a:pt x="1014" y="1611"/>
                </a:lnTo>
                <a:lnTo>
                  <a:pt x="1003" y="1674"/>
                </a:lnTo>
                <a:lnTo>
                  <a:pt x="991" y="1737"/>
                </a:lnTo>
                <a:lnTo>
                  <a:pt x="981" y="1800"/>
                </a:lnTo>
                <a:lnTo>
                  <a:pt x="972" y="1865"/>
                </a:lnTo>
                <a:lnTo>
                  <a:pt x="964" y="1929"/>
                </a:lnTo>
                <a:lnTo>
                  <a:pt x="958" y="1993"/>
                </a:lnTo>
                <a:lnTo>
                  <a:pt x="951" y="2059"/>
                </a:lnTo>
                <a:lnTo>
                  <a:pt x="946" y="2124"/>
                </a:lnTo>
                <a:lnTo>
                  <a:pt x="942" y="2191"/>
                </a:lnTo>
                <a:lnTo>
                  <a:pt x="938" y="2258"/>
                </a:lnTo>
                <a:lnTo>
                  <a:pt x="963" y="3856"/>
                </a:lnTo>
                <a:close/>
                <a:moveTo>
                  <a:pt x="2774" y="758"/>
                </a:moveTo>
                <a:lnTo>
                  <a:pt x="2775" y="779"/>
                </a:lnTo>
                <a:lnTo>
                  <a:pt x="2777" y="799"/>
                </a:lnTo>
                <a:lnTo>
                  <a:pt x="2780" y="819"/>
                </a:lnTo>
                <a:lnTo>
                  <a:pt x="2785" y="838"/>
                </a:lnTo>
                <a:lnTo>
                  <a:pt x="2790" y="856"/>
                </a:lnTo>
                <a:lnTo>
                  <a:pt x="2795" y="874"/>
                </a:lnTo>
                <a:lnTo>
                  <a:pt x="2801" y="891"/>
                </a:lnTo>
                <a:lnTo>
                  <a:pt x="2808" y="908"/>
                </a:lnTo>
                <a:lnTo>
                  <a:pt x="2815" y="924"/>
                </a:lnTo>
                <a:lnTo>
                  <a:pt x="2824" y="939"/>
                </a:lnTo>
                <a:lnTo>
                  <a:pt x="2833" y="953"/>
                </a:lnTo>
                <a:lnTo>
                  <a:pt x="2844" y="968"/>
                </a:lnTo>
                <a:lnTo>
                  <a:pt x="2855" y="982"/>
                </a:lnTo>
                <a:lnTo>
                  <a:pt x="2866" y="994"/>
                </a:lnTo>
                <a:lnTo>
                  <a:pt x="2879" y="1006"/>
                </a:lnTo>
                <a:lnTo>
                  <a:pt x="2892" y="1019"/>
                </a:lnTo>
                <a:lnTo>
                  <a:pt x="2906" y="1030"/>
                </a:lnTo>
                <a:lnTo>
                  <a:pt x="2920" y="1040"/>
                </a:lnTo>
                <a:lnTo>
                  <a:pt x="2936" y="1050"/>
                </a:lnTo>
                <a:lnTo>
                  <a:pt x="2952" y="1060"/>
                </a:lnTo>
                <a:lnTo>
                  <a:pt x="2969" y="1069"/>
                </a:lnTo>
                <a:lnTo>
                  <a:pt x="2987" y="1076"/>
                </a:lnTo>
                <a:lnTo>
                  <a:pt x="3005" y="1084"/>
                </a:lnTo>
                <a:lnTo>
                  <a:pt x="3024" y="1091"/>
                </a:lnTo>
                <a:lnTo>
                  <a:pt x="3044" y="1098"/>
                </a:lnTo>
                <a:lnTo>
                  <a:pt x="3065" y="1104"/>
                </a:lnTo>
                <a:lnTo>
                  <a:pt x="3086" y="1108"/>
                </a:lnTo>
                <a:lnTo>
                  <a:pt x="3109" y="1113"/>
                </a:lnTo>
                <a:lnTo>
                  <a:pt x="3132" y="1117"/>
                </a:lnTo>
                <a:lnTo>
                  <a:pt x="3156" y="1120"/>
                </a:lnTo>
                <a:lnTo>
                  <a:pt x="3181" y="1123"/>
                </a:lnTo>
                <a:lnTo>
                  <a:pt x="3206" y="1125"/>
                </a:lnTo>
                <a:lnTo>
                  <a:pt x="3249" y="1131"/>
                </a:lnTo>
                <a:lnTo>
                  <a:pt x="3291" y="1133"/>
                </a:lnTo>
                <a:lnTo>
                  <a:pt x="3334" y="1134"/>
                </a:lnTo>
                <a:lnTo>
                  <a:pt x="3378" y="1133"/>
                </a:lnTo>
                <a:lnTo>
                  <a:pt x="3422" y="1130"/>
                </a:lnTo>
                <a:lnTo>
                  <a:pt x="3467" y="1125"/>
                </a:lnTo>
                <a:lnTo>
                  <a:pt x="3514" y="1117"/>
                </a:lnTo>
                <a:lnTo>
                  <a:pt x="3559" y="1108"/>
                </a:lnTo>
                <a:lnTo>
                  <a:pt x="3595" y="1106"/>
                </a:lnTo>
                <a:lnTo>
                  <a:pt x="3629" y="1105"/>
                </a:lnTo>
                <a:lnTo>
                  <a:pt x="3660" y="1104"/>
                </a:lnTo>
                <a:lnTo>
                  <a:pt x="3691" y="1105"/>
                </a:lnTo>
                <a:lnTo>
                  <a:pt x="3719" y="1106"/>
                </a:lnTo>
                <a:lnTo>
                  <a:pt x="3746" y="1108"/>
                </a:lnTo>
                <a:lnTo>
                  <a:pt x="3771" y="1113"/>
                </a:lnTo>
                <a:lnTo>
                  <a:pt x="3793" y="1117"/>
                </a:lnTo>
                <a:lnTo>
                  <a:pt x="3815" y="1123"/>
                </a:lnTo>
                <a:lnTo>
                  <a:pt x="3834" y="1130"/>
                </a:lnTo>
                <a:lnTo>
                  <a:pt x="3852" y="1136"/>
                </a:lnTo>
                <a:lnTo>
                  <a:pt x="3868" y="1145"/>
                </a:lnTo>
                <a:lnTo>
                  <a:pt x="3881" y="1155"/>
                </a:lnTo>
                <a:lnTo>
                  <a:pt x="3894" y="1166"/>
                </a:lnTo>
                <a:lnTo>
                  <a:pt x="3904" y="1178"/>
                </a:lnTo>
                <a:lnTo>
                  <a:pt x="3913" y="1191"/>
                </a:lnTo>
                <a:lnTo>
                  <a:pt x="3914" y="1204"/>
                </a:lnTo>
                <a:lnTo>
                  <a:pt x="3915" y="1216"/>
                </a:lnTo>
                <a:lnTo>
                  <a:pt x="3915" y="1229"/>
                </a:lnTo>
                <a:lnTo>
                  <a:pt x="3914" y="1241"/>
                </a:lnTo>
                <a:lnTo>
                  <a:pt x="3913" y="1253"/>
                </a:lnTo>
                <a:lnTo>
                  <a:pt x="3912" y="1264"/>
                </a:lnTo>
                <a:lnTo>
                  <a:pt x="3910" y="1275"/>
                </a:lnTo>
                <a:lnTo>
                  <a:pt x="3906" y="1286"/>
                </a:lnTo>
                <a:lnTo>
                  <a:pt x="3903" y="1297"/>
                </a:lnTo>
                <a:lnTo>
                  <a:pt x="3898" y="1307"/>
                </a:lnTo>
                <a:lnTo>
                  <a:pt x="3894" y="1316"/>
                </a:lnTo>
                <a:lnTo>
                  <a:pt x="3889" y="1325"/>
                </a:lnTo>
                <a:lnTo>
                  <a:pt x="3883" y="1334"/>
                </a:lnTo>
                <a:lnTo>
                  <a:pt x="3877" y="1343"/>
                </a:lnTo>
                <a:lnTo>
                  <a:pt x="3869" y="1351"/>
                </a:lnTo>
                <a:lnTo>
                  <a:pt x="3862" y="1359"/>
                </a:lnTo>
                <a:lnTo>
                  <a:pt x="3853" y="1366"/>
                </a:lnTo>
                <a:lnTo>
                  <a:pt x="3844" y="1373"/>
                </a:lnTo>
                <a:lnTo>
                  <a:pt x="3835" y="1380"/>
                </a:lnTo>
                <a:lnTo>
                  <a:pt x="3825" y="1386"/>
                </a:lnTo>
                <a:lnTo>
                  <a:pt x="3815" y="1393"/>
                </a:lnTo>
                <a:lnTo>
                  <a:pt x="3804" y="1398"/>
                </a:lnTo>
                <a:lnTo>
                  <a:pt x="3791" y="1403"/>
                </a:lnTo>
                <a:lnTo>
                  <a:pt x="3779" y="1408"/>
                </a:lnTo>
                <a:lnTo>
                  <a:pt x="3753" y="1416"/>
                </a:lnTo>
                <a:lnTo>
                  <a:pt x="3723" y="1424"/>
                </a:lnTo>
                <a:lnTo>
                  <a:pt x="3692" y="1430"/>
                </a:lnTo>
                <a:lnTo>
                  <a:pt x="3658" y="1433"/>
                </a:lnTo>
                <a:lnTo>
                  <a:pt x="3337" y="1405"/>
                </a:lnTo>
                <a:lnTo>
                  <a:pt x="3284" y="1416"/>
                </a:lnTo>
                <a:lnTo>
                  <a:pt x="3233" y="1430"/>
                </a:lnTo>
                <a:lnTo>
                  <a:pt x="3209" y="1437"/>
                </a:lnTo>
                <a:lnTo>
                  <a:pt x="3185" y="1443"/>
                </a:lnTo>
                <a:lnTo>
                  <a:pt x="3164" y="1451"/>
                </a:lnTo>
                <a:lnTo>
                  <a:pt x="3143" y="1459"/>
                </a:lnTo>
                <a:lnTo>
                  <a:pt x="3122" y="1468"/>
                </a:lnTo>
                <a:lnTo>
                  <a:pt x="3103" y="1477"/>
                </a:lnTo>
                <a:lnTo>
                  <a:pt x="3084" y="1486"/>
                </a:lnTo>
                <a:lnTo>
                  <a:pt x="3066" y="1495"/>
                </a:lnTo>
                <a:lnTo>
                  <a:pt x="3049" y="1506"/>
                </a:lnTo>
                <a:lnTo>
                  <a:pt x="3033" y="1516"/>
                </a:lnTo>
                <a:lnTo>
                  <a:pt x="3018" y="1526"/>
                </a:lnTo>
                <a:lnTo>
                  <a:pt x="3004" y="1537"/>
                </a:lnTo>
                <a:lnTo>
                  <a:pt x="2990" y="1548"/>
                </a:lnTo>
                <a:lnTo>
                  <a:pt x="2978" y="1560"/>
                </a:lnTo>
                <a:lnTo>
                  <a:pt x="2965" y="1572"/>
                </a:lnTo>
                <a:lnTo>
                  <a:pt x="2955" y="1583"/>
                </a:lnTo>
                <a:lnTo>
                  <a:pt x="2945" y="1597"/>
                </a:lnTo>
                <a:lnTo>
                  <a:pt x="2936" y="1609"/>
                </a:lnTo>
                <a:lnTo>
                  <a:pt x="2928" y="1623"/>
                </a:lnTo>
                <a:lnTo>
                  <a:pt x="2920" y="1637"/>
                </a:lnTo>
                <a:lnTo>
                  <a:pt x="2914" y="1651"/>
                </a:lnTo>
                <a:lnTo>
                  <a:pt x="2908" y="1665"/>
                </a:lnTo>
                <a:lnTo>
                  <a:pt x="2903" y="1681"/>
                </a:lnTo>
                <a:lnTo>
                  <a:pt x="2900" y="1695"/>
                </a:lnTo>
                <a:lnTo>
                  <a:pt x="2897" y="1711"/>
                </a:lnTo>
                <a:lnTo>
                  <a:pt x="2894" y="1727"/>
                </a:lnTo>
                <a:lnTo>
                  <a:pt x="2893" y="1743"/>
                </a:lnTo>
                <a:lnTo>
                  <a:pt x="2892" y="1760"/>
                </a:lnTo>
                <a:lnTo>
                  <a:pt x="2894" y="1773"/>
                </a:lnTo>
                <a:lnTo>
                  <a:pt x="2898" y="1787"/>
                </a:lnTo>
                <a:lnTo>
                  <a:pt x="2901" y="1801"/>
                </a:lnTo>
                <a:lnTo>
                  <a:pt x="2906" y="1816"/>
                </a:lnTo>
                <a:lnTo>
                  <a:pt x="2916" y="1845"/>
                </a:lnTo>
                <a:lnTo>
                  <a:pt x="2929" y="1876"/>
                </a:lnTo>
                <a:lnTo>
                  <a:pt x="2945" y="1908"/>
                </a:lnTo>
                <a:lnTo>
                  <a:pt x="2963" y="1940"/>
                </a:lnTo>
                <a:lnTo>
                  <a:pt x="2985" y="1973"/>
                </a:lnTo>
                <a:lnTo>
                  <a:pt x="3009" y="2008"/>
                </a:lnTo>
                <a:lnTo>
                  <a:pt x="3035" y="2043"/>
                </a:lnTo>
                <a:lnTo>
                  <a:pt x="3066" y="2079"/>
                </a:lnTo>
                <a:lnTo>
                  <a:pt x="3097" y="2116"/>
                </a:lnTo>
                <a:lnTo>
                  <a:pt x="3132" y="2154"/>
                </a:lnTo>
                <a:lnTo>
                  <a:pt x="3171" y="2193"/>
                </a:lnTo>
                <a:lnTo>
                  <a:pt x="3210" y="2233"/>
                </a:lnTo>
                <a:lnTo>
                  <a:pt x="3254" y="2273"/>
                </a:lnTo>
                <a:lnTo>
                  <a:pt x="3299" y="2315"/>
                </a:lnTo>
                <a:lnTo>
                  <a:pt x="3806" y="2682"/>
                </a:lnTo>
                <a:lnTo>
                  <a:pt x="3834" y="2704"/>
                </a:lnTo>
                <a:lnTo>
                  <a:pt x="3860" y="2725"/>
                </a:lnTo>
                <a:lnTo>
                  <a:pt x="3884" y="2748"/>
                </a:lnTo>
                <a:lnTo>
                  <a:pt x="3905" y="2769"/>
                </a:lnTo>
                <a:lnTo>
                  <a:pt x="3925" y="2792"/>
                </a:lnTo>
                <a:lnTo>
                  <a:pt x="3943" y="2814"/>
                </a:lnTo>
                <a:lnTo>
                  <a:pt x="3959" y="2837"/>
                </a:lnTo>
                <a:lnTo>
                  <a:pt x="3973" y="2860"/>
                </a:lnTo>
                <a:lnTo>
                  <a:pt x="3985" y="2882"/>
                </a:lnTo>
                <a:lnTo>
                  <a:pt x="3994" y="2905"/>
                </a:lnTo>
                <a:lnTo>
                  <a:pt x="4002" y="2927"/>
                </a:lnTo>
                <a:lnTo>
                  <a:pt x="4008" y="2951"/>
                </a:lnTo>
                <a:lnTo>
                  <a:pt x="4012" y="2974"/>
                </a:lnTo>
                <a:lnTo>
                  <a:pt x="4015" y="2997"/>
                </a:lnTo>
                <a:lnTo>
                  <a:pt x="4015" y="3021"/>
                </a:lnTo>
                <a:lnTo>
                  <a:pt x="4012" y="3045"/>
                </a:lnTo>
                <a:lnTo>
                  <a:pt x="3992" y="3059"/>
                </a:lnTo>
                <a:lnTo>
                  <a:pt x="3973" y="3072"/>
                </a:lnTo>
                <a:lnTo>
                  <a:pt x="3951" y="3082"/>
                </a:lnTo>
                <a:lnTo>
                  <a:pt x="3930" y="3091"/>
                </a:lnTo>
                <a:lnTo>
                  <a:pt x="3907" y="3098"/>
                </a:lnTo>
                <a:lnTo>
                  <a:pt x="3885" y="3102"/>
                </a:lnTo>
                <a:lnTo>
                  <a:pt x="3860" y="3106"/>
                </a:lnTo>
                <a:lnTo>
                  <a:pt x="3836" y="3107"/>
                </a:lnTo>
                <a:lnTo>
                  <a:pt x="3810" y="3106"/>
                </a:lnTo>
                <a:lnTo>
                  <a:pt x="3784" y="3102"/>
                </a:lnTo>
                <a:lnTo>
                  <a:pt x="3757" y="3098"/>
                </a:lnTo>
                <a:lnTo>
                  <a:pt x="3730" y="3091"/>
                </a:lnTo>
                <a:lnTo>
                  <a:pt x="3702" y="3082"/>
                </a:lnTo>
                <a:lnTo>
                  <a:pt x="3673" y="3072"/>
                </a:lnTo>
                <a:lnTo>
                  <a:pt x="3643" y="3059"/>
                </a:lnTo>
                <a:lnTo>
                  <a:pt x="3613" y="3045"/>
                </a:lnTo>
                <a:lnTo>
                  <a:pt x="3576" y="3014"/>
                </a:lnTo>
                <a:lnTo>
                  <a:pt x="3538" y="2983"/>
                </a:lnTo>
                <a:lnTo>
                  <a:pt x="3502" y="2951"/>
                </a:lnTo>
                <a:lnTo>
                  <a:pt x="3466" y="2919"/>
                </a:lnTo>
                <a:lnTo>
                  <a:pt x="3431" y="2886"/>
                </a:lnTo>
                <a:lnTo>
                  <a:pt x="3396" y="2853"/>
                </a:lnTo>
                <a:lnTo>
                  <a:pt x="3361" y="2819"/>
                </a:lnTo>
                <a:lnTo>
                  <a:pt x="3328" y="2784"/>
                </a:lnTo>
                <a:lnTo>
                  <a:pt x="3295" y="2749"/>
                </a:lnTo>
                <a:lnTo>
                  <a:pt x="3261" y="2714"/>
                </a:lnTo>
                <a:lnTo>
                  <a:pt x="3229" y="2678"/>
                </a:lnTo>
                <a:lnTo>
                  <a:pt x="3197" y="2640"/>
                </a:lnTo>
                <a:lnTo>
                  <a:pt x="3165" y="2603"/>
                </a:lnTo>
                <a:lnTo>
                  <a:pt x="3135" y="2566"/>
                </a:lnTo>
                <a:lnTo>
                  <a:pt x="3104" y="2528"/>
                </a:lnTo>
                <a:lnTo>
                  <a:pt x="3074" y="2488"/>
                </a:lnTo>
                <a:lnTo>
                  <a:pt x="2914" y="2328"/>
                </a:lnTo>
                <a:lnTo>
                  <a:pt x="2898" y="2324"/>
                </a:lnTo>
                <a:lnTo>
                  <a:pt x="2882" y="2322"/>
                </a:lnTo>
                <a:lnTo>
                  <a:pt x="2868" y="2322"/>
                </a:lnTo>
                <a:lnTo>
                  <a:pt x="2855" y="2322"/>
                </a:lnTo>
                <a:lnTo>
                  <a:pt x="2843" y="2323"/>
                </a:lnTo>
                <a:lnTo>
                  <a:pt x="2830" y="2325"/>
                </a:lnTo>
                <a:lnTo>
                  <a:pt x="2820" y="2329"/>
                </a:lnTo>
                <a:lnTo>
                  <a:pt x="2810" y="2333"/>
                </a:lnTo>
                <a:lnTo>
                  <a:pt x="2801" y="2338"/>
                </a:lnTo>
                <a:lnTo>
                  <a:pt x="2792" y="2345"/>
                </a:lnTo>
                <a:lnTo>
                  <a:pt x="2785" y="2353"/>
                </a:lnTo>
                <a:lnTo>
                  <a:pt x="2778" y="2362"/>
                </a:lnTo>
                <a:lnTo>
                  <a:pt x="2773" y="2371"/>
                </a:lnTo>
                <a:lnTo>
                  <a:pt x="2768" y="2382"/>
                </a:lnTo>
                <a:lnTo>
                  <a:pt x="2765" y="2393"/>
                </a:lnTo>
                <a:lnTo>
                  <a:pt x="2761" y="2407"/>
                </a:lnTo>
                <a:lnTo>
                  <a:pt x="2740" y="3556"/>
                </a:lnTo>
                <a:lnTo>
                  <a:pt x="2752" y="3856"/>
                </a:lnTo>
                <a:lnTo>
                  <a:pt x="2748" y="3877"/>
                </a:lnTo>
                <a:lnTo>
                  <a:pt x="2743" y="3897"/>
                </a:lnTo>
                <a:lnTo>
                  <a:pt x="2736" y="3915"/>
                </a:lnTo>
                <a:lnTo>
                  <a:pt x="2729" y="3931"/>
                </a:lnTo>
                <a:lnTo>
                  <a:pt x="2721" y="3947"/>
                </a:lnTo>
                <a:lnTo>
                  <a:pt x="2712" y="3961"/>
                </a:lnTo>
                <a:lnTo>
                  <a:pt x="2702" y="3972"/>
                </a:lnTo>
                <a:lnTo>
                  <a:pt x="2690" y="3982"/>
                </a:lnTo>
                <a:lnTo>
                  <a:pt x="2678" y="3990"/>
                </a:lnTo>
                <a:lnTo>
                  <a:pt x="2665" y="3997"/>
                </a:lnTo>
                <a:lnTo>
                  <a:pt x="2651" y="4002"/>
                </a:lnTo>
                <a:lnTo>
                  <a:pt x="2636" y="4006"/>
                </a:lnTo>
                <a:lnTo>
                  <a:pt x="2620" y="4008"/>
                </a:lnTo>
                <a:lnTo>
                  <a:pt x="2603" y="4008"/>
                </a:lnTo>
                <a:lnTo>
                  <a:pt x="2586" y="4007"/>
                </a:lnTo>
                <a:lnTo>
                  <a:pt x="2567" y="4005"/>
                </a:lnTo>
                <a:lnTo>
                  <a:pt x="2561" y="4001"/>
                </a:lnTo>
                <a:lnTo>
                  <a:pt x="2555" y="3997"/>
                </a:lnTo>
                <a:lnTo>
                  <a:pt x="2548" y="3992"/>
                </a:lnTo>
                <a:lnTo>
                  <a:pt x="2542" y="3987"/>
                </a:lnTo>
                <a:lnTo>
                  <a:pt x="2531" y="3974"/>
                </a:lnTo>
                <a:lnTo>
                  <a:pt x="2521" y="3959"/>
                </a:lnTo>
                <a:lnTo>
                  <a:pt x="2512" y="3944"/>
                </a:lnTo>
                <a:lnTo>
                  <a:pt x="2504" y="3924"/>
                </a:lnTo>
                <a:lnTo>
                  <a:pt x="2496" y="3903"/>
                </a:lnTo>
                <a:lnTo>
                  <a:pt x="2489" y="3879"/>
                </a:lnTo>
                <a:lnTo>
                  <a:pt x="2484" y="3854"/>
                </a:lnTo>
                <a:lnTo>
                  <a:pt x="2479" y="3826"/>
                </a:lnTo>
                <a:lnTo>
                  <a:pt x="2475" y="3797"/>
                </a:lnTo>
                <a:lnTo>
                  <a:pt x="2473" y="3764"/>
                </a:lnTo>
                <a:lnTo>
                  <a:pt x="2470" y="3730"/>
                </a:lnTo>
                <a:lnTo>
                  <a:pt x="2469" y="3693"/>
                </a:lnTo>
                <a:lnTo>
                  <a:pt x="2468" y="3655"/>
                </a:lnTo>
                <a:lnTo>
                  <a:pt x="2469" y="3614"/>
                </a:lnTo>
                <a:lnTo>
                  <a:pt x="2460" y="2530"/>
                </a:lnTo>
                <a:lnTo>
                  <a:pt x="2407" y="2315"/>
                </a:lnTo>
                <a:lnTo>
                  <a:pt x="2400" y="2308"/>
                </a:lnTo>
                <a:lnTo>
                  <a:pt x="2394" y="2304"/>
                </a:lnTo>
                <a:lnTo>
                  <a:pt x="2386" y="2299"/>
                </a:lnTo>
                <a:lnTo>
                  <a:pt x="2378" y="2297"/>
                </a:lnTo>
                <a:lnTo>
                  <a:pt x="2370" y="2296"/>
                </a:lnTo>
                <a:lnTo>
                  <a:pt x="2361" y="2296"/>
                </a:lnTo>
                <a:lnTo>
                  <a:pt x="2352" y="2297"/>
                </a:lnTo>
                <a:lnTo>
                  <a:pt x="2343" y="2301"/>
                </a:lnTo>
                <a:lnTo>
                  <a:pt x="2333" y="2304"/>
                </a:lnTo>
                <a:lnTo>
                  <a:pt x="2323" y="2310"/>
                </a:lnTo>
                <a:lnTo>
                  <a:pt x="2312" y="2316"/>
                </a:lnTo>
                <a:lnTo>
                  <a:pt x="2301" y="2324"/>
                </a:lnTo>
                <a:lnTo>
                  <a:pt x="2291" y="2333"/>
                </a:lnTo>
                <a:lnTo>
                  <a:pt x="2279" y="2343"/>
                </a:lnTo>
                <a:lnTo>
                  <a:pt x="2267" y="2356"/>
                </a:lnTo>
                <a:lnTo>
                  <a:pt x="2255" y="2369"/>
                </a:lnTo>
                <a:lnTo>
                  <a:pt x="2186" y="2435"/>
                </a:lnTo>
                <a:lnTo>
                  <a:pt x="2115" y="2502"/>
                </a:lnTo>
                <a:lnTo>
                  <a:pt x="2043" y="2570"/>
                </a:lnTo>
                <a:lnTo>
                  <a:pt x="1969" y="2640"/>
                </a:lnTo>
                <a:lnTo>
                  <a:pt x="1893" y="2713"/>
                </a:lnTo>
                <a:lnTo>
                  <a:pt x="1815" y="2786"/>
                </a:lnTo>
                <a:lnTo>
                  <a:pt x="1736" y="2862"/>
                </a:lnTo>
                <a:lnTo>
                  <a:pt x="1655" y="2937"/>
                </a:lnTo>
                <a:lnTo>
                  <a:pt x="1622" y="2967"/>
                </a:lnTo>
                <a:lnTo>
                  <a:pt x="1589" y="2993"/>
                </a:lnTo>
                <a:lnTo>
                  <a:pt x="1558" y="3018"/>
                </a:lnTo>
                <a:lnTo>
                  <a:pt x="1526" y="3039"/>
                </a:lnTo>
                <a:lnTo>
                  <a:pt x="1495" y="3057"/>
                </a:lnTo>
                <a:lnTo>
                  <a:pt x="1463" y="3074"/>
                </a:lnTo>
                <a:lnTo>
                  <a:pt x="1447" y="3081"/>
                </a:lnTo>
                <a:lnTo>
                  <a:pt x="1431" y="3088"/>
                </a:lnTo>
                <a:lnTo>
                  <a:pt x="1416" y="3093"/>
                </a:lnTo>
                <a:lnTo>
                  <a:pt x="1400" y="3099"/>
                </a:lnTo>
                <a:lnTo>
                  <a:pt x="1384" y="3103"/>
                </a:lnTo>
                <a:lnTo>
                  <a:pt x="1369" y="3108"/>
                </a:lnTo>
                <a:lnTo>
                  <a:pt x="1354" y="3111"/>
                </a:lnTo>
                <a:lnTo>
                  <a:pt x="1338" y="3114"/>
                </a:lnTo>
                <a:lnTo>
                  <a:pt x="1323" y="3116"/>
                </a:lnTo>
                <a:lnTo>
                  <a:pt x="1307" y="3118"/>
                </a:lnTo>
                <a:lnTo>
                  <a:pt x="1293" y="3118"/>
                </a:lnTo>
                <a:lnTo>
                  <a:pt x="1277" y="3119"/>
                </a:lnTo>
                <a:lnTo>
                  <a:pt x="1262" y="3118"/>
                </a:lnTo>
                <a:lnTo>
                  <a:pt x="1246" y="3117"/>
                </a:lnTo>
                <a:lnTo>
                  <a:pt x="1232" y="3116"/>
                </a:lnTo>
                <a:lnTo>
                  <a:pt x="1216" y="3114"/>
                </a:lnTo>
                <a:lnTo>
                  <a:pt x="1201" y="3110"/>
                </a:lnTo>
                <a:lnTo>
                  <a:pt x="1187" y="3107"/>
                </a:lnTo>
                <a:lnTo>
                  <a:pt x="1172" y="3102"/>
                </a:lnTo>
                <a:lnTo>
                  <a:pt x="1156" y="3098"/>
                </a:lnTo>
                <a:lnTo>
                  <a:pt x="1148" y="3084"/>
                </a:lnTo>
                <a:lnTo>
                  <a:pt x="1140" y="3070"/>
                </a:lnTo>
                <a:lnTo>
                  <a:pt x="1134" y="3056"/>
                </a:lnTo>
                <a:lnTo>
                  <a:pt x="1127" y="3042"/>
                </a:lnTo>
                <a:lnTo>
                  <a:pt x="1121" y="3028"/>
                </a:lnTo>
                <a:lnTo>
                  <a:pt x="1117" y="3014"/>
                </a:lnTo>
                <a:lnTo>
                  <a:pt x="1112" y="3001"/>
                </a:lnTo>
                <a:lnTo>
                  <a:pt x="1109" y="2987"/>
                </a:lnTo>
                <a:lnTo>
                  <a:pt x="1107" y="2974"/>
                </a:lnTo>
                <a:lnTo>
                  <a:pt x="1104" y="2960"/>
                </a:lnTo>
                <a:lnTo>
                  <a:pt x="1103" y="2946"/>
                </a:lnTo>
                <a:lnTo>
                  <a:pt x="1102" y="2933"/>
                </a:lnTo>
                <a:lnTo>
                  <a:pt x="1102" y="2921"/>
                </a:lnTo>
                <a:lnTo>
                  <a:pt x="1103" y="2907"/>
                </a:lnTo>
                <a:lnTo>
                  <a:pt x="1104" y="2893"/>
                </a:lnTo>
                <a:lnTo>
                  <a:pt x="1107" y="2881"/>
                </a:lnTo>
                <a:lnTo>
                  <a:pt x="1110" y="2867"/>
                </a:lnTo>
                <a:lnTo>
                  <a:pt x="1113" y="2855"/>
                </a:lnTo>
                <a:lnTo>
                  <a:pt x="1118" y="2843"/>
                </a:lnTo>
                <a:lnTo>
                  <a:pt x="1123" y="2829"/>
                </a:lnTo>
                <a:lnTo>
                  <a:pt x="1129" y="2817"/>
                </a:lnTo>
                <a:lnTo>
                  <a:pt x="1135" y="2804"/>
                </a:lnTo>
                <a:lnTo>
                  <a:pt x="1143" y="2792"/>
                </a:lnTo>
                <a:lnTo>
                  <a:pt x="1151" y="2779"/>
                </a:lnTo>
                <a:lnTo>
                  <a:pt x="1158" y="2767"/>
                </a:lnTo>
                <a:lnTo>
                  <a:pt x="1169" y="2755"/>
                </a:lnTo>
                <a:lnTo>
                  <a:pt x="1178" y="2742"/>
                </a:lnTo>
                <a:lnTo>
                  <a:pt x="1189" y="2730"/>
                </a:lnTo>
                <a:lnTo>
                  <a:pt x="1213" y="2706"/>
                </a:lnTo>
                <a:lnTo>
                  <a:pt x="1239" y="2682"/>
                </a:lnTo>
                <a:lnTo>
                  <a:pt x="1294" y="2657"/>
                </a:lnTo>
                <a:lnTo>
                  <a:pt x="1349" y="2631"/>
                </a:lnTo>
                <a:lnTo>
                  <a:pt x="1404" y="2603"/>
                </a:lnTo>
                <a:lnTo>
                  <a:pt x="1460" y="2575"/>
                </a:lnTo>
                <a:lnTo>
                  <a:pt x="1515" y="2544"/>
                </a:lnTo>
                <a:lnTo>
                  <a:pt x="1569" y="2513"/>
                </a:lnTo>
                <a:lnTo>
                  <a:pt x="1623" y="2480"/>
                </a:lnTo>
                <a:lnTo>
                  <a:pt x="1678" y="2446"/>
                </a:lnTo>
                <a:lnTo>
                  <a:pt x="1733" y="2411"/>
                </a:lnTo>
                <a:lnTo>
                  <a:pt x="1787" y="2374"/>
                </a:lnTo>
                <a:lnTo>
                  <a:pt x="1840" y="2336"/>
                </a:lnTo>
                <a:lnTo>
                  <a:pt x="1894" y="2296"/>
                </a:lnTo>
                <a:lnTo>
                  <a:pt x="1947" y="2255"/>
                </a:lnTo>
                <a:lnTo>
                  <a:pt x="2001" y="2214"/>
                </a:lnTo>
                <a:lnTo>
                  <a:pt x="2054" y="2171"/>
                </a:lnTo>
                <a:lnTo>
                  <a:pt x="2107" y="2126"/>
                </a:lnTo>
                <a:lnTo>
                  <a:pt x="2126" y="2097"/>
                </a:lnTo>
                <a:lnTo>
                  <a:pt x="2144" y="2068"/>
                </a:lnTo>
                <a:lnTo>
                  <a:pt x="2162" y="2039"/>
                </a:lnTo>
                <a:lnTo>
                  <a:pt x="2178" y="2008"/>
                </a:lnTo>
                <a:lnTo>
                  <a:pt x="2194" y="1978"/>
                </a:lnTo>
                <a:lnTo>
                  <a:pt x="2207" y="1948"/>
                </a:lnTo>
                <a:lnTo>
                  <a:pt x="2221" y="1917"/>
                </a:lnTo>
                <a:lnTo>
                  <a:pt x="2233" y="1886"/>
                </a:lnTo>
                <a:lnTo>
                  <a:pt x="2245" y="1855"/>
                </a:lnTo>
                <a:lnTo>
                  <a:pt x="2254" y="1823"/>
                </a:lnTo>
                <a:lnTo>
                  <a:pt x="2263" y="1791"/>
                </a:lnTo>
                <a:lnTo>
                  <a:pt x="2271" y="1759"/>
                </a:lnTo>
                <a:lnTo>
                  <a:pt x="2277" y="1727"/>
                </a:lnTo>
                <a:lnTo>
                  <a:pt x="2284" y="1694"/>
                </a:lnTo>
                <a:lnTo>
                  <a:pt x="2289" y="1660"/>
                </a:lnTo>
                <a:lnTo>
                  <a:pt x="2292" y="1628"/>
                </a:lnTo>
                <a:lnTo>
                  <a:pt x="2289" y="1606"/>
                </a:lnTo>
                <a:lnTo>
                  <a:pt x="2283" y="1585"/>
                </a:lnTo>
                <a:lnTo>
                  <a:pt x="2275" y="1565"/>
                </a:lnTo>
                <a:lnTo>
                  <a:pt x="2267" y="1546"/>
                </a:lnTo>
                <a:lnTo>
                  <a:pt x="2256" y="1528"/>
                </a:lnTo>
                <a:lnTo>
                  <a:pt x="2245" y="1511"/>
                </a:lnTo>
                <a:lnTo>
                  <a:pt x="2231" y="1495"/>
                </a:lnTo>
                <a:lnTo>
                  <a:pt x="2215" y="1480"/>
                </a:lnTo>
                <a:lnTo>
                  <a:pt x="2198" y="1466"/>
                </a:lnTo>
                <a:lnTo>
                  <a:pt x="2180" y="1452"/>
                </a:lnTo>
                <a:lnTo>
                  <a:pt x="2160" y="1440"/>
                </a:lnTo>
                <a:lnTo>
                  <a:pt x="2139" y="1429"/>
                </a:lnTo>
                <a:lnTo>
                  <a:pt x="2116" y="1419"/>
                </a:lnTo>
                <a:lnTo>
                  <a:pt x="2091" y="1408"/>
                </a:lnTo>
                <a:lnTo>
                  <a:pt x="2064" y="1401"/>
                </a:lnTo>
                <a:lnTo>
                  <a:pt x="2036" y="1393"/>
                </a:lnTo>
                <a:lnTo>
                  <a:pt x="1975" y="1380"/>
                </a:lnTo>
                <a:lnTo>
                  <a:pt x="1968" y="1372"/>
                </a:lnTo>
                <a:lnTo>
                  <a:pt x="1960" y="1366"/>
                </a:lnTo>
                <a:lnTo>
                  <a:pt x="1953" y="1360"/>
                </a:lnTo>
                <a:lnTo>
                  <a:pt x="1945" y="1357"/>
                </a:lnTo>
                <a:lnTo>
                  <a:pt x="1936" y="1354"/>
                </a:lnTo>
                <a:lnTo>
                  <a:pt x="1925" y="1353"/>
                </a:lnTo>
                <a:lnTo>
                  <a:pt x="1915" y="1353"/>
                </a:lnTo>
                <a:lnTo>
                  <a:pt x="1905" y="1355"/>
                </a:lnTo>
                <a:lnTo>
                  <a:pt x="1894" y="1359"/>
                </a:lnTo>
                <a:lnTo>
                  <a:pt x="1883" y="1363"/>
                </a:lnTo>
                <a:lnTo>
                  <a:pt x="1870" y="1370"/>
                </a:lnTo>
                <a:lnTo>
                  <a:pt x="1858" y="1377"/>
                </a:lnTo>
                <a:lnTo>
                  <a:pt x="1844" y="1386"/>
                </a:lnTo>
                <a:lnTo>
                  <a:pt x="1831" y="1396"/>
                </a:lnTo>
                <a:lnTo>
                  <a:pt x="1817" y="1408"/>
                </a:lnTo>
                <a:lnTo>
                  <a:pt x="1803" y="1421"/>
                </a:lnTo>
                <a:lnTo>
                  <a:pt x="1708" y="1478"/>
                </a:lnTo>
                <a:lnTo>
                  <a:pt x="1673" y="1485"/>
                </a:lnTo>
                <a:lnTo>
                  <a:pt x="1640" y="1489"/>
                </a:lnTo>
                <a:lnTo>
                  <a:pt x="1608" y="1491"/>
                </a:lnTo>
                <a:lnTo>
                  <a:pt x="1579" y="1492"/>
                </a:lnTo>
                <a:lnTo>
                  <a:pt x="1552" y="1491"/>
                </a:lnTo>
                <a:lnTo>
                  <a:pt x="1526" y="1489"/>
                </a:lnTo>
                <a:lnTo>
                  <a:pt x="1501" y="1484"/>
                </a:lnTo>
                <a:lnTo>
                  <a:pt x="1479" y="1477"/>
                </a:lnTo>
                <a:lnTo>
                  <a:pt x="1469" y="1474"/>
                </a:lnTo>
                <a:lnTo>
                  <a:pt x="1458" y="1471"/>
                </a:lnTo>
                <a:lnTo>
                  <a:pt x="1448" y="1466"/>
                </a:lnTo>
                <a:lnTo>
                  <a:pt x="1439" y="1460"/>
                </a:lnTo>
                <a:lnTo>
                  <a:pt x="1430" y="1455"/>
                </a:lnTo>
                <a:lnTo>
                  <a:pt x="1422" y="1449"/>
                </a:lnTo>
                <a:lnTo>
                  <a:pt x="1414" y="1443"/>
                </a:lnTo>
                <a:lnTo>
                  <a:pt x="1407" y="1437"/>
                </a:lnTo>
                <a:lnTo>
                  <a:pt x="1400" y="1430"/>
                </a:lnTo>
                <a:lnTo>
                  <a:pt x="1393" y="1422"/>
                </a:lnTo>
                <a:lnTo>
                  <a:pt x="1387" y="1414"/>
                </a:lnTo>
                <a:lnTo>
                  <a:pt x="1381" y="1405"/>
                </a:lnTo>
                <a:lnTo>
                  <a:pt x="1376" y="1397"/>
                </a:lnTo>
                <a:lnTo>
                  <a:pt x="1370" y="1387"/>
                </a:lnTo>
                <a:lnTo>
                  <a:pt x="1366" y="1378"/>
                </a:lnTo>
                <a:lnTo>
                  <a:pt x="1363" y="1368"/>
                </a:lnTo>
                <a:lnTo>
                  <a:pt x="1364" y="1333"/>
                </a:lnTo>
                <a:lnTo>
                  <a:pt x="1366" y="1301"/>
                </a:lnTo>
                <a:lnTo>
                  <a:pt x="1370" y="1270"/>
                </a:lnTo>
                <a:lnTo>
                  <a:pt x="1376" y="1241"/>
                </a:lnTo>
                <a:lnTo>
                  <a:pt x="1384" y="1214"/>
                </a:lnTo>
                <a:lnTo>
                  <a:pt x="1393" y="1189"/>
                </a:lnTo>
                <a:lnTo>
                  <a:pt x="1399" y="1177"/>
                </a:lnTo>
                <a:lnTo>
                  <a:pt x="1404" y="1166"/>
                </a:lnTo>
                <a:lnTo>
                  <a:pt x="1411" y="1154"/>
                </a:lnTo>
                <a:lnTo>
                  <a:pt x="1418" y="1144"/>
                </a:lnTo>
                <a:lnTo>
                  <a:pt x="1425" y="1134"/>
                </a:lnTo>
                <a:lnTo>
                  <a:pt x="1433" y="1125"/>
                </a:lnTo>
                <a:lnTo>
                  <a:pt x="1440" y="1116"/>
                </a:lnTo>
                <a:lnTo>
                  <a:pt x="1449" y="1107"/>
                </a:lnTo>
                <a:lnTo>
                  <a:pt x="1457" y="1099"/>
                </a:lnTo>
                <a:lnTo>
                  <a:pt x="1467" y="1092"/>
                </a:lnTo>
                <a:lnTo>
                  <a:pt x="1477" y="1084"/>
                </a:lnTo>
                <a:lnTo>
                  <a:pt x="1487" y="1078"/>
                </a:lnTo>
                <a:lnTo>
                  <a:pt x="1498" y="1072"/>
                </a:lnTo>
                <a:lnTo>
                  <a:pt x="1509" y="1066"/>
                </a:lnTo>
                <a:lnTo>
                  <a:pt x="1521" y="1061"/>
                </a:lnTo>
                <a:lnTo>
                  <a:pt x="1532" y="1056"/>
                </a:lnTo>
                <a:lnTo>
                  <a:pt x="1544" y="1052"/>
                </a:lnTo>
                <a:lnTo>
                  <a:pt x="1558" y="1048"/>
                </a:lnTo>
                <a:lnTo>
                  <a:pt x="1570" y="1045"/>
                </a:lnTo>
                <a:lnTo>
                  <a:pt x="1585" y="1043"/>
                </a:lnTo>
                <a:lnTo>
                  <a:pt x="1622" y="1050"/>
                </a:lnTo>
                <a:lnTo>
                  <a:pt x="1658" y="1058"/>
                </a:lnTo>
                <a:lnTo>
                  <a:pt x="1692" y="1067"/>
                </a:lnTo>
                <a:lnTo>
                  <a:pt x="1726" y="1078"/>
                </a:lnTo>
                <a:lnTo>
                  <a:pt x="1759" y="1089"/>
                </a:lnTo>
                <a:lnTo>
                  <a:pt x="1789" y="1100"/>
                </a:lnTo>
                <a:lnTo>
                  <a:pt x="1819" y="1113"/>
                </a:lnTo>
                <a:lnTo>
                  <a:pt x="1848" y="1125"/>
                </a:lnTo>
                <a:lnTo>
                  <a:pt x="1853" y="1133"/>
                </a:lnTo>
                <a:lnTo>
                  <a:pt x="1860" y="1140"/>
                </a:lnTo>
                <a:lnTo>
                  <a:pt x="1868" y="1144"/>
                </a:lnTo>
                <a:lnTo>
                  <a:pt x="1876" y="1149"/>
                </a:lnTo>
                <a:lnTo>
                  <a:pt x="1885" y="1152"/>
                </a:lnTo>
                <a:lnTo>
                  <a:pt x="1894" y="1153"/>
                </a:lnTo>
                <a:lnTo>
                  <a:pt x="1904" y="1154"/>
                </a:lnTo>
                <a:lnTo>
                  <a:pt x="1915" y="1153"/>
                </a:lnTo>
                <a:lnTo>
                  <a:pt x="1928" y="1152"/>
                </a:lnTo>
                <a:lnTo>
                  <a:pt x="1940" y="1149"/>
                </a:lnTo>
                <a:lnTo>
                  <a:pt x="1953" y="1145"/>
                </a:lnTo>
                <a:lnTo>
                  <a:pt x="1966" y="1140"/>
                </a:lnTo>
                <a:lnTo>
                  <a:pt x="1981" y="1134"/>
                </a:lnTo>
                <a:lnTo>
                  <a:pt x="1997" y="1126"/>
                </a:lnTo>
                <a:lnTo>
                  <a:pt x="2012" y="1118"/>
                </a:lnTo>
                <a:lnTo>
                  <a:pt x="2029" y="1108"/>
                </a:lnTo>
                <a:lnTo>
                  <a:pt x="2053" y="1100"/>
                </a:lnTo>
                <a:lnTo>
                  <a:pt x="2075" y="1092"/>
                </a:lnTo>
                <a:lnTo>
                  <a:pt x="2098" y="1084"/>
                </a:lnTo>
                <a:lnTo>
                  <a:pt x="2121" y="1074"/>
                </a:lnTo>
                <a:lnTo>
                  <a:pt x="2142" y="1065"/>
                </a:lnTo>
                <a:lnTo>
                  <a:pt x="2162" y="1055"/>
                </a:lnTo>
                <a:lnTo>
                  <a:pt x="2183" y="1045"/>
                </a:lnTo>
                <a:lnTo>
                  <a:pt x="2202" y="1034"/>
                </a:lnTo>
                <a:lnTo>
                  <a:pt x="2221" y="1022"/>
                </a:lnTo>
                <a:lnTo>
                  <a:pt x="2239" y="1010"/>
                </a:lnTo>
                <a:lnTo>
                  <a:pt x="2257" y="997"/>
                </a:lnTo>
                <a:lnTo>
                  <a:pt x="2274" y="985"/>
                </a:lnTo>
                <a:lnTo>
                  <a:pt x="2290" y="971"/>
                </a:lnTo>
                <a:lnTo>
                  <a:pt x="2306" y="958"/>
                </a:lnTo>
                <a:lnTo>
                  <a:pt x="2320" y="943"/>
                </a:lnTo>
                <a:lnTo>
                  <a:pt x="2335" y="929"/>
                </a:lnTo>
                <a:lnTo>
                  <a:pt x="2350" y="913"/>
                </a:lnTo>
                <a:lnTo>
                  <a:pt x="2362" y="897"/>
                </a:lnTo>
                <a:lnTo>
                  <a:pt x="2374" y="881"/>
                </a:lnTo>
                <a:lnTo>
                  <a:pt x="2387" y="864"/>
                </a:lnTo>
                <a:lnTo>
                  <a:pt x="2398" y="847"/>
                </a:lnTo>
                <a:lnTo>
                  <a:pt x="2408" y="829"/>
                </a:lnTo>
                <a:lnTo>
                  <a:pt x="2418" y="811"/>
                </a:lnTo>
                <a:lnTo>
                  <a:pt x="2429" y="793"/>
                </a:lnTo>
                <a:lnTo>
                  <a:pt x="2438" y="774"/>
                </a:lnTo>
                <a:lnTo>
                  <a:pt x="2445" y="753"/>
                </a:lnTo>
                <a:lnTo>
                  <a:pt x="2452" y="734"/>
                </a:lnTo>
                <a:lnTo>
                  <a:pt x="2460" y="714"/>
                </a:lnTo>
                <a:lnTo>
                  <a:pt x="2466" y="692"/>
                </a:lnTo>
                <a:lnTo>
                  <a:pt x="2471" y="671"/>
                </a:lnTo>
                <a:lnTo>
                  <a:pt x="2477" y="650"/>
                </a:lnTo>
                <a:lnTo>
                  <a:pt x="2482" y="627"/>
                </a:lnTo>
                <a:lnTo>
                  <a:pt x="2440" y="255"/>
                </a:lnTo>
                <a:lnTo>
                  <a:pt x="2442" y="228"/>
                </a:lnTo>
                <a:lnTo>
                  <a:pt x="2444" y="202"/>
                </a:lnTo>
                <a:lnTo>
                  <a:pt x="2449" y="178"/>
                </a:lnTo>
                <a:lnTo>
                  <a:pt x="2452" y="155"/>
                </a:lnTo>
                <a:lnTo>
                  <a:pt x="2458" y="134"/>
                </a:lnTo>
                <a:lnTo>
                  <a:pt x="2464" y="113"/>
                </a:lnTo>
                <a:lnTo>
                  <a:pt x="2470" y="95"/>
                </a:lnTo>
                <a:lnTo>
                  <a:pt x="2478" y="78"/>
                </a:lnTo>
                <a:lnTo>
                  <a:pt x="2486" y="64"/>
                </a:lnTo>
                <a:lnTo>
                  <a:pt x="2495" y="50"/>
                </a:lnTo>
                <a:lnTo>
                  <a:pt x="2505" y="38"/>
                </a:lnTo>
                <a:lnTo>
                  <a:pt x="2517" y="27"/>
                </a:lnTo>
                <a:lnTo>
                  <a:pt x="2528" y="18"/>
                </a:lnTo>
                <a:lnTo>
                  <a:pt x="2540" y="10"/>
                </a:lnTo>
                <a:lnTo>
                  <a:pt x="2554" y="5"/>
                </a:lnTo>
                <a:lnTo>
                  <a:pt x="2567" y="0"/>
                </a:lnTo>
                <a:lnTo>
                  <a:pt x="2581" y="1"/>
                </a:lnTo>
                <a:lnTo>
                  <a:pt x="2594" y="3"/>
                </a:lnTo>
                <a:lnTo>
                  <a:pt x="2608" y="5"/>
                </a:lnTo>
                <a:lnTo>
                  <a:pt x="2620" y="8"/>
                </a:lnTo>
                <a:lnTo>
                  <a:pt x="2633" y="10"/>
                </a:lnTo>
                <a:lnTo>
                  <a:pt x="2645" y="15"/>
                </a:lnTo>
                <a:lnTo>
                  <a:pt x="2656" y="18"/>
                </a:lnTo>
                <a:lnTo>
                  <a:pt x="2668" y="24"/>
                </a:lnTo>
                <a:lnTo>
                  <a:pt x="2678" y="28"/>
                </a:lnTo>
                <a:lnTo>
                  <a:pt x="2688" y="34"/>
                </a:lnTo>
                <a:lnTo>
                  <a:pt x="2698" y="41"/>
                </a:lnTo>
                <a:lnTo>
                  <a:pt x="2707" y="48"/>
                </a:lnTo>
                <a:lnTo>
                  <a:pt x="2716" y="56"/>
                </a:lnTo>
                <a:lnTo>
                  <a:pt x="2724" y="64"/>
                </a:lnTo>
                <a:lnTo>
                  <a:pt x="2733" y="71"/>
                </a:lnTo>
                <a:lnTo>
                  <a:pt x="2740" y="80"/>
                </a:lnTo>
                <a:lnTo>
                  <a:pt x="2748" y="91"/>
                </a:lnTo>
                <a:lnTo>
                  <a:pt x="2755" y="100"/>
                </a:lnTo>
                <a:lnTo>
                  <a:pt x="2760" y="111"/>
                </a:lnTo>
                <a:lnTo>
                  <a:pt x="2767" y="122"/>
                </a:lnTo>
                <a:lnTo>
                  <a:pt x="2773" y="134"/>
                </a:lnTo>
                <a:lnTo>
                  <a:pt x="2777" y="146"/>
                </a:lnTo>
                <a:lnTo>
                  <a:pt x="2783" y="158"/>
                </a:lnTo>
                <a:lnTo>
                  <a:pt x="2786" y="172"/>
                </a:lnTo>
                <a:lnTo>
                  <a:pt x="2794" y="200"/>
                </a:lnTo>
                <a:lnTo>
                  <a:pt x="2800" y="231"/>
                </a:lnTo>
                <a:lnTo>
                  <a:pt x="2804" y="262"/>
                </a:lnTo>
                <a:lnTo>
                  <a:pt x="2806" y="297"/>
                </a:lnTo>
                <a:lnTo>
                  <a:pt x="2774" y="758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998880" y="5334120"/>
            <a:ext cx="801720" cy="804600"/>
          </a:xfrm>
          <a:custGeom>
            <a:avLst/>
            <a:gdLst/>
            <a:ahLst/>
            <a:rect l="l" t="t" r="r" b="b"/>
            <a:pathLst>
              <a:path w="4039" h="4059">
                <a:moveTo>
                  <a:pt x="2081" y="0"/>
                </a:moveTo>
                <a:lnTo>
                  <a:pt x="2099" y="0"/>
                </a:lnTo>
                <a:lnTo>
                  <a:pt x="2116" y="2"/>
                </a:lnTo>
                <a:lnTo>
                  <a:pt x="2133" y="5"/>
                </a:lnTo>
                <a:lnTo>
                  <a:pt x="2147" y="9"/>
                </a:lnTo>
                <a:lnTo>
                  <a:pt x="2162" y="14"/>
                </a:lnTo>
                <a:lnTo>
                  <a:pt x="2176" y="19"/>
                </a:lnTo>
                <a:lnTo>
                  <a:pt x="2189" y="26"/>
                </a:lnTo>
                <a:lnTo>
                  <a:pt x="2201" y="34"/>
                </a:lnTo>
                <a:lnTo>
                  <a:pt x="2212" y="43"/>
                </a:lnTo>
                <a:lnTo>
                  <a:pt x="2223" y="53"/>
                </a:lnTo>
                <a:lnTo>
                  <a:pt x="2232" y="64"/>
                </a:lnTo>
                <a:lnTo>
                  <a:pt x="2240" y="77"/>
                </a:lnTo>
                <a:lnTo>
                  <a:pt x="2248" y="90"/>
                </a:lnTo>
                <a:lnTo>
                  <a:pt x="2255" y="105"/>
                </a:lnTo>
                <a:lnTo>
                  <a:pt x="2261" y="120"/>
                </a:lnTo>
                <a:lnTo>
                  <a:pt x="2266" y="137"/>
                </a:lnTo>
                <a:lnTo>
                  <a:pt x="2269" y="155"/>
                </a:lnTo>
                <a:lnTo>
                  <a:pt x="2274" y="172"/>
                </a:lnTo>
                <a:lnTo>
                  <a:pt x="2279" y="189"/>
                </a:lnTo>
                <a:lnTo>
                  <a:pt x="2285" y="204"/>
                </a:lnTo>
                <a:lnTo>
                  <a:pt x="2292" y="219"/>
                </a:lnTo>
                <a:lnTo>
                  <a:pt x="2298" y="234"/>
                </a:lnTo>
                <a:lnTo>
                  <a:pt x="2306" y="247"/>
                </a:lnTo>
                <a:lnTo>
                  <a:pt x="2315" y="261"/>
                </a:lnTo>
                <a:lnTo>
                  <a:pt x="2324" y="273"/>
                </a:lnTo>
                <a:lnTo>
                  <a:pt x="2333" y="285"/>
                </a:lnTo>
                <a:lnTo>
                  <a:pt x="2345" y="296"/>
                </a:lnTo>
                <a:lnTo>
                  <a:pt x="2355" y="305"/>
                </a:lnTo>
                <a:lnTo>
                  <a:pt x="2367" y="315"/>
                </a:lnTo>
                <a:lnTo>
                  <a:pt x="2379" y="323"/>
                </a:lnTo>
                <a:lnTo>
                  <a:pt x="2392" y="331"/>
                </a:lnTo>
                <a:lnTo>
                  <a:pt x="2406" y="338"/>
                </a:lnTo>
                <a:lnTo>
                  <a:pt x="2445" y="344"/>
                </a:lnTo>
                <a:lnTo>
                  <a:pt x="2483" y="352"/>
                </a:lnTo>
                <a:lnTo>
                  <a:pt x="2522" y="361"/>
                </a:lnTo>
                <a:lnTo>
                  <a:pt x="2558" y="373"/>
                </a:lnTo>
                <a:lnTo>
                  <a:pt x="2593" y="386"/>
                </a:lnTo>
                <a:lnTo>
                  <a:pt x="2628" y="401"/>
                </a:lnTo>
                <a:lnTo>
                  <a:pt x="2661" y="418"/>
                </a:lnTo>
                <a:lnTo>
                  <a:pt x="2693" y="437"/>
                </a:lnTo>
                <a:lnTo>
                  <a:pt x="2705" y="447"/>
                </a:lnTo>
                <a:lnTo>
                  <a:pt x="2716" y="457"/>
                </a:lnTo>
                <a:lnTo>
                  <a:pt x="2727" y="464"/>
                </a:lnTo>
                <a:lnTo>
                  <a:pt x="2740" y="471"/>
                </a:lnTo>
                <a:lnTo>
                  <a:pt x="2752" y="475"/>
                </a:lnTo>
                <a:lnTo>
                  <a:pt x="2764" y="478"/>
                </a:lnTo>
                <a:lnTo>
                  <a:pt x="2778" y="479"/>
                </a:lnTo>
                <a:lnTo>
                  <a:pt x="2791" y="478"/>
                </a:lnTo>
                <a:lnTo>
                  <a:pt x="2805" y="475"/>
                </a:lnTo>
                <a:lnTo>
                  <a:pt x="2820" y="471"/>
                </a:lnTo>
                <a:lnTo>
                  <a:pt x="2834" y="465"/>
                </a:lnTo>
                <a:lnTo>
                  <a:pt x="2849" y="458"/>
                </a:lnTo>
                <a:lnTo>
                  <a:pt x="2864" y="449"/>
                </a:lnTo>
                <a:lnTo>
                  <a:pt x="2879" y="438"/>
                </a:lnTo>
                <a:lnTo>
                  <a:pt x="2895" y="426"/>
                </a:lnTo>
                <a:lnTo>
                  <a:pt x="2912" y="412"/>
                </a:lnTo>
                <a:lnTo>
                  <a:pt x="2937" y="409"/>
                </a:lnTo>
                <a:lnTo>
                  <a:pt x="2963" y="407"/>
                </a:lnTo>
                <a:lnTo>
                  <a:pt x="2988" y="404"/>
                </a:lnTo>
                <a:lnTo>
                  <a:pt x="3013" y="403"/>
                </a:lnTo>
                <a:lnTo>
                  <a:pt x="3036" y="403"/>
                </a:lnTo>
                <a:lnTo>
                  <a:pt x="3061" y="404"/>
                </a:lnTo>
                <a:lnTo>
                  <a:pt x="3085" y="405"/>
                </a:lnTo>
                <a:lnTo>
                  <a:pt x="3108" y="407"/>
                </a:lnTo>
                <a:lnTo>
                  <a:pt x="3131" y="410"/>
                </a:lnTo>
                <a:lnTo>
                  <a:pt x="3155" y="413"/>
                </a:lnTo>
                <a:lnTo>
                  <a:pt x="3177" y="417"/>
                </a:lnTo>
                <a:lnTo>
                  <a:pt x="3200" y="422"/>
                </a:lnTo>
                <a:lnTo>
                  <a:pt x="3221" y="428"/>
                </a:lnTo>
                <a:lnTo>
                  <a:pt x="3244" y="434"/>
                </a:lnTo>
                <a:lnTo>
                  <a:pt x="3265" y="442"/>
                </a:lnTo>
                <a:lnTo>
                  <a:pt x="3287" y="449"/>
                </a:lnTo>
                <a:lnTo>
                  <a:pt x="3339" y="487"/>
                </a:lnTo>
                <a:lnTo>
                  <a:pt x="3388" y="523"/>
                </a:lnTo>
                <a:lnTo>
                  <a:pt x="3411" y="542"/>
                </a:lnTo>
                <a:lnTo>
                  <a:pt x="3433" y="560"/>
                </a:lnTo>
                <a:lnTo>
                  <a:pt x="3455" y="579"/>
                </a:lnTo>
                <a:lnTo>
                  <a:pt x="3475" y="597"/>
                </a:lnTo>
                <a:lnTo>
                  <a:pt x="3494" y="615"/>
                </a:lnTo>
                <a:lnTo>
                  <a:pt x="3512" y="635"/>
                </a:lnTo>
                <a:lnTo>
                  <a:pt x="3530" y="653"/>
                </a:lnTo>
                <a:lnTo>
                  <a:pt x="3546" y="672"/>
                </a:lnTo>
                <a:lnTo>
                  <a:pt x="3562" y="690"/>
                </a:lnTo>
                <a:lnTo>
                  <a:pt x="3577" y="709"/>
                </a:lnTo>
                <a:lnTo>
                  <a:pt x="3590" y="727"/>
                </a:lnTo>
                <a:lnTo>
                  <a:pt x="3602" y="746"/>
                </a:lnTo>
                <a:lnTo>
                  <a:pt x="3611" y="761"/>
                </a:lnTo>
                <a:lnTo>
                  <a:pt x="3621" y="777"/>
                </a:lnTo>
                <a:lnTo>
                  <a:pt x="3628" y="794"/>
                </a:lnTo>
                <a:lnTo>
                  <a:pt x="3635" y="810"/>
                </a:lnTo>
                <a:lnTo>
                  <a:pt x="3642" y="827"/>
                </a:lnTo>
                <a:lnTo>
                  <a:pt x="3649" y="844"/>
                </a:lnTo>
                <a:lnTo>
                  <a:pt x="3654" y="862"/>
                </a:lnTo>
                <a:lnTo>
                  <a:pt x="3659" y="879"/>
                </a:lnTo>
                <a:lnTo>
                  <a:pt x="3663" y="897"/>
                </a:lnTo>
                <a:lnTo>
                  <a:pt x="3667" y="915"/>
                </a:lnTo>
                <a:lnTo>
                  <a:pt x="3670" y="934"/>
                </a:lnTo>
                <a:lnTo>
                  <a:pt x="3672" y="952"/>
                </a:lnTo>
                <a:lnTo>
                  <a:pt x="3675" y="971"/>
                </a:lnTo>
                <a:lnTo>
                  <a:pt x="3676" y="990"/>
                </a:lnTo>
                <a:lnTo>
                  <a:pt x="3677" y="1011"/>
                </a:lnTo>
                <a:lnTo>
                  <a:pt x="3677" y="1030"/>
                </a:lnTo>
                <a:lnTo>
                  <a:pt x="3671" y="1048"/>
                </a:lnTo>
                <a:lnTo>
                  <a:pt x="3667" y="1066"/>
                </a:lnTo>
                <a:lnTo>
                  <a:pt x="3662" y="1084"/>
                </a:lnTo>
                <a:lnTo>
                  <a:pt x="3660" y="1101"/>
                </a:lnTo>
                <a:lnTo>
                  <a:pt x="3658" y="1118"/>
                </a:lnTo>
                <a:lnTo>
                  <a:pt x="3658" y="1134"/>
                </a:lnTo>
                <a:lnTo>
                  <a:pt x="3659" y="1150"/>
                </a:lnTo>
                <a:lnTo>
                  <a:pt x="3661" y="1165"/>
                </a:lnTo>
                <a:lnTo>
                  <a:pt x="3665" y="1180"/>
                </a:lnTo>
                <a:lnTo>
                  <a:pt x="3668" y="1195"/>
                </a:lnTo>
                <a:lnTo>
                  <a:pt x="3674" y="1208"/>
                </a:lnTo>
                <a:lnTo>
                  <a:pt x="3680" y="1223"/>
                </a:lnTo>
                <a:lnTo>
                  <a:pt x="3688" y="1235"/>
                </a:lnTo>
                <a:lnTo>
                  <a:pt x="3697" y="1249"/>
                </a:lnTo>
                <a:lnTo>
                  <a:pt x="3707" y="1261"/>
                </a:lnTo>
                <a:lnTo>
                  <a:pt x="3718" y="1274"/>
                </a:lnTo>
                <a:lnTo>
                  <a:pt x="3723" y="1342"/>
                </a:lnTo>
                <a:lnTo>
                  <a:pt x="3725" y="1412"/>
                </a:lnTo>
                <a:lnTo>
                  <a:pt x="3728" y="1483"/>
                </a:lnTo>
                <a:lnTo>
                  <a:pt x="3729" y="1555"/>
                </a:lnTo>
                <a:lnTo>
                  <a:pt x="3728" y="1630"/>
                </a:lnTo>
                <a:lnTo>
                  <a:pt x="3725" y="1704"/>
                </a:lnTo>
                <a:lnTo>
                  <a:pt x="3723" y="1781"/>
                </a:lnTo>
                <a:lnTo>
                  <a:pt x="3718" y="1859"/>
                </a:lnTo>
                <a:lnTo>
                  <a:pt x="3712" y="1885"/>
                </a:lnTo>
                <a:lnTo>
                  <a:pt x="3706" y="1910"/>
                </a:lnTo>
                <a:lnTo>
                  <a:pt x="3699" y="1934"/>
                </a:lnTo>
                <a:lnTo>
                  <a:pt x="3692" y="1958"/>
                </a:lnTo>
                <a:lnTo>
                  <a:pt x="3684" y="1982"/>
                </a:lnTo>
                <a:lnTo>
                  <a:pt x="3675" y="2003"/>
                </a:lnTo>
                <a:lnTo>
                  <a:pt x="3666" y="2025"/>
                </a:lnTo>
                <a:lnTo>
                  <a:pt x="3655" y="2045"/>
                </a:lnTo>
                <a:lnTo>
                  <a:pt x="3645" y="2065"/>
                </a:lnTo>
                <a:lnTo>
                  <a:pt x="3634" y="2085"/>
                </a:lnTo>
                <a:lnTo>
                  <a:pt x="3623" y="2102"/>
                </a:lnTo>
                <a:lnTo>
                  <a:pt x="3610" y="2120"/>
                </a:lnTo>
                <a:lnTo>
                  <a:pt x="3598" y="2135"/>
                </a:lnTo>
                <a:lnTo>
                  <a:pt x="3584" y="2151"/>
                </a:lnTo>
                <a:lnTo>
                  <a:pt x="3571" y="2166"/>
                </a:lnTo>
                <a:lnTo>
                  <a:pt x="3556" y="2179"/>
                </a:lnTo>
                <a:lnTo>
                  <a:pt x="3540" y="2192"/>
                </a:lnTo>
                <a:lnTo>
                  <a:pt x="3525" y="2204"/>
                </a:lnTo>
                <a:lnTo>
                  <a:pt x="3509" y="2216"/>
                </a:lnTo>
                <a:lnTo>
                  <a:pt x="3492" y="2226"/>
                </a:lnTo>
                <a:lnTo>
                  <a:pt x="3474" y="2236"/>
                </a:lnTo>
                <a:lnTo>
                  <a:pt x="3456" y="2245"/>
                </a:lnTo>
                <a:lnTo>
                  <a:pt x="3437" y="2253"/>
                </a:lnTo>
                <a:lnTo>
                  <a:pt x="3417" y="2260"/>
                </a:lnTo>
                <a:lnTo>
                  <a:pt x="3397" y="2266"/>
                </a:lnTo>
                <a:lnTo>
                  <a:pt x="3377" y="2271"/>
                </a:lnTo>
                <a:lnTo>
                  <a:pt x="3355" y="2275"/>
                </a:lnTo>
                <a:lnTo>
                  <a:pt x="3334" y="2280"/>
                </a:lnTo>
                <a:lnTo>
                  <a:pt x="3311" y="2282"/>
                </a:lnTo>
                <a:lnTo>
                  <a:pt x="3289" y="2284"/>
                </a:lnTo>
                <a:lnTo>
                  <a:pt x="3265" y="2286"/>
                </a:lnTo>
                <a:lnTo>
                  <a:pt x="3242" y="2287"/>
                </a:lnTo>
                <a:lnTo>
                  <a:pt x="3121" y="2280"/>
                </a:lnTo>
                <a:lnTo>
                  <a:pt x="3000" y="2274"/>
                </a:lnTo>
                <a:lnTo>
                  <a:pt x="2881" y="2269"/>
                </a:lnTo>
                <a:lnTo>
                  <a:pt x="2761" y="2264"/>
                </a:lnTo>
                <a:lnTo>
                  <a:pt x="2643" y="2260"/>
                </a:lnTo>
                <a:lnTo>
                  <a:pt x="2523" y="2255"/>
                </a:lnTo>
                <a:lnTo>
                  <a:pt x="2406" y="2252"/>
                </a:lnTo>
                <a:lnTo>
                  <a:pt x="2287" y="2249"/>
                </a:lnTo>
                <a:lnTo>
                  <a:pt x="2170" y="2247"/>
                </a:lnTo>
                <a:lnTo>
                  <a:pt x="2054" y="2245"/>
                </a:lnTo>
                <a:lnTo>
                  <a:pt x="1936" y="2244"/>
                </a:lnTo>
                <a:lnTo>
                  <a:pt x="1820" y="2244"/>
                </a:lnTo>
                <a:lnTo>
                  <a:pt x="1705" y="2243"/>
                </a:lnTo>
                <a:lnTo>
                  <a:pt x="1590" y="2244"/>
                </a:lnTo>
                <a:lnTo>
                  <a:pt x="1475" y="2244"/>
                </a:lnTo>
                <a:lnTo>
                  <a:pt x="1361" y="2246"/>
                </a:lnTo>
                <a:lnTo>
                  <a:pt x="1335" y="2236"/>
                </a:lnTo>
                <a:lnTo>
                  <a:pt x="1309" y="2229"/>
                </a:lnTo>
                <a:lnTo>
                  <a:pt x="1286" y="2222"/>
                </a:lnTo>
                <a:lnTo>
                  <a:pt x="1262" y="2217"/>
                </a:lnTo>
                <a:lnTo>
                  <a:pt x="1238" y="2213"/>
                </a:lnTo>
                <a:lnTo>
                  <a:pt x="1217" y="2211"/>
                </a:lnTo>
                <a:lnTo>
                  <a:pt x="1195" y="2210"/>
                </a:lnTo>
                <a:lnTo>
                  <a:pt x="1174" y="2210"/>
                </a:lnTo>
                <a:lnTo>
                  <a:pt x="1155" y="2212"/>
                </a:lnTo>
                <a:lnTo>
                  <a:pt x="1136" y="2214"/>
                </a:lnTo>
                <a:lnTo>
                  <a:pt x="1116" y="2219"/>
                </a:lnTo>
                <a:lnTo>
                  <a:pt x="1099" y="2225"/>
                </a:lnTo>
                <a:lnTo>
                  <a:pt x="1081" y="2233"/>
                </a:lnTo>
                <a:lnTo>
                  <a:pt x="1066" y="2240"/>
                </a:lnTo>
                <a:lnTo>
                  <a:pt x="1050" y="2251"/>
                </a:lnTo>
                <a:lnTo>
                  <a:pt x="1035" y="2262"/>
                </a:lnTo>
                <a:lnTo>
                  <a:pt x="1000" y="2273"/>
                </a:lnTo>
                <a:lnTo>
                  <a:pt x="965" y="2283"/>
                </a:lnTo>
                <a:lnTo>
                  <a:pt x="931" y="2292"/>
                </a:lnTo>
                <a:lnTo>
                  <a:pt x="896" y="2300"/>
                </a:lnTo>
                <a:lnTo>
                  <a:pt x="863" y="2307"/>
                </a:lnTo>
                <a:lnTo>
                  <a:pt x="830" y="2312"/>
                </a:lnTo>
                <a:lnTo>
                  <a:pt x="796" y="2316"/>
                </a:lnTo>
                <a:lnTo>
                  <a:pt x="764" y="2319"/>
                </a:lnTo>
                <a:lnTo>
                  <a:pt x="732" y="2322"/>
                </a:lnTo>
                <a:lnTo>
                  <a:pt x="700" y="2323"/>
                </a:lnTo>
                <a:lnTo>
                  <a:pt x="669" y="2322"/>
                </a:lnTo>
                <a:lnTo>
                  <a:pt x="637" y="2321"/>
                </a:lnTo>
                <a:lnTo>
                  <a:pt x="606" y="2318"/>
                </a:lnTo>
                <a:lnTo>
                  <a:pt x="576" y="2314"/>
                </a:lnTo>
                <a:lnTo>
                  <a:pt x="547" y="2309"/>
                </a:lnTo>
                <a:lnTo>
                  <a:pt x="517" y="2304"/>
                </a:lnTo>
                <a:lnTo>
                  <a:pt x="507" y="2297"/>
                </a:lnTo>
                <a:lnTo>
                  <a:pt x="497" y="2290"/>
                </a:lnTo>
                <a:lnTo>
                  <a:pt x="488" y="2283"/>
                </a:lnTo>
                <a:lnTo>
                  <a:pt x="479" y="2275"/>
                </a:lnTo>
                <a:lnTo>
                  <a:pt x="470" y="2268"/>
                </a:lnTo>
                <a:lnTo>
                  <a:pt x="461" y="2259"/>
                </a:lnTo>
                <a:lnTo>
                  <a:pt x="453" y="2249"/>
                </a:lnTo>
                <a:lnTo>
                  <a:pt x="445" y="2240"/>
                </a:lnTo>
                <a:lnTo>
                  <a:pt x="429" y="2219"/>
                </a:lnTo>
                <a:lnTo>
                  <a:pt x="416" y="2196"/>
                </a:lnTo>
                <a:lnTo>
                  <a:pt x="403" y="2172"/>
                </a:lnTo>
                <a:lnTo>
                  <a:pt x="391" y="2144"/>
                </a:lnTo>
                <a:lnTo>
                  <a:pt x="381" y="2116"/>
                </a:lnTo>
                <a:lnTo>
                  <a:pt x="372" y="2085"/>
                </a:lnTo>
                <a:lnTo>
                  <a:pt x="365" y="2052"/>
                </a:lnTo>
                <a:lnTo>
                  <a:pt x="358" y="2017"/>
                </a:lnTo>
                <a:lnTo>
                  <a:pt x="353" y="1981"/>
                </a:lnTo>
                <a:lnTo>
                  <a:pt x="349" y="1942"/>
                </a:lnTo>
                <a:lnTo>
                  <a:pt x="346" y="1901"/>
                </a:lnTo>
                <a:lnTo>
                  <a:pt x="345" y="1859"/>
                </a:lnTo>
                <a:lnTo>
                  <a:pt x="341" y="1799"/>
                </a:lnTo>
                <a:lnTo>
                  <a:pt x="338" y="1739"/>
                </a:lnTo>
                <a:lnTo>
                  <a:pt x="336" y="1680"/>
                </a:lnTo>
                <a:lnTo>
                  <a:pt x="335" y="1620"/>
                </a:lnTo>
                <a:lnTo>
                  <a:pt x="335" y="1562"/>
                </a:lnTo>
                <a:lnTo>
                  <a:pt x="335" y="1503"/>
                </a:lnTo>
                <a:lnTo>
                  <a:pt x="335" y="1444"/>
                </a:lnTo>
                <a:lnTo>
                  <a:pt x="336" y="1386"/>
                </a:lnTo>
                <a:lnTo>
                  <a:pt x="338" y="1327"/>
                </a:lnTo>
                <a:lnTo>
                  <a:pt x="340" y="1269"/>
                </a:lnTo>
                <a:lnTo>
                  <a:pt x="344" y="1211"/>
                </a:lnTo>
                <a:lnTo>
                  <a:pt x="347" y="1153"/>
                </a:lnTo>
                <a:lnTo>
                  <a:pt x="352" y="1095"/>
                </a:lnTo>
                <a:lnTo>
                  <a:pt x="357" y="1038"/>
                </a:lnTo>
                <a:lnTo>
                  <a:pt x="363" y="980"/>
                </a:lnTo>
                <a:lnTo>
                  <a:pt x="368" y="923"/>
                </a:lnTo>
                <a:lnTo>
                  <a:pt x="389" y="906"/>
                </a:lnTo>
                <a:lnTo>
                  <a:pt x="406" y="889"/>
                </a:lnTo>
                <a:lnTo>
                  <a:pt x="423" y="872"/>
                </a:lnTo>
                <a:lnTo>
                  <a:pt x="437" y="855"/>
                </a:lnTo>
                <a:lnTo>
                  <a:pt x="452" y="839"/>
                </a:lnTo>
                <a:lnTo>
                  <a:pt x="464" y="822"/>
                </a:lnTo>
                <a:lnTo>
                  <a:pt x="475" y="805"/>
                </a:lnTo>
                <a:lnTo>
                  <a:pt x="485" y="788"/>
                </a:lnTo>
                <a:lnTo>
                  <a:pt x="493" y="771"/>
                </a:lnTo>
                <a:lnTo>
                  <a:pt x="499" y="754"/>
                </a:lnTo>
                <a:lnTo>
                  <a:pt x="504" y="739"/>
                </a:lnTo>
                <a:lnTo>
                  <a:pt x="508" y="722"/>
                </a:lnTo>
                <a:lnTo>
                  <a:pt x="511" y="705"/>
                </a:lnTo>
                <a:lnTo>
                  <a:pt x="511" y="689"/>
                </a:lnTo>
                <a:lnTo>
                  <a:pt x="511" y="672"/>
                </a:lnTo>
                <a:lnTo>
                  <a:pt x="508" y="655"/>
                </a:lnTo>
                <a:lnTo>
                  <a:pt x="513" y="640"/>
                </a:lnTo>
                <a:lnTo>
                  <a:pt x="517" y="624"/>
                </a:lnTo>
                <a:lnTo>
                  <a:pt x="525" y="610"/>
                </a:lnTo>
                <a:lnTo>
                  <a:pt x="534" y="594"/>
                </a:lnTo>
                <a:lnTo>
                  <a:pt x="546" y="579"/>
                </a:lnTo>
                <a:lnTo>
                  <a:pt x="559" y="565"/>
                </a:lnTo>
                <a:lnTo>
                  <a:pt x="574" y="550"/>
                </a:lnTo>
                <a:lnTo>
                  <a:pt x="591" y="535"/>
                </a:lnTo>
                <a:lnTo>
                  <a:pt x="610" y="522"/>
                </a:lnTo>
                <a:lnTo>
                  <a:pt x="631" y="507"/>
                </a:lnTo>
                <a:lnTo>
                  <a:pt x="654" y="493"/>
                </a:lnTo>
                <a:lnTo>
                  <a:pt x="679" y="479"/>
                </a:lnTo>
                <a:lnTo>
                  <a:pt x="705" y="465"/>
                </a:lnTo>
                <a:lnTo>
                  <a:pt x="734" y="452"/>
                </a:lnTo>
                <a:lnTo>
                  <a:pt x="764" y="438"/>
                </a:lnTo>
                <a:lnTo>
                  <a:pt x="797" y="425"/>
                </a:lnTo>
                <a:lnTo>
                  <a:pt x="891" y="412"/>
                </a:lnTo>
                <a:lnTo>
                  <a:pt x="984" y="401"/>
                </a:lnTo>
                <a:lnTo>
                  <a:pt x="1077" y="392"/>
                </a:lnTo>
                <a:lnTo>
                  <a:pt x="1169" y="384"/>
                </a:lnTo>
                <a:lnTo>
                  <a:pt x="1261" y="378"/>
                </a:lnTo>
                <a:lnTo>
                  <a:pt x="1351" y="375"/>
                </a:lnTo>
                <a:lnTo>
                  <a:pt x="1440" y="372"/>
                </a:lnTo>
                <a:lnTo>
                  <a:pt x="1529" y="372"/>
                </a:lnTo>
                <a:lnTo>
                  <a:pt x="1562" y="366"/>
                </a:lnTo>
                <a:lnTo>
                  <a:pt x="1592" y="359"/>
                </a:lnTo>
                <a:lnTo>
                  <a:pt x="1623" y="352"/>
                </a:lnTo>
                <a:lnTo>
                  <a:pt x="1651" y="344"/>
                </a:lnTo>
                <a:lnTo>
                  <a:pt x="1677" y="337"/>
                </a:lnTo>
                <a:lnTo>
                  <a:pt x="1702" y="329"/>
                </a:lnTo>
                <a:lnTo>
                  <a:pt x="1725" y="320"/>
                </a:lnTo>
                <a:lnTo>
                  <a:pt x="1747" y="311"/>
                </a:lnTo>
                <a:lnTo>
                  <a:pt x="1767" y="300"/>
                </a:lnTo>
                <a:lnTo>
                  <a:pt x="1786" y="290"/>
                </a:lnTo>
                <a:lnTo>
                  <a:pt x="1803" y="279"/>
                </a:lnTo>
                <a:lnTo>
                  <a:pt x="1819" y="269"/>
                </a:lnTo>
                <a:lnTo>
                  <a:pt x="1834" y="256"/>
                </a:lnTo>
                <a:lnTo>
                  <a:pt x="1846" y="244"/>
                </a:lnTo>
                <a:lnTo>
                  <a:pt x="1857" y="231"/>
                </a:lnTo>
                <a:lnTo>
                  <a:pt x="1866" y="219"/>
                </a:lnTo>
                <a:lnTo>
                  <a:pt x="1871" y="202"/>
                </a:lnTo>
                <a:lnTo>
                  <a:pt x="1875" y="186"/>
                </a:lnTo>
                <a:lnTo>
                  <a:pt x="1880" y="171"/>
                </a:lnTo>
                <a:lnTo>
                  <a:pt x="1886" y="156"/>
                </a:lnTo>
                <a:lnTo>
                  <a:pt x="1891" y="141"/>
                </a:lnTo>
                <a:lnTo>
                  <a:pt x="1898" y="129"/>
                </a:lnTo>
                <a:lnTo>
                  <a:pt x="1905" y="115"/>
                </a:lnTo>
                <a:lnTo>
                  <a:pt x="1913" y="103"/>
                </a:lnTo>
                <a:lnTo>
                  <a:pt x="1922" y="91"/>
                </a:lnTo>
                <a:lnTo>
                  <a:pt x="1930" y="81"/>
                </a:lnTo>
                <a:lnTo>
                  <a:pt x="1940" y="70"/>
                </a:lnTo>
                <a:lnTo>
                  <a:pt x="1949" y="61"/>
                </a:lnTo>
                <a:lnTo>
                  <a:pt x="1960" y="52"/>
                </a:lnTo>
                <a:lnTo>
                  <a:pt x="1970" y="44"/>
                </a:lnTo>
                <a:lnTo>
                  <a:pt x="1982" y="36"/>
                </a:lnTo>
                <a:lnTo>
                  <a:pt x="1994" y="29"/>
                </a:lnTo>
                <a:lnTo>
                  <a:pt x="2007" y="23"/>
                </a:lnTo>
                <a:lnTo>
                  <a:pt x="2027" y="16"/>
                </a:lnTo>
                <a:lnTo>
                  <a:pt x="2050" y="8"/>
                </a:lnTo>
                <a:lnTo>
                  <a:pt x="2081" y="0"/>
                </a:lnTo>
                <a:close/>
                <a:moveTo>
                  <a:pt x="698" y="2464"/>
                </a:moveTo>
                <a:lnTo>
                  <a:pt x="724" y="2466"/>
                </a:lnTo>
                <a:lnTo>
                  <a:pt x="747" y="2470"/>
                </a:lnTo>
                <a:lnTo>
                  <a:pt x="770" y="2474"/>
                </a:lnTo>
                <a:lnTo>
                  <a:pt x="791" y="2480"/>
                </a:lnTo>
                <a:lnTo>
                  <a:pt x="811" y="2487"/>
                </a:lnTo>
                <a:lnTo>
                  <a:pt x="829" y="2495"/>
                </a:lnTo>
                <a:lnTo>
                  <a:pt x="846" y="2504"/>
                </a:lnTo>
                <a:lnTo>
                  <a:pt x="860" y="2514"/>
                </a:lnTo>
                <a:lnTo>
                  <a:pt x="874" y="2526"/>
                </a:lnTo>
                <a:lnTo>
                  <a:pt x="886" y="2539"/>
                </a:lnTo>
                <a:lnTo>
                  <a:pt x="898" y="2553"/>
                </a:lnTo>
                <a:lnTo>
                  <a:pt x="907" y="2568"/>
                </a:lnTo>
                <a:lnTo>
                  <a:pt x="914" y="2585"/>
                </a:lnTo>
                <a:lnTo>
                  <a:pt x="920" y="2602"/>
                </a:lnTo>
                <a:lnTo>
                  <a:pt x="926" y="2621"/>
                </a:lnTo>
                <a:lnTo>
                  <a:pt x="929" y="2641"/>
                </a:lnTo>
                <a:lnTo>
                  <a:pt x="886" y="2803"/>
                </a:lnTo>
                <a:lnTo>
                  <a:pt x="849" y="2947"/>
                </a:lnTo>
                <a:lnTo>
                  <a:pt x="815" y="3072"/>
                </a:lnTo>
                <a:lnTo>
                  <a:pt x="787" y="3178"/>
                </a:lnTo>
                <a:lnTo>
                  <a:pt x="762" y="3265"/>
                </a:lnTo>
                <a:lnTo>
                  <a:pt x="742" y="3332"/>
                </a:lnTo>
                <a:lnTo>
                  <a:pt x="726" y="3381"/>
                </a:lnTo>
                <a:lnTo>
                  <a:pt x="715" y="3411"/>
                </a:lnTo>
                <a:lnTo>
                  <a:pt x="690" y="3463"/>
                </a:lnTo>
                <a:lnTo>
                  <a:pt x="664" y="3513"/>
                </a:lnTo>
                <a:lnTo>
                  <a:pt x="638" y="3562"/>
                </a:lnTo>
                <a:lnTo>
                  <a:pt x="611" y="3608"/>
                </a:lnTo>
                <a:lnTo>
                  <a:pt x="584" y="3652"/>
                </a:lnTo>
                <a:lnTo>
                  <a:pt x="556" y="3696"/>
                </a:lnTo>
                <a:lnTo>
                  <a:pt x="528" y="3737"/>
                </a:lnTo>
                <a:lnTo>
                  <a:pt x="498" y="3777"/>
                </a:lnTo>
                <a:lnTo>
                  <a:pt x="469" y="3815"/>
                </a:lnTo>
                <a:lnTo>
                  <a:pt x="438" y="3851"/>
                </a:lnTo>
                <a:lnTo>
                  <a:pt x="408" y="3886"/>
                </a:lnTo>
                <a:lnTo>
                  <a:pt x="376" y="3919"/>
                </a:lnTo>
                <a:lnTo>
                  <a:pt x="345" y="3950"/>
                </a:lnTo>
                <a:lnTo>
                  <a:pt x="312" y="3979"/>
                </a:lnTo>
                <a:lnTo>
                  <a:pt x="279" y="4008"/>
                </a:lnTo>
                <a:lnTo>
                  <a:pt x="246" y="4034"/>
                </a:lnTo>
                <a:lnTo>
                  <a:pt x="230" y="4042"/>
                </a:lnTo>
                <a:lnTo>
                  <a:pt x="214" y="4048"/>
                </a:lnTo>
                <a:lnTo>
                  <a:pt x="198" y="4053"/>
                </a:lnTo>
                <a:lnTo>
                  <a:pt x="183" y="4056"/>
                </a:lnTo>
                <a:lnTo>
                  <a:pt x="169" y="4059"/>
                </a:lnTo>
                <a:lnTo>
                  <a:pt x="154" y="4059"/>
                </a:lnTo>
                <a:lnTo>
                  <a:pt x="140" y="4057"/>
                </a:lnTo>
                <a:lnTo>
                  <a:pt x="126" y="4055"/>
                </a:lnTo>
                <a:lnTo>
                  <a:pt x="112" y="4051"/>
                </a:lnTo>
                <a:lnTo>
                  <a:pt x="99" y="4045"/>
                </a:lnTo>
                <a:lnTo>
                  <a:pt x="85" y="4038"/>
                </a:lnTo>
                <a:lnTo>
                  <a:pt x="73" y="4029"/>
                </a:lnTo>
                <a:lnTo>
                  <a:pt x="59" y="4019"/>
                </a:lnTo>
                <a:lnTo>
                  <a:pt x="47" y="4008"/>
                </a:lnTo>
                <a:lnTo>
                  <a:pt x="36" y="3994"/>
                </a:lnTo>
                <a:lnTo>
                  <a:pt x="23" y="3979"/>
                </a:lnTo>
                <a:lnTo>
                  <a:pt x="15" y="3958"/>
                </a:lnTo>
                <a:lnTo>
                  <a:pt x="9" y="3937"/>
                </a:lnTo>
                <a:lnTo>
                  <a:pt x="4" y="3916"/>
                </a:lnTo>
                <a:lnTo>
                  <a:pt x="2" y="3895"/>
                </a:lnTo>
                <a:lnTo>
                  <a:pt x="0" y="3874"/>
                </a:lnTo>
                <a:lnTo>
                  <a:pt x="0" y="3854"/>
                </a:lnTo>
                <a:lnTo>
                  <a:pt x="2" y="3835"/>
                </a:lnTo>
                <a:lnTo>
                  <a:pt x="5" y="3815"/>
                </a:lnTo>
                <a:lnTo>
                  <a:pt x="11" y="3795"/>
                </a:lnTo>
                <a:lnTo>
                  <a:pt x="18" y="3776"/>
                </a:lnTo>
                <a:lnTo>
                  <a:pt x="26" y="3757"/>
                </a:lnTo>
                <a:lnTo>
                  <a:pt x="36" y="3739"/>
                </a:lnTo>
                <a:lnTo>
                  <a:pt x="48" y="3720"/>
                </a:lnTo>
                <a:lnTo>
                  <a:pt x="62" y="3702"/>
                </a:lnTo>
                <a:lnTo>
                  <a:pt x="76" y="3685"/>
                </a:lnTo>
                <a:lnTo>
                  <a:pt x="93" y="3667"/>
                </a:lnTo>
                <a:lnTo>
                  <a:pt x="119" y="3642"/>
                </a:lnTo>
                <a:lnTo>
                  <a:pt x="144" y="3616"/>
                </a:lnTo>
                <a:lnTo>
                  <a:pt x="169" y="3589"/>
                </a:lnTo>
                <a:lnTo>
                  <a:pt x="194" y="3561"/>
                </a:lnTo>
                <a:lnTo>
                  <a:pt x="217" y="3530"/>
                </a:lnTo>
                <a:lnTo>
                  <a:pt x="242" y="3498"/>
                </a:lnTo>
                <a:lnTo>
                  <a:pt x="266" y="3466"/>
                </a:lnTo>
                <a:lnTo>
                  <a:pt x="288" y="3431"/>
                </a:lnTo>
                <a:lnTo>
                  <a:pt x="312" y="3395"/>
                </a:lnTo>
                <a:lnTo>
                  <a:pt x="335" y="3357"/>
                </a:lnTo>
                <a:lnTo>
                  <a:pt x="357" y="3319"/>
                </a:lnTo>
                <a:lnTo>
                  <a:pt x="379" y="3278"/>
                </a:lnTo>
                <a:lnTo>
                  <a:pt x="400" y="3236"/>
                </a:lnTo>
                <a:lnTo>
                  <a:pt x="422" y="3192"/>
                </a:lnTo>
                <a:lnTo>
                  <a:pt x="443" y="3148"/>
                </a:lnTo>
                <a:lnTo>
                  <a:pt x="464" y="3102"/>
                </a:lnTo>
                <a:lnTo>
                  <a:pt x="476" y="3070"/>
                </a:lnTo>
                <a:lnTo>
                  <a:pt x="486" y="3039"/>
                </a:lnTo>
                <a:lnTo>
                  <a:pt x="496" y="3008"/>
                </a:lnTo>
                <a:lnTo>
                  <a:pt x="505" y="2979"/>
                </a:lnTo>
                <a:lnTo>
                  <a:pt x="513" y="2950"/>
                </a:lnTo>
                <a:lnTo>
                  <a:pt x="520" y="2921"/>
                </a:lnTo>
                <a:lnTo>
                  <a:pt x="525" y="2894"/>
                </a:lnTo>
                <a:lnTo>
                  <a:pt x="530" y="2867"/>
                </a:lnTo>
                <a:lnTo>
                  <a:pt x="533" y="2841"/>
                </a:lnTo>
                <a:lnTo>
                  <a:pt x="535" y="2816"/>
                </a:lnTo>
                <a:lnTo>
                  <a:pt x="537" y="2793"/>
                </a:lnTo>
                <a:lnTo>
                  <a:pt x="538" y="2769"/>
                </a:lnTo>
                <a:lnTo>
                  <a:pt x="537" y="2746"/>
                </a:lnTo>
                <a:lnTo>
                  <a:pt x="535" y="2724"/>
                </a:lnTo>
                <a:lnTo>
                  <a:pt x="533" y="2702"/>
                </a:lnTo>
                <a:lnTo>
                  <a:pt x="529" y="2682"/>
                </a:lnTo>
                <a:lnTo>
                  <a:pt x="532" y="2661"/>
                </a:lnTo>
                <a:lnTo>
                  <a:pt x="535" y="2640"/>
                </a:lnTo>
                <a:lnTo>
                  <a:pt x="540" y="2621"/>
                </a:lnTo>
                <a:lnTo>
                  <a:pt x="546" y="2602"/>
                </a:lnTo>
                <a:lnTo>
                  <a:pt x="552" y="2585"/>
                </a:lnTo>
                <a:lnTo>
                  <a:pt x="560" y="2568"/>
                </a:lnTo>
                <a:lnTo>
                  <a:pt x="569" y="2553"/>
                </a:lnTo>
                <a:lnTo>
                  <a:pt x="579" y="2539"/>
                </a:lnTo>
                <a:lnTo>
                  <a:pt x="591" y="2526"/>
                </a:lnTo>
                <a:lnTo>
                  <a:pt x="603" y="2514"/>
                </a:lnTo>
                <a:lnTo>
                  <a:pt x="617" y="2502"/>
                </a:lnTo>
                <a:lnTo>
                  <a:pt x="630" y="2492"/>
                </a:lnTo>
                <a:lnTo>
                  <a:pt x="646" y="2484"/>
                </a:lnTo>
                <a:lnTo>
                  <a:pt x="662" y="2476"/>
                </a:lnTo>
                <a:lnTo>
                  <a:pt x="680" y="2470"/>
                </a:lnTo>
                <a:lnTo>
                  <a:pt x="698" y="2464"/>
                </a:lnTo>
                <a:close/>
                <a:moveTo>
                  <a:pt x="1520" y="2410"/>
                </a:moveTo>
                <a:lnTo>
                  <a:pt x="1538" y="2420"/>
                </a:lnTo>
                <a:lnTo>
                  <a:pt x="1555" y="2431"/>
                </a:lnTo>
                <a:lnTo>
                  <a:pt x="1571" y="2443"/>
                </a:lnTo>
                <a:lnTo>
                  <a:pt x="1584" y="2455"/>
                </a:lnTo>
                <a:lnTo>
                  <a:pt x="1597" y="2467"/>
                </a:lnTo>
                <a:lnTo>
                  <a:pt x="1608" y="2481"/>
                </a:lnTo>
                <a:lnTo>
                  <a:pt x="1618" y="2496"/>
                </a:lnTo>
                <a:lnTo>
                  <a:pt x="1627" y="2510"/>
                </a:lnTo>
                <a:lnTo>
                  <a:pt x="1634" y="2526"/>
                </a:lnTo>
                <a:lnTo>
                  <a:pt x="1641" y="2543"/>
                </a:lnTo>
                <a:lnTo>
                  <a:pt x="1645" y="2560"/>
                </a:lnTo>
                <a:lnTo>
                  <a:pt x="1649" y="2578"/>
                </a:lnTo>
                <a:lnTo>
                  <a:pt x="1650" y="2597"/>
                </a:lnTo>
                <a:lnTo>
                  <a:pt x="1651" y="2616"/>
                </a:lnTo>
                <a:lnTo>
                  <a:pt x="1651" y="2636"/>
                </a:lnTo>
                <a:lnTo>
                  <a:pt x="1649" y="2657"/>
                </a:lnTo>
                <a:lnTo>
                  <a:pt x="1632" y="2708"/>
                </a:lnTo>
                <a:lnTo>
                  <a:pt x="1617" y="2757"/>
                </a:lnTo>
                <a:lnTo>
                  <a:pt x="1604" y="2803"/>
                </a:lnTo>
                <a:lnTo>
                  <a:pt x="1592" y="2848"/>
                </a:lnTo>
                <a:lnTo>
                  <a:pt x="1582" y="2890"/>
                </a:lnTo>
                <a:lnTo>
                  <a:pt x="1573" y="2930"/>
                </a:lnTo>
                <a:lnTo>
                  <a:pt x="1566" y="2968"/>
                </a:lnTo>
                <a:lnTo>
                  <a:pt x="1562" y="3004"/>
                </a:lnTo>
                <a:lnTo>
                  <a:pt x="1559" y="3037"/>
                </a:lnTo>
                <a:lnTo>
                  <a:pt x="1557" y="3068"/>
                </a:lnTo>
                <a:lnTo>
                  <a:pt x="1557" y="3098"/>
                </a:lnTo>
                <a:lnTo>
                  <a:pt x="1559" y="3124"/>
                </a:lnTo>
                <a:lnTo>
                  <a:pt x="1562" y="3148"/>
                </a:lnTo>
                <a:lnTo>
                  <a:pt x="1568" y="3171"/>
                </a:lnTo>
                <a:lnTo>
                  <a:pt x="1571" y="3181"/>
                </a:lnTo>
                <a:lnTo>
                  <a:pt x="1574" y="3191"/>
                </a:lnTo>
                <a:lnTo>
                  <a:pt x="1578" y="3200"/>
                </a:lnTo>
                <a:lnTo>
                  <a:pt x="1582" y="3209"/>
                </a:lnTo>
                <a:lnTo>
                  <a:pt x="1592" y="3229"/>
                </a:lnTo>
                <a:lnTo>
                  <a:pt x="1604" y="3248"/>
                </a:lnTo>
                <a:lnTo>
                  <a:pt x="1615" y="3266"/>
                </a:lnTo>
                <a:lnTo>
                  <a:pt x="1627" y="3284"/>
                </a:lnTo>
                <a:lnTo>
                  <a:pt x="1640" y="3302"/>
                </a:lnTo>
                <a:lnTo>
                  <a:pt x="1652" y="3319"/>
                </a:lnTo>
                <a:lnTo>
                  <a:pt x="1666" y="3336"/>
                </a:lnTo>
                <a:lnTo>
                  <a:pt x="1679" y="3353"/>
                </a:lnTo>
                <a:lnTo>
                  <a:pt x="1694" y="3369"/>
                </a:lnTo>
                <a:lnTo>
                  <a:pt x="1709" y="3384"/>
                </a:lnTo>
                <a:lnTo>
                  <a:pt x="1724" y="3399"/>
                </a:lnTo>
                <a:lnTo>
                  <a:pt x="1740" y="3415"/>
                </a:lnTo>
                <a:lnTo>
                  <a:pt x="1757" y="3430"/>
                </a:lnTo>
                <a:lnTo>
                  <a:pt x="1774" y="3443"/>
                </a:lnTo>
                <a:lnTo>
                  <a:pt x="1791" y="3458"/>
                </a:lnTo>
                <a:lnTo>
                  <a:pt x="1809" y="3471"/>
                </a:lnTo>
                <a:lnTo>
                  <a:pt x="1828" y="3485"/>
                </a:lnTo>
                <a:lnTo>
                  <a:pt x="1846" y="3497"/>
                </a:lnTo>
                <a:lnTo>
                  <a:pt x="1866" y="3510"/>
                </a:lnTo>
                <a:lnTo>
                  <a:pt x="1886" y="3522"/>
                </a:lnTo>
                <a:lnTo>
                  <a:pt x="1907" y="3533"/>
                </a:lnTo>
                <a:lnTo>
                  <a:pt x="1927" y="3545"/>
                </a:lnTo>
                <a:lnTo>
                  <a:pt x="1950" y="3556"/>
                </a:lnTo>
                <a:lnTo>
                  <a:pt x="1971" y="3566"/>
                </a:lnTo>
                <a:lnTo>
                  <a:pt x="2018" y="3587"/>
                </a:lnTo>
                <a:lnTo>
                  <a:pt x="2065" y="3605"/>
                </a:lnTo>
                <a:lnTo>
                  <a:pt x="2115" y="3623"/>
                </a:lnTo>
                <a:lnTo>
                  <a:pt x="2167" y="3637"/>
                </a:lnTo>
                <a:lnTo>
                  <a:pt x="2275" y="3653"/>
                </a:lnTo>
                <a:lnTo>
                  <a:pt x="2380" y="3666"/>
                </a:lnTo>
                <a:lnTo>
                  <a:pt x="2482" y="3677"/>
                </a:lnTo>
                <a:lnTo>
                  <a:pt x="2583" y="3686"/>
                </a:lnTo>
                <a:lnTo>
                  <a:pt x="2680" y="3693"/>
                </a:lnTo>
                <a:lnTo>
                  <a:pt x="2775" y="3697"/>
                </a:lnTo>
                <a:lnTo>
                  <a:pt x="2867" y="3701"/>
                </a:lnTo>
                <a:lnTo>
                  <a:pt x="2956" y="3702"/>
                </a:lnTo>
                <a:lnTo>
                  <a:pt x="3043" y="3701"/>
                </a:lnTo>
                <a:lnTo>
                  <a:pt x="3128" y="3697"/>
                </a:lnTo>
                <a:lnTo>
                  <a:pt x="3209" y="3693"/>
                </a:lnTo>
                <a:lnTo>
                  <a:pt x="3288" y="3686"/>
                </a:lnTo>
                <a:lnTo>
                  <a:pt x="3326" y="3681"/>
                </a:lnTo>
                <a:lnTo>
                  <a:pt x="3364" y="3677"/>
                </a:lnTo>
                <a:lnTo>
                  <a:pt x="3402" y="3671"/>
                </a:lnTo>
                <a:lnTo>
                  <a:pt x="3438" y="3666"/>
                </a:lnTo>
                <a:lnTo>
                  <a:pt x="3474" y="3660"/>
                </a:lnTo>
                <a:lnTo>
                  <a:pt x="3510" y="3653"/>
                </a:lnTo>
                <a:lnTo>
                  <a:pt x="3544" y="3645"/>
                </a:lnTo>
                <a:lnTo>
                  <a:pt x="3579" y="3637"/>
                </a:lnTo>
                <a:lnTo>
                  <a:pt x="3630" y="3641"/>
                </a:lnTo>
                <a:lnTo>
                  <a:pt x="3678" y="3644"/>
                </a:lnTo>
                <a:lnTo>
                  <a:pt x="3723" y="3649"/>
                </a:lnTo>
                <a:lnTo>
                  <a:pt x="3766" y="3654"/>
                </a:lnTo>
                <a:lnTo>
                  <a:pt x="3806" y="3661"/>
                </a:lnTo>
                <a:lnTo>
                  <a:pt x="3842" y="3669"/>
                </a:lnTo>
                <a:lnTo>
                  <a:pt x="3875" y="3678"/>
                </a:lnTo>
                <a:lnTo>
                  <a:pt x="3905" y="3688"/>
                </a:lnTo>
                <a:lnTo>
                  <a:pt x="3933" y="3699"/>
                </a:lnTo>
                <a:lnTo>
                  <a:pt x="3957" y="3712"/>
                </a:lnTo>
                <a:lnTo>
                  <a:pt x="3968" y="3718"/>
                </a:lnTo>
                <a:lnTo>
                  <a:pt x="3978" y="3724"/>
                </a:lnTo>
                <a:lnTo>
                  <a:pt x="3987" y="3732"/>
                </a:lnTo>
                <a:lnTo>
                  <a:pt x="3996" y="3739"/>
                </a:lnTo>
                <a:lnTo>
                  <a:pt x="4004" y="3747"/>
                </a:lnTo>
                <a:lnTo>
                  <a:pt x="4012" y="3755"/>
                </a:lnTo>
                <a:lnTo>
                  <a:pt x="4018" y="3763"/>
                </a:lnTo>
                <a:lnTo>
                  <a:pt x="4023" y="3771"/>
                </a:lnTo>
                <a:lnTo>
                  <a:pt x="4029" y="3780"/>
                </a:lnTo>
                <a:lnTo>
                  <a:pt x="4033" y="3788"/>
                </a:lnTo>
                <a:lnTo>
                  <a:pt x="4037" y="3798"/>
                </a:lnTo>
                <a:lnTo>
                  <a:pt x="4039" y="3807"/>
                </a:lnTo>
                <a:lnTo>
                  <a:pt x="4037" y="3828"/>
                </a:lnTo>
                <a:lnTo>
                  <a:pt x="4033" y="3847"/>
                </a:lnTo>
                <a:lnTo>
                  <a:pt x="4028" y="3868"/>
                </a:lnTo>
                <a:lnTo>
                  <a:pt x="4021" y="3886"/>
                </a:lnTo>
                <a:lnTo>
                  <a:pt x="4012" y="3903"/>
                </a:lnTo>
                <a:lnTo>
                  <a:pt x="4002" y="3920"/>
                </a:lnTo>
                <a:lnTo>
                  <a:pt x="3988" y="3935"/>
                </a:lnTo>
                <a:lnTo>
                  <a:pt x="3975" y="3950"/>
                </a:lnTo>
                <a:lnTo>
                  <a:pt x="3959" y="3964"/>
                </a:lnTo>
                <a:lnTo>
                  <a:pt x="3941" y="3976"/>
                </a:lnTo>
                <a:lnTo>
                  <a:pt x="3921" y="3989"/>
                </a:lnTo>
                <a:lnTo>
                  <a:pt x="3899" y="3999"/>
                </a:lnTo>
                <a:lnTo>
                  <a:pt x="3877" y="4009"/>
                </a:lnTo>
                <a:lnTo>
                  <a:pt x="3852" y="4018"/>
                </a:lnTo>
                <a:lnTo>
                  <a:pt x="3825" y="4027"/>
                </a:lnTo>
                <a:lnTo>
                  <a:pt x="3796" y="4034"/>
                </a:lnTo>
                <a:lnTo>
                  <a:pt x="3707" y="4037"/>
                </a:lnTo>
                <a:lnTo>
                  <a:pt x="3619" y="4039"/>
                </a:lnTo>
                <a:lnTo>
                  <a:pt x="3531" y="4042"/>
                </a:lnTo>
                <a:lnTo>
                  <a:pt x="3445" y="4044"/>
                </a:lnTo>
                <a:lnTo>
                  <a:pt x="3359" y="4045"/>
                </a:lnTo>
                <a:lnTo>
                  <a:pt x="3273" y="4045"/>
                </a:lnTo>
                <a:lnTo>
                  <a:pt x="3188" y="4045"/>
                </a:lnTo>
                <a:lnTo>
                  <a:pt x="3104" y="4045"/>
                </a:lnTo>
                <a:lnTo>
                  <a:pt x="3020" y="4044"/>
                </a:lnTo>
                <a:lnTo>
                  <a:pt x="2938" y="4042"/>
                </a:lnTo>
                <a:lnTo>
                  <a:pt x="2857" y="4039"/>
                </a:lnTo>
                <a:lnTo>
                  <a:pt x="2776" y="4037"/>
                </a:lnTo>
                <a:lnTo>
                  <a:pt x="2696" y="4034"/>
                </a:lnTo>
                <a:lnTo>
                  <a:pt x="2615" y="4030"/>
                </a:lnTo>
                <a:lnTo>
                  <a:pt x="2537" y="4026"/>
                </a:lnTo>
                <a:lnTo>
                  <a:pt x="2459" y="4021"/>
                </a:lnTo>
                <a:lnTo>
                  <a:pt x="2398" y="4010"/>
                </a:lnTo>
                <a:lnTo>
                  <a:pt x="2337" y="3999"/>
                </a:lnTo>
                <a:lnTo>
                  <a:pt x="2277" y="3987"/>
                </a:lnTo>
                <a:lnTo>
                  <a:pt x="2217" y="3974"/>
                </a:lnTo>
                <a:lnTo>
                  <a:pt x="2160" y="3960"/>
                </a:lnTo>
                <a:lnTo>
                  <a:pt x="2102" y="3947"/>
                </a:lnTo>
                <a:lnTo>
                  <a:pt x="2047" y="3932"/>
                </a:lnTo>
                <a:lnTo>
                  <a:pt x="1992" y="3916"/>
                </a:lnTo>
                <a:lnTo>
                  <a:pt x="1936" y="3899"/>
                </a:lnTo>
                <a:lnTo>
                  <a:pt x="1883" y="3882"/>
                </a:lnTo>
                <a:lnTo>
                  <a:pt x="1832" y="3865"/>
                </a:lnTo>
                <a:lnTo>
                  <a:pt x="1780" y="3846"/>
                </a:lnTo>
                <a:lnTo>
                  <a:pt x="1729" y="3827"/>
                </a:lnTo>
                <a:lnTo>
                  <a:pt x="1679" y="3808"/>
                </a:lnTo>
                <a:lnTo>
                  <a:pt x="1631" y="3788"/>
                </a:lnTo>
                <a:lnTo>
                  <a:pt x="1582" y="3766"/>
                </a:lnTo>
                <a:lnTo>
                  <a:pt x="1564" y="3749"/>
                </a:lnTo>
                <a:lnTo>
                  <a:pt x="1547" y="3732"/>
                </a:lnTo>
                <a:lnTo>
                  <a:pt x="1530" y="3715"/>
                </a:lnTo>
                <a:lnTo>
                  <a:pt x="1513" y="3697"/>
                </a:lnTo>
                <a:lnTo>
                  <a:pt x="1498" y="3680"/>
                </a:lnTo>
                <a:lnTo>
                  <a:pt x="1482" y="3661"/>
                </a:lnTo>
                <a:lnTo>
                  <a:pt x="1467" y="3643"/>
                </a:lnTo>
                <a:lnTo>
                  <a:pt x="1452" y="3624"/>
                </a:lnTo>
                <a:lnTo>
                  <a:pt x="1438" y="3603"/>
                </a:lnTo>
                <a:lnTo>
                  <a:pt x="1424" y="3584"/>
                </a:lnTo>
                <a:lnTo>
                  <a:pt x="1412" y="3564"/>
                </a:lnTo>
                <a:lnTo>
                  <a:pt x="1398" y="3542"/>
                </a:lnTo>
                <a:lnTo>
                  <a:pt x="1387" y="3521"/>
                </a:lnTo>
                <a:lnTo>
                  <a:pt x="1375" y="3500"/>
                </a:lnTo>
                <a:lnTo>
                  <a:pt x="1365" y="3478"/>
                </a:lnTo>
                <a:lnTo>
                  <a:pt x="1353" y="3456"/>
                </a:lnTo>
                <a:lnTo>
                  <a:pt x="1343" y="3433"/>
                </a:lnTo>
                <a:lnTo>
                  <a:pt x="1334" y="3409"/>
                </a:lnTo>
                <a:lnTo>
                  <a:pt x="1324" y="3387"/>
                </a:lnTo>
                <a:lnTo>
                  <a:pt x="1316" y="3362"/>
                </a:lnTo>
                <a:lnTo>
                  <a:pt x="1307" y="3338"/>
                </a:lnTo>
                <a:lnTo>
                  <a:pt x="1300" y="3313"/>
                </a:lnTo>
                <a:lnTo>
                  <a:pt x="1292" y="3288"/>
                </a:lnTo>
                <a:lnTo>
                  <a:pt x="1286" y="3262"/>
                </a:lnTo>
                <a:lnTo>
                  <a:pt x="1274" y="3210"/>
                </a:lnTo>
                <a:lnTo>
                  <a:pt x="1264" y="3156"/>
                </a:lnTo>
                <a:lnTo>
                  <a:pt x="1256" y="3101"/>
                </a:lnTo>
                <a:lnTo>
                  <a:pt x="1249" y="3044"/>
                </a:lnTo>
                <a:lnTo>
                  <a:pt x="1253" y="3033"/>
                </a:lnTo>
                <a:lnTo>
                  <a:pt x="1256" y="3021"/>
                </a:lnTo>
                <a:lnTo>
                  <a:pt x="1260" y="3007"/>
                </a:lnTo>
                <a:lnTo>
                  <a:pt x="1261" y="2995"/>
                </a:lnTo>
                <a:lnTo>
                  <a:pt x="1262" y="2980"/>
                </a:lnTo>
                <a:lnTo>
                  <a:pt x="1263" y="2965"/>
                </a:lnTo>
                <a:lnTo>
                  <a:pt x="1263" y="2951"/>
                </a:lnTo>
                <a:lnTo>
                  <a:pt x="1263" y="2935"/>
                </a:lnTo>
                <a:lnTo>
                  <a:pt x="1260" y="2902"/>
                </a:lnTo>
                <a:lnTo>
                  <a:pt x="1255" y="2867"/>
                </a:lnTo>
                <a:lnTo>
                  <a:pt x="1247" y="2829"/>
                </a:lnTo>
                <a:lnTo>
                  <a:pt x="1237" y="2789"/>
                </a:lnTo>
                <a:lnTo>
                  <a:pt x="1236" y="2744"/>
                </a:lnTo>
                <a:lnTo>
                  <a:pt x="1237" y="2703"/>
                </a:lnTo>
                <a:lnTo>
                  <a:pt x="1238" y="2684"/>
                </a:lnTo>
                <a:lnTo>
                  <a:pt x="1239" y="2666"/>
                </a:lnTo>
                <a:lnTo>
                  <a:pt x="1242" y="2648"/>
                </a:lnTo>
                <a:lnTo>
                  <a:pt x="1244" y="2631"/>
                </a:lnTo>
                <a:lnTo>
                  <a:pt x="1247" y="2615"/>
                </a:lnTo>
                <a:lnTo>
                  <a:pt x="1251" y="2601"/>
                </a:lnTo>
                <a:lnTo>
                  <a:pt x="1255" y="2587"/>
                </a:lnTo>
                <a:lnTo>
                  <a:pt x="1260" y="2574"/>
                </a:lnTo>
                <a:lnTo>
                  <a:pt x="1264" y="2561"/>
                </a:lnTo>
                <a:lnTo>
                  <a:pt x="1270" y="2550"/>
                </a:lnTo>
                <a:lnTo>
                  <a:pt x="1277" y="2540"/>
                </a:lnTo>
                <a:lnTo>
                  <a:pt x="1282" y="2530"/>
                </a:lnTo>
                <a:lnTo>
                  <a:pt x="1293" y="2517"/>
                </a:lnTo>
                <a:lnTo>
                  <a:pt x="1305" y="2505"/>
                </a:lnTo>
                <a:lnTo>
                  <a:pt x="1317" y="2492"/>
                </a:lnTo>
                <a:lnTo>
                  <a:pt x="1330" y="2482"/>
                </a:lnTo>
                <a:lnTo>
                  <a:pt x="1343" y="2472"/>
                </a:lnTo>
                <a:lnTo>
                  <a:pt x="1357" y="2463"/>
                </a:lnTo>
                <a:lnTo>
                  <a:pt x="1370" y="2454"/>
                </a:lnTo>
                <a:lnTo>
                  <a:pt x="1385" y="2446"/>
                </a:lnTo>
                <a:lnTo>
                  <a:pt x="1401" y="2439"/>
                </a:lnTo>
                <a:lnTo>
                  <a:pt x="1416" y="2432"/>
                </a:lnTo>
                <a:lnTo>
                  <a:pt x="1432" y="2427"/>
                </a:lnTo>
                <a:lnTo>
                  <a:pt x="1449" y="2422"/>
                </a:lnTo>
                <a:lnTo>
                  <a:pt x="1466" y="2418"/>
                </a:lnTo>
                <a:lnTo>
                  <a:pt x="1484" y="2414"/>
                </a:lnTo>
                <a:lnTo>
                  <a:pt x="1502" y="2412"/>
                </a:lnTo>
                <a:lnTo>
                  <a:pt x="1520" y="2410"/>
                </a:lnTo>
                <a:close/>
                <a:moveTo>
                  <a:pt x="2135" y="2505"/>
                </a:moveTo>
                <a:lnTo>
                  <a:pt x="2152" y="2492"/>
                </a:lnTo>
                <a:lnTo>
                  <a:pt x="2170" y="2481"/>
                </a:lnTo>
                <a:lnTo>
                  <a:pt x="2187" y="2472"/>
                </a:lnTo>
                <a:lnTo>
                  <a:pt x="2205" y="2465"/>
                </a:lnTo>
                <a:lnTo>
                  <a:pt x="2223" y="2461"/>
                </a:lnTo>
                <a:lnTo>
                  <a:pt x="2241" y="2458"/>
                </a:lnTo>
                <a:lnTo>
                  <a:pt x="2259" y="2457"/>
                </a:lnTo>
                <a:lnTo>
                  <a:pt x="2277" y="2458"/>
                </a:lnTo>
                <a:lnTo>
                  <a:pt x="2295" y="2462"/>
                </a:lnTo>
                <a:lnTo>
                  <a:pt x="2314" y="2467"/>
                </a:lnTo>
                <a:lnTo>
                  <a:pt x="2332" y="2474"/>
                </a:lnTo>
                <a:lnTo>
                  <a:pt x="2352" y="2484"/>
                </a:lnTo>
                <a:lnTo>
                  <a:pt x="2370" y="2496"/>
                </a:lnTo>
                <a:lnTo>
                  <a:pt x="2389" y="2509"/>
                </a:lnTo>
                <a:lnTo>
                  <a:pt x="2408" y="2524"/>
                </a:lnTo>
                <a:lnTo>
                  <a:pt x="2427" y="2542"/>
                </a:lnTo>
                <a:lnTo>
                  <a:pt x="2449" y="2603"/>
                </a:lnTo>
                <a:lnTo>
                  <a:pt x="2471" y="2662"/>
                </a:lnTo>
                <a:lnTo>
                  <a:pt x="2494" y="2719"/>
                </a:lnTo>
                <a:lnTo>
                  <a:pt x="2518" y="2775"/>
                </a:lnTo>
                <a:lnTo>
                  <a:pt x="2542" y="2829"/>
                </a:lnTo>
                <a:lnTo>
                  <a:pt x="2567" y="2881"/>
                </a:lnTo>
                <a:lnTo>
                  <a:pt x="2593" y="2930"/>
                </a:lnTo>
                <a:lnTo>
                  <a:pt x="2620" y="2979"/>
                </a:lnTo>
                <a:lnTo>
                  <a:pt x="2638" y="2999"/>
                </a:lnTo>
                <a:lnTo>
                  <a:pt x="2656" y="3018"/>
                </a:lnTo>
                <a:lnTo>
                  <a:pt x="2672" y="3038"/>
                </a:lnTo>
                <a:lnTo>
                  <a:pt x="2688" y="3058"/>
                </a:lnTo>
                <a:lnTo>
                  <a:pt x="2701" y="3077"/>
                </a:lnTo>
                <a:lnTo>
                  <a:pt x="2715" y="3095"/>
                </a:lnTo>
                <a:lnTo>
                  <a:pt x="2727" y="3114"/>
                </a:lnTo>
                <a:lnTo>
                  <a:pt x="2738" y="3133"/>
                </a:lnTo>
                <a:lnTo>
                  <a:pt x="2747" y="3152"/>
                </a:lnTo>
                <a:lnTo>
                  <a:pt x="2756" y="3170"/>
                </a:lnTo>
                <a:lnTo>
                  <a:pt x="2764" y="3188"/>
                </a:lnTo>
                <a:lnTo>
                  <a:pt x="2772" y="3206"/>
                </a:lnTo>
                <a:lnTo>
                  <a:pt x="2778" y="3223"/>
                </a:lnTo>
                <a:lnTo>
                  <a:pt x="2782" y="3241"/>
                </a:lnTo>
                <a:lnTo>
                  <a:pt x="2786" y="3258"/>
                </a:lnTo>
                <a:lnTo>
                  <a:pt x="2788" y="3275"/>
                </a:lnTo>
                <a:lnTo>
                  <a:pt x="2788" y="3293"/>
                </a:lnTo>
                <a:lnTo>
                  <a:pt x="2786" y="3311"/>
                </a:lnTo>
                <a:lnTo>
                  <a:pt x="2784" y="3327"/>
                </a:lnTo>
                <a:lnTo>
                  <a:pt x="2780" y="3343"/>
                </a:lnTo>
                <a:lnTo>
                  <a:pt x="2776" y="3357"/>
                </a:lnTo>
                <a:lnTo>
                  <a:pt x="2769" y="3371"/>
                </a:lnTo>
                <a:lnTo>
                  <a:pt x="2762" y="3384"/>
                </a:lnTo>
                <a:lnTo>
                  <a:pt x="2754" y="3397"/>
                </a:lnTo>
                <a:lnTo>
                  <a:pt x="2745" y="3408"/>
                </a:lnTo>
                <a:lnTo>
                  <a:pt x="2735" y="3419"/>
                </a:lnTo>
                <a:lnTo>
                  <a:pt x="2724" y="3428"/>
                </a:lnTo>
                <a:lnTo>
                  <a:pt x="2712" y="3437"/>
                </a:lnTo>
                <a:lnTo>
                  <a:pt x="2699" y="3445"/>
                </a:lnTo>
                <a:lnTo>
                  <a:pt x="2684" y="3453"/>
                </a:lnTo>
                <a:lnTo>
                  <a:pt x="2670" y="3459"/>
                </a:lnTo>
                <a:lnTo>
                  <a:pt x="2653" y="3465"/>
                </a:lnTo>
                <a:lnTo>
                  <a:pt x="2636" y="3462"/>
                </a:lnTo>
                <a:lnTo>
                  <a:pt x="2619" y="3459"/>
                </a:lnTo>
                <a:lnTo>
                  <a:pt x="2603" y="3454"/>
                </a:lnTo>
                <a:lnTo>
                  <a:pt x="2588" y="3449"/>
                </a:lnTo>
                <a:lnTo>
                  <a:pt x="2574" y="3442"/>
                </a:lnTo>
                <a:lnTo>
                  <a:pt x="2560" y="3434"/>
                </a:lnTo>
                <a:lnTo>
                  <a:pt x="2547" y="3425"/>
                </a:lnTo>
                <a:lnTo>
                  <a:pt x="2534" y="3414"/>
                </a:lnTo>
                <a:lnTo>
                  <a:pt x="2523" y="3402"/>
                </a:lnTo>
                <a:lnTo>
                  <a:pt x="2512" y="3390"/>
                </a:lnTo>
                <a:lnTo>
                  <a:pt x="2500" y="3375"/>
                </a:lnTo>
                <a:lnTo>
                  <a:pt x="2491" y="3361"/>
                </a:lnTo>
                <a:lnTo>
                  <a:pt x="2482" y="3344"/>
                </a:lnTo>
                <a:lnTo>
                  <a:pt x="2473" y="3327"/>
                </a:lnTo>
                <a:lnTo>
                  <a:pt x="2465" y="3308"/>
                </a:lnTo>
                <a:lnTo>
                  <a:pt x="2459" y="3287"/>
                </a:lnTo>
                <a:lnTo>
                  <a:pt x="2438" y="3247"/>
                </a:lnTo>
                <a:lnTo>
                  <a:pt x="2417" y="3207"/>
                </a:lnTo>
                <a:lnTo>
                  <a:pt x="2397" y="3169"/>
                </a:lnTo>
                <a:lnTo>
                  <a:pt x="2375" y="3131"/>
                </a:lnTo>
                <a:lnTo>
                  <a:pt x="2354" y="3095"/>
                </a:lnTo>
                <a:lnTo>
                  <a:pt x="2332" y="3061"/>
                </a:lnTo>
                <a:lnTo>
                  <a:pt x="2310" y="3028"/>
                </a:lnTo>
                <a:lnTo>
                  <a:pt x="2288" y="2996"/>
                </a:lnTo>
                <a:lnTo>
                  <a:pt x="2266" y="2965"/>
                </a:lnTo>
                <a:lnTo>
                  <a:pt x="2243" y="2936"/>
                </a:lnTo>
                <a:lnTo>
                  <a:pt x="2221" y="2909"/>
                </a:lnTo>
                <a:lnTo>
                  <a:pt x="2198" y="2882"/>
                </a:lnTo>
                <a:lnTo>
                  <a:pt x="2176" y="2857"/>
                </a:lnTo>
                <a:lnTo>
                  <a:pt x="2152" y="2833"/>
                </a:lnTo>
                <a:lnTo>
                  <a:pt x="2128" y="2811"/>
                </a:lnTo>
                <a:lnTo>
                  <a:pt x="2104" y="2789"/>
                </a:lnTo>
                <a:lnTo>
                  <a:pt x="2093" y="2770"/>
                </a:lnTo>
                <a:lnTo>
                  <a:pt x="2084" y="2752"/>
                </a:lnTo>
                <a:lnTo>
                  <a:pt x="2076" y="2734"/>
                </a:lnTo>
                <a:lnTo>
                  <a:pt x="2070" y="2716"/>
                </a:lnTo>
                <a:lnTo>
                  <a:pt x="2066" y="2698"/>
                </a:lnTo>
                <a:lnTo>
                  <a:pt x="2063" y="2680"/>
                </a:lnTo>
                <a:lnTo>
                  <a:pt x="2062" y="2662"/>
                </a:lnTo>
                <a:lnTo>
                  <a:pt x="2063" y="2644"/>
                </a:lnTo>
                <a:lnTo>
                  <a:pt x="2066" y="2627"/>
                </a:lnTo>
                <a:lnTo>
                  <a:pt x="2071" y="2609"/>
                </a:lnTo>
                <a:lnTo>
                  <a:pt x="2076" y="2592"/>
                </a:lnTo>
                <a:lnTo>
                  <a:pt x="2084" y="2574"/>
                </a:lnTo>
                <a:lnTo>
                  <a:pt x="2094" y="2557"/>
                </a:lnTo>
                <a:lnTo>
                  <a:pt x="2106" y="2540"/>
                </a:lnTo>
                <a:lnTo>
                  <a:pt x="2119" y="2522"/>
                </a:lnTo>
                <a:lnTo>
                  <a:pt x="2135" y="2505"/>
                </a:lnTo>
                <a:close/>
                <a:moveTo>
                  <a:pt x="2932" y="2488"/>
                </a:moveTo>
                <a:lnTo>
                  <a:pt x="2953" y="2475"/>
                </a:lnTo>
                <a:lnTo>
                  <a:pt x="2972" y="2465"/>
                </a:lnTo>
                <a:lnTo>
                  <a:pt x="2992" y="2457"/>
                </a:lnTo>
                <a:lnTo>
                  <a:pt x="3011" y="2450"/>
                </a:lnTo>
                <a:lnTo>
                  <a:pt x="3032" y="2445"/>
                </a:lnTo>
                <a:lnTo>
                  <a:pt x="3051" y="2443"/>
                </a:lnTo>
                <a:lnTo>
                  <a:pt x="3070" y="2441"/>
                </a:lnTo>
                <a:lnTo>
                  <a:pt x="3090" y="2441"/>
                </a:lnTo>
                <a:lnTo>
                  <a:pt x="3110" y="2445"/>
                </a:lnTo>
                <a:lnTo>
                  <a:pt x="3129" y="2449"/>
                </a:lnTo>
                <a:lnTo>
                  <a:pt x="3147" y="2456"/>
                </a:lnTo>
                <a:lnTo>
                  <a:pt x="3166" y="2464"/>
                </a:lnTo>
                <a:lnTo>
                  <a:pt x="3185" y="2474"/>
                </a:lnTo>
                <a:lnTo>
                  <a:pt x="3204" y="2487"/>
                </a:lnTo>
                <a:lnTo>
                  <a:pt x="3222" y="2501"/>
                </a:lnTo>
                <a:lnTo>
                  <a:pt x="3242" y="2517"/>
                </a:lnTo>
                <a:lnTo>
                  <a:pt x="3261" y="2545"/>
                </a:lnTo>
                <a:lnTo>
                  <a:pt x="3280" y="2576"/>
                </a:lnTo>
                <a:lnTo>
                  <a:pt x="3298" y="2607"/>
                </a:lnTo>
                <a:lnTo>
                  <a:pt x="3316" y="2641"/>
                </a:lnTo>
                <a:lnTo>
                  <a:pt x="3334" y="2675"/>
                </a:lnTo>
                <a:lnTo>
                  <a:pt x="3351" y="2712"/>
                </a:lnTo>
                <a:lnTo>
                  <a:pt x="3369" y="2750"/>
                </a:lnTo>
                <a:lnTo>
                  <a:pt x="3385" y="2789"/>
                </a:lnTo>
                <a:lnTo>
                  <a:pt x="3408" y="2816"/>
                </a:lnTo>
                <a:lnTo>
                  <a:pt x="3430" y="2845"/>
                </a:lnTo>
                <a:lnTo>
                  <a:pt x="3451" y="2873"/>
                </a:lnTo>
                <a:lnTo>
                  <a:pt x="3472" y="2901"/>
                </a:lnTo>
                <a:lnTo>
                  <a:pt x="3491" y="2929"/>
                </a:lnTo>
                <a:lnTo>
                  <a:pt x="3510" y="2959"/>
                </a:lnTo>
                <a:lnTo>
                  <a:pt x="3528" y="2987"/>
                </a:lnTo>
                <a:lnTo>
                  <a:pt x="3545" y="3017"/>
                </a:lnTo>
                <a:lnTo>
                  <a:pt x="3562" y="3047"/>
                </a:lnTo>
                <a:lnTo>
                  <a:pt x="3578" y="3077"/>
                </a:lnTo>
                <a:lnTo>
                  <a:pt x="3592" y="3107"/>
                </a:lnTo>
                <a:lnTo>
                  <a:pt x="3607" y="3138"/>
                </a:lnTo>
                <a:lnTo>
                  <a:pt x="3621" y="3169"/>
                </a:lnTo>
                <a:lnTo>
                  <a:pt x="3633" y="3200"/>
                </a:lnTo>
                <a:lnTo>
                  <a:pt x="3645" y="3231"/>
                </a:lnTo>
                <a:lnTo>
                  <a:pt x="3657" y="3264"/>
                </a:lnTo>
                <a:lnTo>
                  <a:pt x="3654" y="3284"/>
                </a:lnTo>
                <a:lnTo>
                  <a:pt x="3651" y="3304"/>
                </a:lnTo>
                <a:lnTo>
                  <a:pt x="3646" y="3322"/>
                </a:lnTo>
                <a:lnTo>
                  <a:pt x="3641" y="3339"/>
                </a:lnTo>
                <a:lnTo>
                  <a:pt x="3635" y="3356"/>
                </a:lnTo>
                <a:lnTo>
                  <a:pt x="3627" y="3371"/>
                </a:lnTo>
                <a:lnTo>
                  <a:pt x="3619" y="3384"/>
                </a:lnTo>
                <a:lnTo>
                  <a:pt x="3610" y="3397"/>
                </a:lnTo>
                <a:lnTo>
                  <a:pt x="3600" y="3408"/>
                </a:lnTo>
                <a:lnTo>
                  <a:pt x="3590" y="3418"/>
                </a:lnTo>
                <a:lnTo>
                  <a:pt x="3578" y="3427"/>
                </a:lnTo>
                <a:lnTo>
                  <a:pt x="3565" y="3434"/>
                </a:lnTo>
                <a:lnTo>
                  <a:pt x="3552" y="3441"/>
                </a:lnTo>
                <a:lnTo>
                  <a:pt x="3537" y="3445"/>
                </a:lnTo>
                <a:lnTo>
                  <a:pt x="3521" y="3450"/>
                </a:lnTo>
                <a:lnTo>
                  <a:pt x="3504" y="3452"/>
                </a:lnTo>
                <a:lnTo>
                  <a:pt x="3489" y="3445"/>
                </a:lnTo>
                <a:lnTo>
                  <a:pt x="3473" y="3437"/>
                </a:lnTo>
                <a:lnTo>
                  <a:pt x="3457" y="3428"/>
                </a:lnTo>
                <a:lnTo>
                  <a:pt x="3441" y="3418"/>
                </a:lnTo>
                <a:lnTo>
                  <a:pt x="3426" y="3407"/>
                </a:lnTo>
                <a:lnTo>
                  <a:pt x="3412" y="3395"/>
                </a:lnTo>
                <a:lnTo>
                  <a:pt x="3398" y="3382"/>
                </a:lnTo>
                <a:lnTo>
                  <a:pt x="3384" y="3367"/>
                </a:lnTo>
                <a:lnTo>
                  <a:pt x="3370" y="3353"/>
                </a:lnTo>
                <a:lnTo>
                  <a:pt x="3358" y="3337"/>
                </a:lnTo>
                <a:lnTo>
                  <a:pt x="3344" y="3320"/>
                </a:lnTo>
                <a:lnTo>
                  <a:pt x="3332" y="3302"/>
                </a:lnTo>
                <a:lnTo>
                  <a:pt x="3320" y="3284"/>
                </a:lnTo>
                <a:lnTo>
                  <a:pt x="3308" y="3264"/>
                </a:lnTo>
                <a:lnTo>
                  <a:pt x="3297" y="3243"/>
                </a:lnTo>
                <a:lnTo>
                  <a:pt x="3287" y="3222"/>
                </a:lnTo>
                <a:lnTo>
                  <a:pt x="3271" y="3191"/>
                </a:lnTo>
                <a:lnTo>
                  <a:pt x="3256" y="3162"/>
                </a:lnTo>
                <a:lnTo>
                  <a:pt x="3242" y="3131"/>
                </a:lnTo>
                <a:lnTo>
                  <a:pt x="3227" y="3101"/>
                </a:lnTo>
                <a:lnTo>
                  <a:pt x="3212" y="3070"/>
                </a:lnTo>
                <a:lnTo>
                  <a:pt x="3199" y="3040"/>
                </a:lnTo>
                <a:lnTo>
                  <a:pt x="3185" y="3009"/>
                </a:lnTo>
                <a:lnTo>
                  <a:pt x="3172" y="2979"/>
                </a:lnTo>
                <a:lnTo>
                  <a:pt x="3138" y="2948"/>
                </a:lnTo>
                <a:lnTo>
                  <a:pt x="3106" y="2918"/>
                </a:lnTo>
                <a:lnTo>
                  <a:pt x="3075" y="2886"/>
                </a:lnTo>
                <a:lnTo>
                  <a:pt x="3043" y="2855"/>
                </a:lnTo>
                <a:lnTo>
                  <a:pt x="3011" y="2823"/>
                </a:lnTo>
                <a:lnTo>
                  <a:pt x="2981" y="2790"/>
                </a:lnTo>
                <a:lnTo>
                  <a:pt x="2950" y="2757"/>
                </a:lnTo>
                <a:lnTo>
                  <a:pt x="2920" y="2723"/>
                </a:lnTo>
                <a:lnTo>
                  <a:pt x="2913" y="2705"/>
                </a:lnTo>
                <a:lnTo>
                  <a:pt x="2906" y="2686"/>
                </a:lnTo>
                <a:lnTo>
                  <a:pt x="2902" y="2668"/>
                </a:lnTo>
                <a:lnTo>
                  <a:pt x="2897" y="2651"/>
                </a:lnTo>
                <a:lnTo>
                  <a:pt x="2895" y="2635"/>
                </a:lnTo>
                <a:lnTo>
                  <a:pt x="2893" y="2619"/>
                </a:lnTo>
                <a:lnTo>
                  <a:pt x="2892" y="2603"/>
                </a:lnTo>
                <a:lnTo>
                  <a:pt x="2892" y="2588"/>
                </a:lnTo>
                <a:lnTo>
                  <a:pt x="2894" y="2574"/>
                </a:lnTo>
                <a:lnTo>
                  <a:pt x="2896" y="2560"/>
                </a:lnTo>
                <a:lnTo>
                  <a:pt x="2900" y="2546"/>
                </a:lnTo>
                <a:lnTo>
                  <a:pt x="2904" y="2534"/>
                </a:lnTo>
                <a:lnTo>
                  <a:pt x="2910" y="2522"/>
                </a:lnTo>
                <a:lnTo>
                  <a:pt x="2916" y="2510"/>
                </a:lnTo>
                <a:lnTo>
                  <a:pt x="2923" y="2499"/>
                </a:lnTo>
                <a:lnTo>
                  <a:pt x="2932" y="2488"/>
                </a:lnTo>
                <a:close/>
                <a:moveTo>
                  <a:pt x="998" y="1990"/>
                </a:moveTo>
                <a:lnTo>
                  <a:pt x="982" y="1990"/>
                </a:lnTo>
                <a:lnTo>
                  <a:pt x="993" y="1991"/>
                </a:lnTo>
                <a:lnTo>
                  <a:pt x="1005" y="1992"/>
                </a:lnTo>
                <a:lnTo>
                  <a:pt x="1017" y="1995"/>
                </a:lnTo>
                <a:lnTo>
                  <a:pt x="1032" y="2000"/>
                </a:lnTo>
                <a:lnTo>
                  <a:pt x="1046" y="2006"/>
                </a:lnTo>
                <a:lnTo>
                  <a:pt x="1062" y="2013"/>
                </a:lnTo>
                <a:lnTo>
                  <a:pt x="1079" y="2021"/>
                </a:lnTo>
                <a:lnTo>
                  <a:pt x="1097" y="2032"/>
                </a:lnTo>
                <a:lnTo>
                  <a:pt x="1107" y="2043"/>
                </a:lnTo>
                <a:lnTo>
                  <a:pt x="1116" y="2052"/>
                </a:lnTo>
                <a:lnTo>
                  <a:pt x="1125" y="2060"/>
                </a:lnTo>
                <a:lnTo>
                  <a:pt x="1136" y="2067"/>
                </a:lnTo>
                <a:lnTo>
                  <a:pt x="1145" y="2072"/>
                </a:lnTo>
                <a:lnTo>
                  <a:pt x="1154" y="2076"/>
                </a:lnTo>
                <a:lnTo>
                  <a:pt x="1163" y="2078"/>
                </a:lnTo>
                <a:lnTo>
                  <a:pt x="1172" y="2079"/>
                </a:lnTo>
                <a:lnTo>
                  <a:pt x="1180" y="2078"/>
                </a:lnTo>
                <a:lnTo>
                  <a:pt x="1189" y="2076"/>
                </a:lnTo>
                <a:lnTo>
                  <a:pt x="1196" y="2072"/>
                </a:lnTo>
                <a:lnTo>
                  <a:pt x="1205" y="2067"/>
                </a:lnTo>
                <a:lnTo>
                  <a:pt x="1213" y="2060"/>
                </a:lnTo>
                <a:lnTo>
                  <a:pt x="1221" y="2052"/>
                </a:lnTo>
                <a:lnTo>
                  <a:pt x="1229" y="2043"/>
                </a:lnTo>
                <a:lnTo>
                  <a:pt x="1237" y="2032"/>
                </a:lnTo>
                <a:lnTo>
                  <a:pt x="1272" y="2013"/>
                </a:lnTo>
                <a:lnTo>
                  <a:pt x="1300" y="2000"/>
                </a:lnTo>
                <a:lnTo>
                  <a:pt x="1313" y="1995"/>
                </a:lnTo>
                <a:lnTo>
                  <a:pt x="1322" y="1992"/>
                </a:lnTo>
                <a:lnTo>
                  <a:pt x="1330" y="1991"/>
                </a:lnTo>
                <a:lnTo>
                  <a:pt x="1336" y="1990"/>
                </a:lnTo>
                <a:lnTo>
                  <a:pt x="1457" y="1983"/>
                </a:lnTo>
                <a:lnTo>
                  <a:pt x="1578" y="1978"/>
                </a:lnTo>
                <a:lnTo>
                  <a:pt x="1698" y="1973"/>
                </a:lnTo>
                <a:lnTo>
                  <a:pt x="1819" y="1969"/>
                </a:lnTo>
                <a:lnTo>
                  <a:pt x="1939" y="1967"/>
                </a:lnTo>
                <a:lnTo>
                  <a:pt x="2058" y="1965"/>
                </a:lnTo>
                <a:lnTo>
                  <a:pt x="2177" y="1964"/>
                </a:lnTo>
                <a:lnTo>
                  <a:pt x="2296" y="1963"/>
                </a:lnTo>
                <a:lnTo>
                  <a:pt x="2414" y="1964"/>
                </a:lnTo>
                <a:lnTo>
                  <a:pt x="2532" y="1965"/>
                </a:lnTo>
                <a:lnTo>
                  <a:pt x="2649" y="1967"/>
                </a:lnTo>
                <a:lnTo>
                  <a:pt x="2767" y="1969"/>
                </a:lnTo>
                <a:lnTo>
                  <a:pt x="2884" y="1973"/>
                </a:lnTo>
                <a:lnTo>
                  <a:pt x="3000" y="1978"/>
                </a:lnTo>
                <a:lnTo>
                  <a:pt x="3117" y="1983"/>
                </a:lnTo>
                <a:lnTo>
                  <a:pt x="3232" y="1990"/>
                </a:lnTo>
                <a:lnTo>
                  <a:pt x="3254" y="1983"/>
                </a:lnTo>
                <a:lnTo>
                  <a:pt x="3274" y="1974"/>
                </a:lnTo>
                <a:lnTo>
                  <a:pt x="3293" y="1965"/>
                </a:lnTo>
                <a:lnTo>
                  <a:pt x="3311" y="1956"/>
                </a:lnTo>
                <a:lnTo>
                  <a:pt x="3328" y="1945"/>
                </a:lnTo>
                <a:lnTo>
                  <a:pt x="3344" y="1933"/>
                </a:lnTo>
                <a:lnTo>
                  <a:pt x="3360" y="1920"/>
                </a:lnTo>
                <a:lnTo>
                  <a:pt x="3373" y="1906"/>
                </a:lnTo>
                <a:lnTo>
                  <a:pt x="3387" y="1892"/>
                </a:lnTo>
                <a:lnTo>
                  <a:pt x="3399" y="1876"/>
                </a:lnTo>
                <a:lnTo>
                  <a:pt x="3411" y="1860"/>
                </a:lnTo>
                <a:lnTo>
                  <a:pt x="3421" y="1842"/>
                </a:lnTo>
                <a:lnTo>
                  <a:pt x="3430" y="1824"/>
                </a:lnTo>
                <a:lnTo>
                  <a:pt x="3438" y="1805"/>
                </a:lnTo>
                <a:lnTo>
                  <a:pt x="3445" y="1784"/>
                </a:lnTo>
                <a:lnTo>
                  <a:pt x="3451" y="1764"/>
                </a:lnTo>
                <a:lnTo>
                  <a:pt x="3452" y="1714"/>
                </a:lnTo>
                <a:lnTo>
                  <a:pt x="3454" y="1662"/>
                </a:lnTo>
                <a:lnTo>
                  <a:pt x="3455" y="1607"/>
                </a:lnTo>
                <a:lnTo>
                  <a:pt x="3455" y="1549"/>
                </a:lnTo>
                <a:lnTo>
                  <a:pt x="3455" y="1488"/>
                </a:lnTo>
                <a:lnTo>
                  <a:pt x="3454" y="1424"/>
                </a:lnTo>
                <a:lnTo>
                  <a:pt x="3452" y="1356"/>
                </a:lnTo>
                <a:lnTo>
                  <a:pt x="3451" y="1285"/>
                </a:lnTo>
                <a:lnTo>
                  <a:pt x="3460" y="1272"/>
                </a:lnTo>
                <a:lnTo>
                  <a:pt x="3469" y="1258"/>
                </a:lnTo>
                <a:lnTo>
                  <a:pt x="3476" y="1244"/>
                </a:lnTo>
                <a:lnTo>
                  <a:pt x="3482" y="1231"/>
                </a:lnTo>
                <a:lnTo>
                  <a:pt x="3486" y="1217"/>
                </a:lnTo>
                <a:lnTo>
                  <a:pt x="3490" y="1204"/>
                </a:lnTo>
                <a:lnTo>
                  <a:pt x="3492" y="1189"/>
                </a:lnTo>
                <a:lnTo>
                  <a:pt x="3492" y="1176"/>
                </a:lnTo>
                <a:lnTo>
                  <a:pt x="3492" y="1161"/>
                </a:lnTo>
                <a:lnTo>
                  <a:pt x="3490" y="1146"/>
                </a:lnTo>
                <a:lnTo>
                  <a:pt x="3486" y="1133"/>
                </a:lnTo>
                <a:lnTo>
                  <a:pt x="3482" y="1118"/>
                </a:lnTo>
                <a:lnTo>
                  <a:pt x="3476" y="1103"/>
                </a:lnTo>
                <a:lnTo>
                  <a:pt x="3469" y="1089"/>
                </a:lnTo>
                <a:lnTo>
                  <a:pt x="3460" y="1074"/>
                </a:lnTo>
                <a:lnTo>
                  <a:pt x="3451" y="1059"/>
                </a:lnTo>
                <a:lnTo>
                  <a:pt x="3439" y="1020"/>
                </a:lnTo>
                <a:lnTo>
                  <a:pt x="3428" y="987"/>
                </a:lnTo>
                <a:lnTo>
                  <a:pt x="3416" y="959"/>
                </a:lnTo>
                <a:lnTo>
                  <a:pt x="3405" y="935"/>
                </a:lnTo>
                <a:lnTo>
                  <a:pt x="3394" y="917"/>
                </a:lnTo>
                <a:lnTo>
                  <a:pt x="3381" y="900"/>
                </a:lnTo>
                <a:lnTo>
                  <a:pt x="3368" y="883"/>
                </a:lnTo>
                <a:lnTo>
                  <a:pt x="3354" y="868"/>
                </a:lnTo>
                <a:lnTo>
                  <a:pt x="3341" y="854"/>
                </a:lnTo>
                <a:lnTo>
                  <a:pt x="3326" y="839"/>
                </a:lnTo>
                <a:lnTo>
                  <a:pt x="3311" y="827"/>
                </a:lnTo>
                <a:lnTo>
                  <a:pt x="3297" y="814"/>
                </a:lnTo>
                <a:lnTo>
                  <a:pt x="3281" y="803"/>
                </a:lnTo>
                <a:lnTo>
                  <a:pt x="3265" y="792"/>
                </a:lnTo>
                <a:lnTo>
                  <a:pt x="3248" y="783"/>
                </a:lnTo>
                <a:lnTo>
                  <a:pt x="3231" y="774"/>
                </a:lnTo>
                <a:lnTo>
                  <a:pt x="3213" y="766"/>
                </a:lnTo>
                <a:lnTo>
                  <a:pt x="3195" y="758"/>
                </a:lnTo>
                <a:lnTo>
                  <a:pt x="3177" y="752"/>
                </a:lnTo>
                <a:lnTo>
                  <a:pt x="3158" y="746"/>
                </a:lnTo>
                <a:lnTo>
                  <a:pt x="3129" y="737"/>
                </a:lnTo>
                <a:lnTo>
                  <a:pt x="3098" y="728"/>
                </a:lnTo>
                <a:lnTo>
                  <a:pt x="3068" y="722"/>
                </a:lnTo>
                <a:lnTo>
                  <a:pt x="3037" y="714"/>
                </a:lnTo>
                <a:lnTo>
                  <a:pt x="3006" y="708"/>
                </a:lnTo>
                <a:lnTo>
                  <a:pt x="2975" y="702"/>
                </a:lnTo>
                <a:lnTo>
                  <a:pt x="2944" y="697"/>
                </a:lnTo>
                <a:lnTo>
                  <a:pt x="2912" y="692"/>
                </a:lnTo>
                <a:lnTo>
                  <a:pt x="2893" y="681"/>
                </a:lnTo>
                <a:lnTo>
                  <a:pt x="2873" y="672"/>
                </a:lnTo>
                <a:lnTo>
                  <a:pt x="2852" y="663"/>
                </a:lnTo>
                <a:lnTo>
                  <a:pt x="2832" y="656"/>
                </a:lnTo>
                <a:lnTo>
                  <a:pt x="2812" y="650"/>
                </a:lnTo>
                <a:lnTo>
                  <a:pt x="2790" y="646"/>
                </a:lnTo>
                <a:lnTo>
                  <a:pt x="2769" y="644"/>
                </a:lnTo>
                <a:lnTo>
                  <a:pt x="2747" y="641"/>
                </a:lnTo>
                <a:lnTo>
                  <a:pt x="2725" y="641"/>
                </a:lnTo>
                <a:lnTo>
                  <a:pt x="2702" y="644"/>
                </a:lnTo>
                <a:lnTo>
                  <a:pt x="2679" y="646"/>
                </a:lnTo>
                <a:lnTo>
                  <a:pt x="2655" y="649"/>
                </a:lnTo>
                <a:lnTo>
                  <a:pt x="2631" y="655"/>
                </a:lnTo>
                <a:lnTo>
                  <a:pt x="2608" y="662"/>
                </a:lnTo>
                <a:lnTo>
                  <a:pt x="2583" y="671"/>
                </a:lnTo>
                <a:lnTo>
                  <a:pt x="2558" y="680"/>
                </a:lnTo>
                <a:lnTo>
                  <a:pt x="2449" y="680"/>
                </a:lnTo>
                <a:lnTo>
                  <a:pt x="2338" y="680"/>
                </a:lnTo>
                <a:lnTo>
                  <a:pt x="2227" y="680"/>
                </a:lnTo>
                <a:lnTo>
                  <a:pt x="2117" y="681"/>
                </a:lnTo>
                <a:lnTo>
                  <a:pt x="2005" y="681"/>
                </a:lnTo>
                <a:lnTo>
                  <a:pt x="1894" y="682"/>
                </a:lnTo>
                <a:lnTo>
                  <a:pt x="1781" y="682"/>
                </a:lnTo>
                <a:lnTo>
                  <a:pt x="1668" y="683"/>
                </a:lnTo>
                <a:lnTo>
                  <a:pt x="1555" y="684"/>
                </a:lnTo>
                <a:lnTo>
                  <a:pt x="1441" y="684"/>
                </a:lnTo>
                <a:lnTo>
                  <a:pt x="1327" y="685"/>
                </a:lnTo>
                <a:lnTo>
                  <a:pt x="1213" y="687"/>
                </a:lnTo>
                <a:lnTo>
                  <a:pt x="1098" y="688"/>
                </a:lnTo>
                <a:lnTo>
                  <a:pt x="983" y="690"/>
                </a:lnTo>
                <a:lnTo>
                  <a:pt x="868" y="691"/>
                </a:lnTo>
                <a:lnTo>
                  <a:pt x="752" y="692"/>
                </a:lnTo>
                <a:lnTo>
                  <a:pt x="746" y="692"/>
                </a:lnTo>
                <a:lnTo>
                  <a:pt x="738" y="692"/>
                </a:lnTo>
                <a:lnTo>
                  <a:pt x="727" y="692"/>
                </a:lnTo>
                <a:lnTo>
                  <a:pt x="715" y="692"/>
                </a:lnTo>
                <a:lnTo>
                  <a:pt x="700" y="702"/>
                </a:lnTo>
                <a:lnTo>
                  <a:pt x="687" y="713"/>
                </a:lnTo>
                <a:lnTo>
                  <a:pt x="675" y="723"/>
                </a:lnTo>
                <a:lnTo>
                  <a:pt x="664" y="733"/>
                </a:lnTo>
                <a:lnTo>
                  <a:pt x="655" y="742"/>
                </a:lnTo>
                <a:lnTo>
                  <a:pt x="648" y="752"/>
                </a:lnTo>
                <a:lnTo>
                  <a:pt x="643" y="761"/>
                </a:lnTo>
                <a:lnTo>
                  <a:pt x="638" y="770"/>
                </a:lnTo>
                <a:lnTo>
                  <a:pt x="635" y="780"/>
                </a:lnTo>
                <a:lnTo>
                  <a:pt x="632" y="789"/>
                </a:lnTo>
                <a:lnTo>
                  <a:pt x="632" y="798"/>
                </a:lnTo>
                <a:lnTo>
                  <a:pt x="634" y="806"/>
                </a:lnTo>
                <a:lnTo>
                  <a:pt x="636" y="815"/>
                </a:lnTo>
                <a:lnTo>
                  <a:pt x="640" y="824"/>
                </a:lnTo>
                <a:lnTo>
                  <a:pt x="646" y="832"/>
                </a:lnTo>
                <a:lnTo>
                  <a:pt x="653" y="841"/>
                </a:lnTo>
                <a:lnTo>
                  <a:pt x="669" y="857"/>
                </a:lnTo>
                <a:lnTo>
                  <a:pt x="684" y="873"/>
                </a:lnTo>
                <a:lnTo>
                  <a:pt x="700" y="886"/>
                </a:lnTo>
                <a:lnTo>
                  <a:pt x="717" y="899"/>
                </a:lnTo>
                <a:lnTo>
                  <a:pt x="733" y="910"/>
                </a:lnTo>
                <a:lnTo>
                  <a:pt x="750" y="920"/>
                </a:lnTo>
                <a:lnTo>
                  <a:pt x="768" y="928"/>
                </a:lnTo>
                <a:lnTo>
                  <a:pt x="785" y="935"/>
                </a:lnTo>
                <a:lnTo>
                  <a:pt x="917" y="936"/>
                </a:lnTo>
                <a:lnTo>
                  <a:pt x="1050" y="938"/>
                </a:lnTo>
                <a:lnTo>
                  <a:pt x="1183" y="940"/>
                </a:lnTo>
                <a:lnTo>
                  <a:pt x="1317" y="941"/>
                </a:lnTo>
                <a:lnTo>
                  <a:pt x="1451" y="942"/>
                </a:lnTo>
                <a:lnTo>
                  <a:pt x="1586" y="943"/>
                </a:lnTo>
                <a:lnTo>
                  <a:pt x="1721" y="944"/>
                </a:lnTo>
                <a:lnTo>
                  <a:pt x="1856" y="944"/>
                </a:lnTo>
                <a:lnTo>
                  <a:pt x="1993" y="945"/>
                </a:lnTo>
                <a:lnTo>
                  <a:pt x="2129" y="946"/>
                </a:lnTo>
                <a:lnTo>
                  <a:pt x="2266" y="946"/>
                </a:lnTo>
                <a:lnTo>
                  <a:pt x="2403" y="947"/>
                </a:lnTo>
                <a:lnTo>
                  <a:pt x="2541" y="947"/>
                </a:lnTo>
                <a:lnTo>
                  <a:pt x="2679" y="947"/>
                </a:lnTo>
                <a:lnTo>
                  <a:pt x="2817" y="947"/>
                </a:lnTo>
                <a:lnTo>
                  <a:pt x="2957" y="947"/>
                </a:lnTo>
                <a:lnTo>
                  <a:pt x="2980" y="953"/>
                </a:lnTo>
                <a:lnTo>
                  <a:pt x="3002" y="959"/>
                </a:lnTo>
                <a:lnTo>
                  <a:pt x="3025" y="967"/>
                </a:lnTo>
                <a:lnTo>
                  <a:pt x="3046" y="977"/>
                </a:lnTo>
                <a:lnTo>
                  <a:pt x="3068" y="988"/>
                </a:lnTo>
                <a:lnTo>
                  <a:pt x="3087" y="1001"/>
                </a:lnTo>
                <a:lnTo>
                  <a:pt x="3107" y="1014"/>
                </a:lnTo>
                <a:lnTo>
                  <a:pt x="3126" y="1030"/>
                </a:lnTo>
                <a:lnTo>
                  <a:pt x="3129" y="1045"/>
                </a:lnTo>
                <a:lnTo>
                  <a:pt x="3130" y="1058"/>
                </a:lnTo>
                <a:lnTo>
                  <a:pt x="3131" y="1072"/>
                </a:lnTo>
                <a:lnTo>
                  <a:pt x="3131" y="1084"/>
                </a:lnTo>
                <a:lnTo>
                  <a:pt x="3131" y="1095"/>
                </a:lnTo>
                <a:lnTo>
                  <a:pt x="3129" y="1107"/>
                </a:lnTo>
                <a:lnTo>
                  <a:pt x="3126" y="1117"/>
                </a:lnTo>
                <a:lnTo>
                  <a:pt x="3123" y="1127"/>
                </a:lnTo>
                <a:lnTo>
                  <a:pt x="3119" y="1136"/>
                </a:lnTo>
                <a:lnTo>
                  <a:pt x="3113" y="1144"/>
                </a:lnTo>
                <a:lnTo>
                  <a:pt x="3107" y="1152"/>
                </a:lnTo>
                <a:lnTo>
                  <a:pt x="3101" y="1159"/>
                </a:lnTo>
                <a:lnTo>
                  <a:pt x="3093" y="1164"/>
                </a:lnTo>
                <a:lnTo>
                  <a:pt x="3084" y="1170"/>
                </a:lnTo>
                <a:lnTo>
                  <a:pt x="3075" y="1174"/>
                </a:lnTo>
                <a:lnTo>
                  <a:pt x="3064" y="1178"/>
                </a:lnTo>
                <a:lnTo>
                  <a:pt x="2923" y="1180"/>
                </a:lnTo>
                <a:lnTo>
                  <a:pt x="2784" y="1181"/>
                </a:lnTo>
                <a:lnTo>
                  <a:pt x="2644" y="1182"/>
                </a:lnTo>
                <a:lnTo>
                  <a:pt x="2505" y="1183"/>
                </a:lnTo>
                <a:lnTo>
                  <a:pt x="2365" y="1183"/>
                </a:lnTo>
                <a:lnTo>
                  <a:pt x="2226" y="1185"/>
                </a:lnTo>
                <a:lnTo>
                  <a:pt x="2088" y="1185"/>
                </a:lnTo>
                <a:lnTo>
                  <a:pt x="1949" y="1185"/>
                </a:lnTo>
                <a:lnTo>
                  <a:pt x="1811" y="1185"/>
                </a:lnTo>
                <a:lnTo>
                  <a:pt x="1672" y="1185"/>
                </a:lnTo>
                <a:lnTo>
                  <a:pt x="1535" y="1183"/>
                </a:lnTo>
                <a:lnTo>
                  <a:pt x="1397" y="1183"/>
                </a:lnTo>
                <a:lnTo>
                  <a:pt x="1261" y="1182"/>
                </a:lnTo>
                <a:lnTo>
                  <a:pt x="1123" y="1181"/>
                </a:lnTo>
                <a:lnTo>
                  <a:pt x="987" y="1180"/>
                </a:lnTo>
                <a:lnTo>
                  <a:pt x="850" y="1178"/>
                </a:lnTo>
                <a:lnTo>
                  <a:pt x="831" y="1176"/>
                </a:lnTo>
                <a:lnTo>
                  <a:pt x="813" y="1176"/>
                </a:lnTo>
                <a:lnTo>
                  <a:pt x="793" y="1177"/>
                </a:lnTo>
                <a:lnTo>
                  <a:pt x="773" y="1179"/>
                </a:lnTo>
                <a:lnTo>
                  <a:pt x="753" y="1183"/>
                </a:lnTo>
                <a:lnTo>
                  <a:pt x="733" y="1190"/>
                </a:lnTo>
                <a:lnTo>
                  <a:pt x="711" y="1198"/>
                </a:lnTo>
                <a:lnTo>
                  <a:pt x="690" y="1207"/>
                </a:lnTo>
                <a:lnTo>
                  <a:pt x="681" y="1225"/>
                </a:lnTo>
                <a:lnTo>
                  <a:pt x="673" y="1242"/>
                </a:lnTo>
                <a:lnTo>
                  <a:pt x="667" y="1259"/>
                </a:lnTo>
                <a:lnTo>
                  <a:pt x="662" y="1275"/>
                </a:lnTo>
                <a:lnTo>
                  <a:pt x="657" y="1290"/>
                </a:lnTo>
                <a:lnTo>
                  <a:pt x="654" y="1303"/>
                </a:lnTo>
                <a:lnTo>
                  <a:pt x="652" y="1316"/>
                </a:lnTo>
                <a:lnTo>
                  <a:pt x="649" y="1328"/>
                </a:lnTo>
                <a:lnTo>
                  <a:pt x="649" y="1339"/>
                </a:lnTo>
                <a:lnTo>
                  <a:pt x="650" y="1349"/>
                </a:lnTo>
                <a:lnTo>
                  <a:pt x="653" y="1358"/>
                </a:lnTo>
                <a:lnTo>
                  <a:pt x="655" y="1368"/>
                </a:lnTo>
                <a:lnTo>
                  <a:pt x="660" y="1375"/>
                </a:lnTo>
                <a:lnTo>
                  <a:pt x="664" y="1382"/>
                </a:lnTo>
                <a:lnTo>
                  <a:pt x="670" y="1388"/>
                </a:lnTo>
                <a:lnTo>
                  <a:pt x="678" y="1392"/>
                </a:lnTo>
                <a:lnTo>
                  <a:pt x="689" y="1399"/>
                </a:lnTo>
                <a:lnTo>
                  <a:pt x="701" y="1406"/>
                </a:lnTo>
                <a:lnTo>
                  <a:pt x="716" y="1412"/>
                </a:lnTo>
                <a:lnTo>
                  <a:pt x="729" y="1417"/>
                </a:lnTo>
                <a:lnTo>
                  <a:pt x="745" y="1423"/>
                </a:lnTo>
                <a:lnTo>
                  <a:pt x="761" y="1426"/>
                </a:lnTo>
                <a:lnTo>
                  <a:pt x="779" y="1431"/>
                </a:lnTo>
                <a:lnTo>
                  <a:pt x="797" y="1434"/>
                </a:lnTo>
                <a:lnTo>
                  <a:pt x="966" y="1434"/>
                </a:lnTo>
                <a:lnTo>
                  <a:pt x="1131" y="1434"/>
                </a:lnTo>
                <a:lnTo>
                  <a:pt x="1291" y="1434"/>
                </a:lnTo>
                <a:lnTo>
                  <a:pt x="1448" y="1434"/>
                </a:lnTo>
                <a:lnTo>
                  <a:pt x="1600" y="1434"/>
                </a:lnTo>
                <a:lnTo>
                  <a:pt x="1748" y="1434"/>
                </a:lnTo>
                <a:lnTo>
                  <a:pt x="1891" y="1434"/>
                </a:lnTo>
                <a:lnTo>
                  <a:pt x="2031" y="1434"/>
                </a:lnTo>
                <a:lnTo>
                  <a:pt x="2167" y="1434"/>
                </a:lnTo>
                <a:lnTo>
                  <a:pt x="2297" y="1434"/>
                </a:lnTo>
                <a:lnTo>
                  <a:pt x="2424" y="1434"/>
                </a:lnTo>
                <a:lnTo>
                  <a:pt x="2547" y="1434"/>
                </a:lnTo>
                <a:lnTo>
                  <a:pt x="2665" y="1434"/>
                </a:lnTo>
                <a:lnTo>
                  <a:pt x="2779" y="1434"/>
                </a:lnTo>
                <a:lnTo>
                  <a:pt x="2888" y="1434"/>
                </a:lnTo>
                <a:lnTo>
                  <a:pt x="2994" y="1434"/>
                </a:lnTo>
                <a:lnTo>
                  <a:pt x="3011" y="1435"/>
                </a:lnTo>
                <a:lnTo>
                  <a:pt x="3027" y="1438"/>
                </a:lnTo>
                <a:lnTo>
                  <a:pt x="3043" y="1441"/>
                </a:lnTo>
                <a:lnTo>
                  <a:pt x="3057" y="1444"/>
                </a:lnTo>
                <a:lnTo>
                  <a:pt x="3070" y="1449"/>
                </a:lnTo>
                <a:lnTo>
                  <a:pt x="3082" y="1453"/>
                </a:lnTo>
                <a:lnTo>
                  <a:pt x="3095" y="1459"/>
                </a:lnTo>
                <a:lnTo>
                  <a:pt x="3105" y="1465"/>
                </a:lnTo>
                <a:lnTo>
                  <a:pt x="3115" y="1471"/>
                </a:lnTo>
                <a:lnTo>
                  <a:pt x="3124" y="1478"/>
                </a:lnTo>
                <a:lnTo>
                  <a:pt x="3132" y="1486"/>
                </a:lnTo>
                <a:lnTo>
                  <a:pt x="3139" y="1494"/>
                </a:lnTo>
                <a:lnTo>
                  <a:pt x="3146" y="1503"/>
                </a:lnTo>
                <a:lnTo>
                  <a:pt x="3150" y="1512"/>
                </a:lnTo>
                <a:lnTo>
                  <a:pt x="3155" y="1522"/>
                </a:lnTo>
                <a:lnTo>
                  <a:pt x="3158" y="1532"/>
                </a:lnTo>
                <a:lnTo>
                  <a:pt x="3151" y="1558"/>
                </a:lnTo>
                <a:lnTo>
                  <a:pt x="3143" y="1581"/>
                </a:lnTo>
                <a:lnTo>
                  <a:pt x="3139" y="1592"/>
                </a:lnTo>
                <a:lnTo>
                  <a:pt x="3133" y="1602"/>
                </a:lnTo>
                <a:lnTo>
                  <a:pt x="3129" y="1611"/>
                </a:lnTo>
                <a:lnTo>
                  <a:pt x="3123" y="1620"/>
                </a:lnTo>
                <a:lnTo>
                  <a:pt x="3116" y="1628"/>
                </a:lnTo>
                <a:lnTo>
                  <a:pt x="3111" y="1636"/>
                </a:lnTo>
                <a:lnTo>
                  <a:pt x="3104" y="1643"/>
                </a:lnTo>
                <a:lnTo>
                  <a:pt x="3096" y="1649"/>
                </a:lnTo>
                <a:lnTo>
                  <a:pt x="3089" y="1655"/>
                </a:lnTo>
                <a:lnTo>
                  <a:pt x="3081" y="1660"/>
                </a:lnTo>
                <a:lnTo>
                  <a:pt x="3072" y="1665"/>
                </a:lnTo>
                <a:lnTo>
                  <a:pt x="3064" y="1668"/>
                </a:lnTo>
                <a:lnTo>
                  <a:pt x="2922" y="1674"/>
                </a:lnTo>
                <a:lnTo>
                  <a:pt x="2781" y="1678"/>
                </a:lnTo>
                <a:lnTo>
                  <a:pt x="2641" y="1681"/>
                </a:lnTo>
                <a:lnTo>
                  <a:pt x="2500" y="1685"/>
                </a:lnTo>
                <a:lnTo>
                  <a:pt x="2362" y="1687"/>
                </a:lnTo>
                <a:lnTo>
                  <a:pt x="2223" y="1689"/>
                </a:lnTo>
                <a:lnTo>
                  <a:pt x="2084" y="1692"/>
                </a:lnTo>
                <a:lnTo>
                  <a:pt x="1947" y="1692"/>
                </a:lnTo>
                <a:lnTo>
                  <a:pt x="1809" y="1693"/>
                </a:lnTo>
                <a:lnTo>
                  <a:pt x="1672" y="1693"/>
                </a:lnTo>
                <a:lnTo>
                  <a:pt x="1536" y="1692"/>
                </a:lnTo>
                <a:lnTo>
                  <a:pt x="1399" y="1690"/>
                </a:lnTo>
                <a:lnTo>
                  <a:pt x="1265" y="1689"/>
                </a:lnTo>
                <a:lnTo>
                  <a:pt x="1130" y="1687"/>
                </a:lnTo>
                <a:lnTo>
                  <a:pt x="996" y="1685"/>
                </a:lnTo>
                <a:lnTo>
                  <a:pt x="863" y="1681"/>
                </a:lnTo>
                <a:lnTo>
                  <a:pt x="839" y="1685"/>
                </a:lnTo>
                <a:lnTo>
                  <a:pt x="815" y="1689"/>
                </a:lnTo>
                <a:lnTo>
                  <a:pt x="793" y="1696"/>
                </a:lnTo>
                <a:lnTo>
                  <a:pt x="769" y="1704"/>
                </a:lnTo>
                <a:lnTo>
                  <a:pt x="746" y="1713"/>
                </a:lnTo>
                <a:lnTo>
                  <a:pt x="723" y="1723"/>
                </a:lnTo>
                <a:lnTo>
                  <a:pt x="700" y="1735"/>
                </a:lnTo>
                <a:lnTo>
                  <a:pt x="678" y="1747"/>
                </a:lnTo>
                <a:lnTo>
                  <a:pt x="670" y="1756"/>
                </a:lnTo>
                <a:lnTo>
                  <a:pt x="664" y="1765"/>
                </a:lnTo>
                <a:lnTo>
                  <a:pt x="657" y="1774"/>
                </a:lnTo>
                <a:lnTo>
                  <a:pt x="653" y="1784"/>
                </a:lnTo>
                <a:lnTo>
                  <a:pt x="648" y="1794"/>
                </a:lnTo>
                <a:lnTo>
                  <a:pt x="645" y="1805"/>
                </a:lnTo>
                <a:lnTo>
                  <a:pt x="643" y="1816"/>
                </a:lnTo>
                <a:lnTo>
                  <a:pt x="640" y="1826"/>
                </a:lnTo>
                <a:lnTo>
                  <a:pt x="639" y="1837"/>
                </a:lnTo>
                <a:lnTo>
                  <a:pt x="639" y="1849"/>
                </a:lnTo>
                <a:lnTo>
                  <a:pt x="639" y="1861"/>
                </a:lnTo>
                <a:lnTo>
                  <a:pt x="640" y="1873"/>
                </a:lnTo>
                <a:lnTo>
                  <a:pt x="643" y="1886"/>
                </a:lnTo>
                <a:lnTo>
                  <a:pt x="645" y="1898"/>
                </a:lnTo>
                <a:lnTo>
                  <a:pt x="648" y="1911"/>
                </a:lnTo>
                <a:lnTo>
                  <a:pt x="653" y="1924"/>
                </a:lnTo>
                <a:lnTo>
                  <a:pt x="675" y="1943"/>
                </a:lnTo>
                <a:lnTo>
                  <a:pt x="698" y="1962"/>
                </a:lnTo>
                <a:lnTo>
                  <a:pt x="720" y="1976"/>
                </a:lnTo>
                <a:lnTo>
                  <a:pt x="743" y="1990"/>
                </a:lnTo>
                <a:lnTo>
                  <a:pt x="998" y="1990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Makoto12" descr=""/>
          <p:cNvPicPr/>
          <p:nvPr/>
        </p:nvPicPr>
        <p:blipFill>
          <a:blip r:embed="rId1"/>
          <a:stretch/>
        </p:blipFill>
        <p:spPr>
          <a:xfrm>
            <a:off x="2666880" y="533520"/>
            <a:ext cx="4038840" cy="59436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1143000" y="990720"/>
            <a:ext cx="1274760" cy="1301760"/>
          </a:xfrm>
          <a:custGeom>
            <a:avLst/>
            <a:gdLst/>
            <a:ahLst/>
            <a:rect l="l" t="t" r="r" b="b"/>
            <a:pathLst>
              <a:path w="4013" h="4098">
                <a:moveTo>
                  <a:pt x="4013" y="2205"/>
                </a:moveTo>
                <a:lnTo>
                  <a:pt x="1340" y="2205"/>
                </a:lnTo>
                <a:lnTo>
                  <a:pt x="1449" y="1998"/>
                </a:lnTo>
                <a:lnTo>
                  <a:pt x="2750" y="1998"/>
                </a:lnTo>
                <a:lnTo>
                  <a:pt x="2781" y="1998"/>
                </a:lnTo>
                <a:lnTo>
                  <a:pt x="2812" y="1995"/>
                </a:lnTo>
                <a:lnTo>
                  <a:pt x="2843" y="1991"/>
                </a:lnTo>
                <a:lnTo>
                  <a:pt x="2872" y="1984"/>
                </a:lnTo>
                <a:lnTo>
                  <a:pt x="2902" y="1977"/>
                </a:lnTo>
                <a:lnTo>
                  <a:pt x="2929" y="1967"/>
                </a:lnTo>
                <a:lnTo>
                  <a:pt x="2957" y="1956"/>
                </a:lnTo>
                <a:lnTo>
                  <a:pt x="2983" y="1943"/>
                </a:lnTo>
                <a:lnTo>
                  <a:pt x="3010" y="1928"/>
                </a:lnTo>
                <a:lnTo>
                  <a:pt x="3035" y="1912"/>
                </a:lnTo>
                <a:lnTo>
                  <a:pt x="3060" y="1894"/>
                </a:lnTo>
                <a:lnTo>
                  <a:pt x="3084" y="1873"/>
                </a:lnTo>
                <a:lnTo>
                  <a:pt x="3107" y="1851"/>
                </a:lnTo>
                <a:lnTo>
                  <a:pt x="3130" y="1828"/>
                </a:lnTo>
                <a:lnTo>
                  <a:pt x="3152" y="1803"/>
                </a:lnTo>
                <a:lnTo>
                  <a:pt x="3174" y="1775"/>
                </a:lnTo>
                <a:lnTo>
                  <a:pt x="3997" y="617"/>
                </a:lnTo>
                <a:lnTo>
                  <a:pt x="3997" y="138"/>
                </a:lnTo>
                <a:lnTo>
                  <a:pt x="1449" y="138"/>
                </a:lnTo>
                <a:lnTo>
                  <a:pt x="1541" y="0"/>
                </a:lnTo>
                <a:lnTo>
                  <a:pt x="739" y="0"/>
                </a:lnTo>
                <a:lnTo>
                  <a:pt x="403" y="487"/>
                </a:lnTo>
                <a:lnTo>
                  <a:pt x="396" y="495"/>
                </a:lnTo>
                <a:lnTo>
                  <a:pt x="388" y="503"/>
                </a:lnTo>
                <a:lnTo>
                  <a:pt x="380" y="510"/>
                </a:lnTo>
                <a:lnTo>
                  <a:pt x="371" y="517"/>
                </a:lnTo>
                <a:lnTo>
                  <a:pt x="361" y="523"/>
                </a:lnTo>
                <a:lnTo>
                  <a:pt x="350" y="528"/>
                </a:lnTo>
                <a:lnTo>
                  <a:pt x="339" y="534"/>
                </a:lnTo>
                <a:lnTo>
                  <a:pt x="327" y="539"/>
                </a:lnTo>
                <a:lnTo>
                  <a:pt x="315" y="542"/>
                </a:lnTo>
                <a:lnTo>
                  <a:pt x="302" y="547"/>
                </a:lnTo>
                <a:lnTo>
                  <a:pt x="288" y="549"/>
                </a:lnTo>
                <a:lnTo>
                  <a:pt x="274" y="552"/>
                </a:lnTo>
                <a:lnTo>
                  <a:pt x="244" y="556"/>
                </a:lnTo>
                <a:lnTo>
                  <a:pt x="210" y="558"/>
                </a:lnTo>
                <a:lnTo>
                  <a:pt x="0" y="558"/>
                </a:lnTo>
                <a:lnTo>
                  <a:pt x="101" y="1091"/>
                </a:lnTo>
                <a:lnTo>
                  <a:pt x="512" y="1091"/>
                </a:lnTo>
                <a:lnTo>
                  <a:pt x="547" y="1091"/>
                </a:lnTo>
                <a:lnTo>
                  <a:pt x="581" y="1089"/>
                </a:lnTo>
                <a:lnTo>
                  <a:pt x="614" y="1084"/>
                </a:lnTo>
                <a:lnTo>
                  <a:pt x="645" y="1078"/>
                </a:lnTo>
                <a:lnTo>
                  <a:pt x="677" y="1070"/>
                </a:lnTo>
                <a:lnTo>
                  <a:pt x="707" y="1061"/>
                </a:lnTo>
                <a:lnTo>
                  <a:pt x="737" y="1051"/>
                </a:lnTo>
                <a:lnTo>
                  <a:pt x="765" y="1038"/>
                </a:lnTo>
                <a:lnTo>
                  <a:pt x="793" y="1024"/>
                </a:lnTo>
                <a:lnTo>
                  <a:pt x="820" y="1008"/>
                </a:lnTo>
                <a:lnTo>
                  <a:pt x="845" y="991"/>
                </a:lnTo>
                <a:lnTo>
                  <a:pt x="870" y="972"/>
                </a:lnTo>
                <a:lnTo>
                  <a:pt x="894" y="951"/>
                </a:lnTo>
                <a:lnTo>
                  <a:pt x="917" y="928"/>
                </a:lnTo>
                <a:lnTo>
                  <a:pt x="940" y="904"/>
                </a:lnTo>
                <a:lnTo>
                  <a:pt x="961" y="877"/>
                </a:lnTo>
                <a:lnTo>
                  <a:pt x="1096" y="672"/>
                </a:lnTo>
                <a:lnTo>
                  <a:pt x="3103" y="672"/>
                </a:lnTo>
                <a:lnTo>
                  <a:pt x="2582" y="1432"/>
                </a:lnTo>
                <a:lnTo>
                  <a:pt x="2572" y="1438"/>
                </a:lnTo>
                <a:lnTo>
                  <a:pt x="2560" y="1443"/>
                </a:lnTo>
                <a:lnTo>
                  <a:pt x="2543" y="1448"/>
                </a:lnTo>
                <a:lnTo>
                  <a:pt x="2521" y="1453"/>
                </a:lnTo>
                <a:lnTo>
                  <a:pt x="2496" y="1457"/>
                </a:lnTo>
                <a:lnTo>
                  <a:pt x="2467" y="1461"/>
                </a:lnTo>
                <a:lnTo>
                  <a:pt x="2434" y="1463"/>
                </a:lnTo>
                <a:lnTo>
                  <a:pt x="2397" y="1465"/>
                </a:lnTo>
                <a:lnTo>
                  <a:pt x="1910" y="857"/>
                </a:lnTo>
                <a:lnTo>
                  <a:pt x="1041" y="857"/>
                </a:lnTo>
                <a:lnTo>
                  <a:pt x="1528" y="1465"/>
                </a:lnTo>
                <a:lnTo>
                  <a:pt x="17" y="1465"/>
                </a:lnTo>
                <a:lnTo>
                  <a:pt x="109" y="1998"/>
                </a:lnTo>
                <a:lnTo>
                  <a:pt x="646" y="1998"/>
                </a:lnTo>
                <a:lnTo>
                  <a:pt x="392" y="2481"/>
                </a:lnTo>
                <a:lnTo>
                  <a:pt x="382" y="2499"/>
                </a:lnTo>
                <a:lnTo>
                  <a:pt x="373" y="2515"/>
                </a:lnTo>
                <a:lnTo>
                  <a:pt x="363" y="2530"/>
                </a:lnTo>
                <a:lnTo>
                  <a:pt x="351" y="2545"/>
                </a:lnTo>
                <a:lnTo>
                  <a:pt x="339" y="2557"/>
                </a:lnTo>
                <a:lnTo>
                  <a:pt x="326" y="2569"/>
                </a:lnTo>
                <a:lnTo>
                  <a:pt x="311" y="2579"/>
                </a:lnTo>
                <a:lnTo>
                  <a:pt x="296" y="2588"/>
                </a:lnTo>
                <a:lnTo>
                  <a:pt x="280" y="2597"/>
                </a:lnTo>
                <a:lnTo>
                  <a:pt x="263" y="2604"/>
                </a:lnTo>
                <a:lnTo>
                  <a:pt x="245" y="2610"/>
                </a:lnTo>
                <a:lnTo>
                  <a:pt x="225" y="2616"/>
                </a:lnTo>
                <a:lnTo>
                  <a:pt x="206" y="2619"/>
                </a:lnTo>
                <a:lnTo>
                  <a:pt x="184" y="2621"/>
                </a:lnTo>
                <a:lnTo>
                  <a:pt x="162" y="2624"/>
                </a:lnTo>
                <a:lnTo>
                  <a:pt x="139" y="2624"/>
                </a:lnTo>
                <a:lnTo>
                  <a:pt x="0" y="2624"/>
                </a:lnTo>
                <a:lnTo>
                  <a:pt x="101" y="3158"/>
                </a:lnTo>
                <a:lnTo>
                  <a:pt x="597" y="3158"/>
                </a:lnTo>
                <a:lnTo>
                  <a:pt x="614" y="3157"/>
                </a:lnTo>
                <a:lnTo>
                  <a:pt x="631" y="3155"/>
                </a:lnTo>
                <a:lnTo>
                  <a:pt x="648" y="3154"/>
                </a:lnTo>
                <a:lnTo>
                  <a:pt x="665" y="3152"/>
                </a:lnTo>
                <a:lnTo>
                  <a:pt x="681" y="3150"/>
                </a:lnTo>
                <a:lnTo>
                  <a:pt x="697" y="3145"/>
                </a:lnTo>
                <a:lnTo>
                  <a:pt x="713" y="3142"/>
                </a:lnTo>
                <a:lnTo>
                  <a:pt x="728" y="3137"/>
                </a:lnTo>
                <a:lnTo>
                  <a:pt x="743" y="3131"/>
                </a:lnTo>
                <a:lnTo>
                  <a:pt x="758" y="3124"/>
                </a:lnTo>
                <a:lnTo>
                  <a:pt x="773" y="3119"/>
                </a:lnTo>
                <a:lnTo>
                  <a:pt x="788" y="3111"/>
                </a:lnTo>
                <a:lnTo>
                  <a:pt x="801" y="3103"/>
                </a:lnTo>
                <a:lnTo>
                  <a:pt x="815" y="3093"/>
                </a:lnTo>
                <a:lnTo>
                  <a:pt x="829" y="3084"/>
                </a:lnTo>
                <a:lnTo>
                  <a:pt x="842" y="3074"/>
                </a:lnTo>
                <a:lnTo>
                  <a:pt x="855" y="3064"/>
                </a:lnTo>
                <a:lnTo>
                  <a:pt x="868" y="3052"/>
                </a:lnTo>
                <a:lnTo>
                  <a:pt x="881" y="3041"/>
                </a:lnTo>
                <a:lnTo>
                  <a:pt x="892" y="3028"/>
                </a:lnTo>
                <a:lnTo>
                  <a:pt x="905" y="3014"/>
                </a:lnTo>
                <a:lnTo>
                  <a:pt x="916" y="3000"/>
                </a:lnTo>
                <a:lnTo>
                  <a:pt x="928" y="2985"/>
                </a:lnTo>
                <a:lnTo>
                  <a:pt x="938" y="2971"/>
                </a:lnTo>
                <a:lnTo>
                  <a:pt x="949" y="2954"/>
                </a:lnTo>
                <a:lnTo>
                  <a:pt x="960" y="2938"/>
                </a:lnTo>
                <a:lnTo>
                  <a:pt x="970" y="2921"/>
                </a:lnTo>
                <a:lnTo>
                  <a:pt x="979" y="2903"/>
                </a:lnTo>
                <a:lnTo>
                  <a:pt x="999" y="2866"/>
                </a:lnTo>
                <a:lnTo>
                  <a:pt x="1016" y="2826"/>
                </a:lnTo>
                <a:lnTo>
                  <a:pt x="1076" y="2704"/>
                </a:lnTo>
                <a:lnTo>
                  <a:pt x="3136" y="2704"/>
                </a:lnTo>
                <a:lnTo>
                  <a:pt x="2582" y="3531"/>
                </a:lnTo>
                <a:lnTo>
                  <a:pt x="2577" y="3534"/>
                </a:lnTo>
                <a:lnTo>
                  <a:pt x="2572" y="3538"/>
                </a:lnTo>
                <a:lnTo>
                  <a:pt x="2566" y="3540"/>
                </a:lnTo>
                <a:lnTo>
                  <a:pt x="2557" y="3542"/>
                </a:lnTo>
                <a:lnTo>
                  <a:pt x="2539" y="3548"/>
                </a:lnTo>
                <a:lnTo>
                  <a:pt x="2516" y="3553"/>
                </a:lnTo>
                <a:lnTo>
                  <a:pt x="2487" y="3556"/>
                </a:lnTo>
                <a:lnTo>
                  <a:pt x="2455" y="3560"/>
                </a:lnTo>
                <a:lnTo>
                  <a:pt x="2417" y="3563"/>
                </a:lnTo>
                <a:lnTo>
                  <a:pt x="2376" y="3565"/>
                </a:lnTo>
                <a:lnTo>
                  <a:pt x="1877" y="2938"/>
                </a:lnTo>
                <a:lnTo>
                  <a:pt x="1008" y="2938"/>
                </a:lnTo>
                <a:lnTo>
                  <a:pt x="1507" y="3565"/>
                </a:lnTo>
                <a:lnTo>
                  <a:pt x="33" y="3565"/>
                </a:lnTo>
                <a:lnTo>
                  <a:pt x="126" y="4098"/>
                </a:lnTo>
                <a:lnTo>
                  <a:pt x="2750" y="4098"/>
                </a:lnTo>
                <a:lnTo>
                  <a:pt x="2781" y="4097"/>
                </a:lnTo>
                <a:lnTo>
                  <a:pt x="2812" y="4095"/>
                </a:lnTo>
                <a:lnTo>
                  <a:pt x="2843" y="4090"/>
                </a:lnTo>
                <a:lnTo>
                  <a:pt x="2872" y="4084"/>
                </a:lnTo>
                <a:lnTo>
                  <a:pt x="2902" y="4076"/>
                </a:lnTo>
                <a:lnTo>
                  <a:pt x="2929" y="4067"/>
                </a:lnTo>
                <a:lnTo>
                  <a:pt x="2957" y="4056"/>
                </a:lnTo>
                <a:lnTo>
                  <a:pt x="2983" y="4042"/>
                </a:lnTo>
                <a:lnTo>
                  <a:pt x="3010" y="4028"/>
                </a:lnTo>
                <a:lnTo>
                  <a:pt x="3035" y="4011"/>
                </a:lnTo>
                <a:lnTo>
                  <a:pt x="3060" y="3992"/>
                </a:lnTo>
                <a:lnTo>
                  <a:pt x="3084" y="3973"/>
                </a:lnTo>
                <a:lnTo>
                  <a:pt x="3107" y="3951"/>
                </a:lnTo>
                <a:lnTo>
                  <a:pt x="3130" y="3927"/>
                </a:lnTo>
                <a:lnTo>
                  <a:pt x="3152" y="3902"/>
                </a:lnTo>
                <a:lnTo>
                  <a:pt x="3174" y="3875"/>
                </a:lnTo>
                <a:lnTo>
                  <a:pt x="4013" y="2649"/>
                </a:lnTo>
                <a:lnTo>
                  <a:pt x="4013" y="2205"/>
                </a:lnTo>
                <a:close/>
              </a:path>
            </a:pathLst>
          </a:custGeom>
          <a:solidFill>
            <a:srgbClr val="41f141"/>
          </a:solidFill>
          <a:ln w="0">
            <a:noFill/>
          </a:ln>
          <a:effectLst>
            <a:outerShdw dist="17819" dir="2700000" blurRad="0" rotWithShape="0">
              <a:srgbClr val="269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600200" y="2743200"/>
            <a:ext cx="1273320" cy="1306440"/>
          </a:xfrm>
          <a:custGeom>
            <a:avLst/>
            <a:gdLst/>
            <a:ahLst/>
            <a:rect l="l" t="t" r="r" b="b"/>
            <a:pathLst>
              <a:path w="4008" h="4115">
                <a:moveTo>
                  <a:pt x="3899" y="1416"/>
                </a:moveTo>
                <a:lnTo>
                  <a:pt x="1842" y="1416"/>
                </a:lnTo>
                <a:lnTo>
                  <a:pt x="1842" y="1982"/>
                </a:lnTo>
                <a:lnTo>
                  <a:pt x="2985" y="1982"/>
                </a:lnTo>
                <a:lnTo>
                  <a:pt x="1784" y="3431"/>
                </a:lnTo>
                <a:lnTo>
                  <a:pt x="1770" y="3455"/>
                </a:lnTo>
                <a:lnTo>
                  <a:pt x="1758" y="3480"/>
                </a:lnTo>
                <a:lnTo>
                  <a:pt x="1746" y="3504"/>
                </a:lnTo>
                <a:lnTo>
                  <a:pt x="1737" y="3529"/>
                </a:lnTo>
                <a:lnTo>
                  <a:pt x="1729" y="3556"/>
                </a:lnTo>
                <a:lnTo>
                  <a:pt x="1722" y="3581"/>
                </a:lnTo>
                <a:lnTo>
                  <a:pt x="1717" y="3609"/>
                </a:lnTo>
                <a:lnTo>
                  <a:pt x="1714" y="3635"/>
                </a:lnTo>
                <a:lnTo>
                  <a:pt x="1712" y="3663"/>
                </a:lnTo>
                <a:lnTo>
                  <a:pt x="1710" y="3690"/>
                </a:lnTo>
                <a:lnTo>
                  <a:pt x="1712" y="3718"/>
                </a:lnTo>
                <a:lnTo>
                  <a:pt x="1714" y="3746"/>
                </a:lnTo>
                <a:lnTo>
                  <a:pt x="1717" y="3775"/>
                </a:lnTo>
                <a:lnTo>
                  <a:pt x="1723" y="3804"/>
                </a:lnTo>
                <a:lnTo>
                  <a:pt x="1729" y="3833"/>
                </a:lnTo>
                <a:lnTo>
                  <a:pt x="1737" y="3862"/>
                </a:lnTo>
                <a:lnTo>
                  <a:pt x="1743" y="3878"/>
                </a:lnTo>
                <a:lnTo>
                  <a:pt x="1748" y="3893"/>
                </a:lnTo>
                <a:lnTo>
                  <a:pt x="1755" y="3907"/>
                </a:lnTo>
                <a:lnTo>
                  <a:pt x="1762" y="3922"/>
                </a:lnTo>
                <a:lnTo>
                  <a:pt x="1769" y="3935"/>
                </a:lnTo>
                <a:lnTo>
                  <a:pt x="1777" y="3949"/>
                </a:lnTo>
                <a:lnTo>
                  <a:pt x="1786" y="3961"/>
                </a:lnTo>
                <a:lnTo>
                  <a:pt x="1795" y="3973"/>
                </a:lnTo>
                <a:lnTo>
                  <a:pt x="1805" y="3984"/>
                </a:lnTo>
                <a:lnTo>
                  <a:pt x="1815" y="3996"/>
                </a:lnTo>
                <a:lnTo>
                  <a:pt x="1826" y="4006"/>
                </a:lnTo>
                <a:lnTo>
                  <a:pt x="1837" y="4016"/>
                </a:lnTo>
                <a:lnTo>
                  <a:pt x="1849" y="4025"/>
                </a:lnTo>
                <a:lnTo>
                  <a:pt x="1862" y="4035"/>
                </a:lnTo>
                <a:lnTo>
                  <a:pt x="1875" y="4044"/>
                </a:lnTo>
                <a:lnTo>
                  <a:pt x="1888" y="4052"/>
                </a:lnTo>
                <a:lnTo>
                  <a:pt x="1902" y="4060"/>
                </a:lnTo>
                <a:lnTo>
                  <a:pt x="1917" y="4067"/>
                </a:lnTo>
                <a:lnTo>
                  <a:pt x="1932" y="4074"/>
                </a:lnTo>
                <a:lnTo>
                  <a:pt x="1947" y="4079"/>
                </a:lnTo>
                <a:lnTo>
                  <a:pt x="1964" y="4085"/>
                </a:lnTo>
                <a:lnTo>
                  <a:pt x="1980" y="4090"/>
                </a:lnTo>
                <a:lnTo>
                  <a:pt x="1997" y="4095"/>
                </a:lnTo>
                <a:lnTo>
                  <a:pt x="2016" y="4099"/>
                </a:lnTo>
                <a:lnTo>
                  <a:pt x="2034" y="4102"/>
                </a:lnTo>
                <a:lnTo>
                  <a:pt x="2054" y="4106"/>
                </a:lnTo>
                <a:lnTo>
                  <a:pt x="2073" y="4109"/>
                </a:lnTo>
                <a:lnTo>
                  <a:pt x="2093" y="4112"/>
                </a:lnTo>
                <a:lnTo>
                  <a:pt x="2135" y="4114"/>
                </a:lnTo>
                <a:lnTo>
                  <a:pt x="2179" y="4115"/>
                </a:lnTo>
                <a:lnTo>
                  <a:pt x="4008" y="4115"/>
                </a:lnTo>
                <a:lnTo>
                  <a:pt x="4008" y="3548"/>
                </a:lnTo>
                <a:lnTo>
                  <a:pt x="2741" y="3548"/>
                </a:lnTo>
                <a:lnTo>
                  <a:pt x="2726" y="3548"/>
                </a:lnTo>
                <a:lnTo>
                  <a:pt x="2714" y="3547"/>
                </a:lnTo>
                <a:lnTo>
                  <a:pt x="2702" y="3544"/>
                </a:lnTo>
                <a:lnTo>
                  <a:pt x="2692" y="3541"/>
                </a:lnTo>
                <a:lnTo>
                  <a:pt x="2682" y="3536"/>
                </a:lnTo>
                <a:lnTo>
                  <a:pt x="2673" y="3532"/>
                </a:lnTo>
                <a:lnTo>
                  <a:pt x="2667" y="3526"/>
                </a:lnTo>
                <a:lnTo>
                  <a:pt x="2661" y="3519"/>
                </a:lnTo>
                <a:lnTo>
                  <a:pt x="2656" y="3511"/>
                </a:lnTo>
                <a:lnTo>
                  <a:pt x="2653" y="3502"/>
                </a:lnTo>
                <a:lnTo>
                  <a:pt x="2651" y="3493"/>
                </a:lnTo>
                <a:lnTo>
                  <a:pt x="2649" y="3482"/>
                </a:lnTo>
                <a:lnTo>
                  <a:pt x="2649" y="3471"/>
                </a:lnTo>
                <a:lnTo>
                  <a:pt x="2651" y="3458"/>
                </a:lnTo>
                <a:lnTo>
                  <a:pt x="2654" y="3444"/>
                </a:lnTo>
                <a:lnTo>
                  <a:pt x="2657" y="3431"/>
                </a:lnTo>
                <a:lnTo>
                  <a:pt x="3899" y="1982"/>
                </a:lnTo>
                <a:lnTo>
                  <a:pt x="3899" y="1416"/>
                </a:lnTo>
                <a:close/>
                <a:moveTo>
                  <a:pt x="2547" y="823"/>
                </a:moveTo>
                <a:lnTo>
                  <a:pt x="4008" y="823"/>
                </a:lnTo>
                <a:lnTo>
                  <a:pt x="4008" y="256"/>
                </a:lnTo>
                <a:lnTo>
                  <a:pt x="2721" y="256"/>
                </a:lnTo>
                <a:lnTo>
                  <a:pt x="2800" y="0"/>
                </a:lnTo>
                <a:lnTo>
                  <a:pt x="2098" y="0"/>
                </a:lnTo>
                <a:lnTo>
                  <a:pt x="1926" y="534"/>
                </a:lnTo>
                <a:lnTo>
                  <a:pt x="1923" y="549"/>
                </a:lnTo>
                <a:lnTo>
                  <a:pt x="1918" y="564"/>
                </a:lnTo>
                <a:lnTo>
                  <a:pt x="1912" y="576"/>
                </a:lnTo>
                <a:lnTo>
                  <a:pt x="1906" y="589"/>
                </a:lnTo>
                <a:lnTo>
                  <a:pt x="1899" y="600"/>
                </a:lnTo>
                <a:lnTo>
                  <a:pt x="1891" y="611"/>
                </a:lnTo>
                <a:lnTo>
                  <a:pt x="1883" y="620"/>
                </a:lnTo>
                <a:lnTo>
                  <a:pt x="1873" y="628"/>
                </a:lnTo>
                <a:lnTo>
                  <a:pt x="1863" y="635"/>
                </a:lnTo>
                <a:lnTo>
                  <a:pt x="1853" y="642"/>
                </a:lnTo>
                <a:lnTo>
                  <a:pt x="1840" y="648"/>
                </a:lnTo>
                <a:lnTo>
                  <a:pt x="1829" y="651"/>
                </a:lnTo>
                <a:lnTo>
                  <a:pt x="1815" y="654"/>
                </a:lnTo>
                <a:lnTo>
                  <a:pt x="1801" y="657"/>
                </a:lnTo>
                <a:lnTo>
                  <a:pt x="1786" y="659"/>
                </a:lnTo>
                <a:lnTo>
                  <a:pt x="1771" y="659"/>
                </a:lnTo>
                <a:lnTo>
                  <a:pt x="1646" y="659"/>
                </a:lnTo>
                <a:lnTo>
                  <a:pt x="1746" y="1226"/>
                </a:lnTo>
                <a:lnTo>
                  <a:pt x="2090" y="1226"/>
                </a:lnTo>
                <a:lnTo>
                  <a:pt x="2111" y="1226"/>
                </a:lnTo>
                <a:lnTo>
                  <a:pt x="2131" y="1225"/>
                </a:lnTo>
                <a:lnTo>
                  <a:pt x="2150" y="1223"/>
                </a:lnTo>
                <a:lnTo>
                  <a:pt x="2170" y="1222"/>
                </a:lnTo>
                <a:lnTo>
                  <a:pt x="2188" y="1218"/>
                </a:lnTo>
                <a:lnTo>
                  <a:pt x="2206" y="1215"/>
                </a:lnTo>
                <a:lnTo>
                  <a:pt x="2225" y="1211"/>
                </a:lnTo>
                <a:lnTo>
                  <a:pt x="2242" y="1207"/>
                </a:lnTo>
                <a:lnTo>
                  <a:pt x="2258" y="1201"/>
                </a:lnTo>
                <a:lnTo>
                  <a:pt x="2275" y="1195"/>
                </a:lnTo>
                <a:lnTo>
                  <a:pt x="2291" y="1189"/>
                </a:lnTo>
                <a:lnTo>
                  <a:pt x="2306" y="1183"/>
                </a:lnTo>
                <a:lnTo>
                  <a:pt x="2321" y="1175"/>
                </a:lnTo>
                <a:lnTo>
                  <a:pt x="2336" y="1167"/>
                </a:lnTo>
                <a:lnTo>
                  <a:pt x="2350" y="1157"/>
                </a:lnTo>
                <a:lnTo>
                  <a:pt x="2364" y="1148"/>
                </a:lnTo>
                <a:lnTo>
                  <a:pt x="2377" y="1139"/>
                </a:lnTo>
                <a:lnTo>
                  <a:pt x="2390" y="1127"/>
                </a:lnTo>
                <a:lnTo>
                  <a:pt x="2403" y="1117"/>
                </a:lnTo>
                <a:lnTo>
                  <a:pt x="2414" y="1105"/>
                </a:lnTo>
                <a:lnTo>
                  <a:pt x="2426" y="1093"/>
                </a:lnTo>
                <a:lnTo>
                  <a:pt x="2437" y="1079"/>
                </a:lnTo>
                <a:lnTo>
                  <a:pt x="2447" y="1065"/>
                </a:lnTo>
                <a:lnTo>
                  <a:pt x="2458" y="1052"/>
                </a:lnTo>
                <a:lnTo>
                  <a:pt x="2467" y="1037"/>
                </a:lnTo>
                <a:lnTo>
                  <a:pt x="2476" y="1021"/>
                </a:lnTo>
                <a:lnTo>
                  <a:pt x="2485" y="1006"/>
                </a:lnTo>
                <a:lnTo>
                  <a:pt x="2493" y="989"/>
                </a:lnTo>
                <a:lnTo>
                  <a:pt x="2501" y="971"/>
                </a:lnTo>
                <a:lnTo>
                  <a:pt x="2509" y="953"/>
                </a:lnTo>
                <a:lnTo>
                  <a:pt x="2516" y="935"/>
                </a:lnTo>
                <a:lnTo>
                  <a:pt x="2523" y="916"/>
                </a:lnTo>
                <a:lnTo>
                  <a:pt x="2547" y="823"/>
                </a:lnTo>
                <a:close/>
                <a:moveTo>
                  <a:pt x="1541" y="3703"/>
                </a:moveTo>
                <a:lnTo>
                  <a:pt x="1541" y="71"/>
                </a:lnTo>
                <a:lnTo>
                  <a:pt x="1222" y="71"/>
                </a:lnTo>
                <a:lnTo>
                  <a:pt x="906" y="71"/>
                </a:lnTo>
                <a:lnTo>
                  <a:pt x="634" y="71"/>
                </a:lnTo>
                <a:lnTo>
                  <a:pt x="315" y="71"/>
                </a:lnTo>
                <a:lnTo>
                  <a:pt x="0" y="71"/>
                </a:lnTo>
                <a:lnTo>
                  <a:pt x="0" y="3548"/>
                </a:lnTo>
                <a:lnTo>
                  <a:pt x="0" y="3829"/>
                </a:lnTo>
                <a:lnTo>
                  <a:pt x="0" y="4115"/>
                </a:lnTo>
                <a:lnTo>
                  <a:pt x="1130" y="4115"/>
                </a:lnTo>
                <a:lnTo>
                  <a:pt x="1154" y="4115"/>
                </a:lnTo>
                <a:lnTo>
                  <a:pt x="1179" y="4114"/>
                </a:lnTo>
                <a:lnTo>
                  <a:pt x="1202" y="4112"/>
                </a:lnTo>
                <a:lnTo>
                  <a:pt x="1225" y="4108"/>
                </a:lnTo>
                <a:lnTo>
                  <a:pt x="1247" y="4105"/>
                </a:lnTo>
                <a:lnTo>
                  <a:pt x="1267" y="4100"/>
                </a:lnTo>
                <a:lnTo>
                  <a:pt x="1288" y="4095"/>
                </a:lnTo>
                <a:lnTo>
                  <a:pt x="1308" y="4090"/>
                </a:lnTo>
                <a:lnTo>
                  <a:pt x="1326" y="4083"/>
                </a:lnTo>
                <a:lnTo>
                  <a:pt x="1344" y="4075"/>
                </a:lnTo>
                <a:lnTo>
                  <a:pt x="1362" y="4067"/>
                </a:lnTo>
                <a:lnTo>
                  <a:pt x="1378" y="4056"/>
                </a:lnTo>
                <a:lnTo>
                  <a:pt x="1394" y="4047"/>
                </a:lnTo>
                <a:lnTo>
                  <a:pt x="1409" y="4036"/>
                </a:lnTo>
                <a:lnTo>
                  <a:pt x="1422" y="4024"/>
                </a:lnTo>
                <a:lnTo>
                  <a:pt x="1435" y="4012"/>
                </a:lnTo>
                <a:lnTo>
                  <a:pt x="1448" y="3999"/>
                </a:lnTo>
                <a:lnTo>
                  <a:pt x="1459" y="3984"/>
                </a:lnTo>
                <a:lnTo>
                  <a:pt x="1471" y="3969"/>
                </a:lnTo>
                <a:lnTo>
                  <a:pt x="1481" y="3954"/>
                </a:lnTo>
                <a:lnTo>
                  <a:pt x="1490" y="3937"/>
                </a:lnTo>
                <a:lnTo>
                  <a:pt x="1498" y="3920"/>
                </a:lnTo>
                <a:lnTo>
                  <a:pt x="1506" y="3903"/>
                </a:lnTo>
                <a:lnTo>
                  <a:pt x="1513" y="3883"/>
                </a:lnTo>
                <a:lnTo>
                  <a:pt x="1519" y="3864"/>
                </a:lnTo>
                <a:lnTo>
                  <a:pt x="1525" y="3843"/>
                </a:lnTo>
                <a:lnTo>
                  <a:pt x="1529" y="3821"/>
                </a:lnTo>
                <a:lnTo>
                  <a:pt x="1533" y="3799"/>
                </a:lnTo>
                <a:lnTo>
                  <a:pt x="1536" y="3776"/>
                </a:lnTo>
                <a:lnTo>
                  <a:pt x="1538" y="3753"/>
                </a:lnTo>
                <a:lnTo>
                  <a:pt x="1539" y="3728"/>
                </a:lnTo>
                <a:lnTo>
                  <a:pt x="1541" y="3703"/>
                </a:lnTo>
                <a:close/>
                <a:moveTo>
                  <a:pt x="634" y="638"/>
                </a:moveTo>
                <a:lnTo>
                  <a:pt x="906" y="638"/>
                </a:lnTo>
                <a:lnTo>
                  <a:pt x="906" y="3443"/>
                </a:lnTo>
                <a:lnTo>
                  <a:pt x="906" y="3456"/>
                </a:lnTo>
                <a:lnTo>
                  <a:pt x="905" y="3467"/>
                </a:lnTo>
                <a:lnTo>
                  <a:pt x="902" y="3479"/>
                </a:lnTo>
                <a:lnTo>
                  <a:pt x="900" y="3489"/>
                </a:lnTo>
                <a:lnTo>
                  <a:pt x="897" y="3498"/>
                </a:lnTo>
                <a:lnTo>
                  <a:pt x="892" y="3508"/>
                </a:lnTo>
                <a:lnTo>
                  <a:pt x="886" y="3515"/>
                </a:lnTo>
                <a:lnTo>
                  <a:pt x="881" y="3521"/>
                </a:lnTo>
                <a:lnTo>
                  <a:pt x="874" y="3528"/>
                </a:lnTo>
                <a:lnTo>
                  <a:pt x="866" y="3533"/>
                </a:lnTo>
                <a:lnTo>
                  <a:pt x="856" y="3537"/>
                </a:lnTo>
                <a:lnTo>
                  <a:pt x="847" y="3542"/>
                </a:lnTo>
                <a:lnTo>
                  <a:pt x="837" y="3544"/>
                </a:lnTo>
                <a:lnTo>
                  <a:pt x="827" y="3547"/>
                </a:lnTo>
                <a:lnTo>
                  <a:pt x="814" y="3548"/>
                </a:lnTo>
                <a:lnTo>
                  <a:pt x="801" y="3548"/>
                </a:lnTo>
                <a:lnTo>
                  <a:pt x="634" y="3548"/>
                </a:lnTo>
                <a:lnTo>
                  <a:pt x="634" y="638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8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438280" y="4343400"/>
            <a:ext cx="1309680" cy="1279440"/>
          </a:xfrm>
          <a:custGeom>
            <a:avLst/>
            <a:gdLst/>
            <a:ahLst/>
            <a:rect l="l" t="t" r="r" b="b"/>
            <a:pathLst>
              <a:path w="4125" h="4030">
                <a:moveTo>
                  <a:pt x="235" y="3259"/>
                </a:moveTo>
                <a:lnTo>
                  <a:pt x="3563" y="3259"/>
                </a:lnTo>
                <a:lnTo>
                  <a:pt x="3588" y="3258"/>
                </a:lnTo>
                <a:lnTo>
                  <a:pt x="3612" y="3256"/>
                </a:lnTo>
                <a:lnTo>
                  <a:pt x="3636" y="3254"/>
                </a:lnTo>
                <a:lnTo>
                  <a:pt x="3658" y="3252"/>
                </a:lnTo>
                <a:lnTo>
                  <a:pt x="3681" y="3248"/>
                </a:lnTo>
                <a:lnTo>
                  <a:pt x="3702" y="3244"/>
                </a:lnTo>
                <a:lnTo>
                  <a:pt x="3722" y="3238"/>
                </a:lnTo>
                <a:lnTo>
                  <a:pt x="3742" y="3232"/>
                </a:lnTo>
                <a:lnTo>
                  <a:pt x="3760" y="3225"/>
                </a:lnTo>
                <a:lnTo>
                  <a:pt x="3779" y="3219"/>
                </a:lnTo>
                <a:lnTo>
                  <a:pt x="3796" y="3209"/>
                </a:lnTo>
                <a:lnTo>
                  <a:pt x="3812" y="3200"/>
                </a:lnTo>
                <a:lnTo>
                  <a:pt x="3828" y="3190"/>
                </a:lnTo>
                <a:lnTo>
                  <a:pt x="3843" y="3179"/>
                </a:lnTo>
                <a:lnTo>
                  <a:pt x="3857" y="3168"/>
                </a:lnTo>
                <a:lnTo>
                  <a:pt x="3869" y="3155"/>
                </a:lnTo>
                <a:lnTo>
                  <a:pt x="3882" y="3142"/>
                </a:lnTo>
                <a:lnTo>
                  <a:pt x="3893" y="3128"/>
                </a:lnTo>
                <a:lnTo>
                  <a:pt x="3905" y="3113"/>
                </a:lnTo>
                <a:lnTo>
                  <a:pt x="3915" y="3097"/>
                </a:lnTo>
                <a:lnTo>
                  <a:pt x="3924" y="3081"/>
                </a:lnTo>
                <a:lnTo>
                  <a:pt x="3932" y="3064"/>
                </a:lnTo>
                <a:lnTo>
                  <a:pt x="3940" y="3045"/>
                </a:lnTo>
                <a:lnTo>
                  <a:pt x="3947" y="3027"/>
                </a:lnTo>
                <a:lnTo>
                  <a:pt x="3953" y="3007"/>
                </a:lnTo>
                <a:lnTo>
                  <a:pt x="3959" y="2987"/>
                </a:lnTo>
                <a:lnTo>
                  <a:pt x="3963" y="2965"/>
                </a:lnTo>
                <a:lnTo>
                  <a:pt x="3967" y="2943"/>
                </a:lnTo>
                <a:lnTo>
                  <a:pt x="3970" y="2920"/>
                </a:lnTo>
                <a:lnTo>
                  <a:pt x="3973" y="2897"/>
                </a:lnTo>
                <a:lnTo>
                  <a:pt x="3974" y="2872"/>
                </a:lnTo>
                <a:lnTo>
                  <a:pt x="3974" y="2847"/>
                </a:lnTo>
                <a:lnTo>
                  <a:pt x="3974" y="1079"/>
                </a:lnTo>
                <a:lnTo>
                  <a:pt x="3621" y="1079"/>
                </a:lnTo>
                <a:lnTo>
                  <a:pt x="3425" y="1079"/>
                </a:lnTo>
                <a:lnTo>
                  <a:pt x="3572" y="773"/>
                </a:lnTo>
                <a:lnTo>
                  <a:pt x="3572" y="239"/>
                </a:lnTo>
                <a:lnTo>
                  <a:pt x="3152" y="239"/>
                </a:lnTo>
                <a:lnTo>
                  <a:pt x="2736" y="239"/>
                </a:lnTo>
                <a:lnTo>
                  <a:pt x="1465" y="239"/>
                </a:lnTo>
                <a:lnTo>
                  <a:pt x="1574" y="0"/>
                </a:lnTo>
                <a:lnTo>
                  <a:pt x="738" y="0"/>
                </a:lnTo>
                <a:lnTo>
                  <a:pt x="452" y="689"/>
                </a:lnTo>
                <a:lnTo>
                  <a:pt x="444" y="707"/>
                </a:lnTo>
                <a:lnTo>
                  <a:pt x="435" y="725"/>
                </a:lnTo>
                <a:lnTo>
                  <a:pt x="425" y="742"/>
                </a:lnTo>
                <a:lnTo>
                  <a:pt x="414" y="757"/>
                </a:lnTo>
                <a:lnTo>
                  <a:pt x="403" y="771"/>
                </a:lnTo>
                <a:lnTo>
                  <a:pt x="390" y="783"/>
                </a:lnTo>
                <a:lnTo>
                  <a:pt x="378" y="795"/>
                </a:lnTo>
                <a:lnTo>
                  <a:pt x="365" y="805"/>
                </a:lnTo>
                <a:lnTo>
                  <a:pt x="350" y="814"/>
                </a:lnTo>
                <a:lnTo>
                  <a:pt x="336" y="822"/>
                </a:lnTo>
                <a:lnTo>
                  <a:pt x="320" y="829"/>
                </a:lnTo>
                <a:lnTo>
                  <a:pt x="305" y="835"/>
                </a:lnTo>
                <a:lnTo>
                  <a:pt x="288" y="838"/>
                </a:lnTo>
                <a:lnTo>
                  <a:pt x="271" y="842"/>
                </a:lnTo>
                <a:lnTo>
                  <a:pt x="254" y="844"/>
                </a:lnTo>
                <a:lnTo>
                  <a:pt x="235" y="844"/>
                </a:lnTo>
                <a:lnTo>
                  <a:pt x="0" y="844"/>
                </a:lnTo>
                <a:lnTo>
                  <a:pt x="100" y="1411"/>
                </a:lnTo>
                <a:lnTo>
                  <a:pt x="235" y="1411"/>
                </a:lnTo>
                <a:lnTo>
                  <a:pt x="235" y="2725"/>
                </a:lnTo>
                <a:lnTo>
                  <a:pt x="235" y="2990"/>
                </a:lnTo>
                <a:lnTo>
                  <a:pt x="235" y="3259"/>
                </a:lnTo>
                <a:close/>
                <a:moveTo>
                  <a:pt x="2736" y="773"/>
                </a:moveTo>
                <a:lnTo>
                  <a:pt x="2589" y="1079"/>
                </a:lnTo>
                <a:lnTo>
                  <a:pt x="1100" y="1079"/>
                </a:lnTo>
                <a:lnTo>
                  <a:pt x="1105" y="1067"/>
                </a:lnTo>
                <a:lnTo>
                  <a:pt x="1112" y="1054"/>
                </a:lnTo>
                <a:lnTo>
                  <a:pt x="1118" y="1042"/>
                </a:lnTo>
                <a:lnTo>
                  <a:pt x="1125" y="1029"/>
                </a:lnTo>
                <a:lnTo>
                  <a:pt x="1234" y="773"/>
                </a:lnTo>
                <a:lnTo>
                  <a:pt x="2736" y="773"/>
                </a:lnTo>
                <a:close/>
                <a:moveTo>
                  <a:pt x="3274" y="2435"/>
                </a:moveTo>
                <a:lnTo>
                  <a:pt x="3274" y="2620"/>
                </a:lnTo>
                <a:lnTo>
                  <a:pt x="3274" y="2633"/>
                </a:lnTo>
                <a:lnTo>
                  <a:pt x="3272" y="2644"/>
                </a:lnTo>
                <a:lnTo>
                  <a:pt x="3270" y="2656"/>
                </a:lnTo>
                <a:lnTo>
                  <a:pt x="3267" y="2666"/>
                </a:lnTo>
                <a:lnTo>
                  <a:pt x="3263" y="2675"/>
                </a:lnTo>
                <a:lnTo>
                  <a:pt x="3259" y="2683"/>
                </a:lnTo>
                <a:lnTo>
                  <a:pt x="3253" y="2692"/>
                </a:lnTo>
                <a:lnTo>
                  <a:pt x="3247" y="2698"/>
                </a:lnTo>
                <a:lnTo>
                  <a:pt x="3240" y="2705"/>
                </a:lnTo>
                <a:lnTo>
                  <a:pt x="3232" y="2710"/>
                </a:lnTo>
                <a:lnTo>
                  <a:pt x="3224" y="2714"/>
                </a:lnTo>
                <a:lnTo>
                  <a:pt x="3214" y="2719"/>
                </a:lnTo>
                <a:lnTo>
                  <a:pt x="3204" y="2721"/>
                </a:lnTo>
                <a:lnTo>
                  <a:pt x="3193" y="2724"/>
                </a:lnTo>
                <a:lnTo>
                  <a:pt x="3181" y="2725"/>
                </a:lnTo>
                <a:lnTo>
                  <a:pt x="3168" y="2725"/>
                </a:lnTo>
                <a:lnTo>
                  <a:pt x="2430" y="2725"/>
                </a:lnTo>
                <a:lnTo>
                  <a:pt x="2430" y="2435"/>
                </a:lnTo>
                <a:lnTo>
                  <a:pt x="3274" y="2435"/>
                </a:lnTo>
                <a:close/>
                <a:moveTo>
                  <a:pt x="1729" y="2435"/>
                </a:moveTo>
                <a:lnTo>
                  <a:pt x="1729" y="2725"/>
                </a:lnTo>
                <a:lnTo>
                  <a:pt x="935" y="2725"/>
                </a:lnTo>
                <a:lnTo>
                  <a:pt x="935" y="2435"/>
                </a:lnTo>
                <a:lnTo>
                  <a:pt x="1729" y="2435"/>
                </a:lnTo>
                <a:close/>
                <a:moveTo>
                  <a:pt x="2430" y="1936"/>
                </a:moveTo>
                <a:lnTo>
                  <a:pt x="2430" y="1612"/>
                </a:lnTo>
                <a:lnTo>
                  <a:pt x="3274" y="1612"/>
                </a:lnTo>
                <a:lnTo>
                  <a:pt x="3274" y="1936"/>
                </a:lnTo>
                <a:lnTo>
                  <a:pt x="2430" y="1936"/>
                </a:lnTo>
                <a:close/>
                <a:moveTo>
                  <a:pt x="935" y="1936"/>
                </a:moveTo>
                <a:lnTo>
                  <a:pt x="935" y="1612"/>
                </a:lnTo>
                <a:lnTo>
                  <a:pt x="1729" y="1612"/>
                </a:lnTo>
                <a:lnTo>
                  <a:pt x="1729" y="1936"/>
                </a:lnTo>
                <a:lnTo>
                  <a:pt x="935" y="1936"/>
                </a:lnTo>
                <a:close/>
                <a:moveTo>
                  <a:pt x="29" y="3464"/>
                </a:moveTo>
                <a:lnTo>
                  <a:pt x="29" y="4030"/>
                </a:lnTo>
                <a:lnTo>
                  <a:pt x="4125" y="4030"/>
                </a:lnTo>
                <a:lnTo>
                  <a:pt x="4125" y="3464"/>
                </a:lnTo>
                <a:lnTo>
                  <a:pt x="29" y="3464"/>
                </a:lnTo>
                <a:close/>
              </a:path>
            </a:pathLst>
          </a:custGeom>
          <a:solidFill>
            <a:srgbClr val="0000cc"/>
          </a:solidFill>
          <a:ln w="0">
            <a:noFill/>
          </a:ln>
          <a:effectLst>
            <a:outerShdw dist="17819" dir="2700000" blurRad="0" rotWithShape="0">
              <a:srgbClr val="00007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248520" y="2209680"/>
            <a:ext cx="1303200" cy="1301760"/>
          </a:xfrm>
          <a:custGeom>
            <a:avLst/>
            <a:gdLst/>
            <a:ahLst/>
            <a:rect l="l" t="t" r="r" b="b"/>
            <a:pathLst>
              <a:path w="4106" h="4098">
                <a:moveTo>
                  <a:pt x="3720" y="1159"/>
                </a:moveTo>
                <a:lnTo>
                  <a:pt x="3120" y="1159"/>
                </a:lnTo>
                <a:lnTo>
                  <a:pt x="3329" y="2851"/>
                </a:lnTo>
                <a:lnTo>
                  <a:pt x="3336" y="2873"/>
                </a:lnTo>
                <a:lnTo>
                  <a:pt x="3344" y="2894"/>
                </a:lnTo>
                <a:lnTo>
                  <a:pt x="3351" y="2914"/>
                </a:lnTo>
                <a:lnTo>
                  <a:pt x="3359" y="2934"/>
                </a:lnTo>
                <a:lnTo>
                  <a:pt x="3368" y="2953"/>
                </a:lnTo>
                <a:lnTo>
                  <a:pt x="3377" y="2972"/>
                </a:lnTo>
                <a:lnTo>
                  <a:pt x="3386" y="2990"/>
                </a:lnTo>
                <a:lnTo>
                  <a:pt x="3397" y="3006"/>
                </a:lnTo>
                <a:lnTo>
                  <a:pt x="3407" y="3023"/>
                </a:lnTo>
                <a:lnTo>
                  <a:pt x="3417" y="3038"/>
                </a:lnTo>
                <a:lnTo>
                  <a:pt x="3429" y="3053"/>
                </a:lnTo>
                <a:lnTo>
                  <a:pt x="3440" y="3068"/>
                </a:lnTo>
                <a:lnTo>
                  <a:pt x="3453" y="3082"/>
                </a:lnTo>
                <a:lnTo>
                  <a:pt x="3466" y="3095"/>
                </a:lnTo>
                <a:lnTo>
                  <a:pt x="3478" y="3107"/>
                </a:lnTo>
                <a:lnTo>
                  <a:pt x="3492" y="3119"/>
                </a:lnTo>
                <a:lnTo>
                  <a:pt x="3506" y="3129"/>
                </a:lnTo>
                <a:lnTo>
                  <a:pt x="3521" y="3139"/>
                </a:lnTo>
                <a:lnTo>
                  <a:pt x="3536" y="3148"/>
                </a:lnTo>
                <a:lnTo>
                  <a:pt x="3550" y="3158"/>
                </a:lnTo>
                <a:lnTo>
                  <a:pt x="3567" y="3166"/>
                </a:lnTo>
                <a:lnTo>
                  <a:pt x="3583" y="3173"/>
                </a:lnTo>
                <a:lnTo>
                  <a:pt x="3600" y="3179"/>
                </a:lnTo>
                <a:lnTo>
                  <a:pt x="3617" y="3185"/>
                </a:lnTo>
                <a:lnTo>
                  <a:pt x="3634" y="3190"/>
                </a:lnTo>
                <a:lnTo>
                  <a:pt x="3653" y="3194"/>
                </a:lnTo>
                <a:lnTo>
                  <a:pt x="3671" y="3199"/>
                </a:lnTo>
                <a:lnTo>
                  <a:pt x="3689" y="3201"/>
                </a:lnTo>
                <a:lnTo>
                  <a:pt x="3709" y="3205"/>
                </a:lnTo>
                <a:lnTo>
                  <a:pt x="3730" y="3206"/>
                </a:lnTo>
                <a:lnTo>
                  <a:pt x="3749" y="3207"/>
                </a:lnTo>
                <a:lnTo>
                  <a:pt x="3770" y="3207"/>
                </a:lnTo>
                <a:lnTo>
                  <a:pt x="4106" y="3207"/>
                </a:lnTo>
                <a:lnTo>
                  <a:pt x="4106" y="2641"/>
                </a:lnTo>
                <a:lnTo>
                  <a:pt x="4043" y="2641"/>
                </a:lnTo>
                <a:lnTo>
                  <a:pt x="4029" y="2640"/>
                </a:lnTo>
                <a:lnTo>
                  <a:pt x="4015" y="2639"/>
                </a:lnTo>
                <a:lnTo>
                  <a:pt x="4002" y="2638"/>
                </a:lnTo>
                <a:lnTo>
                  <a:pt x="3990" y="2635"/>
                </a:lnTo>
                <a:lnTo>
                  <a:pt x="3979" y="2632"/>
                </a:lnTo>
                <a:lnTo>
                  <a:pt x="3967" y="2628"/>
                </a:lnTo>
                <a:lnTo>
                  <a:pt x="3957" y="2624"/>
                </a:lnTo>
                <a:lnTo>
                  <a:pt x="3948" y="2618"/>
                </a:lnTo>
                <a:lnTo>
                  <a:pt x="3938" y="2612"/>
                </a:lnTo>
                <a:lnTo>
                  <a:pt x="3930" y="2607"/>
                </a:lnTo>
                <a:lnTo>
                  <a:pt x="3923" y="2599"/>
                </a:lnTo>
                <a:lnTo>
                  <a:pt x="3917" y="2590"/>
                </a:lnTo>
                <a:lnTo>
                  <a:pt x="3910" y="2582"/>
                </a:lnTo>
                <a:lnTo>
                  <a:pt x="3905" y="2573"/>
                </a:lnTo>
                <a:lnTo>
                  <a:pt x="3901" y="2563"/>
                </a:lnTo>
                <a:lnTo>
                  <a:pt x="3896" y="2553"/>
                </a:lnTo>
                <a:lnTo>
                  <a:pt x="3720" y="1159"/>
                </a:lnTo>
                <a:close/>
                <a:moveTo>
                  <a:pt x="2381" y="655"/>
                </a:moveTo>
                <a:lnTo>
                  <a:pt x="2381" y="4098"/>
                </a:lnTo>
                <a:lnTo>
                  <a:pt x="3082" y="4098"/>
                </a:lnTo>
                <a:lnTo>
                  <a:pt x="3082" y="655"/>
                </a:lnTo>
                <a:lnTo>
                  <a:pt x="4106" y="655"/>
                </a:lnTo>
                <a:lnTo>
                  <a:pt x="4106" y="89"/>
                </a:lnTo>
                <a:lnTo>
                  <a:pt x="1738" y="89"/>
                </a:lnTo>
                <a:lnTo>
                  <a:pt x="1738" y="256"/>
                </a:lnTo>
                <a:lnTo>
                  <a:pt x="1638" y="256"/>
                </a:lnTo>
                <a:lnTo>
                  <a:pt x="1458" y="256"/>
                </a:lnTo>
                <a:lnTo>
                  <a:pt x="1269" y="256"/>
                </a:lnTo>
                <a:lnTo>
                  <a:pt x="1269" y="0"/>
                </a:lnTo>
                <a:lnTo>
                  <a:pt x="601" y="0"/>
                </a:lnTo>
                <a:lnTo>
                  <a:pt x="601" y="256"/>
                </a:lnTo>
                <a:lnTo>
                  <a:pt x="428" y="256"/>
                </a:lnTo>
                <a:lnTo>
                  <a:pt x="244" y="256"/>
                </a:lnTo>
                <a:lnTo>
                  <a:pt x="63" y="256"/>
                </a:lnTo>
                <a:lnTo>
                  <a:pt x="63" y="2473"/>
                </a:lnTo>
                <a:lnTo>
                  <a:pt x="63" y="2755"/>
                </a:lnTo>
                <a:lnTo>
                  <a:pt x="63" y="3039"/>
                </a:lnTo>
                <a:lnTo>
                  <a:pt x="601" y="3039"/>
                </a:lnTo>
                <a:lnTo>
                  <a:pt x="601" y="3531"/>
                </a:lnTo>
                <a:lnTo>
                  <a:pt x="0" y="3531"/>
                </a:lnTo>
                <a:lnTo>
                  <a:pt x="93" y="4098"/>
                </a:lnTo>
                <a:lnTo>
                  <a:pt x="1533" y="4098"/>
                </a:lnTo>
                <a:lnTo>
                  <a:pt x="1551" y="4098"/>
                </a:lnTo>
                <a:lnTo>
                  <a:pt x="1569" y="4096"/>
                </a:lnTo>
                <a:lnTo>
                  <a:pt x="1588" y="4095"/>
                </a:lnTo>
                <a:lnTo>
                  <a:pt x="1605" y="4091"/>
                </a:lnTo>
                <a:lnTo>
                  <a:pt x="1622" y="4087"/>
                </a:lnTo>
                <a:lnTo>
                  <a:pt x="1639" y="4082"/>
                </a:lnTo>
                <a:lnTo>
                  <a:pt x="1655" y="4076"/>
                </a:lnTo>
                <a:lnTo>
                  <a:pt x="1671" y="4069"/>
                </a:lnTo>
                <a:lnTo>
                  <a:pt x="1688" y="4062"/>
                </a:lnTo>
                <a:lnTo>
                  <a:pt x="1702" y="4053"/>
                </a:lnTo>
                <a:lnTo>
                  <a:pt x="1717" y="4044"/>
                </a:lnTo>
                <a:lnTo>
                  <a:pt x="1731" y="4034"/>
                </a:lnTo>
                <a:lnTo>
                  <a:pt x="1745" y="4023"/>
                </a:lnTo>
                <a:lnTo>
                  <a:pt x="1759" y="4011"/>
                </a:lnTo>
                <a:lnTo>
                  <a:pt x="1772" y="3998"/>
                </a:lnTo>
                <a:lnTo>
                  <a:pt x="1785" y="3984"/>
                </a:lnTo>
                <a:lnTo>
                  <a:pt x="1795" y="3971"/>
                </a:lnTo>
                <a:lnTo>
                  <a:pt x="1806" y="3958"/>
                </a:lnTo>
                <a:lnTo>
                  <a:pt x="1815" y="3944"/>
                </a:lnTo>
                <a:lnTo>
                  <a:pt x="1823" y="3930"/>
                </a:lnTo>
                <a:lnTo>
                  <a:pt x="1831" y="3917"/>
                </a:lnTo>
                <a:lnTo>
                  <a:pt x="1839" y="3903"/>
                </a:lnTo>
                <a:lnTo>
                  <a:pt x="1845" y="3889"/>
                </a:lnTo>
                <a:lnTo>
                  <a:pt x="1851" y="3875"/>
                </a:lnTo>
                <a:lnTo>
                  <a:pt x="1856" y="3861"/>
                </a:lnTo>
                <a:lnTo>
                  <a:pt x="1861" y="3847"/>
                </a:lnTo>
                <a:lnTo>
                  <a:pt x="1864" y="3832"/>
                </a:lnTo>
                <a:lnTo>
                  <a:pt x="1868" y="3818"/>
                </a:lnTo>
                <a:lnTo>
                  <a:pt x="1870" y="3803"/>
                </a:lnTo>
                <a:lnTo>
                  <a:pt x="1871" y="3788"/>
                </a:lnTo>
                <a:lnTo>
                  <a:pt x="1872" y="3773"/>
                </a:lnTo>
                <a:lnTo>
                  <a:pt x="1874" y="3758"/>
                </a:lnTo>
                <a:lnTo>
                  <a:pt x="1874" y="3224"/>
                </a:lnTo>
                <a:lnTo>
                  <a:pt x="1441" y="3224"/>
                </a:lnTo>
                <a:lnTo>
                  <a:pt x="1441" y="3406"/>
                </a:lnTo>
                <a:lnTo>
                  <a:pt x="1440" y="3418"/>
                </a:lnTo>
                <a:lnTo>
                  <a:pt x="1438" y="3431"/>
                </a:lnTo>
                <a:lnTo>
                  <a:pt x="1436" y="3444"/>
                </a:lnTo>
                <a:lnTo>
                  <a:pt x="1433" y="3455"/>
                </a:lnTo>
                <a:lnTo>
                  <a:pt x="1429" y="3465"/>
                </a:lnTo>
                <a:lnTo>
                  <a:pt x="1424" y="3476"/>
                </a:lnTo>
                <a:lnTo>
                  <a:pt x="1418" y="3485"/>
                </a:lnTo>
                <a:lnTo>
                  <a:pt x="1411" y="3493"/>
                </a:lnTo>
                <a:lnTo>
                  <a:pt x="1403" y="3502"/>
                </a:lnTo>
                <a:lnTo>
                  <a:pt x="1394" y="3510"/>
                </a:lnTo>
                <a:lnTo>
                  <a:pt x="1383" y="3516"/>
                </a:lnTo>
                <a:lnTo>
                  <a:pt x="1372" y="3522"/>
                </a:lnTo>
                <a:lnTo>
                  <a:pt x="1359" y="3526"/>
                </a:lnTo>
                <a:lnTo>
                  <a:pt x="1346" y="3529"/>
                </a:lnTo>
                <a:lnTo>
                  <a:pt x="1331" y="3531"/>
                </a:lnTo>
                <a:lnTo>
                  <a:pt x="1315" y="3531"/>
                </a:lnTo>
                <a:lnTo>
                  <a:pt x="1269" y="3531"/>
                </a:lnTo>
                <a:lnTo>
                  <a:pt x="1269" y="3039"/>
                </a:lnTo>
                <a:lnTo>
                  <a:pt x="1411" y="3039"/>
                </a:lnTo>
                <a:lnTo>
                  <a:pt x="1436" y="3039"/>
                </a:lnTo>
                <a:lnTo>
                  <a:pt x="1460" y="3038"/>
                </a:lnTo>
                <a:lnTo>
                  <a:pt x="1483" y="3036"/>
                </a:lnTo>
                <a:lnTo>
                  <a:pt x="1506" y="3034"/>
                </a:lnTo>
                <a:lnTo>
                  <a:pt x="1528" y="3030"/>
                </a:lnTo>
                <a:lnTo>
                  <a:pt x="1550" y="3026"/>
                </a:lnTo>
                <a:lnTo>
                  <a:pt x="1569" y="3020"/>
                </a:lnTo>
                <a:lnTo>
                  <a:pt x="1590" y="3014"/>
                </a:lnTo>
                <a:lnTo>
                  <a:pt x="1608" y="3007"/>
                </a:lnTo>
                <a:lnTo>
                  <a:pt x="1627" y="2999"/>
                </a:lnTo>
                <a:lnTo>
                  <a:pt x="1644" y="2991"/>
                </a:lnTo>
                <a:lnTo>
                  <a:pt x="1660" y="2982"/>
                </a:lnTo>
                <a:lnTo>
                  <a:pt x="1675" y="2972"/>
                </a:lnTo>
                <a:lnTo>
                  <a:pt x="1690" y="2961"/>
                </a:lnTo>
                <a:lnTo>
                  <a:pt x="1705" y="2950"/>
                </a:lnTo>
                <a:lnTo>
                  <a:pt x="1717" y="2937"/>
                </a:lnTo>
                <a:lnTo>
                  <a:pt x="1730" y="2923"/>
                </a:lnTo>
                <a:lnTo>
                  <a:pt x="1742" y="2910"/>
                </a:lnTo>
                <a:lnTo>
                  <a:pt x="1753" y="2895"/>
                </a:lnTo>
                <a:lnTo>
                  <a:pt x="1762" y="2879"/>
                </a:lnTo>
                <a:lnTo>
                  <a:pt x="1772" y="2863"/>
                </a:lnTo>
                <a:lnTo>
                  <a:pt x="1781" y="2845"/>
                </a:lnTo>
                <a:lnTo>
                  <a:pt x="1789" y="2827"/>
                </a:lnTo>
                <a:lnTo>
                  <a:pt x="1795" y="2809"/>
                </a:lnTo>
                <a:lnTo>
                  <a:pt x="1801" y="2789"/>
                </a:lnTo>
                <a:lnTo>
                  <a:pt x="1807" y="2768"/>
                </a:lnTo>
                <a:lnTo>
                  <a:pt x="1812" y="2747"/>
                </a:lnTo>
                <a:lnTo>
                  <a:pt x="1815" y="2725"/>
                </a:lnTo>
                <a:lnTo>
                  <a:pt x="1818" y="2702"/>
                </a:lnTo>
                <a:lnTo>
                  <a:pt x="1821" y="2678"/>
                </a:lnTo>
                <a:lnTo>
                  <a:pt x="1822" y="2654"/>
                </a:lnTo>
                <a:lnTo>
                  <a:pt x="1822" y="2628"/>
                </a:lnTo>
                <a:lnTo>
                  <a:pt x="1822" y="655"/>
                </a:lnTo>
                <a:lnTo>
                  <a:pt x="2381" y="655"/>
                </a:lnTo>
                <a:close/>
                <a:moveTo>
                  <a:pt x="601" y="2473"/>
                </a:moveTo>
                <a:lnTo>
                  <a:pt x="428" y="2473"/>
                </a:lnTo>
                <a:lnTo>
                  <a:pt x="428" y="822"/>
                </a:lnTo>
                <a:lnTo>
                  <a:pt x="601" y="822"/>
                </a:lnTo>
                <a:lnTo>
                  <a:pt x="601" y="2473"/>
                </a:lnTo>
                <a:close/>
                <a:moveTo>
                  <a:pt x="1269" y="822"/>
                </a:moveTo>
                <a:lnTo>
                  <a:pt x="1458" y="822"/>
                </a:lnTo>
                <a:lnTo>
                  <a:pt x="1458" y="2369"/>
                </a:lnTo>
                <a:lnTo>
                  <a:pt x="1457" y="2382"/>
                </a:lnTo>
                <a:lnTo>
                  <a:pt x="1456" y="2393"/>
                </a:lnTo>
                <a:lnTo>
                  <a:pt x="1453" y="2403"/>
                </a:lnTo>
                <a:lnTo>
                  <a:pt x="1451" y="2414"/>
                </a:lnTo>
                <a:lnTo>
                  <a:pt x="1448" y="2423"/>
                </a:lnTo>
                <a:lnTo>
                  <a:pt x="1443" y="2432"/>
                </a:lnTo>
                <a:lnTo>
                  <a:pt x="1437" y="2440"/>
                </a:lnTo>
                <a:lnTo>
                  <a:pt x="1432" y="2447"/>
                </a:lnTo>
                <a:lnTo>
                  <a:pt x="1425" y="2453"/>
                </a:lnTo>
                <a:lnTo>
                  <a:pt x="1417" y="2458"/>
                </a:lnTo>
                <a:lnTo>
                  <a:pt x="1407" y="2463"/>
                </a:lnTo>
                <a:lnTo>
                  <a:pt x="1398" y="2466"/>
                </a:lnTo>
                <a:lnTo>
                  <a:pt x="1388" y="2469"/>
                </a:lnTo>
                <a:lnTo>
                  <a:pt x="1377" y="2471"/>
                </a:lnTo>
                <a:lnTo>
                  <a:pt x="1365" y="2472"/>
                </a:lnTo>
                <a:lnTo>
                  <a:pt x="1352" y="2473"/>
                </a:lnTo>
                <a:lnTo>
                  <a:pt x="1269" y="2473"/>
                </a:lnTo>
                <a:lnTo>
                  <a:pt x="1269" y="822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  <a:effectLst>
            <a:outerShdw dist="17819" dir="2700000" blurRad="0" rotWithShape="0">
              <a:srgbClr val="9898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cat2" descr=""/>
          <p:cNvPicPr/>
          <p:nvPr/>
        </p:nvPicPr>
        <p:blipFill>
          <a:blip r:embed="rId1"/>
          <a:stretch/>
        </p:blipFill>
        <p:spPr>
          <a:xfrm>
            <a:off x="1066680" y="53352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1285920" y="868320"/>
            <a:ext cx="755640" cy="851040"/>
          </a:xfrm>
          <a:custGeom>
            <a:avLst/>
            <a:gdLst/>
            <a:ahLst/>
            <a:rect l="l" t="t" r="r" b="b"/>
            <a:pathLst>
              <a:path w="3334" h="3749">
                <a:moveTo>
                  <a:pt x="1169" y="2134"/>
                </a:moveTo>
                <a:lnTo>
                  <a:pt x="1145" y="2148"/>
                </a:lnTo>
                <a:lnTo>
                  <a:pt x="1121" y="2162"/>
                </a:lnTo>
                <a:lnTo>
                  <a:pt x="1097" y="2178"/>
                </a:lnTo>
                <a:lnTo>
                  <a:pt x="1075" y="2194"/>
                </a:lnTo>
                <a:lnTo>
                  <a:pt x="1053" y="2211"/>
                </a:lnTo>
                <a:lnTo>
                  <a:pt x="1031" y="2229"/>
                </a:lnTo>
                <a:lnTo>
                  <a:pt x="1010" y="2247"/>
                </a:lnTo>
                <a:lnTo>
                  <a:pt x="990" y="2265"/>
                </a:lnTo>
                <a:lnTo>
                  <a:pt x="970" y="2286"/>
                </a:lnTo>
                <a:lnTo>
                  <a:pt x="950" y="2306"/>
                </a:lnTo>
                <a:lnTo>
                  <a:pt x="931" y="2326"/>
                </a:lnTo>
                <a:lnTo>
                  <a:pt x="913" y="2348"/>
                </a:lnTo>
                <a:lnTo>
                  <a:pt x="896" y="2370"/>
                </a:lnTo>
                <a:lnTo>
                  <a:pt x="879" y="2394"/>
                </a:lnTo>
                <a:lnTo>
                  <a:pt x="861" y="2417"/>
                </a:lnTo>
                <a:lnTo>
                  <a:pt x="845" y="2442"/>
                </a:lnTo>
                <a:lnTo>
                  <a:pt x="812" y="2481"/>
                </a:lnTo>
                <a:lnTo>
                  <a:pt x="780" y="2518"/>
                </a:lnTo>
                <a:lnTo>
                  <a:pt x="748" y="2554"/>
                </a:lnTo>
                <a:lnTo>
                  <a:pt x="716" y="2588"/>
                </a:lnTo>
                <a:lnTo>
                  <a:pt x="685" y="2620"/>
                </a:lnTo>
                <a:lnTo>
                  <a:pt x="655" y="2651"/>
                </a:lnTo>
                <a:lnTo>
                  <a:pt x="625" y="2681"/>
                </a:lnTo>
                <a:lnTo>
                  <a:pt x="595" y="2709"/>
                </a:lnTo>
                <a:lnTo>
                  <a:pt x="538" y="2767"/>
                </a:lnTo>
                <a:lnTo>
                  <a:pt x="487" y="2819"/>
                </a:lnTo>
                <a:lnTo>
                  <a:pt x="439" y="2868"/>
                </a:lnTo>
                <a:lnTo>
                  <a:pt x="397" y="2909"/>
                </a:lnTo>
                <a:lnTo>
                  <a:pt x="358" y="2946"/>
                </a:lnTo>
                <a:lnTo>
                  <a:pt x="325" y="2978"/>
                </a:lnTo>
                <a:lnTo>
                  <a:pt x="296" y="3004"/>
                </a:lnTo>
                <a:lnTo>
                  <a:pt x="271" y="3025"/>
                </a:lnTo>
                <a:lnTo>
                  <a:pt x="263" y="3035"/>
                </a:lnTo>
                <a:lnTo>
                  <a:pt x="254" y="3044"/>
                </a:lnTo>
                <a:lnTo>
                  <a:pt x="243" y="3055"/>
                </a:lnTo>
                <a:lnTo>
                  <a:pt x="231" y="3067"/>
                </a:lnTo>
                <a:lnTo>
                  <a:pt x="202" y="3094"/>
                </a:lnTo>
                <a:lnTo>
                  <a:pt x="166" y="3123"/>
                </a:lnTo>
                <a:lnTo>
                  <a:pt x="147" y="3145"/>
                </a:lnTo>
                <a:lnTo>
                  <a:pt x="129" y="3166"/>
                </a:lnTo>
                <a:lnTo>
                  <a:pt x="112" y="3183"/>
                </a:lnTo>
                <a:lnTo>
                  <a:pt x="97" y="3198"/>
                </a:lnTo>
                <a:lnTo>
                  <a:pt x="82" y="3211"/>
                </a:lnTo>
                <a:lnTo>
                  <a:pt x="69" y="3220"/>
                </a:lnTo>
                <a:lnTo>
                  <a:pt x="57" y="3227"/>
                </a:lnTo>
                <a:lnTo>
                  <a:pt x="46" y="3231"/>
                </a:lnTo>
                <a:lnTo>
                  <a:pt x="41" y="3233"/>
                </a:lnTo>
                <a:lnTo>
                  <a:pt x="36" y="3233"/>
                </a:lnTo>
                <a:lnTo>
                  <a:pt x="31" y="3233"/>
                </a:lnTo>
                <a:lnTo>
                  <a:pt x="27" y="3232"/>
                </a:lnTo>
                <a:lnTo>
                  <a:pt x="24" y="3231"/>
                </a:lnTo>
                <a:lnTo>
                  <a:pt x="20" y="3229"/>
                </a:lnTo>
                <a:lnTo>
                  <a:pt x="16" y="3226"/>
                </a:lnTo>
                <a:lnTo>
                  <a:pt x="14" y="3222"/>
                </a:lnTo>
                <a:lnTo>
                  <a:pt x="11" y="3218"/>
                </a:lnTo>
                <a:lnTo>
                  <a:pt x="9" y="3214"/>
                </a:lnTo>
                <a:lnTo>
                  <a:pt x="7" y="3208"/>
                </a:lnTo>
                <a:lnTo>
                  <a:pt x="5" y="3202"/>
                </a:lnTo>
                <a:lnTo>
                  <a:pt x="2" y="3188"/>
                </a:lnTo>
                <a:lnTo>
                  <a:pt x="0" y="3171"/>
                </a:lnTo>
                <a:lnTo>
                  <a:pt x="8" y="3146"/>
                </a:lnTo>
                <a:lnTo>
                  <a:pt x="16" y="3123"/>
                </a:lnTo>
                <a:lnTo>
                  <a:pt x="25" y="3099"/>
                </a:lnTo>
                <a:lnTo>
                  <a:pt x="35" y="3076"/>
                </a:lnTo>
                <a:lnTo>
                  <a:pt x="44" y="3053"/>
                </a:lnTo>
                <a:lnTo>
                  <a:pt x="55" y="3031"/>
                </a:lnTo>
                <a:lnTo>
                  <a:pt x="66" y="3008"/>
                </a:lnTo>
                <a:lnTo>
                  <a:pt x="76" y="2986"/>
                </a:lnTo>
                <a:lnTo>
                  <a:pt x="89" y="2964"/>
                </a:lnTo>
                <a:lnTo>
                  <a:pt x="101" y="2943"/>
                </a:lnTo>
                <a:lnTo>
                  <a:pt x="114" y="2921"/>
                </a:lnTo>
                <a:lnTo>
                  <a:pt x="128" y="2900"/>
                </a:lnTo>
                <a:lnTo>
                  <a:pt x="142" y="2879"/>
                </a:lnTo>
                <a:lnTo>
                  <a:pt x="156" y="2858"/>
                </a:lnTo>
                <a:lnTo>
                  <a:pt x="171" y="2839"/>
                </a:lnTo>
                <a:lnTo>
                  <a:pt x="186" y="2818"/>
                </a:lnTo>
                <a:lnTo>
                  <a:pt x="230" y="2757"/>
                </a:lnTo>
                <a:lnTo>
                  <a:pt x="273" y="2697"/>
                </a:lnTo>
                <a:lnTo>
                  <a:pt x="318" y="2636"/>
                </a:lnTo>
                <a:lnTo>
                  <a:pt x="363" y="2575"/>
                </a:lnTo>
                <a:lnTo>
                  <a:pt x="408" y="2513"/>
                </a:lnTo>
                <a:lnTo>
                  <a:pt x="454" y="2452"/>
                </a:lnTo>
                <a:lnTo>
                  <a:pt x="500" y="2391"/>
                </a:lnTo>
                <a:lnTo>
                  <a:pt x="547" y="2328"/>
                </a:lnTo>
                <a:lnTo>
                  <a:pt x="575" y="2289"/>
                </a:lnTo>
                <a:lnTo>
                  <a:pt x="603" y="2248"/>
                </a:lnTo>
                <a:lnTo>
                  <a:pt x="631" y="2206"/>
                </a:lnTo>
                <a:lnTo>
                  <a:pt x="659" y="2164"/>
                </a:lnTo>
                <a:lnTo>
                  <a:pt x="685" y="2122"/>
                </a:lnTo>
                <a:lnTo>
                  <a:pt x="710" y="2078"/>
                </a:lnTo>
                <a:lnTo>
                  <a:pt x="736" y="2034"/>
                </a:lnTo>
                <a:lnTo>
                  <a:pt x="761" y="1989"/>
                </a:lnTo>
                <a:lnTo>
                  <a:pt x="812" y="1920"/>
                </a:lnTo>
                <a:lnTo>
                  <a:pt x="858" y="1860"/>
                </a:lnTo>
                <a:lnTo>
                  <a:pt x="897" y="1809"/>
                </a:lnTo>
                <a:lnTo>
                  <a:pt x="928" y="1767"/>
                </a:lnTo>
                <a:lnTo>
                  <a:pt x="952" y="1733"/>
                </a:lnTo>
                <a:lnTo>
                  <a:pt x="970" y="1708"/>
                </a:lnTo>
                <a:lnTo>
                  <a:pt x="980" y="1692"/>
                </a:lnTo>
                <a:lnTo>
                  <a:pt x="983" y="1685"/>
                </a:lnTo>
                <a:lnTo>
                  <a:pt x="987" y="1671"/>
                </a:lnTo>
                <a:lnTo>
                  <a:pt x="990" y="1660"/>
                </a:lnTo>
                <a:lnTo>
                  <a:pt x="994" y="1648"/>
                </a:lnTo>
                <a:lnTo>
                  <a:pt x="1000" y="1636"/>
                </a:lnTo>
                <a:lnTo>
                  <a:pt x="1006" y="1626"/>
                </a:lnTo>
                <a:lnTo>
                  <a:pt x="1013" y="1617"/>
                </a:lnTo>
                <a:lnTo>
                  <a:pt x="1021" y="1608"/>
                </a:lnTo>
                <a:lnTo>
                  <a:pt x="1030" y="1599"/>
                </a:lnTo>
                <a:lnTo>
                  <a:pt x="1039" y="1593"/>
                </a:lnTo>
                <a:lnTo>
                  <a:pt x="1050" y="1587"/>
                </a:lnTo>
                <a:lnTo>
                  <a:pt x="1061" y="1580"/>
                </a:lnTo>
                <a:lnTo>
                  <a:pt x="1073" y="1576"/>
                </a:lnTo>
                <a:lnTo>
                  <a:pt x="1085" y="1572"/>
                </a:lnTo>
                <a:lnTo>
                  <a:pt x="1099" y="1568"/>
                </a:lnTo>
                <a:lnTo>
                  <a:pt x="1114" y="1565"/>
                </a:lnTo>
                <a:lnTo>
                  <a:pt x="1129" y="1563"/>
                </a:lnTo>
                <a:lnTo>
                  <a:pt x="1144" y="1561"/>
                </a:lnTo>
                <a:lnTo>
                  <a:pt x="1159" y="1561"/>
                </a:lnTo>
                <a:lnTo>
                  <a:pt x="1176" y="1563"/>
                </a:lnTo>
                <a:lnTo>
                  <a:pt x="1193" y="1566"/>
                </a:lnTo>
                <a:lnTo>
                  <a:pt x="1213" y="1572"/>
                </a:lnTo>
                <a:lnTo>
                  <a:pt x="1232" y="1579"/>
                </a:lnTo>
                <a:lnTo>
                  <a:pt x="1253" y="1589"/>
                </a:lnTo>
                <a:lnTo>
                  <a:pt x="1275" y="1599"/>
                </a:lnTo>
                <a:lnTo>
                  <a:pt x="1295" y="1624"/>
                </a:lnTo>
                <a:lnTo>
                  <a:pt x="1303" y="1635"/>
                </a:lnTo>
                <a:lnTo>
                  <a:pt x="1310" y="1646"/>
                </a:lnTo>
                <a:lnTo>
                  <a:pt x="1316" y="1656"/>
                </a:lnTo>
                <a:lnTo>
                  <a:pt x="1321" y="1667"/>
                </a:lnTo>
                <a:lnTo>
                  <a:pt x="1324" y="1678"/>
                </a:lnTo>
                <a:lnTo>
                  <a:pt x="1327" y="1687"/>
                </a:lnTo>
                <a:lnTo>
                  <a:pt x="1328" y="1698"/>
                </a:lnTo>
                <a:lnTo>
                  <a:pt x="1329" y="1709"/>
                </a:lnTo>
                <a:lnTo>
                  <a:pt x="1328" y="1720"/>
                </a:lnTo>
                <a:lnTo>
                  <a:pt x="1327" y="1730"/>
                </a:lnTo>
                <a:lnTo>
                  <a:pt x="1324" y="1741"/>
                </a:lnTo>
                <a:lnTo>
                  <a:pt x="1321" y="1752"/>
                </a:lnTo>
                <a:lnTo>
                  <a:pt x="1316" y="1762"/>
                </a:lnTo>
                <a:lnTo>
                  <a:pt x="1310" y="1773"/>
                </a:lnTo>
                <a:lnTo>
                  <a:pt x="1303" y="1784"/>
                </a:lnTo>
                <a:lnTo>
                  <a:pt x="1295" y="1795"/>
                </a:lnTo>
                <a:lnTo>
                  <a:pt x="1283" y="1807"/>
                </a:lnTo>
                <a:lnTo>
                  <a:pt x="1275" y="1818"/>
                </a:lnTo>
                <a:lnTo>
                  <a:pt x="1267" y="1828"/>
                </a:lnTo>
                <a:lnTo>
                  <a:pt x="1263" y="1835"/>
                </a:lnTo>
                <a:lnTo>
                  <a:pt x="1261" y="1842"/>
                </a:lnTo>
                <a:lnTo>
                  <a:pt x="1260" y="1847"/>
                </a:lnTo>
                <a:lnTo>
                  <a:pt x="1261" y="1848"/>
                </a:lnTo>
                <a:lnTo>
                  <a:pt x="1262" y="1850"/>
                </a:lnTo>
                <a:lnTo>
                  <a:pt x="1263" y="1851"/>
                </a:lnTo>
                <a:lnTo>
                  <a:pt x="1265" y="1851"/>
                </a:lnTo>
                <a:lnTo>
                  <a:pt x="1272" y="1851"/>
                </a:lnTo>
                <a:lnTo>
                  <a:pt x="1279" y="1850"/>
                </a:lnTo>
                <a:lnTo>
                  <a:pt x="1289" y="1846"/>
                </a:lnTo>
                <a:lnTo>
                  <a:pt x="1302" y="1842"/>
                </a:lnTo>
                <a:lnTo>
                  <a:pt x="1333" y="1827"/>
                </a:lnTo>
                <a:lnTo>
                  <a:pt x="1371" y="1806"/>
                </a:lnTo>
                <a:lnTo>
                  <a:pt x="1381" y="1791"/>
                </a:lnTo>
                <a:lnTo>
                  <a:pt x="1392" y="1779"/>
                </a:lnTo>
                <a:lnTo>
                  <a:pt x="1401" y="1767"/>
                </a:lnTo>
                <a:lnTo>
                  <a:pt x="1412" y="1756"/>
                </a:lnTo>
                <a:lnTo>
                  <a:pt x="1423" y="1746"/>
                </a:lnTo>
                <a:lnTo>
                  <a:pt x="1433" y="1739"/>
                </a:lnTo>
                <a:lnTo>
                  <a:pt x="1445" y="1732"/>
                </a:lnTo>
                <a:lnTo>
                  <a:pt x="1457" y="1727"/>
                </a:lnTo>
                <a:lnTo>
                  <a:pt x="1469" y="1723"/>
                </a:lnTo>
                <a:lnTo>
                  <a:pt x="1480" y="1721"/>
                </a:lnTo>
                <a:lnTo>
                  <a:pt x="1492" y="1720"/>
                </a:lnTo>
                <a:lnTo>
                  <a:pt x="1505" y="1720"/>
                </a:lnTo>
                <a:lnTo>
                  <a:pt x="1518" y="1721"/>
                </a:lnTo>
                <a:lnTo>
                  <a:pt x="1531" y="1724"/>
                </a:lnTo>
                <a:lnTo>
                  <a:pt x="1545" y="1728"/>
                </a:lnTo>
                <a:lnTo>
                  <a:pt x="1558" y="1733"/>
                </a:lnTo>
                <a:lnTo>
                  <a:pt x="1581" y="1743"/>
                </a:lnTo>
                <a:lnTo>
                  <a:pt x="1604" y="1754"/>
                </a:lnTo>
                <a:lnTo>
                  <a:pt x="1624" y="1766"/>
                </a:lnTo>
                <a:lnTo>
                  <a:pt x="1642" y="1779"/>
                </a:lnTo>
                <a:lnTo>
                  <a:pt x="1660" y="1791"/>
                </a:lnTo>
                <a:lnTo>
                  <a:pt x="1676" y="1806"/>
                </a:lnTo>
                <a:lnTo>
                  <a:pt x="1690" y="1822"/>
                </a:lnTo>
                <a:lnTo>
                  <a:pt x="1703" y="1840"/>
                </a:lnTo>
                <a:lnTo>
                  <a:pt x="1715" y="1858"/>
                </a:lnTo>
                <a:lnTo>
                  <a:pt x="1725" y="1876"/>
                </a:lnTo>
                <a:lnTo>
                  <a:pt x="1733" y="1896"/>
                </a:lnTo>
                <a:lnTo>
                  <a:pt x="1740" y="1918"/>
                </a:lnTo>
                <a:lnTo>
                  <a:pt x="1745" y="1939"/>
                </a:lnTo>
                <a:lnTo>
                  <a:pt x="1749" y="1963"/>
                </a:lnTo>
                <a:lnTo>
                  <a:pt x="1751" y="1988"/>
                </a:lnTo>
                <a:lnTo>
                  <a:pt x="1751" y="2012"/>
                </a:lnTo>
                <a:lnTo>
                  <a:pt x="1749" y="2068"/>
                </a:lnTo>
                <a:lnTo>
                  <a:pt x="1747" y="2123"/>
                </a:lnTo>
                <a:lnTo>
                  <a:pt x="1746" y="2178"/>
                </a:lnTo>
                <a:lnTo>
                  <a:pt x="1746" y="2235"/>
                </a:lnTo>
                <a:lnTo>
                  <a:pt x="1746" y="2292"/>
                </a:lnTo>
                <a:lnTo>
                  <a:pt x="1747" y="2350"/>
                </a:lnTo>
                <a:lnTo>
                  <a:pt x="1749" y="2408"/>
                </a:lnTo>
                <a:lnTo>
                  <a:pt x="1751" y="2466"/>
                </a:lnTo>
                <a:lnTo>
                  <a:pt x="1746" y="2525"/>
                </a:lnTo>
                <a:lnTo>
                  <a:pt x="1739" y="2580"/>
                </a:lnTo>
                <a:lnTo>
                  <a:pt x="1730" y="2633"/>
                </a:lnTo>
                <a:lnTo>
                  <a:pt x="1719" y="2682"/>
                </a:lnTo>
                <a:lnTo>
                  <a:pt x="1714" y="2705"/>
                </a:lnTo>
                <a:lnTo>
                  <a:pt x="1707" y="2727"/>
                </a:lnTo>
                <a:lnTo>
                  <a:pt x="1701" y="2749"/>
                </a:lnTo>
                <a:lnTo>
                  <a:pt x="1694" y="2769"/>
                </a:lnTo>
                <a:lnTo>
                  <a:pt x="1687" y="2788"/>
                </a:lnTo>
                <a:lnTo>
                  <a:pt x="1680" y="2808"/>
                </a:lnTo>
                <a:lnTo>
                  <a:pt x="1671" y="2826"/>
                </a:lnTo>
                <a:lnTo>
                  <a:pt x="1663" y="2843"/>
                </a:lnTo>
                <a:lnTo>
                  <a:pt x="1654" y="2864"/>
                </a:lnTo>
                <a:lnTo>
                  <a:pt x="1644" y="2887"/>
                </a:lnTo>
                <a:lnTo>
                  <a:pt x="1635" y="2912"/>
                </a:lnTo>
                <a:lnTo>
                  <a:pt x="1625" y="2936"/>
                </a:lnTo>
                <a:lnTo>
                  <a:pt x="1615" y="2963"/>
                </a:lnTo>
                <a:lnTo>
                  <a:pt x="1606" y="2991"/>
                </a:lnTo>
                <a:lnTo>
                  <a:pt x="1596" y="3020"/>
                </a:lnTo>
                <a:lnTo>
                  <a:pt x="1586" y="3049"/>
                </a:lnTo>
                <a:lnTo>
                  <a:pt x="1566" y="3074"/>
                </a:lnTo>
                <a:lnTo>
                  <a:pt x="1546" y="3098"/>
                </a:lnTo>
                <a:lnTo>
                  <a:pt x="1525" y="3122"/>
                </a:lnTo>
                <a:lnTo>
                  <a:pt x="1504" y="3144"/>
                </a:lnTo>
                <a:lnTo>
                  <a:pt x="1483" y="3165"/>
                </a:lnTo>
                <a:lnTo>
                  <a:pt x="1461" y="3185"/>
                </a:lnTo>
                <a:lnTo>
                  <a:pt x="1440" y="3204"/>
                </a:lnTo>
                <a:lnTo>
                  <a:pt x="1417" y="3222"/>
                </a:lnTo>
                <a:lnTo>
                  <a:pt x="1395" y="3240"/>
                </a:lnTo>
                <a:lnTo>
                  <a:pt x="1371" y="3255"/>
                </a:lnTo>
                <a:lnTo>
                  <a:pt x="1348" y="3270"/>
                </a:lnTo>
                <a:lnTo>
                  <a:pt x="1324" y="3284"/>
                </a:lnTo>
                <a:lnTo>
                  <a:pt x="1301" y="3296"/>
                </a:lnTo>
                <a:lnTo>
                  <a:pt x="1276" y="3308"/>
                </a:lnTo>
                <a:lnTo>
                  <a:pt x="1251" y="3319"/>
                </a:lnTo>
                <a:lnTo>
                  <a:pt x="1226" y="3329"/>
                </a:lnTo>
                <a:lnTo>
                  <a:pt x="1205" y="3330"/>
                </a:lnTo>
                <a:lnTo>
                  <a:pt x="1186" y="3331"/>
                </a:lnTo>
                <a:lnTo>
                  <a:pt x="1167" y="3333"/>
                </a:lnTo>
                <a:lnTo>
                  <a:pt x="1149" y="3337"/>
                </a:lnTo>
                <a:lnTo>
                  <a:pt x="1131" y="3341"/>
                </a:lnTo>
                <a:lnTo>
                  <a:pt x="1115" y="3347"/>
                </a:lnTo>
                <a:lnTo>
                  <a:pt x="1099" y="3353"/>
                </a:lnTo>
                <a:lnTo>
                  <a:pt x="1084" y="3360"/>
                </a:lnTo>
                <a:lnTo>
                  <a:pt x="1070" y="3368"/>
                </a:lnTo>
                <a:lnTo>
                  <a:pt x="1056" y="3378"/>
                </a:lnTo>
                <a:lnTo>
                  <a:pt x="1043" y="3388"/>
                </a:lnTo>
                <a:lnTo>
                  <a:pt x="1032" y="3399"/>
                </a:lnTo>
                <a:lnTo>
                  <a:pt x="1020" y="3411"/>
                </a:lnTo>
                <a:lnTo>
                  <a:pt x="1010" y="3425"/>
                </a:lnTo>
                <a:lnTo>
                  <a:pt x="1000" y="3439"/>
                </a:lnTo>
                <a:lnTo>
                  <a:pt x="991" y="3454"/>
                </a:lnTo>
                <a:lnTo>
                  <a:pt x="981" y="3468"/>
                </a:lnTo>
                <a:lnTo>
                  <a:pt x="972" y="3481"/>
                </a:lnTo>
                <a:lnTo>
                  <a:pt x="962" y="3493"/>
                </a:lnTo>
                <a:lnTo>
                  <a:pt x="952" y="3502"/>
                </a:lnTo>
                <a:lnTo>
                  <a:pt x="942" y="3510"/>
                </a:lnTo>
                <a:lnTo>
                  <a:pt x="932" y="3516"/>
                </a:lnTo>
                <a:lnTo>
                  <a:pt x="921" y="3520"/>
                </a:lnTo>
                <a:lnTo>
                  <a:pt x="912" y="3524"/>
                </a:lnTo>
                <a:lnTo>
                  <a:pt x="901" y="3526"/>
                </a:lnTo>
                <a:lnTo>
                  <a:pt x="890" y="3526"/>
                </a:lnTo>
                <a:lnTo>
                  <a:pt x="880" y="3524"/>
                </a:lnTo>
                <a:lnTo>
                  <a:pt x="869" y="3520"/>
                </a:lnTo>
                <a:lnTo>
                  <a:pt x="858" y="3515"/>
                </a:lnTo>
                <a:lnTo>
                  <a:pt x="847" y="3509"/>
                </a:lnTo>
                <a:lnTo>
                  <a:pt x="837" y="3500"/>
                </a:lnTo>
                <a:lnTo>
                  <a:pt x="825" y="3490"/>
                </a:lnTo>
                <a:lnTo>
                  <a:pt x="801" y="3450"/>
                </a:lnTo>
                <a:lnTo>
                  <a:pt x="780" y="3412"/>
                </a:lnTo>
                <a:lnTo>
                  <a:pt x="763" y="3379"/>
                </a:lnTo>
                <a:lnTo>
                  <a:pt x="749" y="3351"/>
                </a:lnTo>
                <a:lnTo>
                  <a:pt x="738" y="3326"/>
                </a:lnTo>
                <a:lnTo>
                  <a:pt x="732" y="3307"/>
                </a:lnTo>
                <a:lnTo>
                  <a:pt x="730" y="3299"/>
                </a:lnTo>
                <a:lnTo>
                  <a:pt x="729" y="3291"/>
                </a:lnTo>
                <a:lnTo>
                  <a:pt x="729" y="3285"/>
                </a:lnTo>
                <a:lnTo>
                  <a:pt x="729" y="3280"/>
                </a:lnTo>
                <a:lnTo>
                  <a:pt x="738" y="3248"/>
                </a:lnTo>
                <a:lnTo>
                  <a:pt x="745" y="3218"/>
                </a:lnTo>
                <a:lnTo>
                  <a:pt x="750" y="3191"/>
                </a:lnTo>
                <a:lnTo>
                  <a:pt x="753" y="3168"/>
                </a:lnTo>
                <a:lnTo>
                  <a:pt x="755" y="3146"/>
                </a:lnTo>
                <a:lnTo>
                  <a:pt x="755" y="3127"/>
                </a:lnTo>
                <a:lnTo>
                  <a:pt x="754" y="3120"/>
                </a:lnTo>
                <a:lnTo>
                  <a:pt x="753" y="3111"/>
                </a:lnTo>
                <a:lnTo>
                  <a:pt x="751" y="3105"/>
                </a:lnTo>
                <a:lnTo>
                  <a:pt x="749" y="3098"/>
                </a:lnTo>
                <a:lnTo>
                  <a:pt x="747" y="3086"/>
                </a:lnTo>
                <a:lnTo>
                  <a:pt x="746" y="3076"/>
                </a:lnTo>
                <a:lnTo>
                  <a:pt x="747" y="3066"/>
                </a:lnTo>
                <a:lnTo>
                  <a:pt x="748" y="3057"/>
                </a:lnTo>
                <a:lnTo>
                  <a:pt x="751" y="3051"/>
                </a:lnTo>
                <a:lnTo>
                  <a:pt x="755" y="3044"/>
                </a:lnTo>
                <a:lnTo>
                  <a:pt x="761" y="3039"/>
                </a:lnTo>
                <a:lnTo>
                  <a:pt x="768" y="3035"/>
                </a:lnTo>
                <a:lnTo>
                  <a:pt x="776" y="3031"/>
                </a:lnTo>
                <a:lnTo>
                  <a:pt x="785" y="3028"/>
                </a:lnTo>
                <a:lnTo>
                  <a:pt x="795" y="3027"/>
                </a:lnTo>
                <a:lnTo>
                  <a:pt x="807" y="3027"/>
                </a:lnTo>
                <a:lnTo>
                  <a:pt x="820" y="3028"/>
                </a:lnTo>
                <a:lnTo>
                  <a:pt x="835" y="3031"/>
                </a:lnTo>
                <a:lnTo>
                  <a:pt x="850" y="3034"/>
                </a:lnTo>
                <a:lnTo>
                  <a:pt x="866" y="3037"/>
                </a:lnTo>
                <a:lnTo>
                  <a:pt x="881" y="3041"/>
                </a:lnTo>
                <a:lnTo>
                  <a:pt x="896" y="3043"/>
                </a:lnTo>
                <a:lnTo>
                  <a:pt x="912" y="3044"/>
                </a:lnTo>
                <a:lnTo>
                  <a:pt x="928" y="3044"/>
                </a:lnTo>
                <a:lnTo>
                  <a:pt x="944" y="3042"/>
                </a:lnTo>
                <a:lnTo>
                  <a:pt x="961" y="3039"/>
                </a:lnTo>
                <a:lnTo>
                  <a:pt x="978" y="3034"/>
                </a:lnTo>
                <a:lnTo>
                  <a:pt x="995" y="3028"/>
                </a:lnTo>
                <a:lnTo>
                  <a:pt x="1013" y="3021"/>
                </a:lnTo>
                <a:lnTo>
                  <a:pt x="1032" y="3011"/>
                </a:lnTo>
                <a:lnTo>
                  <a:pt x="1050" y="3001"/>
                </a:lnTo>
                <a:lnTo>
                  <a:pt x="1069" y="2989"/>
                </a:lnTo>
                <a:lnTo>
                  <a:pt x="1088" y="2976"/>
                </a:lnTo>
                <a:lnTo>
                  <a:pt x="1109" y="2961"/>
                </a:lnTo>
                <a:lnTo>
                  <a:pt x="1128" y="2945"/>
                </a:lnTo>
                <a:lnTo>
                  <a:pt x="1149" y="2928"/>
                </a:lnTo>
                <a:lnTo>
                  <a:pt x="1162" y="2909"/>
                </a:lnTo>
                <a:lnTo>
                  <a:pt x="1176" y="2890"/>
                </a:lnTo>
                <a:lnTo>
                  <a:pt x="1189" y="2871"/>
                </a:lnTo>
                <a:lnTo>
                  <a:pt x="1202" y="2852"/>
                </a:lnTo>
                <a:lnTo>
                  <a:pt x="1214" y="2831"/>
                </a:lnTo>
                <a:lnTo>
                  <a:pt x="1226" y="2811"/>
                </a:lnTo>
                <a:lnTo>
                  <a:pt x="1237" y="2789"/>
                </a:lnTo>
                <a:lnTo>
                  <a:pt x="1248" y="2768"/>
                </a:lnTo>
                <a:lnTo>
                  <a:pt x="1269" y="2724"/>
                </a:lnTo>
                <a:lnTo>
                  <a:pt x="1289" y="2678"/>
                </a:lnTo>
                <a:lnTo>
                  <a:pt x="1307" y="2630"/>
                </a:lnTo>
                <a:lnTo>
                  <a:pt x="1323" y="2580"/>
                </a:lnTo>
                <a:lnTo>
                  <a:pt x="1338" y="2529"/>
                </a:lnTo>
                <a:lnTo>
                  <a:pt x="1352" y="2476"/>
                </a:lnTo>
                <a:lnTo>
                  <a:pt x="1364" y="2422"/>
                </a:lnTo>
                <a:lnTo>
                  <a:pt x="1373" y="2365"/>
                </a:lnTo>
                <a:lnTo>
                  <a:pt x="1382" y="2307"/>
                </a:lnTo>
                <a:lnTo>
                  <a:pt x="1389" y="2247"/>
                </a:lnTo>
                <a:lnTo>
                  <a:pt x="1396" y="2185"/>
                </a:lnTo>
                <a:lnTo>
                  <a:pt x="1400" y="2122"/>
                </a:lnTo>
                <a:lnTo>
                  <a:pt x="1398" y="2110"/>
                </a:lnTo>
                <a:lnTo>
                  <a:pt x="1396" y="2100"/>
                </a:lnTo>
                <a:lnTo>
                  <a:pt x="1393" y="2092"/>
                </a:lnTo>
                <a:lnTo>
                  <a:pt x="1388" y="2083"/>
                </a:lnTo>
                <a:lnTo>
                  <a:pt x="1384" y="2077"/>
                </a:lnTo>
                <a:lnTo>
                  <a:pt x="1379" y="2071"/>
                </a:lnTo>
                <a:lnTo>
                  <a:pt x="1372" y="2067"/>
                </a:lnTo>
                <a:lnTo>
                  <a:pt x="1365" y="2065"/>
                </a:lnTo>
                <a:lnTo>
                  <a:pt x="1356" y="2063"/>
                </a:lnTo>
                <a:lnTo>
                  <a:pt x="1348" y="2063"/>
                </a:lnTo>
                <a:lnTo>
                  <a:pt x="1337" y="2063"/>
                </a:lnTo>
                <a:lnTo>
                  <a:pt x="1326" y="2065"/>
                </a:lnTo>
                <a:lnTo>
                  <a:pt x="1314" y="2068"/>
                </a:lnTo>
                <a:lnTo>
                  <a:pt x="1303" y="2073"/>
                </a:lnTo>
                <a:lnTo>
                  <a:pt x="1289" y="2079"/>
                </a:lnTo>
                <a:lnTo>
                  <a:pt x="1275" y="2086"/>
                </a:lnTo>
                <a:lnTo>
                  <a:pt x="1169" y="2134"/>
                </a:lnTo>
                <a:close/>
                <a:moveTo>
                  <a:pt x="866" y="267"/>
                </a:moveTo>
                <a:lnTo>
                  <a:pt x="871" y="273"/>
                </a:lnTo>
                <a:lnTo>
                  <a:pt x="877" y="278"/>
                </a:lnTo>
                <a:lnTo>
                  <a:pt x="883" y="282"/>
                </a:lnTo>
                <a:lnTo>
                  <a:pt x="889" y="286"/>
                </a:lnTo>
                <a:lnTo>
                  <a:pt x="897" y="288"/>
                </a:lnTo>
                <a:lnTo>
                  <a:pt x="904" y="291"/>
                </a:lnTo>
                <a:lnTo>
                  <a:pt x="912" y="292"/>
                </a:lnTo>
                <a:lnTo>
                  <a:pt x="920" y="292"/>
                </a:lnTo>
                <a:lnTo>
                  <a:pt x="929" y="292"/>
                </a:lnTo>
                <a:lnTo>
                  <a:pt x="939" y="291"/>
                </a:lnTo>
                <a:lnTo>
                  <a:pt x="948" y="288"/>
                </a:lnTo>
                <a:lnTo>
                  <a:pt x="959" y="286"/>
                </a:lnTo>
                <a:lnTo>
                  <a:pt x="968" y="282"/>
                </a:lnTo>
                <a:lnTo>
                  <a:pt x="980" y="278"/>
                </a:lnTo>
                <a:lnTo>
                  <a:pt x="991" y="273"/>
                </a:lnTo>
                <a:lnTo>
                  <a:pt x="1004" y="267"/>
                </a:lnTo>
                <a:lnTo>
                  <a:pt x="1045" y="260"/>
                </a:lnTo>
                <a:lnTo>
                  <a:pt x="1086" y="252"/>
                </a:lnTo>
                <a:lnTo>
                  <a:pt x="1127" y="246"/>
                </a:lnTo>
                <a:lnTo>
                  <a:pt x="1168" y="240"/>
                </a:lnTo>
                <a:lnTo>
                  <a:pt x="1209" y="236"/>
                </a:lnTo>
                <a:lnTo>
                  <a:pt x="1250" y="233"/>
                </a:lnTo>
                <a:lnTo>
                  <a:pt x="1291" y="232"/>
                </a:lnTo>
                <a:lnTo>
                  <a:pt x="1332" y="231"/>
                </a:lnTo>
                <a:lnTo>
                  <a:pt x="1517" y="243"/>
                </a:lnTo>
                <a:lnTo>
                  <a:pt x="1543" y="247"/>
                </a:lnTo>
                <a:lnTo>
                  <a:pt x="1567" y="251"/>
                </a:lnTo>
                <a:lnTo>
                  <a:pt x="1591" y="255"/>
                </a:lnTo>
                <a:lnTo>
                  <a:pt x="1614" y="260"/>
                </a:lnTo>
                <a:lnTo>
                  <a:pt x="1636" y="266"/>
                </a:lnTo>
                <a:lnTo>
                  <a:pt x="1657" y="271"/>
                </a:lnTo>
                <a:lnTo>
                  <a:pt x="1677" y="278"/>
                </a:lnTo>
                <a:lnTo>
                  <a:pt x="1697" y="285"/>
                </a:lnTo>
                <a:lnTo>
                  <a:pt x="1716" y="293"/>
                </a:lnTo>
                <a:lnTo>
                  <a:pt x="1733" y="301"/>
                </a:lnTo>
                <a:lnTo>
                  <a:pt x="1750" y="310"/>
                </a:lnTo>
                <a:lnTo>
                  <a:pt x="1765" y="320"/>
                </a:lnTo>
                <a:lnTo>
                  <a:pt x="1780" y="329"/>
                </a:lnTo>
                <a:lnTo>
                  <a:pt x="1795" y="340"/>
                </a:lnTo>
                <a:lnTo>
                  <a:pt x="1808" y="351"/>
                </a:lnTo>
                <a:lnTo>
                  <a:pt x="1820" y="362"/>
                </a:lnTo>
                <a:lnTo>
                  <a:pt x="1832" y="375"/>
                </a:lnTo>
                <a:lnTo>
                  <a:pt x="1842" y="387"/>
                </a:lnTo>
                <a:lnTo>
                  <a:pt x="1852" y="401"/>
                </a:lnTo>
                <a:lnTo>
                  <a:pt x="1861" y="415"/>
                </a:lnTo>
                <a:lnTo>
                  <a:pt x="1869" y="429"/>
                </a:lnTo>
                <a:lnTo>
                  <a:pt x="1876" y="444"/>
                </a:lnTo>
                <a:lnTo>
                  <a:pt x="1882" y="459"/>
                </a:lnTo>
                <a:lnTo>
                  <a:pt x="1887" y="475"/>
                </a:lnTo>
                <a:lnTo>
                  <a:pt x="1892" y="492"/>
                </a:lnTo>
                <a:lnTo>
                  <a:pt x="1895" y="509"/>
                </a:lnTo>
                <a:lnTo>
                  <a:pt x="1898" y="526"/>
                </a:lnTo>
                <a:lnTo>
                  <a:pt x="1899" y="545"/>
                </a:lnTo>
                <a:lnTo>
                  <a:pt x="1900" y="564"/>
                </a:lnTo>
                <a:lnTo>
                  <a:pt x="1900" y="583"/>
                </a:lnTo>
                <a:lnTo>
                  <a:pt x="1899" y="603"/>
                </a:lnTo>
                <a:lnTo>
                  <a:pt x="1897" y="623"/>
                </a:lnTo>
                <a:lnTo>
                  <a:pt x="1891" y="662"/>
                </a:lnTo>
                <a:lnTo>
                  <a:pt x="1883" y="698"/>
                </a:lnTo>
                <a:lnTo>
                  <a:pt x="1876" y="734"/>
                </a:lnTo>
                <a:lnTo>
                  <a:pt x="1866" y="770"/>
                </a:lnTo>
                <a:lnTo>
                  <a:pt x="1856" y="805"/>
                </a:lnTo>
                <a:lnTo>
                  <a:pt x="1846" y="839"/>
                </a:lnTo>
                <a:lnTo>
                  <a:pt x="1834" y="873"/>
                </a:lnTo>
                <a:lnTo>
                  <a:pt x="1821" y="906"/>
                </a:lnTo>
                <a:lnTo>
                  <a:pt x="1808" y="938"/>
                </a:lnTo>
                <a:lnTo>
                  <a:pt x="1794" y="970"/>
                </a:lnTo>
                <a:lnTo>
                  <a:pt x="1779" y="1001"/>
                </a:lnTo>
                <a:lnTo>
                  <a:pt x="1763" y="1031"/>
                </a:lnTo>
                <a:lnTo>
                  <a:pt x="1746" y="1061"/>
                </a:lnTo>
                <a:lnTo>
                  <a:pt x="1729" y="1090"/>
                </a:lnTo>
                <a:lnTo>
                  <a:pt x="1711" y="1118"/>
                </a:lnTo>
                <a:lnTo>
                  <a:pt x="1691" y="1146"/>
                </a:lnTo>
                <a:lnTo>
                  <a:pt x="1677" y="1167"/>
                </a:lnTo>
                <a:lnTo>
                  <a:pt x="1664" y="1189"/>
                </a:lnTo>
                <a:lnTo>
                  <a:pt x="1650" y="1211"/>
                </a:lnTo>
                <a:lnTo>
                  <a:pt x="1637" y="1234"/>
                </a:lnTo>
                <a:lnTo>
                  <a:pt x="1624" y="1258"/>
                </a:lnTo>
                <a:lnTo>
                  <a:pt x="1611" y="1280"/>
                </a:lnTo>
                <a:lnTo>
                  <a:pt x="1598" y="1305"/>
                </a:lnTo>
                <a:lnTo>
                  <a:pt x="1586" y="1328"/>
                </a:lnTo>
                <a:lnTo>
                  <a:pt x="1578" y="1341"/>
                </a:lnTo>
                <a:lnTo>
                  <a:pt x="1569" y="1353"/>
                </a:lnTo>
                <a:lnTo>
                  <a:pt x="1561" y="1364"/>
                </a:lnTo>
                <a:lnTo>
                  <a:pt x="1550" y="1375"/>
                </a:lnTo>
                <a:lnTo>
                  <a:pt x="1539" y="1385"/>
                </a:lnTo>
                <a:lnTo>
                  <a:pt x="1529" y="1395"/>
                </a:lnTo>
                <a:lnTo>
                  <a:pt x="1517" y="1404"/>
                </a:lnTo>
                <a:lnTo>
                  <a:pt x="1504" y="1413"/>
                </a:lnTo>
                <a:lnTo>
                  <a:pt x="1491" y="1422"/>
                </a:lnTo>
                <a:lnTo>
                  <a:pt x="1477" y="1430"/>
                </a:lnTo>
                <a:lnTo>
                  <a:pt x="1462" y="1437"/>
                </a:lnTo>
                <a:lnTo>
                  <a:pt x="1447" y="1444"/>
                </a:lnTo>
                <a:lnTo>
                  <a:pt x="1431" y="1450"/>
                </a:lnTo>
                <a:lnTo>
                  <a:pt x="1415" y="1456"/>
                </a:lnTo>
                <a:lnTo>
                  <a:pt x="1398" y="1461"/>
                </a:lnTo>
                <a:lnTo>
                  <a:pt x="1380" y="1465"/>
                </a:lnTo>
                <a:lnTo>
                  <a:pt x="1337" y="1477"/>
                </a:lnTo>
                <a:lnTo>
                  <a:pt x="1294" y="1489"/>
                </a:lnTo>
                <a:lnTo>
                  <a:pt x="1253" y="1499"/>
                </a:lnTo>
                <a:lnTo>
                  <a:pt x="1213" y="1508"/>
                </a:lnTo>
                <a:lnTo>
                  <a:pt x="1173" y="1517"/>
                </a:lnTo>
                <a:lnTo>
                  <a:pt x="1135" y="1526"/>
                </a:lnTo>
                <a:lnTo>
                  <a:pt x="1097" y="1533"/>
                </a:lnTo>
                <a:lnTo>
                  <a:pt x="1061" y="1539"/>
                </a:lnTo>
                <a:lnTo>
                  <a:pt x="1049" y="1543"/>
                </a:lnTo>
                <a:lnTo>
                  <a:pt x="1038" y="1547"/>
                </a:lnTo>
                <a:lnTo>
                  <a:pt x="1027" y="1552"/>
                </a:lnTo>
                <a:lnTo>
                  <a:pt x="1018" y="1558"/>
                </a:lnTo>
                <a:lnTo>
                  <a:pt x="1008" y="1565"/>
                </a:lnTo>
                <a:lnTo>
                  <a:pt x="997" y="1573"/>
                </a:lnTo>
                <a:lnTo>
                  <a:pt x="989" y="1581"/>
                </a:lnTo>
                <a:lnTo>
                  <a:pt x="979" y="1591"/>
                </a:lnTo>
                <a:lnTo>
                  <a:pt x="971" y="1601"/>
                </a:lnTo>
                <a:lnTo>
                  <a:pt x="961" y="1612"/>
                </a:lnTo>
                <a:lnTo>
                  <a:pt x="954" y="1624"/>
                </a:lnTo>
                <a:lnTo>
                  <a:pt x="945" y="1637"/>
                </a:lnTo>
                <a:lnTo>
                  <a:pt x="936" y="1651"/>
                </a:lnTo>
                <a:lnTo>
                  <a:pt x="929" y="1665"/>
                </a:lnTo>
                <a:lnTo>
                  <a:pt x="921" y="1680"/>
                </a:lnTo>
                <a:lnTo>
                  <a:pt x="914" y="1697"/>
                </a:lnTo>
                <a:lnTo>
                  <a:pt x="902" y="1706"/>
                </a:lnTo>
                <a:lnTo>
                  <a:pt x="889" y="1712"/>
                </a:lnTo>
                <a:lnTo>
                  <a:pt x="876" y="1717"/>
                </a:lnTo>
                <a:lnTo>
                  <a:pt x="864" y="1721"/>
                </a:lnTo>
                <a:lnTo>
                  <a:pt x="850" y="1723"/>
                </a:lnTo>
                <a:lnTo>
                  <a:pt x="836" y="1723"/>
                </a:lnTo>
                <a:lnTo>
                  <a:pt x="822" y="1721"/>
                </a:lnTo>
                <a:lnTo>
                  <a:pt x="807" y="1718"/>
                </a:lnTo>
                <a:lnTo>
                  <a:pt x="792" y="1713"/>
                </a:lnTo>
                <a:lnTo>
                  <a:pt x="777" y="1708"/>
                </a:lnTo>
                <a:lnTo>
                  <a:pt x="762" y="1699"/>
                </a:lnTo>
                <a:lnTo>
                  <a:pt x="746" y="1690"/>
                </a:lnTo>
                <a:lnTo>
                  <a:pt x="730" y="1679"/>
                </a:lnTo>
                <a:lnTo>
                  <a:pt x="714" y="1666"/>
                </a:lnTo>
                <a:lnTo>
                  <a:pt x="696" y="1652"/>
                </a:lnTo>
                <a:lnTo>
                  <a:pt x="679" y="1636"/>
                </a:lnTo>
                <a:lnTo>
                  <a:pt x="653" y="1588"/>
                </a:lnTo>
                <a:lnTo>
                  <a:pt x="627" y="1538"/>
                </a:lnTo>
                <a:lnTo>
                  <a:pt x="603" y="1488"/>
                </a:lnTo>
                <a:lnTo>
                  <a:pt x="581" y="1437"/>
                </a:lnTo>
                <a:lnTo>
                  <a:pt x="559" y="1384"/>
                </a:lnTo>
                <a:lnTo>
                  <a:pt x="540" y="1330"/>
                </a:lnTo>
                <a:lnTo>
                  <a:pt x="522" y="1276"/>
                </a:lnTo>
                <a:lnTo>
                  <a:pt x="506" y="1220"/>
                </a:lnTo>
                <a:lnTo>
                  <a:pt x="491" y="1163"/>
                </a:lnTo>
                <a:lnTo>
                  <a:pt x="477" y="1105"/>
                </a:lnTo>
                <a:lnTo>
                  <a:pt x="465" y="1046"/>
                </a:lnTo>
                <a:lnTo>
                  <a:pt x="455" y="985"/>
                </a:lnTo>
                <a:lnTo>
                  <a:pt x="446" y="924"/>
                </a:lnTo>
                <a:lnTo>
                  <a:pt x="439" y="862"/>
                </a:lnTo>
                <a:lnTo>
                  <a:pt x="433" y="798"/>
                </a:lnTo>
                <a:lnTo>
                  <a:pt x="429" y="733"/>
                </a:lnTo>
                <a:lnTo>
                  <a:pt x="427" y="697"/>
                </a:lnTo>
                <a:lnTo>
                  <a:pt x="427" y="663"/>
                </a:lnTo>
                <a:lnTo>
                  <a:pt x="428" y="629"/>
                </a:lnTo>
                <a:lnTo>
                  <a:pt x="430" y="596"/>
                </a:lnTo>
                <a:lnTo>
                  <a:pt x="434" y="565"/>
                </a:lnTo>
                <a:lnTo>
                  <a:pt x="440" y="535"/>
                </a:lnTo>
                <a:lnTo>
                  <a:pt x="448" y="506"/>
                </a:lnTo>
                <a:lnTo>
                  <a:pt x="458" y="478"/>
                </a:lnTo>
                <a:lnTo>
                  <a:pt x="469" y="455"/>
                </a:lnTo>
                <a:lnTo>
                  <a:pt x="480" y="430"/>
                </a:lnTo>
                <a:lnTo>
                  <a:pt x="490" y="406"/>
                </a:lnTo>
                <a:lnTo>
                  <a:pt x="499" y="383"/>
                </a:lnTo>
                <a:lnTo>
                  <a:pt x="507" y="360"/>
                </a:lnTo>
                <a:lnTo>
                  <a:pt x="514" y="337"/>
                </a:lnTo>
                <a:lnTo>
                  <a:pt x="521" y="314"/>
                </a:lnTo>
                <a:lnTo>
                  <a:pt x="526" y="292"/>
                </a:lnTo>
                <a:lnTo>
                  <a:pt x="534" y="273"/>
                </a:lnTo>
                <a:lnTo>
                  <a:pt x="541" y="257"/>
                </a:lnTo>
                <a:lnTo>
                  <a:pt x="549" y="240"/>
                </a:lnTo>
                <a:lnTo>
                  <a:pt x="557" y="225"/>
                </a:lnTo>
                <a:lnTo>
                  <a:pt x="566" y="210"/>
                </a:lnTo>
                <a:lnTo>
                  <a:pt x="575" y="196"/>
                </a:lnTo>
                <a:lnTo>
                  <a:pt x="585" y="182"/>
                </a:lnTo>
                <a:lnTo>
                  <a:pt x="595" y="171"/>
                </a:lnTo>
                <a:lnTo>
                  <a:pt x="600" y="164"/>
                </a:lnTo>
                <a:lnTo>
                  <a:pt x="605" y="160"/>
                </a:lnTo>
                <a:lnTo>
                  <a:pt x="612" y="156"/>
                </a:lnTo>
                <a:lnTo>
                  <a:pt x="619" y="152"/>
                </a:lnTo>
                <a:lnTo>
                  <a:pt x="628" y="149"/>
                </a:lnTo>
                <a:lnTo>
                  <a:pt x="638" y="147"/>
                </a:lnTo>
                <a:lnTo>
                  <a:pt x="647" y="146"/>
                </a:lnTo>
                <a:lnTo>
                  <a:pt x="658" y="146"/>
                </a:lnTo>
                <a:lnTo>
                  <a:pt x="671" y="146"/>
                </a:lnTo>
                <a:lnTo>
                  <a:pt x="683" y="147"/>
                </a:lnTo>
                <a:lnTo>
                  <a:pt x="696" y="149"/>
                </a:lnTo>
                <a:lnTo>
                  <a:pt x="710" y="152"/>
                </a:lnTo>
                <a:lnTo>
                  <a:pt x="743" y="160"/>
                </a:lnTo>
                <a:lnTo>
                  <a:pt x="777" y="171"/>
                </a:lnTo>
                <a:lnTo>
                  <a:pt x="866" y="267"/>
                </a:lnTo>
                <a:close/>
                <a:moveTo>
                  <a:pt x="1314" y="709"/>
                </a:moveTo>
                <a:lnTo>
                  <a:pt x="1291" y="716"/>
                </a:lnTo>
                <a:lnTo>
                  <a:pt x="1266" y="724"/>
                </a:lnTo>
                <a:lnTo>
                  <a:pt x="1242" y="733"/>
                </a:lnTo>
                <a:lnTo>
                  <a:pt x="1218" y="745"/>
                </a:lnTo>
                <a:lnTo>
                  <a:pt x="1189" y="755"/>
                </a:lnTo>
                <a:lnTo>
                  <a:pt x="1162" y="764"/>
                </a:lnTo>
                <a:lnTo>
                  <a:pt x="1137" y="774"/>
                </a:lnTo>
                <a:lnTo>
                  <a:pt x="1112" y="785"/>
                </a:lnTo>
                <a:lnTo>
                  <a:pt x="1090" y="796"/>
                </a:lnTo>
                <a:lnTo>
                  <a:pt x="1069" y="806"/>
                </a:lnTo>
                <a:lnTo>
                  <a:pt x="1050" y="818"/>
                </a:lnTo>
                <a:lnTo>
                  <a:pt x="1032" y="830"/>
                </a:lnTo>
                <a:lnTo>
                  <a:pt x="1015" y="839"/>
                </a:lnTo>
                <a:lnTo>
                  <a:pt x="997" y="849"/>
                </a:lnTo>
                <a:lnTo>
                  <a:pt x="982" y="859"/>
                </a:lnTo>
                <a:lnTo>
                  <a:pt x="967" y="869"/>
                </a:lnTo>
                <a:lnTo>
                  <a:pt x="955" y="879"/>
                </a:lnTo>
                <a:lnTo>
                  <a:pt x="943" y="890"/>
                </a:lnTo>
                <a:lnTo>
                  <a:pt x="932" y="902"/>
                </a:lnTo>
                <a:lnTo>
                  <a:pt x="922" y="912"/>
                </a:lnTo>
                <a:lnTo>
                  <a:pt x="914" y="924"/>
                </a:lnTo>
                <a:lnTo>
                  <a:pt x="906" y="936"/>
                </a:lnTo>
                <a:lnTo>
                  <a:pt x="900" y="948"/>
                </a:lnTo>
                <a:lnTo>
                  <a:pt x="896" y="961"/>
                </a:lnTo>
                <a:lnTo>
                  <a:pt x="891" y="973"/>
                </a:lnTo>
                <a:lnTo>
                  <a:pt x="888" y="986"/>
                </a:lnTo>
                <a:lnTo>
                  <a:pt x="887" y="999"/>
                </a:lnTo>
                <a:lnTo>
                  <a:pt x="886" y="1012"/>
                </a:lnTo>
                <a:lnTo>
                  <a:pt x="888" y="1031"/>
                </a:lnTo>
                <a:lnTo>
                  <a:pt x="890" y="1049"/>
                </a:lnTo>
                <a:lnTo>
                  <a:pt x="895" y="1064"/>
                </a:lnTo>
                <a:lnTo>
                  <a:pt x="900" y="1077"/>
                </a:lnTo>
                <a:lnTo>
                  <a:pt x="905" y="1090"/>
                </a:lnTo>
                <a:lnTo>
                  <a:pt x="913" y="1100"/>
                </a:lnTo>
                <a:lnTo>
                  <a:pt x="921" y="1109"/>
                </a:lnTo>
                <a:lnTo>
                  <a:pt x="932" y="1116"/>
                </a:lnTo>
                <a:lnTo>
                  <a:pt x="943" y="1121"/>
                </a:lnTo>
                <a:lnTo>
                  <a:pt x="955" y="1125"/>
                </a:lnTo>
                <a:lnTo>
                  <a:pt x="968" y="1127"/>
                </a:lnTo>
                <a:lnTo>
                  <a:pt x="982" y="1127"/>
                </a:lnTo>
                <a:lnTo>
                  <a:pt x="998" y="1125"/>
                </a:lnTo>
                <a:lnTo>
                  <a:pt x="1015" y="1121"/>
                </a:lnTo>
                <a:lnTo>
                  <a:pt x="1033" y="1117"/>
                </a:lnTo>
                <a:lnTo>
                  <a:pt x="1052" y="1110"/>
                </a:lnTo>
                <a:lnTo>
                  <a:pt x="1068" y="1109"/>
                </a:lnTo>
                <a:lnTo>
                  <a:pt x="1084" y="1105"/>
                </a:lnTo>
                <a:lnTo>
                  <a:pt x="1099" y="1103"/>
                </a:lnTo>
                <a:lnTo>
                  <a:pt x="1114" y="1099"/>
                </a:lnTo>
                <a:lnTo>
                  <a:pt x="1129" y="1095"/>
                </a:lnTo>
                <a:lnTo>
                  <a:pt x="1143" y="1090"/>
                </a:lnTo>
                <a:lnTo>
                  <a:pt x="1156" y="1085"/>
                </a:lnTo>
                <a:lnTo>
                  <a:pt x="1169" y="1080"/>
                </a:lnTo>
                <a:lnTo>
                  <a:pt x="1182" y="1073"/>
                </a:lnTo>
                <a:lnTo>
                  <a:pt x="1193" y="1066"/>
                </a:lnTo>
                <a:lnTo>
                  <a:pt x="1205" y="1058"/>
                </a:lnTo>
                <a:lnTo>
                  <a:pt x="1216" y="1051"/>
                </a:lnTo>
                <a:lnTo>
                  <a:pt x="1227" y="1042"/>
                </a:lnTo>
                <a:lnTo>
                  <a:pt x="1236" y="1032"/>
                </a:lnTo>
                <a:lnTo>
                  <a:pt x="1245" y="1023"/>
                </a:lnTo>
                <a:lnTo>
                  <a:pt x="1254" y="1012"/>
                </a:lnTo>
                <a:lnTo>
                  <a:pt x="1278" y="985"/>
                </a:lnTo>
                <a:lnTo>
                  <a:pt x="1301" y="956"/>
                </a:lnTo>
                <a:lnTo>
                  <a:pt x="1322" y="927"/>
                </a:lnTo>
                <a:lnTo>
                  <a:pt x="1342" y="897"/>
                </a:lnTo>
                <a:lnTo>
                  <a:pt x="1362" y="866"/>
                </a:lnTo>
                <a:lnTo>
                  <a:pt x="1380" y="835"/>
                </a:lnTo>
                <a:lnTo>
                  <a:pt x="1396" y="802"/>
                </a:lnTo>
                <a:lnTo>
                  <a:pt x="1412" y="770"/>
                </a:lnTo>
                <a:lnTo>
                  <a:pt x="1419" y="754"/>
                </a:lnTo>
                <a:lnTo>
                  <a:pt x="1426" y="739"/>
                </a:lnTo>
                <a:lnTo>
                  <a:pt x="1430" y="726"/>
                </a:lnTo>
                <a:lnTo>
                  <a:pt x="1433" y="715"/>
                </a:lnTo>
                <a:lnTo>
                  <a:pt x="1435" y="705"/>
                </a:lnTo>
                <a:lnTo>
                  <a:pt x="1437" y="697"/>
                </a:lnTo>
                <a:lnTo>
                  <a:pt x="1437" y="689"/>
                </a:lnTo>
                <a:lnTo>
                  <a:pt x="1434" y="684"/>
                </a:lnTo>
                <a:lnTo>
                  <a:pt x="1431" y="681"/>
                </a:lnTo>
                <a:lnTo>
                  <a:pt x="1427" y="679"/>
                </a:lnTo>
                <a:lnTo>
                  <a:pt x="1420" y="678"/>
                </a:lnTo>
                <a:lnTo>
                  <a:pt x="1414" y="679"/>
                </a:lnTo>
                <a:lnTo>
                  <a:pt x="1405" y="681"/>
                </a:lnTo>
                <a:lnTo>
                  <a:pt x="1395" y="684"/>
                </a:lnTo>
                <a:lnTo>
                  <a:pt x="1384" y="689"/>
                </a:lnTo>
                <a:lnTo>
                  <a:pt x="1371" y="697"/>
                </a:lnTo>
                <a:lnTo>
                  <a:pt x="1314" y="709"/>
                </a:lnTo>
                <a:close/>
                <a:moveTo>
                  <a:pt x="2327" y="1012"/>
                </a:moveTo>
                <a:lnTo>
                  <a:pt x="2351" y="1009"/>
                </a:lnTo>
                <a:lnTo>
                  <a:pt x="2374" y="1008"/>
                </a:lnTo>
                <a:lnTo>
                  <a:pt x="2384" y="1008"/>
                </a:lnTo>
                <a:lnTo>
                  <a:pt x="2395" y="1009"/>
                </a:lnTo>
                <a:lnTo>
                  <a:pt x="2405" y="1011"/>
                </a:lnTo>
                <a:lnTo>
                  <a:pt x="2414" y="1012"/>
                </a:lnTo>
                <a:lnTo>
                  <a:pt x="2423" y="1015"/>
                </a:lnTo>
                <a:lnTo>
                  <a:pt x="2431" y="1018"/>
                </a:lnTo>
                <a:lnTo>
                  <a:pt x="2440" y="1022"/>
                </a:lnTo>
                <a:lnTo>
                  <a:pt x="2449" y="1026"/>
                </a:lnTo>
                <a:lnTo>
                  <a:pt x="2456" y="1031"/>
                </a:lnTo>
                <a:lnTo>
                  <a:pt x="2463" y="1037"/>
                </a:lnTo>
                <a:lnTo>
                  <a:pt x="2470" y="1042"/>
                </a:lnTo>
                <a:lnTo>
                  <a:pt x="2475" y="1049"/>
                </a:lnTo>
                <a:lnTo>
                  <a:pt x="2482" y="1056"/>
                </a:lnTo>
                <a:lnTo>
                  <a:pt x="2487" y="1064"/>
                </a:lnTo>
                <a:lnTo>
                  <a:pt x="2493" y="1072"/>
                </a:lnTo>
                <a:lnTo>
                  <a:pt x="2497" y="1081"/>
                </a:lnTo>
                <a:lnTo>
                  <a:pt x="2501" y="1090"/>
                </a:lnTo>
                <a:lnTo>
                  <a:pt x="2504" y="1100"/>
                </a:lnTo>
                <a:lnTo>
                  <a:pt x="2509" y="1111"/>
                </a:lnTo>
                <a:lnTo>
                  <a:pt x="2511" y="1121"/>
                </a:lnTo>
                <a:lnTo>
                  <a:pt x="2516" y="1146"/>
                </a:lnTo>
                <a:lnTo>
                  <a:pt x="2519" y="1172"/>
                </a:lnTo>
                <a:lnTo>
                  <a:pt x="2520" y="1201"/>
                </a:lnTo>
                <a:lnTo>
                  <a:pt x="2520" y="1231"/>
                </a:lnTo>
                <a:lnTo>
                  <a:pt x="2520" y="1298"/>
                </a:lnTo>
                <a:lnTo>
                  <a:pt x="2521" y="1367"/>
                </a:lnTo>
                <a:lnTo>
                  <a:pt x="2523" y="1434"/>
                </a:lnTo>
                <a:lnTo>
                  <a:pt x="2525" y="1502"/>
                </a:lnTo>
                <a:lnTo>
                  <a:pt x="2527" y="1568"/>
                </a:lnTo>
                <a:lnTo>
                  <a:pt x="2530" y="1636"/>
                </a:lnTo>
                <a:lnTo>
                  <a:pt x="2533" y="1703"/>
                </a:lnTo>
                <a:lnTo>
                  <a:pt x="2536" y="1770"/>
                </a:lnTo>
                <a:lnTo>
                  <a:pt x="2538" y="1786"/>
                </a:lnTo>
                <a:lnTo>
                  <a:pt x="2538" y="1802"/>
                </a:lnTo>
                <a:lnTo>
                  <a:pt x="2536" y="1817"/>
                </a:lnTo>
                <a:lnTo>
                  <a:pt x="2534" y="1832"/>
                </a:lnTo>
                <a:lnTo>
                  <a:pt x="2531" y="1846"/>
                </a:lnTo>
                <a:lnTo>
                  <a:pt x="2528" y="1860"/>
                </a:lnTo>
                <a:lnTo>
                  <a:pt x="2523" y="1873"/>
                </a:lnTo>
                <a:lnTo>
                  <a:pt x="2516" y="1886"/>
                </a:lnTo>
                <a:lnTo>
                  <a:pt x="2510" y="1897"/>
                </a:lnTo>
                <a:lnTo>
                  <a:pt x="2501" y="1908"/>
                </a:lnTo>
                <a:lnTo>
                  <a:pt x="2493" y="1919"/>
                </a:lnTo>
                <a:lnTo>
                  <a:pt x="2482" y="1930"/>
                </a:lnTo>
                <a:lnTo>
                  <a:pt x="2471" y="1938"/>
                </a:lnTo>
                <a:lnTo>
                  <a:pt x="2458" y="1948"/>
                </a:lnTo>
                <a:lnTo>
                  <a:pt x="2445" y="1956"/>
                </a:lnTo>
                <a:lnTo>
                  <a:pt x="2431" y="1964"/>
                </a:lnTo>
                <a:lnTo>
                  <a:pt x="2409" y="1977"/>
                </a:lnTo>
                <a:lnTo>
                  <a:pt x="2389" y="1990"/>
                </a:lnTo>
                <a:lnTo>
                  <a:pt x="2369" y="2003"/>
                </a:lnTo>
                <a:lnTo>
                  <a:pt x="2350" y="2015"/>
                </a:lnTo>
                <a:lnTo>
                  <a:pt x="2333" y="2029"/>
                </a:lnTo>
                <a:lnTo>
                  <a:pt x="2316" y="2044"/>
                </a:lnTo>
                <a:lnTo>
                  <a:pt x="2300" y="2058"/>
                </a:lnTo>
                <a:lnTo>
                  <a:pt x="2286" y="2073"/>
                </a:lnTo>
                <a:lnTo>
                  <a:pt x="2278" y="2086"/>
                </a:lnTo>
                <a:lnTo>
                  <a:pt x="2271" y="2097"/>
                </a:lnTo>
                <a:lnTo>
                  <a:pt x="2263" y="2107"/>
                </a:lnTo>
                <a:lnTo>
                  <a:pt x="2256" y="2114"/>
                </a:lnTo>
                <a:lnTo>
                  <a:pt x="2247" y="2120"/>
                </a:lnTo>
                <a:lnTo>
                  <a:pt x="2239" y="2125"/>
                </a:lnTo>
                <a:lnTo>
                  <a:pt x="2230" y="2127"/>
                </a:lnTo>
                <a:lnTo>
                  <a:pt x="2220" y="2128"/>
                </a:lnTo>
                <a:lnTo>
                  <a:pt x="2212" y="2127"/>
                </a:lnTo>
                <a:lnTo>
                  <a:pt x="2202" y="2125"/>
                </a:lnTo>
                <a:lnTo>
                  <a:pt x="2193" y="2120"/>
                </a:lnTo>
                <a:lnTo>
                  <a:pt x="2182" y="2114"/>
                </a:lnTo>
                <a:lnTo>
                  <a:pt x="2172" y="2107"/>
                </a:lnTo>
                <a:lnTo>
                  <a:pt x="2162" y="2097"/>
                </a:lnTo>
                <a:lnTo>
                  <a:pt x="2151" y="2086"/>
                </a:lnTo>
                <a:lnTo>
                  <a:pt x="2140" y="2073"/>
                </a:lnTo>
                <a:lnTo>
                  <a:pt x="2126" y="2026"/>
                </a:lnTo>
                <a:lnTo>
                  <a:pt x="2113" y="1978"/>
                </a:lnTo>
                <a:lnTo>
                  <a:pt x="2103" y="1930"/>
                </a:lnTo>
                <a:lnTo>
                  <a:pt x="2094" y="1880"/>
                </a:lnTo>
                <a:lnTo>
                  <a:pt x="2087" y="1831"/>
                </a:lnTo>
                <a:lnTo>
                  <a:pt x="2081" y="1781"/>
                </a:lnTo>
                <a:lnTo>
                  <a:pt x="2077" y="1729"/>
                </a:lnTo>
                <a:lnTo>
                  <a:pt x="2075" y="1678"/>
                </a:lnTo>
                <a:lnTo>
                  <a:pt x="2074" y="1625"/>
                </a:lnTo>
                <a:lnTo>
                  <a:pt x="2074" y="1573"/>
                </a:lnTo>
                <a:lnTo>
                  <a:pt x="2076" y="1519"/>
                </a:lnTo>
                <a:lnTo>
                  <a:pt x="2080" y="1465"/>
                </a:lnTo>
                <a:lnTo>
                  <a:pt x="2086" y="1411"/>
                </a:lnTo>
                <a:lnTo>
                  <a:pt x="2093" y="1355"/>
                </a:lnTo>
                <a:lnTo>
                  <a:pt x="2102" y="1299"/>
                </a:lnTo>
                <a:lnTo>
                  <a:pt x="2111" y="1244"/>
                </a:lnTo>
                <a:lnTo>
                  <a:pt x="2125" y="1217"/>
                </a:lnTo>
                <a:lnTo>
                  <a:pt x="2139" y="1191"/>
                </a:lnTo>
                <a:lnTo>
                  <a:pt x="2152" y="1167"/>
                </a:lnTo>
                <a:lnTo>
                  <a:pt x="2165" y="1146"/>
                </a:lnTo>
                <a:lnTo>
                  <a:pt x="2177" y="1126"/>
                </a:lnTo>
                <a:lnTo>
                  <a:pt x="2187" y="1106"/>
                </a:lnTo>
                <a:lnTo>
                  <a:pt x="2198" y="1089"/>
                </a:lnTo>
                <a:lnTo>
                  <a:pt x="2209" y="1073"/>
                </a:lnTo>
                <a:lnTo>
                  <a:pt x="2327" y="1012"/>
                </a:lnTo>
                <a:close/>
                <a:moveTo>
                  <a:pt x="3014" y="0"/>
                </a:moveTo>
                <a:lnTo>
                  <a:pt x="3029" y="4"/>
                </a:lnTo>
                <a:lnTo>
                  <a:pt x="3043" y="9"/>
                </a:lnTo>
                <a:lnTo>
                  <a:pt x="3058" y="15"/>
                </a:lnTo>
                <a:lnTo>
                  <a:pt x="3071" y="21"/>
                </a:lnTo>
                <a:lnTo>
                  <a:pt x="3085" y="28"/>
                </a:lnTo>
                <a:lnTo>
                  <a:pt x="3098" y="36"/>
                </a:lnTo>
                <a:lnTo>
                  <a:pt x="3110" y="44"/>
                </a:lnTo>
                <a:lnTo>
                  <a:pt x="3122" y="53"/>
                </a:lnTo>
                <a:lnTo>
                  <a:pt x="3134" y="62"/>
                </a:lnTo>
                <a:lnTo>
                  <a:pt x="3146" y="73"/>
                </a:lnTo>
                <a:lnTo>
                  <a:pt x="3157" y="84"/>
                </a:lnTo>
                <a:lnTo>
                  <a:pt x="3167" y="96"/>
                </a:lnTo>
                <a:lnTo>
                  <a:pt x="3178" y="108"/>
                </a:lnTo>
                <a:lnTo>
                  <a:pt x="3188" y="121"/>
                </a:lnTo>
                <a:lnTo>
                  <a:pt x="3197" y="135"/>
                </a:lnTo>
                <a:lnTo>
                  <a:pt x="3206" y="150"/>
                </a:lnTo>
                <a:lnTo>
                  <a:pt x="3214" y="165"/>
                </a:lnTo>
                <a:lnTo>
                  <a:pt x="3223" y="181"/>
                </a:lnTo>
                <a:lnTo>
                  <a:pt x="3230" y="198"/>
                </a:lnTo>
                <a:lnTo>
                  <a:pt x="3238" y="216"/>
                </a:lnTo>
                <a:lnTo>
                  <a:pt x="3245" y="234"/>
                </a:lnTo>
                <a:lnTo>
                  <a:pt x="3252" y="252"/>
                </a:lnTo>
                <a:lnTo>
                  <a:pt x="3258" y="271"/>
                </a:lnTo>
                <a:lnTo>
                  <a:pt x="3264" y="292"/>
                </a:lnTo>
                <a:lnTo>
                  <a:pt x="3269" y="313"/>
                </a:lnTo>
                <a:lnTo>
                  <a:pt x="3274" y="335"/>
                </a:lnTo>
                <a:lnTo>
                  <a:pt x="3280" y="357"/>
                </a:lnTo>
                <a:lnTo>
                  <a:pt x="3284" y="380"/>
                </a:lnTo>
                <a:lnTo>
                  <a:pt x="3291" y="428"/>
                </a:lnTo>
                <a:lnTo>
                  <a:pt x="3297" y="478"/>
                </a:lnTo>
                <a:lnTo>
                  <a:pt x="3303" y="660"/>
                </a:lnTo>
                <a:lnTo>
                  <a:pt x="3310" y="841"/>
                </a:lnTo>
                <a:lnTo>
                  <a:pt x="3315" y="1017"/>
                </a:lnTo>
                <a:lnTo>
                  <a:pt x="3320" y="1191"/>
                </a:lnTo>
                <a:lnTo>
                  <a:pt x="3325" y="1362"/>
                </a:lnTo>
                <a:lnTo>
                  <a:pt x="3328" y="1529"/>
                </a:lnTo>
                <a:lnTo>
                  <a:pt x="3330" y="1694"/>
                </a:lnTo>
                <a:lnTo>
                  <a:pt x="3332" y="1855"/>
                </a:lnTo>
                <a:lnTo>
                  <a:pt x="3334" y="2013"/>
                </a:lnTo>
                <a:lnTo>
                  <a:pt x="3334" y="2169"/>
                </a:lnTo>
                <a:lnTo>
                  <a:pt x="3334" y="2321"/>
                </a:lnTo>
                <a:lnTo>
                  <a:pt x="3334" y="2470"/>
                </a:lnTo>
                <a:lnTo>
                  <a:pt x="3333" y="2617"/>
                </a:lnTo>
                <a:lnTo>
                  <a:pt x="3331" y="2760"/>
                </a:lnTo>
                <a:lnTo>
                  <a:pt x="3329" y="2900"/>
                </a:lnTo>
                <a:lnTo>
                  <a:pt x="3325" y="3037"/>
                </a:lnTo>
                <a:lnTo>
                  <a:pt x="3327" y="3083"/>
                </a:lnTo>
                <a:lnTo>
                  <a:pt x="3328" y="3127"/>
                </a:lnTo>
                <a:lnTo>
                  <a:pt x="3327" y="3169"/>
                </a:lnTo>
                <a:lnTo>
                  <a:pt x="3324" y="3206"/>
                </a:lnTo>
                <a:lnTo>
                  <a:pt x="3320" y="3243"/>
                </a:lnTo>
                <a:lnTo>
                  <a:pt x="3314" y="3276"/>
                </a:lnTo>
                <a:lnTo>
                  <a:pt x="3308" y="3307"/>
                </a:lnTo>
                <a:lnTo>
                  <a:pt x="3299" y="3335"/>
                </a:lnTo>
                <a:lnTo>
                  <a:pt x="3295" y="3348"/>
                </a:lnTo>
                <a:lnTo>
                  <a:pt x="3289" y="3361"/>
                </a:lnTo>
                <a:lnTo>
                  <a:pt x="3284" y="3372"/>
                </a:lnTo>
                <a:lnTo>
                  <a:pt x="3279" y="3383"/>
                </a:lnTo>
                <a:lnTo>
                  <a:pt x="3272" y="3394"/>
                </a:lnTo>
                <a:lnTo>
                  <a:pt x="3266" y="3404"/>
                </a:lnTo>
                <a:lnTo>
                  <a:pt x="3258" y="3413"/>
                </a:lnTo>
                <a:lnTo>
                  <a:pt x="3251" y="3422"/>
                </a:lnTo>
                <a:lnTo>
                  <a:pt x="3243" y="3429"/>
                </a:lnTo>
                <a:lnTo>
                  <a:pt x="3236" y="3437"/>
                </a:lnTo>
                <a:lnTo>
                  <a:pt x="3227" y="3443"/>
                </a:lnTo>
                <a:lnTo>
                  <a:pt x="3219" y="3449"/>
                </a:lnTo>
                <a:lnTo>
                  <a:pt x="3209" y="3454"/>
                </a:lnTo>
                <a:lnTo>
                  <a:pt x="3199" y="3459"/>
                </a:lnTo>
                <a:lnTo>
                  <a:pt x="3190" y="3464"/>
                </a:lnTo>
                <a:lnTo>
                  <a:pt x="3179" y="3467"/>
                </a:lnTo>
                <a:lnTo>
                  <a:pt x="3153" y="3480"/>
                </a:lnTo>
                <a:lnTo>
                  <a:pt x="3127" y="3493"/>
                </a:lnTo>
                <a:lnTo>
                  <a:pt x="3100" y="3508"/>
                </a:lnTo>
                <a:lnTo>
                  <a:pt x="3074" y="3524"/>
                </a:lnTo>
                <a:lnTo>
                  <a:pt x="3046" y="3541"/>
                </a:lnTo>
                <a:lnTo>
                  <a:pt x="3019" y="3560"/>
                </a:lnTo>
                <a:lnTo>
                  <a:pt x="2993" y="3579"/>
                </a:lnTo>
                <a:lnTo>
                  <a:pt x="2966" y="3600"/>
                </a:lnTo>
                <a:lnTo>
                  <a:pt x="2929" y="3631"/>
                </a:lnTo>
                <a:lnTo>
                  <a:pt x="2892" y="3664"/>
                </a:lnTo>
                <a:lnTo>
                  <a:pt x="2853" y="3697"/>
                </a:lnTo>
                <a:lnTo>
                  <a:pt x="2812" y="3734"/>
                </a:lnTo>
                <a:lnTo>
                  <a:pt x="2799" y="3738"/>
                </a:lnTo>
                <a:lnTo>
                  <a:pt x="2787" y="3741"/>
                </a:lnTo>
                <a:lnTo>
                  <a:pt x="2774" y="3744"/>
                </a:lnTo>
                <a:lnTo>
                  <a:pt x="2762" y="3747"/>
                </a:lnTo>
                <a:lnTo>
                  <a:pt x="2750" y="3748"/>
                </a:lnTo>
                <a:lnTo>
                  <a:pt x="2737" y="3749"/>
                </a:lnTo>
                <a:lnTo>
                  <a:pt x="2724" y="3749"/>
                </a:lnTo>
                <a:lnTo>
                  <a:pt x="2711" y="3749"/>
                </a:lnTo>
                <a:lnTo>
                  <a:pt x="2698" y="3748"/>
                </a:lnTo>
                <a:lnTo>
                  <a:pt x="2685" y="3746"/>
                </a:lnTo>
                <a:lnTo>
                  <a:pt x="2672" y="3743"/>
                </a:lnTo>
                <a:lnTo>
                  <a:pt x="2660" y="3740"/>
                </a:lnTo>
                <a:lnTo>
                  <a:pt x="2646" y="3737"/>
                </a:lnTo>
                <a:lnTo>
                  <a:pt x="2633" y="3733"/>
                </a:lnTo>
                <a:lnTo>
                  <a:pt x="2619" y="3727"/>
                </a:lnTo>
                <a:lnTo>
                  <a:pt x="2605" y="3722"/>
                </a:lnTo>
                <a:lnTo>
                  <a:pt x="2579" y="3698"/>
                </a:lnTo>
                <a:lnTo>
                  <a:pt x="2556" y="3677"/>
                </a:lnTo>
                <a:lnTo>
                  <a:pt x="2533" y="3659"/>
                </a:lnTo>
                <a:lnTo>
                  <a:pt x="2512" y="3643"/>
                </a:lnTo>
                <a:lnTo>
                  <a:pt x="2491" y="3629"/>
                </a:lnTo>
                <a:lnTo>
                  <a:pt x="2473" y="3617"/>
                </a:lnTo>
                <a:lnTo>
                  <a:pt x="2455" y="3607"/>
                </a:lnTo>
                <a:lnTo>
                  <a:pt x="2439" y="3600"/>
                </a:lnTo>
                <a:lnTo>
                  <a:pt x="2426" y="3597"/>
                </a:lnTo>
                <a:lnTo>
                  <a:pt x="2413" y="3593"/>
                </a:lnTo>
                <a:lnTo>
                  <a:pt x="2403" y="3589"/>
                </a:lnTo>
                <a:lnTo>
                  <a:pt x="2392" y="3584"/>
                </a:lnTo>
                <a:lnTo>
                  <a:pt x="2383" y="3579"/>
                </a:lnTo>
                <a:lnTo>
                  <a:pt x="2376" y="3573"/>
                </a:lnTo>
                <a:lnTo>
                  <a:pt x="2369" y="3568"/>
                </a:lnTo>
                <a:lnTo>
                  <a:pt x="2364" y="3560"/>
                </a:lnTo>
                <a:lnTo>
                  <a:pt x="2360" y="3554"/>
                </a:lnTo>
                <a:lnTo>
                  <a:pt x="2357" y="3546"/>
                </a:lnTo>
                <a:lnTo>
                  <a:pt x="2354" y="3538"/>
                </a:lnTo>
                <a:lnTo>
                  <a:pt x="2354" y="3529"/>
                </a:lnTo>
                <a:lnTo>
                  <a:pt x="2354" y="3520"/>
                </a:lnTo>
                <a:lnTo>
                  <a:pt x="2357" y="3511"/>
                </a:lnTo>
                <a:lnTo>
                  <a:pt x="2359" y="3501"/>
                </a:lnTo>
                <a:lnTo>
                  <a:pt x="2363" y="3490"/>
                </a:lnTo>
                <a:lnTo>
                  <a:pt x="2362" y="3484"/>
                </a:lnTo>
                <a:lnTo>
                  <a:pt x="2361" y="3475"/>
                </a:lnTo>
                <a:lnTo>
                  <a:pt x="2358" y="3466"/>
                </a:lnTo>
                <a:lnTo>
                  <a:pt x="2353" y="3454"/>
                </a:lnTo>
                <a:lnTo>
                  <a:pt x="2343" y="3427"/>
                </a:lnTo>
                <a:lnTo>
                  <a:pt x="2327" y="3393"/>
                </a:lnTo>
                <a:lnTo>
                  <a:pt x="2316" y="3382"/>
                </a:lnTo>
                <a:lnTo>
                  <a:pt x="2306" y="3372"/>
                </a:lnTo>
                <a:lnTo>
                  <a:pt x="2299" y="3362"/>
                </a:lnTo>
                <a:lnTo>
                  <a:pt x="2291" y="3353"/>
                </a:lnTo>
                <a:lnTo>
                  <a:pt x="2286" y="3344"/>
                </a:lnTo>
                <a:lnTo>
                  <a:pt x="2282" y="3336"/>
                </a:lnTo>
                <a:lnTo>
                  <a:pt x="2278" y="3327"/>
                </a:lnTo>
                <a:lnTo>
                  <a:pt x="2276" y="3320"/>
                </a:lnTo>
                <a:lnTo>
                  <a:pt x="2276" y="3314"/>
                </a:lnTo>
                <a:lnTo>
                  <a:pt x="2276" y="3307"/>
                </a:lnTo>
                <a:lnTo>
                  <a:pt x="2278" y="3302"/>
                </a:lnTo>
                <a:lnTo>
                  <a:pt x="2282" y="3296"/>
                </a:lnTo>
                <a:lnTo>
                  <a:pt x="2286" y="3291"/>
                </a:lnTo>
                <a:lnTo>
                  <a:pt x="2291" y="3287"/>
                </a:lnTo>
                <a:lnTo>
                  <a:pt x="2299" y="3284"/>
                </a:lnTo>
                <a:lnTo>
                  <a:pt x="2306" y="3280"/>
                </a:lnTo>
                <a:lnTo>
                  <a:pt x="2343" y="3272"/>
                </a:lnTo>
                <a:lnTo>
                  <a:pt x="2378" y="3265"/>
                </a:lnTo>
                <a:lnTo>
                  <a:pt x="2412" y="3261"/>
                </a:lnTo>
                <a:lnTo>
                  <a:pt x="2446" y="3259"/>
                </a:lnTo>
                <a:lnTo>
                  <a:pt x="2480" y="3258"/>
                </a:lnTo>
                <a:lnTo>
                  <a:pt x="2513" y="3260"/>
                </a:lnTo>
                <a:lnTo>
                  <a:pt x="2545" y="3263"/>
                </a:lnTo>
                <a:lnTo>
                  <a:pt x="2577" y="3269"/>
                </a:lnTo>
                <a:lnTo>
                  <a:pt x="2590" y="3265"/>
                </a:lnTo>
                <a:lnTo>
                  <a:pt x="2603" y="3261"/>
                </a:lnTo>
                <a:lnTo>
                  <a:pt x="2616" y="3257"/>
                </a:lnTo>
                <a:lnTo>
                  <a:pt x="2627" y="3252"/>
                </a:lnTo>
                <a:lnTo>
                  <a:pt x="2639" y="3247"/>
                </a:lnTo>
                <a:lnTo>
                  <a:pt x="2651" y="3241"/>
                </a:lnTo>
                <a:lnTo>
                  <a:pt x="2663" y="3234"/>
                </a:lnTo>
                <a:lnTo>
                  <a:pt x="2674" y="3228"/>
                </a:lnTo>
                <a:lnTo>
                  <a:pt x="2684" y="3220"/>
                </a:lnTo>
                <a:lnTo>
                  <a:pt x="2695" y="3213"/>
                </a:lnTo>
                <a:lnTo>
                  <a:pt x="2705" y="3204"/>
                </a:lnTo>
                <a:lnTo>
                  <a:pt x="2714" y="3196"/>
                </a:lnTo>
                <a:lnTo>
                  <a:pt x="2724" y="3186"/>
                </a:lnTo>
                <a:lnTo>
                  <a:pt x="2732" y="3176"/>
                </a:lnTo>
                <a:lnTo>
                  <a:pt x="2741" y="3167"/>
                </a:lnTo>
                <a:lnTo>
                  <a:pt x="2750" y="3156"/>
                </a:lnTo>
                <a:lnTo>
                  <a:pt x="2758" y="3144"/>
                </a:lnTo>
                <a:lnTo>
                  <a:pt x="2766" y="3132"/>
                </a:lnTo>
                <a:lnTo>
                  <a:pt x="2773" y="3121"/>
                </a:lnTo>
                <a:lnTo>
                  <a:pt x="2780" y="3108"/>
                </a:lnTo>
                <a:lnTo>
                  <a:pt x="2793" y="3081"/>
                </a:lnTo>
                <a:lnTo>
                  <a:pt x="2805" y="3052"/>
                </a:lnTo>
                <a:lnTo>
                  <a:pt x="2816" y="3021"/>
                </a:lnTo>
                <a:lnTo>
                  <a:pt x="2826" y="2988"/>
                </a:lnTo>
                <a:lnTo>
                  <a:pt x="2833" y="2952"/>
                </a:lnTo>
                <a:lnTo>
                  <a:pt x="2840" y="2916"/>
                </a:lnTo>
                <a:lnTo>
                  <a:pt x="2845" y="2802"/>
                </a:lnTo>
                <a:lnTo>
                  <a:pt x="2849" y="2689"/>
                </a:lnTo>
                <a:lnTo>
                  <a:pt x="2853" y="2575"/>
                </a:lnTo>
                <a:lnTo>
                  <a:pt x="2857" y="2460"/>
                </a:lnTo>
                <a:lnTo>
                  <a:pt x="2860" y="2344"/>
                </a:lnTo>
                <a:lnTo>
                  <a:pt x="2863" y="2229"/>
                </a:lnTo>
                <a:lnTo>
                  <a:pt x="2865" y="2112"/>
                </a:lnTo>
                <a:lnTo>
                  <a:pt x="2867" y="1995"/>
                </a:lnTo>
                <a:lnTo>
                  <a:pt x="2868" y="1877"/>
                </a:lnTo>
                <a:lnTo>
                  <a:pt x="2870" y="1758"/>
                </a:lnTo>
                <a:lnTo>
                  <a:pt x="2871" y="1640"/>
                </a:lnTo>
                <a:lnTo>
                  <a:pt x="2871" y="1520"/>
                </a:lnTo>
                <a:lnTo>
                  <a:pt x="2871" y="1400"/>
                </a:lnTo>
                <a:lnTo>
                  <a:pt x="2871" y="1280"/>
                </a:lnTo>
                <a:lnTo>
                  <a:pt x="2870" y="1159"/>
                </a:lnTo>
                <a:lnTo>
                  <a:pt x="2868" y="1037"/>
                </a:lnTo>
                <a:lnTo>
                  <a:pt x="2863" y="1007"/>
                </a:lnTo>
                <a:lnTo>
                  <a:pt x="2858" y="979"/>
                </a:lnTo>
                <a:lnTo>
                  <a:pt x="2852" y="952"/>
                </a:lnTo>
                <a:lnTo>
                  <a:pt x="2846" y="927"/>
                </a:lnTo>
                <a:lnTo>
                  <a:pt x="2840" y="904"/>
                </a:lnTo>
                <a:lnTo>
                  <a:pt x="2833" y="882"/>
                </a:lnTo>
                <a:lnTo>
                  <a:pt x="2827" y="862"/>
                </a:lnTo>
                <a:lnTo>
                  <a:pt x="2820" y="843"/>
                </a:lnTo>
                <a:lnTo>
                  <a:pt x="2813" y="815"/>
                </a:lnTo>
                <a:lnTo>
                  <a:pt x="2807" y="785"/>
                </a:lnTo>
                <a:lnTo>
                  <a:pt x="2803" y="754"/>
                </a:lnTo>
                <a:lnTo>
                  <a:pt x="2799" y="720"/>
                </a:lnTo>
                <a:lnTo>
                  <a:pt x="2796" y="687"/>
                </a:lnTo>
                <a:lnTo>
                  <a:pt x="2793" y="651"/>
                </a:lnTo>
                <a:lnTo>
                  <a:pt x="2792" y="614"/>
                </a:lnTo>
                <a:lnTo>
                  <a:pt x="2791" y="575"/>
                </a:lnTo>
                <a:lnTo>
                  <a:pt x="2785" y="535"/>
                </a:lnTo>
                <a:lnTo>
                  <a:pt x="2780" y="496"/>
                </a:lnTo>
                <a:lnTo>
                  <a:pt x="2775" y="459"/>
                </a:lnTo>
                <a:lnTo>
                  <a:pt x="2771" y="425"/>
                </a:lnTo>
                <a:lnTo>
                  <a:pt x="2769" y="391"/>
                </a:lnTo>
                <a:lnTo>
                  <a:pt x="2768" y="361"/>
                </a:lnTo>
                <a:lnTo>
                  <a:pt x="2768" y="332"/>
                </a:lnTo>
                <a:lnTo>
                  <a:pt x="2768" y="305"/>
                </a:lnTo>
                <a:lnTo>
                  <a:pt x="2770" y="280"/>
                </a:lnTo>
                <a:lnTo>
                  <a:pt x="2773" y="256"/>
                </a:lnTo>
                <a:lnTo>
                  <a:pt x="2776" y="236"/>
                </a:lnTo>
                <a:lnTo>
                  <a:pt x="2782" y="217"/>
                </a:lnTo>
                <a:lnTo>
                  <a:pt x="2787" y="198"/>
                </a:lnTo>
                <a:lnTo>
                  <a:pt x="2795" y="183"/>
                </a:lnTo>
                <a:lnTo>
                  <a:pt x="2802" y="170"/>
                </a:lnTo>
                <a:lnTo>
                  <a:pt x="2812" y="159"/>
                </a:lnTo>
                <a:lnTo>
                  <a:pt x="2829" y="135"/>
                </a:lnTo>
                <a:lnTo>
                  <a:pt x="2847" y="113"/>
                </a:lnTo>
                <a:lnTo>
                  <a:pt x="2864" y="92"/>
                </a:lnTo>
                <a:lnTo>
                  <a:pt x="2882" y="73"/>
                </a:lnTo>
                <a:lnTo>
                  <a:pt x="2901" y="56"/>
                </a:lnTo>
                <a:lnTo>
                  <a:pt x="2920" y="40"/>
                </a:lnTo>
                <a:lnTo>
                  <a:pt x="2938" y="26"/>
                </a:lnTo>
                <a:lnTo>
                  <a:pt x="2957" y="13"/>
                </a:lnTo>
                <a:lnTo>
                  <a:pt x="3014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  <a:effectLst>
            <a:outerShdw dist="63504" dir="3183908" blurRad="0" rotWithShape="0">
              <a:srgbClr val="41f14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333520" y="868320"/>
            <a:ext cx="777960" cy="847800"/>
          </a:xfrm>
          <a:custGeom>
            <a:avLst/>
            <a:gdLst/>
            <a:ahLst/>
            <a:rect l="l" t="t" r="r" b="b"/>
            <a:pathLst>
              <a:path w="3430" h="3743">
                <a:moveTo>
                  <a:pt x="486" y="860"/>
                </a:moveTo>
                <a:lnTo>
                  <a:pt x="523" y="845"/>
                </a:lnTo>
                <a:lnTo>
                  <a:pt x="560" y="832"/>
                </a:lnTo>
                <a:lnTo>
                  <a:pt x="599" y="819"/>
                </a:lnTo>
                <a:lnTo>
                  <a:pt x="637" y="806"/>
                </a:lnTo>
                <a:lnTo>
                  <a:pt x="676" y="794"/>
                </a:lnTo>
                <a:lnTo>
                  <a:pt x="716" y="783"/>
                </a:lnTo>
                <a:lnTo>
                  <a:pt x="756" y="773"/>
                </a:lnTo>
                <a:lnTo>
                  <a:pt x="798" y="764"/>
                </a:lnTo>
                <a:lnTo>
                  <a:pt x="808" y="745"/>
                </a:lnTo>
                <a:lnTo>
                  <a:pt x="820" y="728"/>
                </a:lnTo>
                <a:lnTo>
                  <a:pt x="832" y="713"/>
                </a:lnTo>
                <a:lnTo>
                  <a:pt x="845" y="699"/>
                </a:lnTo>
                <a:lnTo>
                  <a:pt x="858" y="687"/>
                </a:lnTo>
                <a:lnTo>
                  <a:pt x="871" y="677"/>
                </a:lnTo>
                <a:lnTo>
                  <a:pt x="883" y="670"/>
                </a:lnTo>
                <a:lnTo>
                  <a:pt x="897" y="663"/>
                </a:lnTo>
                <a:lnTo>
                  <a:pt x="911" y="659"/>
                </a:lnTo>
                <a:lnTo>
                  <a:pt x="926" y="656"/>
                </a:lnTo>
                <a:lnTo>
                  <a:pt x="941" y="656"/>
                </a:lnTo>
                <a:lnTo>
                  <a:pt x="956" y="656"/>
                </a:lnTo>
                <a:lnTo>
                  <a:pt x="971" y="659"/>
                </a:lnTo>
                <a:lnTo>
                  <a:pt x="987" y="663"/>
                </a:lnTo>
                <a:lnTo>
                  <a:pt x="1003" y="671"/>
                </a:lnTo>
                <a:lnTo>
                  <a:pt x="1019" y="678"/>
                </a:lnTo>
                <a:lnTo>
                  <a:pt x="1046" y="691"/>
                </a:lnTo>
                <a:lnTo>
                  <a:pt x="1071" y="704"/>
                </a:lnTo>
                <a:lnTo>
                  <a:pt x="1093" y="717"/>
                </a:lnTo>
                <a:lnTo>
                  <a:pt x="1116" y="730"/>
                </a:lnTo>
                <a:lnTo>
                  <a:pt x="1136" y="743"/>
                </a:lnTo>
                <a:lnTo>
                  <a:pt x="1154" y="757"/>
                </a:lnTo>
                <a:lnTo>
                  <a:pt x="1172" y="770"/>
                </a:lnTo>
                <a:lnTo>
                  <a:pt x="1188" y="784"/>
                </a:lnTo>
                <a:lnTo>
                  <a:pt x="1203" y="799"/>
                </a:lnTo>
                <a:lnTo>
                  <a:pt x="1215" y="814"/>
                </a:lnTo>
                <a:lnTo>
                  <a:pt x="1227" y="829"/>
                </a:lnTo>
                <a:lnTo>
                  <a:pt x="1237" y="844"/>
                </a:lnTo>
                <a:lnTo>
                  <a:pt x="1245" y="860"/>
                </a:lnTo>
                <a:lnTo>
                  <a:pt x="1253" y="877"/>
                </a:lnTo>
                <a:lnTo>
                  <a:pt x="1258" y="893"/>
                </a:lnTo>
                <a:lnTo>
                  <a:pt x="1263" y="910"/>
                </a:lnTo>
                <a:lnTo>
                  <a:pt x="1259" y="932"/>
                </a:lnTo>
                <a:lnTo>
                  <a:pt x="1254" y="960"/>
                </a:lnTo>
                <a:lnTo>
                  <a:pt x="1245" y="992"/>
                </a:lnTo>
                <a:lnTo>
                  <a:pt x="1235" y="1028"/>
                </a:lnTo>
                <a:lnTo>
                  <a:pt x="1221" y="1067"/>
                </a:lnTo>
                <a:lnTo>
                  <a:pt x="1205" y="1111"/>
                </a:lnTo>
                <a:lnTo>
                  <a:pt x="1187" y="1161"/>
                </a:lnTo>
                <a:lnTo>
                  <a:pt x="1165" y="1213"/>
                </a:lnTo>
                <a:lnTo>
                  <a:pt x="1159" y="1243"/>
                </a:lnTo>
                <a:lnTo>
                  <a:pt x="1153" y="1274"/>
                </a:lnTo>
                <a:lnTo>
                  <a:pt x="1148" y="1304"/>
                </a:lnTo>
                <a:lnTo>
                  <a:pt x="1145" y="1335"/>
                </a:lnTo>
                <a:lnTo>
                  <a:pt x="1142" y="1366"/>
                </a:lnTo>
                <a:lnTo>
                  <a:pt x="1139" y="1398"/>
                </a:lnTo>
                <a:lnTo>
                  <a:pt x="1137" y="1429"/>
                </a:lnTo>
                <a:lnTo>
                  <a:pt x="1137" y="1460"/>
                </a:lnTo>
                <a:lnTo>
                  <a:pt x="1150" y="1458"/>
                </a:lnTo>
                <a:lnTo>
                  <a:pt x="1163" y="1455"/>
                </a:lnTo>
                <a:lnTo>
                  <a:pt x="1176" y="1454"/>
                </a:lnTo>
                <a:lnTo>
                  <a:pt x="1188" y="1454"/>
                </a:lnTo>
                <a:lnTo>
                  <a:pt x="1198" y="1455"/>
                </a:lnTo>
                <a:lnTo>
                  <a:pt x="1209" y="1458"/>
                </a:lnTo>
                <a:lnTo>
                  <a:pt x="1219" y="1460"/>
                </a:lnTo>
                <a:lnTo>
                  <a:pt x="1228" y="1463"/>
                </a:lnTo>
                <a:lnTo>
                  <a:pt x="1237" y="1467"/>
                </a:lnTo>
                <a:lnTo>
                  <a:pt x="1245" y="1473"/>
                </a:lnTo>
                <a:lnTo>
                  <a:pt x="1253" y="1478"/>
                </a:lnTo>
                <a:lnTo>
                  <a:pt x="1260" y="1485"/>
                </a:lnTo>
                <a:lnTo>
                  <a:pt x="1267" y="1493"/>
                </a:lnTo>
                <a:lnTo>
                  <a:pt x="1272" y="1502"/>
                </a:lnTo>
                <a:lnTo>
                  <a:pt x="1278" y="1511"/>
                </a:lnTo>
                <a:lnTo>
                  <a:pt x="1283" y="1521"/>
                </a:lnTo>
                <a:lnTo>
                  <a:pt x="1284" y="1547"/>
                </a:lnTo>
                <a:lnTo>
                  <a:pt x="1284" y="1570"/>
                </a:lnTo>
                <a:lnTo>
                  <a:pt x="1284" y="1594"/>
                </a:lnTo>
                <a:lnTo>
                  <a:pt x="1283" y="1615"/>
                </a:lnTo>
                <a:lnTo>
                  <a:pt x="1281" y="1636"/>
                </a:lnTo>
                <a:lnTo>
                  <a:pt x="1278" y="1655"/>
                </a:lnTo>
                <a:lnTo>
                  <a:pt x="1274" y="1674"/>
                </a:lnTo>
                <a:lnTo>
                  <a:pt x="1270" y="1691"/>
                </a:lnTo>
                <a:lnTo>
                  <a:pt x="1265" y="1707"/>
                </a:lnTo>
                <a:lnTo>
                  <a:pt x="1258" y="1722"/>
                </a:lnTo>
                <a:lnTo>
                  <a:pt x="1252" y="1736"/>
                </a:lnTo>
                <a:lnTo>
                  <a:pt x="1244" y="1748"/>
                </a:lnTo>
                <a:lnTo>
                  <a:pt x="1236" y="1760"/>
                </a:lnTo>
                <a:lnTo>
                  <a:pt x="1227" y="1771"/>
                </a:lnTo>
                <a:lnTo>
                  <a:pt x="1217" y="1779"/>
                </a:lnTo>
                <a:lnTo>
                  <a:pt x="1206" y="1788"/>
                </a:lnTo>
                <a:lnTo>
                  <a:pt x="1133" y="1836"/>
                </a:lnTo>
                <a:lnTo>
                  <a:pt x="1059" y="1881"/>
                </a:lnTo>
                <a:lnTo>
                  <a:pt x="983" y="1925"/>
                </a:lnTo>
                <a:lnTo>
                  <a:pt x="907" y="1967"/>
                </a:lnTo>
                <a:lnTo>
                  <a:pt x="831" y="2007"/>
                </a:lnTo>
                <a:lnTo>
                  <a:pt x="753" y="2045"/>
                </a:lnTo>
                <a:lnTo>
                  <a:pt x="675" y="2081"/>
                </a:lnTo>
                <a:lnTo>
                  <a:pt x="595" y="2116"/>
                </a:lnTo>
                <a:lnTo>
                  <a:pt x="581" y="2121"/>
                </a:lnTo>
                <a:lnTo>
                  <a:pt x="570" y="2125"/>
                </a:lnTo>
                <a:lnTo>
                  <a:pt x="557" y="2132"/>
                </a:lnTo>
                <a:lnTo>
                  <a:pt x="546" y="2137"/>
                </a:lnTo>
                <a:lnTo>
                  <a:pt x="534" y="2144"/>
                </a:lnTo>
                <a:lnTo>
                  <a:pt x="525" y="2150"/>
                </a:lnTo>
                <a:lnTo>
                  <a:pt x="515" y="2158"/>
                </a:lnTo>
                <a:lnTo>
                  <a:pt x="506" y="2165"/>
                </a:lnTo>
                <a:lnTo>
                  <a:pt x="498" y="2173"/>
                </a:lnTo>
                <a:lnTo>
                  <a:pt x="490" y="2180"/>
                </a:lnTo>
                <a:lnTo>
                  <a:pt x="483" y="2189"/>
                </a:lnTo>
                <a:lnTo>
                  <a:pt x="476" y="2198"/>
                </a:lnTo>
                <a:lnTo>
                  <a:pt x="471" y="2207"/>
                </a:lnTo>
                <a:lnTo>
                  <a:pt x="466" y="2218"/>
                </a:lnTo>
                <a:lnTo>
                  <a:pt x="461" y="2227"/>
                </a:lnTo>
                <a:lnTo>
                  <a:pt x="458" y="2238"/>
                </a:lnTo>
                <a:lnTo>
                  <a:pt x="449" y="2243"/>
                </a:lnTo>
                <a:lnTo>
                  <a:pt x="440" y="2248"/>
                </a:lnTo>
                <a:lnTo>
                  <a:pt x="430" y="2250"/>
                </a:lnTo>
                <a:lnTo>
                  <a:pt x="420" y="2252"/>
                </a:lnTo>
                <a:lnTo>
                  <a:pt x="409" y="2253"/>
                </a:lnTo>
                <a:lnTo>
                  <a:pt x="398" y="2252"/>
                </a:lnTo>
                <a:lnTo>
                  <a:pt x="387" y="2250"/>
                </a:lnTo>
                <a:lnTo>
                  <a:pt x="375" y="2247"/>
                </a:lnTo>
                <a:lnTo>
                  <a:pt x="362" y="2242"/>
                </a:lnTo>
                <a:lnTo>
                  <a:pt x="349" y="2237"/>
                </a:lnTo>
                <a:lnTo>
                  <a:pt x="336" y="2229"/>
                </a:lnTo>
                <a:lnTo>
                  <a:pt x="322" y="2222"/>
                </a:lnTo>
                <a:lnTo>
                  <a:pt x="308" y="2212"/>
                </a:lnTo>
                <a:lnTo>
                  <a:pt x="293" y="2201"/>
                </a:lnTo>
                <a:lnTo>
                  <a:pt x="278" y="2190"/>
                </a:lnTo>
                <a:lnTo>
                  <a:pt x="263" y="2177"/>
                </a:lnTo>
                <a:lnTo>
                  <a:pt x="243" y="2149"/>
                </a:lnTo>
                <a:lnTo>
                  <a:pt x="224" y="2119"/>
                </a:lnTo>
                <a:lnTo>
                  <a:pt x="204" y="2088"/>
                </a:lnTo>
                <a:lnTo>
                  <a:pt x="187" y="2055"/>
                </a:lnTo>
                <a:lnTo>
                  <a:pt x="170" y="2020"/>
                </a:lnTo>
                <a:lnTo>
                  <a:pt x="154" y="1984"/>
                </a:lnTo>
                <a:lnTo>
                  <a:pt x="139" y="1945"/>
                </a:lnTo>
                <a:lnTo>
                  <a:pt x="125" y="1907"/>
                </a:lnTo>
                <a:lnTo>
                  <a:pt x="111" y="1865"/>
                </a:lnTo>
                <a:lnTo>
                  <a:pt x="98" y="1822"/>
                </a:lnTo>
                <a:lnTo>
                  <a:pt x="87" y="1778"/>
                </a:lnTo>
                <a:lnTo>
                  <a:pt x="76" y="1732"/>
                </a:lnTo>
                <a:lnTo>
                  <a:pt x="66" y="1685"/>
                </a:lnTo>
                <a:lnTo>
                  <a:pt x="57" y="1636"/>
                </a:lnTo>
                <a:lnTo>
                  <a:pt x="48" y="1585"/>
                </a:lnTo>
                <a:lnTo>
                  <a:pt x="41" y="1533"/>
                </a:lnTo>
                <a:lnTo>
                  <a:pt x="27" y="1406"/>
                </a:lnTo>
                <a:lnTo>
                  <a:pt x="16" y="1291"/>
                </a:lnTo>
                <a:lnTo>
                  <a:pt x="7" y="1187"/>
                </a:lnTo>
                <a:lnTo>
                  <a:pt x="2" y="1095"/>
                </a:lnTo>
                <a:lnTo>
                  <a:pt x="1" y="1053"/>
                </a:lnTo>
                <a:lnTo>
                  <a:pt x="0" y="1014"/>
                </a:lnTo>
                <a:lnTo>
                  <a:pt x="0" y="977"/>
                </a:lnTo>
                <a:lnTo>
                  <a:pt x="0" y="943"/>
                </a:lnTo>
                <a:lnTo>
                  <a:pt x="1" y="912"/>
                </a:lnTo>
                <a:lnTo>
                  <a:pt x="3" y="884"/>
                </a:lnTo>
                <a:lnTo>
                  <a:pt x="5" y="858"/>
                </a:lnTo>
                <a:lnTo>
                  <a:pt x="8" y="836"/>
                </a:lnTo>
                <a:lnTo>
                  <a:pt x="17" y="824"/>
                </a:lnTo>
                <a:lnTo>
                  <a:pt x="27" y="812"/>
                </a:lnTo>
                <a:lnTo>
                  <a:pt x="36" y="802"/>
                </a:lnTo>
                <a:lnTo>
                  <a:pt x="49" y="790"/>
                </a:lnTo>
                <a:lnTo>
                  <a:pt x="62" y="779"/>
                </a:lnTo>
                <a:lnTo>
                  <a:pt x="76" y="768"/>
                </a:lnTo>
                <a:lnTo>
                  <a:pt x="91" y="759"/>
                </a:lnTo>
                <a:lnTo>
                  <a:pt x="108" y="748"/>
                </a:lnTo>
                <a:lnTo>
                  <a:pt x="125" y="738"/>
                </a:lnTo>
                <a:lnTo>
                  <a:pt x="144" y="729"/>
                </a:lnTo>
                <a:lnTo>
                  <a:pt x="165" y="720"/>
                </a:lnTo>
                <a:lnTo>
                  <a:pt x="186" y="711"/>
                </a:lnTo>
                <a:lnTo>
                  <a:pt x="209" y="703"/>
                </a:lnTo>
                <a:lnTo>
                  <a:pt x="232" y="694"/>
                </a:lnTo>
                <a:lnTo>
                  <a:pt x="258" y="686"/>
                </a:lnTo>
                <a:lnTo>
                  <a:pt x="284" y="678"/>
                </a:lnTo>
                <a:lnTo>
                  <a:pt x="308" y="677"/>
                </a:lnTo>
                <a:lnTo>
                  <a:pt x="332" y="677"/>
                </a:lnTo>
                <a:lnTo>
                  <a:pt x="353" y="678"/>
                </a:lnTo>
                <a:lnTo>
                  <a:pt x="373" y="680"/>
                </a:lnTo>
                <a:lnTo>
                  <a:pt x="392" y="684"/>
                </a:lnTo>
                <a:lnTo>
                  <a:pt x="409" y="688"/>
                </a:lnTo>
                <a:lnTo>
                  <a:pt x="424" y="693"/>
                </a:lnTo>
                <a:lnTo>
                  <a:pt x="438" y="700"/>
                </a:lnTo>
                <a:lnTo>
                  <a:pt x="451" y="707"/>
                </a:lnTo>
                <a:lnTo>
                  <a:pt x="463" y="716"/>
                </a:lnTo>
                <a:lnTo>
                  <a:pt x="472" y="725"/>
                </a:lnTo>
                <a:lnTo>
                  <a:pt x="480" y="735"/>
                </a:lnTo>
                <a:lnTo>
                  <a:pt x="487" y="747"/>
                </a:lnTo>
                <a:lnTo>
                  <a:pt x="491" y="760"/>
                </a:lnTo>
                <a:lnTo>
                  <a:pt x="496" y="773"/>
                </a:lnTo>
                <a:lnTo>
                  <a:pt x="498" y="788"/>
                </a:lnTo>
                <a:lnTo>
                  <a:pt x="486" y="860"/>
                </a:lnTo>
                <a:close/>
                <a:moveTo>
                  <a:pt x="2606" y="67"/>
                </a:moveTo>
                <a:lnTo>
                  <a:pt x="2631" y="78"/>
                </a:lnTo>
                <a:lnTo>
                  <a:pt x="2655" y="91"/>
                </a:lnTo>
                <a:lnTo>
                  <a:pt x="2677" y="104"/>
                </a:lnTo>
                <a:lnTo>
                  <a:pt x="2698" y="119"/>
                </a:lnTo>
                <a:lnTo>
                  <a:pt x="2718" y="135"/>
                </a:lnTo>
                <a:lnTo>
                  <a:pt x="2736" y="152"/>
                </a:lnTo>
                <a:lnTo>
                  <a:pt x="2753" y="170"/>
                </a:lnTo>
                <a:lnTo>
                  <a:pt x="2769" y="189"/>
                </a:lnTo>
                <a:lnTo>
                  <a:pt x="2783" y="210"/>
                </a:lnTo>
                <a:lnTo>
                  <a:pt x="2797" y="231"/>
                </a:lnTo>
                <a:lnTo>
                  <a:pt x="2809" y="255"/>
                </a:lnTo>
                <a:lnTo>
                  <a:pt x="2820" y="278"/>
                </a:lnTo>
                <a:lnTo>
                  <a:pt x="2828" y="304"/>
                </a:lnTo>
                <a:lnTo>
                  <a:pt x="2836" y="331"/>
                </a:lnTo>
                <a:lnTo>
                  <a:pt x="2842" y="358"/>
                </a:lnTo>
                <a:lnTo>
                  <a:pt x="2848" y="387"/>
                </a:lnTo>
                <a:lnTo>
                  <a:pt x="2843" y="453"/>
                </a:lnTo>
                <a:lnTo>
                  <a:pt x="2838" y="520"/>
                </a:lnTo>
                <a:lnTo>
                  <a:pt x="2832" y="584"/>
                </a:lnTo>
                <a:lnTo>
                  <a:pt x="2825" y="648"/>
                </a:lnTo>
                <a:lnTo>
                  <a:pt x="2818" y="711"/>
                </a:lnTo>
                <a:lnTo>
                  <a:pt x="2809" y="774"/>
                </a:lnTo>
                <a:lnTo>
                  <a:pt x="2801" y="836"/>
                </a:lnTo>
                <a:lnTo>
                  <a:pt x="2792" y="897"/>
                </a:lnTo>
                <a:lnTo>
                  <a:pt x="2781" y="957"/>
                </a:lnTo>
                <a:lnTo>
                  <a:pt x="2772" y="1017"/>
                </a:lnTo>
                <a:lnTo>
                  <a:pt x="2760" y="1076"/>
                </a:lnTo>
                <a:lnTo>
                  <a:pt x="2748" y="1134"/>
                </a:lnTo>
                <a:lnTo>
                  <a:pt x="2736" y="1191"/>
                </a:lnTo>
                <a:lnTo>
                  <a:pt x="2722" y="1247"/>
                </a:lnTo>
                <a:lnTo>
                  <a:pt x="2710" y="1303"/>
                </a:lnTo>
                <a:lnTo>
                  <a:pt x="2695" y="1359"/>
                </a:lnTo>
                <a:lnTo>
                  <a:pt x="2688" y="1377"/>
                </a:lnTo>
                <a:lnTo>
                  <a:pt x="2681" y="1394"/>
                </a:lnTo>
                <a:lnTo>
                  <a:pt x="2672" y="1411"/>
                </a:lnTo>
                <a:lnTo>
                  <a:pt x="2665" y="1429"/>
                </a:lnTo>
                <a:lnTo>
                  <a:pt x="2655" y="1445"/>
                </a:lnTo>
                <a:lnTo>
                  <a:pt x="2646" y="1461"/>
                </a:lnTo>
                <a:lnTo>
                  <a:pt x="2637" y="1476"/>
                </a:lnTo>
                <a:lnTo>
                  <a:pt x="2627" y="1491"/>
                </a:lnTo>
                <a:lnTo>
                  <a:pt x="2616" y="1505"/>
                </a:lnTo>
                <a:lnTo>
                  <a:pt x="2606" y="1519"/>
                </a:lnTo>
                <a:lnTo>
                  <a:pt x="2595" y="1533"/>
                </a:lnTo>
                <a:lnTo>
                  <a:pt x="2583" y="1545"/>
                </a:lnTo>
                <a:lnTo>
                  <a:pt x="2571" y="1558"/>
                </a:lnTo>
                <a:lnTo>
                  <a:pt x="2559" y="1570"/>
                </a:lnTo>
                <a:lnTo>
                  <a:pt x="2546" y="1581"/>
                </a:lnTo>
                <a:lnTo>
                  <a:pt x="2533" y="1593"/>
                </a:lnTo>
                <a:lnTo>
                  <a:pt x="2519" y="1603"/>
                </a:lnTo>
                <a:lnTo>
                  <a:pt x="2505" y="1613"/>
                </a:lnTo>
                <a:lnTo>
                  <a:pt x="2491" y="1623"/>
                </a:lnTo>
                <a:lnTo>
                  <a:pt x="2476" y="1631"/>
                </a:lnTo>
                <a:lnTo>
                  <a:pt x="2461" y="1640"/>
                </a:lnTo>
                <a:lnTo>
                  <a:pt x="2445" y="1648"/>
                </a:lnTo>
                <a:lnTo>
                  <a:pt x="2429" y="1656"/>
                </a:lnTo>
                <a:lnTo>
                  <a:pt x="2413" y="1663"/>
                </a:lnTo>
                <a:lnTo>
                  <a:pt x="2396" y="1670"/>
                </a:lnTo>
                <a:lnTo>
                  <a:pt x="2379" y="1676"/>
                </a:lnTo>
                <a:lnTo>
                  <a:pt x="2360" y="1682"/>
                </a:lnTo>
                <a:lnTo>
                  <a:pt x="2342" y="1687"/>
                </a:lnTo>
                <a:lnTo>
                  <a:pt x="2324" y="1691"/>
                </a:lnTo>
                <a:lnTo>
                  <a:pt x="2305" y="1696"/>
                </a:lnTo>
                <a:lnTo>
                  <a:pt x="2285" y="1700"/>
                </a:lnTo>
                <a:lnTo>
                  <a:pt x="2266" y="1703"/>
                </a:lnTo>
                <a:lnTo>
                  <a:pt x="2238" y="1707"/>
                </a:lnTo>
                <a:lnTo>
                  <a:pt x="2210" y="1713"/>
                </a:lnTo>
                <a:lnTo>
                  <a:pt x="2184" y="1719"/>
                </a:lnTo>
                <a:lnTo>
                  <a:pt x="2157" y="1726"/>
                </a:lnTo>
                <a:lnTo>
                  <a:pt x="2130" y="1733"/>
                </a:lnTo>
                <a:lnTo>
                  <a:pt x="2104" y="1741"/>
                </a:lnTo>
                <a:lnTo>
                  <a:pt x="2079" y="1749"/>
                </a:lnTo>
                <a:lnTo>
                  <a:pt x="2053" y="1758"/>
                </a:lnTo>
                <a:lnTo>
                  <a:pt x="2027" y="1767"/>
                </a:lnTo>
                <a:lnTo>
                  <a:pt x="2002" y="1777"/>
                </a:lnTo>
                <a:lnTo>
                  <a:pt x="1977" y="1788"/>
                </a:lnTo>
                <a:lnTo>
                  <a:pt x="1952" y="1798"/>
                </a:lnTo>
                <a:lnTo>
                  <a:pt x="1929" y="1810"/>
                </a:lnTo>
                <a:lnTo>
                  <a:pt x="1904" y="1822"/>
                </a:lnTo>
                <a:lnTo>
                  <a:pt x="1881" y="1835"/>
                </a:lnTo>
                <a:lnTo>
                  <a:pt x="1857" y="1849"/>
                </a:lnTo>
                <a:lnTo>
                  <a:pt x="1808" y="1879"/>
                </a:lnTo>
                <a:lnTo>
                  <a:pt x="1758" y="1909"/>
                </a:lnTo>
                <a:lnTo>
                  <a:pt x="1711" y="1940"/>
                </a:lnTo>
                <a:lnTo>
                  <a:pt x="1664" y="1970"/>
                </a:lnTo>
                <a:lnTo>
                  <a:pt x="1619" y="2001"/>
                </a:lnTo>
                <a:lnTo>
                  <a:pt x="1574" y="2031"/>
                </a:lnTo>
                <a:lnTo>
                  <a:pt x="1531" y="2061"/>
                </a:lnTo>
                <a:lnTo>
                  <a:pt x="1490" y="2092"/>
                </a:lnTo>
                <a:lnTo>
                  <a:pt x="1484" y="2132"/>
                </a:lnTo>
                <a:lnTo>
                  <a:pt x="1479" y="2170"/>
                </a:lnTo>
                <a:lnTo>
                  <a:pt x="1476" y="2210"/>
                </a:lnTo>
                <a:lnTo>
                  <a:pt x="1473" y="2249"/>
                </a:lnTo>
                <a:lnTo>
                  <a:pt x="1471" y="2286"/>
                </a:lnTo>
                <a:lnTo>
                  <a:pt x="1470" y="2324"/>
                </a:lnTo>
                <a:lnTo>
                  <a:pt x="1470" y="2361"/>
                </a:lnTo>
                <a:lnTo>
                  <a:pt x="1473" y="2399"/>
                </a:lnTo>
                <a:lnTo>
                  <a:pt x="1475" y="2435"/>
                </a:lnTo>
                <a:lnTo>
                  <a:pt x="1478" y="2471"/>
                </a:lnTo>
                <a:lnTo>
                  <a:pt x="1482" y="2507"/>
                </a:lnTo>
                <a:lnTo>
                  <a:pt x="1488" y="2541"/>
                </a:lnTo>
                <a:lnTo>
                  <a:pt x="1493" y="2577"/>
                </a:lnTo>
                <a:lnTo>
                  <a:pt x="1500" y="2611"/>
                </a:lnTo>
                <a:lnTo>
                  <a:pt x="1509" y="2645"/>
                </a:lnTo>
                <a:lnTo>
                  <a:pt x="1517" y="2679"/>
                </a:lnTo>
                <a:lnTo>
                  <a:pt x="1562" y="2614"/>
                </a:lnTo>
                <a:lnTo>
                  <a:pt x="1610" y="2548"/>
                </a:lnTo>
                <a:lnTo>
                  <a:pt x="1660" y="2480"/>
                </a:lnTo>
                <a:lnTo>
                  <a:pt x="1711" y="2411"/>
                </a:lnTo>
                <a:lnTo>
                  <a:pt x="1767" y="2340"/>
                </a:lnTo>
                <a:lnTo>
                  <a:pt x="1824" y="2267"/>
                </a:lnTo>
                <a:lnTo>
                  <a:pt x="1884" y="2192"/>
                </a:lnTo>
                <a:lnTo>
                  <a:pt x="1946" y="2116"/>
                </a:lnTo>
                <a:lnTo>
                  <a:pt x="1935" y="2095"/>
                </a:lnTo>
                <a:lnTo>
                  <a:pt x="1924" y="2076"/>
                </a:lnTo>
                <a:lnTo>
                  <a:pt x="1916" y="2057"/>
                </a:lnTo>
                <a:lnTo>
                  <a:pt x="1909" y="2040"/>
                </a:lnTo>
                <a:lnTo>
                  <a:pt x="1903" y="2024"/>
                </a:lnTo>
                <a:lnTo>
                  <a:pt x="1899" y="2009"/>
                </a:lnTo>
                <a:lnTo>
                  <a:pt x="1897" y="1995"/>
                </a:lnTo>
                <a:lnTo>
                  <a:pt x="1894" y="1983"/>
                </a:lnTo>
                <a:lnTo>
                  <a:pt x="1894" y="1971"/>
                </a:lnTo>
                <a:lnTo>
                  <a:pt x="1896" y="1960"/>
                </a:lnTo>
                <a:lnTo>
                  <a:pt x="1899" y="1951"/>
                </a:lnTo>
                <a:lnTo>
                  <a:pt x="1903" y="1943"/>
                </a:lnTo>
                <a:lnTo>
                  <a:pt x="1908" y="1936"/>
                </a:lnTo>
                <a:lnTo>
                  <a:pt x="1916" y="1930"/>
                </a:lnTo>
                <a:lnTo>
                  <a:pt x="1924" y="1925"/>
                </a:lnTo>
                <a:lnTo>
                  <a:pt x="1934" y="1922"/>
                </a:lnTo>
                <a:lnTo>
                  <a:pt x="1995" y="1913"/>
                </a:lnTo>
                <a:lnTo>
                  <a:pt x="2056" y="1906"/>
                </a:lnTo>
                <a:lnTo>
                  <a:pt x="2118" y="1898"/>
                </a:lnTo>
                <a:lnTo>
                  <a:pt x="2180" y="1892"/>
                </a:lnTo>
                <a:lnTo>
                  <a:pt x="2243" y="1886"/>
                </a:lnTo>
                <a:lnTo>
                  <a:pt x="2306" y="1882"/>
                </a:lnTo>
                <a:lnTo>
                  <a:pt x="2369" y="1879"/>
                </a:lnTo>
                <a:lnTo>
                  <a:pt x="2433" y="1876"/>
                </a:lnTo>
                <a:lnTo>
                  <a:pt x="2496" y="1875"/>
                </a:lnTo>
                <a:lnTo>
                  <a:pt x="2562" y="1873"/>
                </a:lnTo>
                <a:lnTo>
                  <a:pt x="2626" y="1873"/>
                </a:lnTo>
                <a:lnTo>
                  <a:pt x="2692" y="1873"/>
                </a:lnTo>
                <a:lnTo>
                  <a:pt x="2758" y="1876"/>
                </a:lnTo>
                <a:lnTo>
                  <a:pt x="2824" y="1878"/>
                </a:lnTo>
                <a:lnTo>
                  <a:pt x="2891" y="1881"/>
                </a:lnTo>
                <a:lnTo>
                  <a:pt x="2958" y="1885"/>
                </a:lnTo>
                <a:lnTo>
                  <a:pt x="2961" y="1856"/>
                </a:lnTo>
                <a:lnTo>
                  <a:pt x="2967" y="1830"/>
                </a:lnTo>
                <a:lnTo>
                  <a:pt x="2972" y="1805"/>
                </a:lnTo>
                <a:lnTo>
                  <a:pt x="2977" y="1782"/>
                </a:lnTo>
                <a:lnTo>
                  <a:pt x="2984" y="1762"/>
                </a:lnTo>
                <a:lnTo>
                  <a:pt x="2991" y="1744"/>
                </a:lnTo>
                <a:lnTo>
                  <a:pt x="3000" y="1729"/>
                </a:lnTo>
                <a:lnTo>
                  <a:pt x="3008" y="1715"/>
                </a:lnTo>
                <a:lnTo>
                  <a:pt x="3018" y="1704"/>
                </a:lnTo>
                <a:lnTo>
                  <a:pt x="3028" y="1696"/>
                </a:lnTo>
                <a:lnTo>
                  <a:pt x="3033" y="1692"/>
                </a:lnTo>
                <a:lnTo>
                  <a:pt x="3038" y="1689"/>
                </a:lnTo>
                <a:lnTo>
                  <a:pt x="3045" y="1687"/>
                </a:lnTo>
                <a:lnTo>
                  <a:pt x="3050" y="1685"/>
                </a:lnTo>
                <a:lnTo>
                  <a:pt x="3057" y="1684"/>
                </a:lnTo>
                <a:lnTo>
                  <a:pt x="3062" y="1683"/>
                </a:lnTo>
                <a:lnTo>
                  <a:pt x="3068" y="1683"/>
                </a:lnTo>
                <a:lnTo>
                  <a:pt x="3076" y="1684"/>
                </a:lnTo>
                <a:lnTo>
                  <a:pt x="3089" y="1686"/>
                </a:lnTo>
                <a:lnTo>
                  <a:pt x="3104" y="1691"/>
                </a:lnTo>
                <a:lnTo>
                  <a:pt x="3129" y="1703"/>
                </a:lnTo>
                <a:lnTo>
                  <a:pt x="3156" y="1715"/>
                </a:lnTo>
                <a:lnTo>
                  <a:pt x="3183" y="1728"/>
                </a:lnTo>
                <a:lnTo>
                  <a:pt x="3210" y="1739"/>
                </a:lnTo>
                <a:lnTo>
                  <a:pt x="3236" y="1751"/>
                </a:lnTo>
                <a:lnTo>
                  <a:pt x="3263" y="1763"/>
                </a:lnTo>
                <a:lnTo>
                  <a:pt x="3290" y="1776"/>
                </a:lnTo>
                <a:lnTo>
                  <a:pt x="3318" y="1788"/>
                </a:lnTo>
                <a:lnTo>
                  <a:pt x="3332" y="1794"/>
                </a:lnTo>
                <a:lnTo>
                  <a:pt x="3345" y="1802"/>
                </a:lnTo>
                <a:lnTo>
                  <a:pt x="3356" y="1809"/>
                </a:lnTo>
                <a:lnTo>
                  <a:pt x="3367" y="1818"/>
                </a:lnTo>
                <a:lnTo>
                  <a:pt x="3378" y="1827"/>
                </a:lnTo>
                <a:lnTo>
                  <a:pt x="3386" y="1838"/>
                </a:lnTo>
                <a:lnTo>
                  <a:pt x="3395" y="1849"/>
                </a:lnTo>
                <a:lnTo>
                  <a:pt x="3402" y="1861"/>
                </a:lnTo>
                <a:lnTo>
                  <a:pt x="3409" y="1873"/>
                </a:lnTo>
                <a:lnTo>
                  <a:pt x="3415" y="1886"/>
                </a:lnTo>
                <a:lnTo>
                  <a:pt x="3420" y="1900"/>
                </a:lnTo>
                <a:lnTo>
                  <a:pt x="3424" y="1915"/>
                </a:lnTo>
                <a:lnTo>
                  <a:pt x="3427" y="1931"/>
                </a:lnTo>
                <a:lnTo>
                  <a:pt x="3429" y="1947"/>
                </a:lnTo>
                <a:lnTo>
                  <a:pt x="3430" y="1965"/>
                </a:lnTo>
                <a:lnTo>
                  <a:pt x="3430" y="1983"/>
                </a:lnTo>
                <a:lnTo>
                  <a:pt x="3424" y="2035"/>
                </a:lnTo>
                <a:lnTo>
                  <a:pt x="3417" y="2085"/>
                </a:lnTo>
                <a:lnTo>
                  <a:pt x="3411" y="2131"/>
                </a:lnTo>
                <a:lnTo>
                  <a:pt x="3405" y="2174"/>
                </a:lnTo>
                <a:lnTo>
                  <a:pt x="3398" y="2213"/>
                </a:lnTo>
                <a:lnTo>
                  <a:pt x="3393" y="2249"/>
                </a:lnTo>
                <a:lnTo>
                  <a:pt x="3387" y="2281"/>
                </a:lnTo>
                <a:lnTo>
                  <a:pt x="3382" y="2310"/>
                </a:lnTo>
                <a:lnTo>
                  <a:pt x="3375" y="2388"/>
                </a:lnTo>
                <a:lnTo>
                  <a:pt x="3365" y="2464"/>
                </a:lnTo>
                <a:lnTo>
                  <a:pt x="3359" y="2501"/>
                </a:lnTo>
                <a:lnTo>
                  <a:pt x="3353" y="2537"/>
                </a:lnTo>
                <a:lnTo>
                  <a:pt x="3347" y="2572"/>
                </a:lnTo>
                <a:lnTo>
                  <a:pt x="3339" y="2607"/>
                </a:lnTo>
                <a:lnTo>
                  <a:pt x="3332" y="2641"/>
                </a:lnTo>
                <a:lnTo>
                  <a:pt x="3324" y="2675"/>
                </a:lnTo>
                <a:lnTo>
                  <a:pt x="3316" y="2707"/>
                </a:lnTo>
                <a:lnTo>
                  <a:pt x="3307" y="2741"/>
                </a:lnTo>
                <a:lnTo>
                  <a:pt x="3297" y="2772"/>
                </a:lnTo>
                <a:lnTo>
                  <a:pt x="3288" y="2803"/>
                </a:lnTo>
                <a:lnTo>
                  <a:pt x="3277" y="2833"/>
                </a:lnTo>
                <a:lnTo>
                  <a:pt x="3266" y="2863"/>
                </a:lnTo>
                <a:lnTo>
                  <a:pt x="3256" y="2892"/>
                </a:lnTo>
                <a:lnTo>
                  <a:pt x="3244" y="2921"/>
                </a:lnTo>
                <a:lnTo>
                  <a:pt x="3232" y="2948"/>
                </a:lnTo>
                <a:lnTo>
                  <a:pt x="3219" y="2975"/>
                </a:lnTo>
                <a:lnTo>
                  <a:pt x="3206" y="3001"/>
                </a:lnTo>
                <a:lnTo>
                  <a:pt x="3194" y="3027"/>
                </a:lnTo>
                <a:lnTo>
                  <a:pt x="3180" y="3053"/>
                </a:lnTo>
                <a:lnTo>
                  <a:pt x="3166" y="3077"/>
                </a:lnTo>
                <a:lnTo>
                  <a:pt x="3151" y="3101"/>
                </a:lnTo>
                <a:lnTo>
                  <a:pt x="3136" y="3124"/>
                </a:lnTo>
                <a:lnTo>
                  <a:pt x="3120" y="3147"/>
                </a:lnTo>
                <a:lnTo>
                  <a:pt x="3104" y="3168"/>
                </a:lnTo>
                <a:lnTo>
                  <a:pt x="3087" y="3190"/>
                </a:lnTo>
                <a:lnTo>
                  <a:pt x="3069" y="3210"/>
                </a:lnTo>
                <a:lnTo>
                  <a:pt x="3052" y="3231"/>
                </a:lnTo>
                <a:lnTo>
                  <a:pt x="3034" y="3249"/>
                </a:lnTo>
                <a:lnTo>
                  <a:pt x="2994" y="3277"/>
                </a:lnTo>
                <a:lnTo>
                  <a:pt x="2955" y="3302"/>
                </a:lnTo>
                <a:lnTo>
                  <a:pt x="2915" y="3327"/>
                </a:lnTo>
                <a:lnTo>
                  <a:pt x="2876" y="3350"/>
                </a:lnTo>
                <a:lnTo>
                  <a:pt x="2836" y="3372"/>
                </a:lnTo>
                <a:lnTo>
                  <a:pt x="2797" y="3392"/>
                </a:lnTo>
                <a:lnTo>
                  <a:pt x="2758" y="3411"/>
                </a:lnTo>
                <a:lnTo>
                  <a:pt x="2719" y="3429"/>
                </a:lnTo>
                <a:lnTo>
                  <a:pt x="2681" y="3445"/>
                </a:lnTo>
                <a:lnTo>
                  <a:pt x="2641" y="3460"/>
                </a:lnTo>
                <a:lnTo>
                  <a:pt x="2602" y="3474"/>
                </a:lnTo>
                <a:lnTo>
                  <a:pt x="2564" y="3486"/>
                </a:lnTo>
                <a:lnTo>
                  <a:pt x="2526" y="3496"/>
                </a:lnTo>
                <a:lnTo>
                  <a:pt x="2488" y="3506"/>
                </a:lnTo>
                <a:lnTo>
                  <a:pt x="2449" y="3514"/>
                </a:lnTo>
                <a:lnTo>
                  <a:pt x="2412" y="3521"/>
                </a:lnTo>
                <a:lnTo>
                  <a:pt x="2388" y="3528"/>
                </a:lnTo>
                <a:lnTo>
                  <a:pt x="2366" y="3534"/>
                </a:lnTo>
                <a:lnTo>
                  <a:pt x="2344" y="3541"/>
                </a:lnTo>
                <a:lnTo>
                  <a:pt x="2325" y="3549"/>
                </a:lnTo>
                <a:lnTo>
                  <a:pt x="2307" y="3558"/>
                </a:lnTo>
                <a:lnTo>
                  <a:pt x="2290" y="3566"/>
                </a:lnTo>
                <a:lnTo>
                  <a:pt x="2274" y="3575"/>
                </a:lnTo>
                <a:lnTo>
                  <a:pt x="2259" y="3584"/>
                </a:lnTo>
                <a:lnTo>
                  <a:pt x="2246" y="3595"/>
                </a:lnTo>
                <a:lnTo>
                  <a:pt x="2234" y="3606"/>
                </a:lnTo>
                <a:lnTo>
                  <a:pt x="2223" y="3616"/>
                </a:lnTo>
                <a:lnTo>
                  <a:pt x="2214" y="3628"/>
                </a:lnTo>
                <a:lnTo>
                  <a:pt x="2205" y="3640"/>
                </a:lnTo>
                <a:lnTo>
                  <a:pt x="2199" y="3653"/>
                </a:lnTo>
                <a:lnTo>
                  <a:pt x="2193" y="3666"/>
                </a:lnTo>
                <a:lnTo>
                  <a:pt x="2189" y="3679"/>
                </a:lnTo>
                <a:lnTo>
                  <a:pt x="2183" y="3695"/>
                </a:lnTo>
                <a:lnTo>
                  <a:pt x="2176" y="3708"/>
                </a:lnTo>
                <a:lnTo>
                  <a:pt x="2170" y="3719"/>
                </a:lnTo>
                <a:lnTo>
                  <a:pt x="2163" y="3728"/>
                </a:lnTo>
                <a:lnTo>
                  <a:pt x="2157" y="3735"/>
                </a:lnTo>
                <a:lnTo>
                  <a:pt x="2149" y="3740"/>
                </a:lnTo>
                <a:lnTo>
                  <a:pt x="2146" y="3741"/>
                </a:lnTo>
                <a:lnTo>
                  <a:pt x="2143" y="3742"/>
                </a:lnTo>
                <a:lnTo>
                  <a:pt x="2139" y="3743"/>
                </a:lnTo>
                <a:lnTo>
                  <a:pt x="2135" y="3743"/>
                </a:lnTo>
                <a:lnTo>
                  <a:pt x="2128" y="3741"/>
                </a:lnTo>
                <a:lnTo>
                  <a:pt x="2120" y="3737"/>
                </a:lnTo>
                <a:lnTo>
                  <a:pt x="2113" y="3730"/>
                </a:lnTo>
                <a:lnTo>
                  <a:pt x="2104" y="3723"/>
                </a:lnTo>
                <a:lnTo>
                  <a:pt x="2097" y="3712"/>
                </a:lnTo>
                <a:lnTo>
                  <a:pt x="2088" y="3699"/>
                </a:lnTo>
                <a:lnTo>
                  <a:pt x="2080" y="3684"/>
                </a:lnTo>
                <a:lnTo>
                  <a:pt x="2071" y="3667"/>
                </a:lnTo>
                <a:lnTo>
                  <a:pt x="2060" y="3658"/>
                </a:lnTo>
                <a:lnTo>
                  <a:pt x="2051" y="3651"/>
                </a:lnTo>
                <a:lnTo>
                  <a:pt x="2041" y="3641"/>
                </a:lnTo>
                <a:lnTo>
                  <a:pt x="2033" y="3631"/>
                </a:lnTo>
                <a:lnTo>
                  <a:pt x="2025" y="3622"/>
                </a:lnTo>
                <a:lnTo>
                  <a:pt x="2018" y="3611"/>
                </a:lnTo>
                <a:lnTo>
                  <a:pt x="2011" y="3599"/>
                </a:lnTo>
                <a:lnTo>
                  <a:pt x="2005" y="3588"/>
                </a:lnTo>
                <a:lnTo>
                  <a:pt x="1999" y="3576"/>
                </a:lnTo>
                <a:lnTo>
                  <a:pt x="1995" y="3563"/>
                </a:lnTo>
                <a:lnTo>
                  <a:pt x="1992" y="3549"/>
                </a:lnTo>
                <a:lnTo>
                  <a:pt x="1989" y="3535"/>
                </a:lnTo>
                <a:lnTo>
                  <a:pt x="1987" y="3520"/>
                </a:lnTo>
                <a:lnTo>
                  <a:pt x="1984" y="3505"/>
                </a:lnTo>
                <a:lnTo>
                  <a:pt x="1983" y="3489"/>
                </a:lnTo>
                <a:lnTo>
                  <a:pt x="1983" y="3473"/>
                </a:lnTo>
                <a:lnTo>
                  <a:pt x="1986" y="3450"/>
                </a:lnTo>
                <a:lnTo>
                  <a:pt x="1987" y="3428"/>
                </a:lnTo>
                <a:lnTo>
                  <a:pt x="1986" y="3404"/>
                </a:lnTo>
                <a:lnTo>
                  <a:pt x="1983" y="3382"/>
                </a:lnTo>
                <a:lnTo>
                  <a:pt x="1980" y="3358"/>
                </a:lnTo>
                <a:lnTo>
                  <a:pt x="1976" y="3335"/>
                </a:lnTo>
                <a:lnTo>
                  <a:pt x="1969" y="3310"/>
                </a:lnTo>
                <a:lnTo>
                  <a:pt x="1962" y="3286"/>
                </a:lnTo>
                <a:lnTo>
                  <a:pt x="1956" y="3276"/>
                </a:lnTo>
                <a:lnTo>
                  <a:pt x="1950" y="3266"/>
                </a:lnTo>
                <a:lnTo>
                  <a:pt x="1947" y="3257"/>
                </a:lnTo>
                <a:lnTo>
                  <a:pt x="1944" y="3249"/>
                </a:lnTo>
                <a:lnTo>
                  <a:pt x="1942" y="3241"/>
                </a:lnTo>
                <a:lnTo>
                  <a:pt x="1942" y="3234"/>
                </a:lnTo>
                <a:lnTo>
                  <a:pt x="1943" y="3227"/>
                </a:lnTo>
                <a:lnTo>
                  <a:pt x="1945" y="3222"/>
                </a:lnTo>
                <a:lnTo>
                  <a:pt x="1947" y="3218"/>
                </a:lnTo>
                <a:lnTo>
                  <a:pt x="1951" y="3212"/>
                </a:lnTo>
                <a:lnTo>
                  <a:pt x="1958" y="3209"/>
                </a:lnTo>
                <a:lnTo>
                  <a:pt x="1964" y="3206"/>
                </a:lnTo>
                <a:lnTo>
                  <a:pt x="1972" y="3204"/>
                </a:lnTo>
                <a:lnTo>
                  <a:pt x="1981" y="3203"/>
                </a:lnTo>
                <a:lnTo>
                  <a:pt x="1992" y="3202"/>
                </a:lnTo>
                <a:lnTo>
                  <a:pt x="2003" y="3201"/>
                </a:lnTo>
                <a:lnTo>
                  <a:pt x="2050" y="3209"/>
                </a:lnTo>
                <a:lnTo>
                  <a:pt x="2096" y="3218"/>
                </a:lnTo>
                <a:lnTo>
                  <a:pt x="2142" y="3225"/>
                </a:lnTo>
                <a:lnTo>
                  <a:pt x="2188" y="3232"/>
                </a:lnTo>
                <a:lnTo>
                  <a:pt x="2234" y="3237"/>
                </a:lnTo>
                <a:lnTo>
                  <a:pt x="2280" y="3242"/>
                </a:lnTo>
                <a:lnTo>
                  <a:pt x="2325" y="3246"/>
                </a:lnTo>
                <a:lnTo>
                  <a:pt x="2371" y="3249"/>
                </a:lnTo>
                <a:lnTo>
                  <a:pt x="2395" y="3243"/>
                </a:lnTo>
                <a:lnTo>
                  <a:pt x="2417" y="3237"/>
                </a:lnTo>
                <a:lnTo>
                  <a:pt x="2441" y="3228"/>
                </a:lnTo>
                <a:lnTo>
                  <a:pt x="2463" y="3219"/>
                </a:lnTo>
                <a:lnTo>
                  <a:pt x="2487" y="3207"/>
                </a:lnTo>
                <a:lnTo>
                  <a:pt x="2509" y="3193"/>
                </a:lnTo>
                <a:lnTo>
                  <a:pt x="2532" y="3178"/>
                </a:lnTo>
                <a:lnTo>
                  <a:pt x="2554" y="3162"/>
                </a:lnTo>
                <a:lnTo>
                  <a:pt x="2577" y="3144"/>
                </a:lnTo>
                <a:lnTo>
                  <a:pt x="2599" y="3123"/>
                </a:lnTo>
                <a:lnTo>
                  <a:pt x="2622" y="3102"/>
                </a:lnTo>
                <a:lnTo>
                  <a:pt x="2643" y="3078"/>
                </a:lnTo>
                <a:lnTo>
                  <a:pt x="2666" y="3054"/>
                </a:lnTo>
                <a:lnTo>
                  <a:pt x="2688" y="3028"/>
                </a:lnTo>
                <a:lnTo>
                  <a:pt x="2710" y="3000"/>
                </a:lnTo>
                <a:lnTo>
                  <a:pt x="2731" y="2970"/>
                </a:lnTo>
                <a:lnTo>
                  <a:pt x="2755" y="2916"/>
                </a:lnTo>
                <a:lnTo>
                  <a:pt x="2776" y="2862"/>
                </a:lnTo>
                <a:lnTo>
                  <a:pt x="2796" y="2806"/>
                </a:lnTo>
                <a:lnTo>
                  <a:pt x="2816" y="2749"/>
                </a:lnTo>
                <a:lnTo>
                  <a:pt x="2835" y="2691"/>
                </a:lnTo>
                <a:lnTo>
                  <a:pt x="2852" y="2631"/>
                </a:lnTo>
                <a:lnTo>
                  <a:pt x="2869" y="2571"/>
                </a:lnTo>
                <a:lnTo>
                  <a:pt x="2885" y="2510"/>
                </a:lnTo>
                <a:lnTo>
                  <a:pt x="2899" y="2448"/>
                </a:lnTo>
                <a:lnTo>
                  <a:pt x="2913" y="2385"/>
                </a:lnTo>
                <a:lnTo>
                  <a:pt x="2926" y="2320"/>
                </a:lnTo>
                <a:lnTo>
                  <a:pt x="2938" y="2255"/>
                </a:lnTo>
                <a:lnTo>
                  <a:pt x="2947" y="2189"/>
                </a:lnTo>
                <a:lnTo>
                  <a:pt x="2957" y="2121"/>
                </a:lnTo>
                <a:lnTo>
                  <a:pt x="2967" y="2052"/>
                </a:lnTo>
                <a:lnTo>
                  <a:pt x="2974" y="1983"/>
                </a:lnTo>
                <a:lnTo>
                  <a:pt x="2879" y="1992"/>
                </a:lnTo>
                <a:lnTo>
                  <a:pt x="2787" y="2003"/>
                </a:lnTo>
                <a:lnTo>
                  <a:pt x="2698" y="2015"/>
                </a:lnTo>
                <a:lnTo>
                  <a:pt x="2613" y="2028"/>
                </a:lnTo>
                <a:lnTo>
                  <a:pt x="2531" y="2042"/>
                </a:lnTo>
                <a:lnTo>
                  <a:pt x="2452" y="2058"/>
                </a:lnTo>
                <a:lnTo>
                  <a:pt x="2378" y="2074"/>
                </a:lnTo>
                <a:lnTo>
                  <a:pt x="2306" y="2092"/>
                </a:lnTo>
                <a:lnTo>
                  <a:pt x="2286" y="2103"/>
                </a:lnTo>
                <a:lnTo>
                  <a:pt x="2267" y="2115"/>
                </a:lnTo>
                <a:lnTo>
                  <a:pt x="2248" y="2126"/>
                </a:lnTo>
                <a:lnTo>
                  <a:pt x="2229" y="2139"/>
                </a:lnTo>
                <a:lnTo>
                  <a:pt x="2210" y="2153"/>
                </a:lnTo>
                <a:lnTo>
                  <a:pt x="2191" y="2167"/>
                </a:lnTo>
                <a:lnTo>
                  <a:pt x="2173" y="2182"/>
                </a:lnTo>
                <a:lnTo>
                  <a:pt x="2155" y="2198"/>
                </a:lnTo>
                <a:lnTo>
                  <a:pt x="2137" y="2214"/>
                </a:lnTo>
                <a:lnTo>
                  <a:pt x="2118" y="2232"/>
                </a:lnTo>
                <a:lnTo>
                  <a:pt x="2100" y="2249"/>
                </a:lnTo>
                <a:lnTo>
                  <a:pt x="2083" y="2267"/>
                </a:lnTo>
                <a:lnTo>
                  <a:pt x="2066" y="2286"/>
                </a:lnTo>
                <a:lnTo>
                  <a:pt x="2049" y="2305"/>
                </a:lnTo>
                <a:lnTo>
                  <a:pt x="2032" y="2326"/>
                </a:lnTo>
                <a:lnTo>
                  <a:pt x="2014" y="2346"/>
                </a:lnTo>
                <a:lnTo>
                  <a:pt x="2050" y="2335"/>
                </a:lnTo>
                <a:lnTo>
                  <a:pt x="2083" y="2325"/>
                </a:lnTo>
                <a:lnTo>
                  <a:pt x="2116" y="2316"/>
                </a:lnTo>
                <a:lnTo>
                  <a:pt x="2149" y="2308"/>
                </a:lnTo>
                <a:lnTo>
                  <a:pt x="2182" y="2301"/>
                </a:lnTo>
                <a:lnTo>
                  <a:pt x="2213" y="2296"/>
                </a:lnTo>
                <a:lnTo>
                  <a:pt x="2243" y="2292"/>
                </a:lnTo>
                <a:lnTo>
                  <a:pt x="2273" y="2289"/>
                </a:lnTo>
                <a:lnTo>
                  <a:pt x="2303" y="2287"/>
                </a:lnTo>
                <a:lnTo>
                  <a:pt x="2330" y="2287"/>
                </a:lnTo>
                <a:lnTo>
                  <a:pt x="2359" y="2288"/>
                </a:lnTo>
                <a:lnTo>
                  <a:pt x="2386" y="2289"/>
                </a:lnTo>
                <a:lnTo>
                  <a:pt x="2413" y="2293"/>
                </a:lnTo>
                <a:lnTo>
                  <a:pt x="2439" y="2298"/>
                </a:lnTo>
                <a:lnTo>
                  <a:pt x="2464" y="2303"/>
                </a:lnTo>
                <a:lnTo>
                  <a:pt x="2489" y="2310"/>
                </a:lnTo>
                <a:lnTo>
                  <a:pt x="2505" y="2325"/>
                </a:lnTo>
                <a:lnTo>
                  <a:pt x="2520" y="2339"/>
                </a:lnTo>
                <a:lnTo>
                  <a:pt x="2533" y="2353"/>
                </a:lnTo>
                <a:lnTo>
                  <a:pt x="2542" y="2367"/>
                </a:lnTo>
                <a:lnTo>
                  <a:pt x="2550" y="2381"/>
                </a:lnTo>
                <a:lnTo>
                  <a:pt x="2555" y="2394"/>
                </a:lnTo>
                <a:lnTo>
                  <a:pt x="2557" y="2402"/>
                </a:lnTo>
                <a:lnTo>
                  <a:pt x="2559" y="2408"/>
                </a:lnTo>
                <a:lnTo>
                  <a:pt x="2560" y="2416"/>
                </a:lnTo>
                <a:lnTo>
                  <a:pt x="2560" y="2422"/>
                </a:lnTo>
                <a:lnTo>
                  <a:pt x="2559" y="2430"/>
                </a:lnTo>
                <a:lnTo>
                  <a:pt x="2557" y="2436"/>
                </a:lnTo>
                <a:lnTo>
                  <a:pt x="2556" y="2444"/>
                </a:lnTo>
                <a:lnTo>
                  <a:pt x="2553" y="2450"/>
                </a:lnTo>
                <a:lnTo>
                  <a:pt x="2547" y="2464"/>
                </a:lnTo>
                <a:lnTo>
                  <a:pt x="2538" y="2478"/>
                </a:lnTo>
                <a:lnTo>
                  <a:pt x="2527" y="2492"/>
                </a:lnTo>
                <a:lnTo>
                  <a:pt x="2514" y="2505"/>
                </a:lnTo>
                <a:lnTo>
                  <a:pt x="2499" y="2519"/>
                </a:lnTo>
                <a:lnTo>
                  <a:pt x="2480" y="2533"/>
                </a:lnTo>
                <a:lnTo>
                  <a:pt x="2461" y="2536"/>
                </a:lnTo>
                <a:lnTo>
                  <a:pt x="2442" y="2537"/>
                </a:lnTo>
                <a:lnTo>
                  <a:pt x="2424" y="2539"/>
                </a:lnTo>
                <a:lnTo>
                  <a:pt x="2405" y="2539"/>
                </a:lnTo>
                <a:lnTo>
                  <a:pt x="2387" y="2540"/>
                </a:lnTo>
                <a:lnTo>
                  <a:pt x="2370" y="2539"/>
                </a:lnTo>
                <a:lnTo>
                  <a:pt x="2354" y="2538"/>
                </a:lnTo>
                <a:lnTo>
                  <a:pt x="2338" y="2536"/>
                </a:lnTo>
                <a:lnTo>
                  <a:pt x="2322" y="2534"/>
                </a:lnTo>
                <a:lnTo>
                  <a:pt x="2307" y="2531"/>
                </a:lnTo>
                <a:lnTo>
                  <a:pt x="2292" y="2526"/>
                </a:lnTo>
                <a:lnTo>
                  <a:pt x="2278" y="2522"/>
                </a:lnTo>
                <a:lnTo>
                  <a:pt x="2264" y="2517"/>
                </a:lnTo>
                <a:lnTo>
                  <a:pt x="2250" y="2510"/>
                </a:lnTo>
                <a:lnTo>
                  <a:pt x="2237" y="2504"/>
                </a:lnTo>
                <a:lnTo>
                  <a:pt x="2225" y="2496"/>
                </a:lnTo>
                <a:lnTo>
                  <a:pt x="2212" y="2491"/>
                </a:lnTo>
                <a:lnTo>
                  <a:pt x="2197" y="2486"/>
                </a:lnTo>
                <a:lnTo>
                  <a:pt x="2183" y="2481"/>
                </a:lnTo>
                <a:lnTo>
                  <a:pt x="2168" y="2478"/>
                </a:lnTo>
                <a:lnTo>
                  <a:pt x="2153" y="2475"/>
                </a:lnTo>
                <a:lnTo>
                  <a:pt x="2138" y="2472"/>
                </a:lnTo>
                <a:lnTo>
                  <a:pt x="2122" y="2471"/>
                </a:lnTo>
                <a:lnTo>
                  <a:pt x="2107" y="2469"/>
                </a:lnTo>
                <a:lnTo>
                  <a:pt x="2090" y="2468"/>
                </a:lnTo>
                <a:lnTo>
                  <a:pt x="2074" y="2469"/>
                </a:lnTo>
                <a:lnTo>
                  <a:pt x="2058" y="2469"/>
                </a:lnTo>
                <a:lnTo>
                  <a:pt x="2042" y="2472"/>
                </a:lnTo>
                <a:lnTo>
                  <a:pt x="2025" y="2474"/>
                </a:lnTo>
                <a:lnTo>
                  <a:pt x="2009" y="2477"/>
                </a:lnTo>
                <a:lnTo>
                  <a:pt x="1992" y="2480"/>
                </a:lnTo>
                <a:lnTo>
                  <a:pt x="1975" y="2484"/>
                </a:lnTo>
                <a:lnTo>
                  <a:pt x="1926" y="2524"/>
                </a:lnTo>
                <a:lnTo>
                  <a:pt x="1875" y="2566"/>
                </a:lnTo>
                <a:lnTo>
                  <a:pt x="1825" y="2610"/>
                </a:lnTo>
                <a:lnTo>
                  <a:pt x="1773" y="2654"/>
                </a:lnTo>
                <a:lnTo>
                  <a:pt x="1721" y="2701"/>
                </a:lnTo>
                <a:lnTo>
                  <a:pt x="1667" y="2748"/>
                </a:lnTo>
                <a:lnTo>
                  <a:pt x="1613" y="2798"/>
                </a:lnTo>
                <a:lnTo>
                  <a:pt x="1558" y="2849"/>
                </a:lnTo>
                <a:lnTo>
                  <a:pt x="1560" y="2858"/>
                </a:lnTo>
                <a:lnTo>
                  <a:pt x="1564" y="2865"/>
                </a:lnTo>
                <a:lnTo>
                  <a:pt x="1568" y="2871"/>
                </a:lnTo>
                <a:lnTo>
                  <a:pt x="1572" y="2878"/>
                </a:lnTo>
                <a:lnTo>
                  <a:pt x="1577" y="2882"/>
                </a:lnTo>
                <a:lnTo>
                  <a:pt x="1584" y="2886"/>
                </a:lnTo>
                <a:lnTo>
                  <a:pt x="1591" y="2890"/>
                </a:lnTo>
                <a:lnTo>
                  <a:pt x="1599" y="2891"/>
                </a:lnTo>
                <a:lnTo>
                  <a:pt x="1609" y="2892"/>
                </a:lnTo>
                <a:lnTo>
                  <a:pt x="1617" y="2893"/>
                </a:lnTo>
                <a:lnTo>
                  <a:pt x="1628" y="2892"/>
                </a:lnTo>
                <a:lnTo>
                  <a:pt x="1640" y="2890"/>
                </a:lnTo>
                <a:lnTo>
                  <a:pt x="1651" y="2888"/>
                </a:lnTo>
                <a:lnTo>
                  <a:pt x="1664" y="2883"/>
                </a:lnTo>
                <a:lnTo>
                  <a:pt x="1677" y="2879"/>
                </a:lnTo>
                <a:lnTo>
                  <a:pt x="1692" y="2874"/>
                </a:lnTo>
                <a:lnTo>
                  <a:pt x="1755" y="2859"/>
                </a:lnTo>
                <a:lnTo>
                  <a:pt x="1817" y="2845"/>
                </a:lnTo>
                <a:lnTo>
                  <a:pt x="1879" y="2831"/>
                </a:lnTo>
                <a:lnTo>
                  <a:pt x="1941" y="2818"/>
                </a:lnTo>
                <a:lnTo>
                  <a:pt x="2001" y="2807"/>
                </a:lnTo>
                <a:lnTo>
                  <a:pt x="2060" y="2795"/>
                </a:lnTo>
                <a:lnTo>
                  <a:pt x="2119" y="2786"/>
                </a:lnTo>
                <a:lnTo>
                  <a:pt x="2177" y="2776"/>
                </a:lnTo>
                <a:lnTo>
                  <a:pt x="2197" y="2772"/>
                </a:lnTo>
                <a:lnTo>
                  <a:pt x="2216" y="2769"/>
                </a:lnTo>
                <a:lnTo>
                  <a:pt x="2234" y="2765"/>
                </a:lnTo>
                <a:lnTo>
                  <a:pt x="2252" y="2763"/>
                </a:lnTo>
                <a:lnTo>
                  <a:pt x="2269" y="2761"/>
                </a:lnTo>
                <a:lnTo>
                  <a:pt x="2286" y="2761"/>
                </a:lnTo>
                <a:lnTo>
                  <a:pt x="2304" y="2760"/>
                </a:lnTo>
                <a:lnTo>
                  <a:pt x="2320" y="2761"/>
                </a:lnTo>
                <a:lnTo>
                  <a:pt x="2335" y="2762"/>
                </a:lnTo>
                <a:lnTo>
                  <a:pt x="2351" y="2764"/>
                </a:lnTo>
                <a:lnTo>
                  <a:pt x="2365" y="2766"/>
                </a:lnTo>
                <a:lnTo>
                  <a:pt x="2380" y="2770"/>
                </a:lnTo>
                <a:lnTo>
                  <a:pt x="2394" y="2773"/>
                </a:lnTo>
                <a:lnTo>
                  <a:pt x="2406" y="2777"/>
                </a:lnTo>
                <a:lnTo>
                  <a:pt x="2419" y="2782"/>
                </a:lnTo>
                <a:lnTo>
                  <a:pt x="2432" y="2788"/>
                </a:lnTo>
                <a:lnTo>
                  <a:pt x="2440" y="2809"/>
                </a:lnTo>
                <a:lnTo>
                  <a:pt x="2445" y="2831"/>
                </a:lnTo>
                <a:lnTo>
                  <a:pt x="2448" y="2851"/>
                </a:lnTo>
                <a:lnTo>
                  <a:pt x="2449" y="2871"/>
                </a:lnTo>
                <a:lnTo>
                  <a:pt x="2448" y="2892"/>
                </a:lnTo>
                <a:lnTo>
                  <a:pt x="2445" y="2912"/>
                </a:lnTo>
                <a:lnTo>
                  <a:pt x="2440" y="2933"/>
                </a:lnTo>
                <a:lnTo>
                  <a:pt x="2432" y="2952"/>
                </a:lnTo>
                <a:lnTo>
                  <a:pt x="2422" y="2972"/>
                </a:lnTo>
                <a:lnTo>
                  <a:pt x="2411" y="2992"/>
                </a:lnTo>
                <a:lnTo>
                  <a:pt x="2397" y="3011"/>
                </a:lnTo>
                <a:lnTo>
                  <a:pt x="2381" y="3030"/>
                </a:lnTo>
                <a:lnTo>
                  <a:pt x="2361" y="3048"/>
                </a:lnTo>
                <a:lnTo>
                  <a:pt x="2341" y="3068"/>
                </a:lnTo>
                <a:lnTo>
                  <a:pt x="2319" y="3086"/>
                </a:lnTo>
                <a:lnTo>
                  <a:pt x="2294" y="3104"/>
                </a:lnTo>
                <a:lnTo>
                  <a:pt x="2203" y="3122"/>
                </a:lnTo>
                <a:lnTo>
                  <a:pt x="2114" y="3142"/>
                </a:lnTo>
                <a:lnTo>
                  <a:pt x="2027" y="3160"/>
                </a:lnTo>
                <a:lnTo>
                  <a:pt x="1943" y="3180"/>
                </a:lnTo>
                <a:lnTo>
                  <a:pt x="1859" y="3199"/>
                </a:lnTo>
                <a:lnTo>
                  <a:pt x="1779" y="3220"/>
                </a:lnTo>
                <a:lnTo>
                  <a:pt x="1700" y="3240"/>
                </a:lnTo>
                <a:lnTo>
                  <a:pt x="1622" y="3262"/>
                </a:lnTo>
                <a:lnTo>
                  <a:pt x="1600" y="3268"/>
                </a:lnTo>
                <a:lnTo>
                  <a:pt x="1579" y="3273"/>
                </a:lnTo>
                <a:lnTo>
                  <a:pt x="1557" y="3278"/>
                </a:lnTo>
                <a:lnTo>
                  <a:pt x="1536" y="3280"/>
                </a:lnTo>
                <a:lnTo>
                  <a:pt x="1516" y="3281"/>
                </a:lnTo>
                <a:lnTo>
                  <a:pt x="1496" y="3280"/>
                </a:lnTo>
                <a:lnTo>
                  <a:pt x="1477" y="3278"/>
                </a:lnTo>
                <a:lnTo>
                  <a:pt x="1459" y="3275"/>
                </a:lnTo>
                <a:lnTo>
                  <a:pt x="1440" y="3269"/>
                </a:lnTo>
                <a:lnTo>
                  <a:pt x="1423" y="3262"/>
                </a:lnTo>
                <a:lnTo>
                  <a:pt x="1407" y="3254"/>
                </a:lnTo>
                <a:lnTo>
                  <a:pt x="1390" y="3243"/>
                </a:lnTo>
                <a:lnTo>
                  <a:pt x="1375" y="3233"/>
                </a:lnTo>
                <a:lnTo>
                  <a:pt x="1360" y="3220"/>
                </a:lnTo>
                <a:lnTo>
                  <a:pt x="1345" y="3205"/>
                </a:lnTo>
                <a:lnTo>
                  <a:pt x="1331" y="3189"/>
                </a:lnTo>
                <a:lnTo>
                  <a:pt x="1315" y="3161"/>
                </a:lnTo>
                <a:lnTo>
                  <a:pt x="1299" y="3132"/>
                </a:lnTo>
                <a:lnTo>
                  <a:pt x="1284" y="3103"/>
                </a:lnTo>
                <a:lnTo>
                  <a:pt x="1269" y="3073"/>
                </a:lnTo>
                <a:lnTo>
                  <a:pt x="1255" y="3043"/>
                </a:lnTo>
                <a:lnTo>
                  <a:pt x="1241" y="3012"/>
                </a:lnTo>
                <a:lnTo>
                  <a:pt x="1228" y="2981"/>
                </a:lnTo>
                <a:lnTo>
                  <a:pt x="1215" y="2949"/>
                </a:lnTo>
                <a:lnTo>
                  <a:pt x="1204" y="2916"/>
                </a:lnTo>
                <a:lnTo>
                  <a:pt x="1192" y="2884"/>
                </a:lnTo>
                <a:lnTo>
                  <a:pt x="1180" y="2851"/>
                </a:lnTo>
                <a:lnTo>
                  <a:pt x="1169" y="2817"/>
                </a:lnTo>
                <a:lnTo>
                  <a:pt x="1160" y="2782"/>
                </a:lnTo>
                <a:lnTo>
                  <a:pt x="1150" y="2748"/>
                </a:lnTo>
                <a:lnTo>
                  <a:pt x="1141" y="2713"/>
                </a:lnTo>
                <a:lnTo>
                  <a:pt x="1132" y="2677"/>
                </a:lnTo>
                <a:lnTo>
                  <a:pt x="1123" y="2642"/>
                </a:lnTo>
                <a:lnTo>
                  <a:pt x="1116" y="2605"/>
                </a:lnTo>
                <a:lnTo>
                  <a:pt x="1108" y="2568"/>
                </a:lnTo>
                <a:lnTo>
                  <a:pt x="1102" y="2531"/>
                </a:lnTo>
                <a:lnTo>
                  <a:pt x="1096" y="2492"/>
                </a:lnTo>
                <a:lnTo>
                  <a:pt x="1090" y="2454"/>
                </a:lnTo>
                <a:lnTo>
                  <a:pt x="1085" y="2415"/>
                </a:lnTo>
                <a:lnTo>
                  <a:pt x="1081" y="2375"/>
                </a:lnTo>
                <a:lnTo>
                  <a:pt x="1076" y="2335"/>
                </a:lnTo>
                <a:lnTo>
                  <a:pt x="1072" y="2295"/>
                </a:lnTo>
                <a:lnTo>
                  <a:pt x="1069" y="2254"/>
                </a:lnTo>
                <a:lnTo>
                  <a:pt x="1067" y="2213"/>
                </a:lnTo>
                <a:lnTo>
                  <a:pt x="1062" y="2129"/>
                </a:lnTo>
                <a:lnTo>
                  <a:pt x="1060" y="2043"/>
                </a:lnTo>
                <a:lnTo>
                  <a:pt x="1067" y="2018"/>
                </a:lnTo>
                <a:lnTo>
                  <a:pt x="1074" y="1995"/>
                </a:lnTo>
                <a:lnTo>
                  <a:pt x="1083" y="1974"/>
                </a:lnTo>
                <a:lnTo>
                  <a:pt x="1091" y="1956"/>
                </a:lnTo>
                <a:lnTo>
                  <a:pt x="1101" y="1939"/>
                </a:lnTo>
                <a:lnTo>
                  <a:pt x="1111" y="1924"/>
                </a:lnTo>
                <a:lnTo>
                  <a:pt x="1121" y="1911"/>
                </a:lnTo>
                <a:lnTo>
                  <a:pt x="1133" y="1900"/>
                </a:lnTo>
                <a:lnTo>
                  <a:pt x="1146" y="1892"/>
                </a:lnTo>
                <a:lnTo>
                  <a:pt x="1159" y="1884"/>
                </a:lnTo>
                <a:lnTo>
                  <a:pt x="1173" y="1880"/>
                </a:lnTo>
                <a:lnTo>
                  <a:pt x="1188" y="1877"/>
                </a:lnTo>
                <a:lnTo>
                  <a:pt x="1204" y="1876"/>
                </a:lnTo>
                <a:lnTo>
                  <a:pt x="1220" y="1877"/>
                </a:lnTo>
                <a:lnTo>
                  <a:pt x="1237" y="1880"/>
                </a:lnTo>
                <a:lnTo>
                  <a:pt x="1255" y="1885"/>
                </a:lnTo>
                <a:lnTo>
                  <a:pt x="1272" y="1892"/>
                </a:lnTo>
                <a:lnTo>
                  <a:pt x="1290" y="1898"/>
                </a:lnTo>
                <a:lnTo>
                  <a:pt x="1307" y="1902"/>
                </a:lnTo>
                <a:lnTo>
                  <a:pt x="1324" y="1907"/>
                </a:lnTo>
                <a:lnTo>
                  <a:pt x="1339" y="1909"/>
                </a:lnTo>
                <a:lnTo>
                  <a:pt x="1355" y="1910"/>
                </a:lnTo>
                <a:lnTo>
                  <a:pt x="1369" y="1910"/>
                </a:lnTo>
                <a:lnTo>
                  <a:pt x="1384" y="1909"/>
                </a:lnTo>
                <a:lnTo>
                  <a:pt x="1396" y="1908"/>
                </a:lnTo>
                <a:lnTo>
                  <a:pt x="1409" y="1905"/>
                </a:lnTo>
                <a:lnTo>
                  <a:pt x="1422" y="1900"/>
                </a:lnTo>
                <a:lnTo>
                  <a:pt x="1434" y="1894"/>
                </a:lnTo>
                <a:lnTo>
                  <a:pt x="1446" y="1887"/>
                </a:lnTo>
                <a:lnTo>
                  <a:pt x="1456" y="1880"/>
                </a:lnTo>
                <a:lnTo>
                  <a:pt x="1467" y="1871"/>
                </a:lnTo>
                <a:lnTo>
                  <a:pt x="1477" y="1861"/>
                </a:lnTo>
                <a:lnTo>
                  <a:pt x="1498" y="1838"/>
                </a:lnTo>
                <a:lnTo>
                  <a:pt x="1519" y="1817"/>
                </a:lnTo>
                <a:lnTo>
                  <a:pt x="1540" y="1795"/>
                </a:lnTo>
                <a:lnTo>
                  <a:pt x="1561" y="1775"/>
                </a:lnTo>
                <a:lnTo>
                  <a:pt x="1583" y="1756"/>
                </a:lnTo>
                <a:lnTo>
                  <a:pt x="1604" y="1736"/>
                </a:lnTo>
                <a:lnTo>
                  <a:pt x="1626" y="1718"/>
                </a:lnTo>
                <a:lnTo>
                  <a:pt x="1648" y="1700"/>
                </a:lnTo>
                <a:lnTo>
                  <a:pt x="1670" y="1683"/>
                </a:lnTo>
                <a:lnTo>
                  <a:pt x="1692" y="1667"/>
                </a:lnTo>
                <a:lnTo>
                  <a:pt x="1715" y="1651"/>
                </a:lnTo>
                <a:lnTo>
                  <a:pt x="1737" y="1636"/>
                </a:lnTo>
                <a:lnTo>
                  <a:pt x="1760" y="1620"/>
                </a:lnTo>
                <a:lnTo>
                  <a:pt x="1783" y="1607"/>
                </a:lnTo>
                <a:lnTo>
                  <a:pt x="1806" y="1594"/>
                </a:lnTo>
                <a:lnTo>
                  <a:pt x="1829" y="1581"/>
                </a:lnTo>
                <a:lnTo>
                  <a:pt x="1815" y="1556"/>
                </a:lnTo>
                <a:lnTo>
                  <a:pt x="1801" y="1532"/>
                </a:lnTo>
                <a:lnTo>
                  <a:pt x="1788" y="1506"/>
                </a:lnTo>
                <a:lnTo>
                  <a:pt x="1778" y="1479"/>
                </a:lnTo>
                <a:lnTo>
                  <a:pt x="1766" y="1452"/>
                </a:lnTo>
                <a:lnTo>
                  <a:pt x="1756" y="1424"/>
                </a:lnTo>
                <a:lnTo>
                  <a:pt x="1748" y="1396"/>
                </a:lnTo>
                <a:lnTo>
                  <a:pt x="1739" y="1368"/>
                </a:lnTo>
                <a:lnTo>
                  <a:pt x="1732" y="1339"/>
                </a:lnTo>
                <a:lnTo>
                  <a:pt x="1725" y="1309"/>
                </a:lnTo>
                <a:lnTo>
                  <a:pt x="1719" y="1277"/>
                </a:lnTo>
                <a:lnTo>
                  <a:pt x="1715" y="1246"/>
                </a:lnTo>
                <a:lnTo>
                  <a:pt x="1710" y="1215"/>
                </a:lnTo>
                <a:lnTo>
                  <a:pt x="1707" y="1182"/>
                </a:lnTo>
                <a:lnTo>
                  <a:pt x="1705" y="1150"/>
                </a:lnTo>
                <a:lnTo>
                  <a:pt x="1704" y="1116"/>
                </a:lnTo>
                <a:lnTo>
                  <a:pt x="1704" y="1047"/>
                </a:lnTo>
                <a:lnTo>
                  <a:pt x="1705" y="981"/>
                </a:lnTo>
                <a:lnTo>
                  <a:pt x="1706" y="915"/>
                </a:lnTo>
                <a:lnTo>
                  <a:pt x="1707" y="852"/>
                </a:lnTo>
                <a:lnTo>
                  <a:pt x="1710" y="791"/>
                </a:lnTo>
                <a:lnTo>
                  <a:pt x="1712" y="732"/>
                </a:lnTo>
                <a:lnTo>
                  <a:pt x="1716" y="675"/>
                </a:lnTo>
                <a:lnTo>
                  <a:pt x="1720" y="620"/>
                </a:lnTo>
                <a:lnTo>
                  <a:pt x="1724" y="567"/>
                </a:lnTo>
                <a:lnTo>
                  <a:pt x="1728" y="515"/>
                </a:lnTo>
                <a:lnTo>
                  <a:pt x="1734" y="466"/>
                </a:lnTo>
                <a:lnTo>
                  <a:pt x="1740" y="419"/>
                </a:lnTo>
                <a:lnTo>
                  <a:pt x="1747" y="374"/>
                </a:lnTo>
                <a:lnTo>
                  <a:pt x="1753" y="330"/>
                </a:lnTo>
                <a:lnTo>
                  <a:pt x="1761" y="289"/>
                </a:lnTo>
                <a:lnTo>
                  <a:pt x="1768" y="249"/>
                </a:lnTo>
                <a:lnTo>
                  <a:pt x="1800" y="206"/>
                </a:lnTo>
                <a:lnTo>
                  <a:pt x="1832" y="166"/>
                </a:lnTo>
                <a:lnTo>
                  <a:pt x="1848" y="148"/>
                </a:lnTo>
                <a:lnTo>
                  <a:pt x="1863" y="129"/>
                </a:lnTo>
                <a:lnTo>
                  <a:pt x="1879" y="113"/>
                </a:lnTo>
                <a:lnTo>
                  <a:pt x="1894" y="97"/>
                </a:lnTo>
                <a:lnTo>
                  <a:pt x="1909" y="82"/>
                </a:lnTo>
                <a:lnTo>
                  <a:pt x="1926" y="69"/>
                </a:lnTo>
                <a:lnTo>
                  <a:pt x="1941" y="57"/>
                </a:lnTo>
                <a:lnTo>
                  <a:pt x="1956" y="45"/>
                </a:lnTo>
                <a:lnTo>
                  <a:pt x="1971" y="33"/>
                </a:lnTo>
                <a:lnTo>
                  <a:pt x="1986" y="23"/>
                </a:lnTo>
                <a:lnTo>
                  <a:pt x="2001" y="15"/>
                </a:lnTo>
                <a:lnTo>
                  <a:pt x="2014" y="6"/>
                </a:lnTo>
                <a:lnTo>
                  <a:pt x="2023" y="3"/>
                </a:lnTo>
                <a:lnTo>
                  <a:pt x="2032" y="1"/>
                </a:lnTo>
                <a:lnTo>
                  <a:pt x="2041" y="0"/>
                </a:lnTo>
                <a:lnTo>
                  <a:pt x="2051" y="1"/>
                </a:lnTo>
                <a:lnTo>
                  <a:pt x="2062" y="4"/>
                </a:lnTo>
                <a:lnTo>
                  <a:pt x="2072" y="8"/>
                </a:lnTo>
                <a:lnTo>
                  <a:pt x="2084" y="14"/>
                </a:lnTo>
                <a:lnTo>
                  <a:pt x="2096" y="21"/>
                </a:lnTo>
                <a:lnTo>
                  <a:pt x="2109" y="31"/>
                </a:lnTo>
                <a:lnTo>
                  <a:pt x="2122" y="42"/>
                </a:lnTo>
                <a:lnTo>
                  <a:pt x="2134" y="53"/>
                </a:lnTo>
                <a:lnTo>
                  <a:pt x="2148" y="67"/>
                </a:lnTo>
                <a:lnTo>
                  <a:pt x="2163" y="83"/>
                </a:lnTo>
                <a:lnTo>
                  <a:pt x="2178" y="100"/>
                </a:lnTo>
                <a:lnTo>
                  <a:pt x="2193" y="119"/>
                </a:lnTo>
                <a:lnTo>
                  <a:pt x="2209" y="139"/>
                </a:lnTo>
                <a:lnTo>
                  <a:pt x="2223" y="142"/>
                </a:lnTo>
                <a:lnTo>
                  <a:pt x="2238" y="144"/>
                </a:lnTo>
                <a:lnTo>
                  <a:pt x="2256" y="145"/>
                </a:lnTo>
                <a:lnTo>
                  <a:pt x="2277" y="145"/>
                </a:lnTo>
                <a:lnTo>
                  <a:pt x="2300" y="145"/>
                </a:lnTo>
                <a:lnTo>
                  <a:pt x="2325" y="144"/>
                </a:lnTo>
                <a:lnTo>
                  <a:pt x="2353" y="142"/>
                </a:lnTo>
                <a:lnTo>
                  <a:pt x="2384" y="139"/>
                </a:lnTo>
                <a:lnTo>
                  <a:pt x="2397" y="122"/>
                </a:lnTo>
                <a:lnTo>
                  <a:pt x="2410" y="106"/>
                </a:lnTo>
                <a:lnTo>
                  <a:pt x="2422" y="92"/>
                </a:lnTo>
                <a:lnTo>
                  <a:pt x="2434" y="79"/>
                </a:lnTo>
                <a:lnTo>
                  <a:pt x="2447" y="67"/>
                </a:lnTo>
                <a:lnTo>
                  <a:pt x="2460" y="58"/>
                </a:lnTo>
                <a:lnTo>
                  <a:pt x="2472" y="49"/>
                </a:lnTo>
                <a:lnTo>
                  <a:pt x="2485" y="43"/>
                </a:lnTo>
                <a:lnTo>
                  <a:pt x="2496" y="37"/>
                </a:lnTo>
                <a:lnTo>
                  <a:pt x="2508" y="34"/>
                </a:lnTo>
                <a:lnTo>
                  <a:pt x="2520" y="32"/>
                </a:lnTo>
                <a:lnTo>
                  <a:pt x="2532" y="31"/>
                </a:lnTo>
                <a:lnTo>
                  <a:pt x="2544" y="32"/>
                </a:lnTo>
                <a:lnTo>
                  <a:pt x="2555" y="34"/>
                </a:lnTo>
                <a:lnTo>
                  <a:pt x="2566" y="37"/>
                </a:lnTo>
                <a:lnTo>
                  <a:pt x="2578" y="43"/>
                </a:lnTo>
                <a:lnTo>
                  <a:pt x="2606" y="67"/>
                </a:lnTo>
                <a:close/>
                <a:moveTo>
                  <a:pt x="2274" y="1273"/>
                </a:moveTo>
                <a:lnTo>
                  <a:pt x="2284" y="1227"/>
                </a:lnTo>
                <a:lnTo>
                  <a:pt x="2295" y="1180"/>
                </a:lnTo>
                <a:lnTo>
                  <a:pt x="2305" y="1131"/>
                </a:lnTo>
                <a:lnTo>
                  <a:pt x="2313" y="1080"/>
                </a:lnTo>
                <a:lnTo>
                  <a:pt x="2322" y="1028"/>
                </a:lnTo>
                <a:lnTo>
                  <a:pt x="2329" y="975"/>
                </a:lnTo>
                <a:lnTo>
                  <a:pt x="2336" y="921"/>
                </a:lnTo>
                <a:lnTo>
                  <a:pt x="2342" y="864"/>
                </a:lnTo>
                <a:lnTo>
                  <a:pt x="2349" y="806"/>
                </a:lnTo>
                <a:lnTo>
                  <a:pt x="2353" y="747"/>
                </a:lnTo>
                <a:lnTo>
                  <a:pt x="2358" y="687"/>
                </a:lnTo>
                <a:lnTo>
                  <a:pt x="2361" y="625"/>
                </a:lnTo>
                <a:lnTo>
                  <a:pt x="2365" y="561"/>
                </a:lnTo>
                <a:lnTo>
                  <a:pt x="2368" y="496"/>
                </a:lnTo>
                <a:lnTo>
                  <a:pt x="2370" y="431"/>
                </a:lnTo>
                <a:lnTo>
                  <a:pt x="2371" y="363"/>
                </a:lnTo>
                <a:lnTo>
                  <a:pt x="2358" y="363"/>
                </a:lnTo>
                <a:lnTo>
                  <a:pt x="2346" y="364"/>
                </a:lnTo>
                <a:lnTo>
                  <a:pt x="2334" y="365"/>
                </a:lnTo>
                <a:lnTo>
                  <a:pt x="2322" y="368"/>
                </a:lnTo>
                <a:lnTo>
                  <a:pt x="2309" y="371"/>
                </a:lnTo>
                <a:lnTo>
                  <a:pt x="2296" y="375"/>
                </a:lnTo>
                <a:lnTo>
                  <a:pt x="2283" y="379"/>
                </a:lnTo>
                <a:lnTo>
                  <a:pt x="2269" y="383"/>
                </a:lnTo>
                <a:lnTo>
                  <a:pt x="2244" y="396"/>
                </a:lnTo>
                <a:lnTo>
                  <a:pt x="2216" y="410"/>
                </a:lnTo>
                <a:lnTo>
                  <a:pt x="2189" y="427"/>
                </a:lnTo>
                <a:lnTo>
                  <a:pt x="2160" y="448"/>
                </a:lnTo>
                <a:lnTo>
                  <a:pt x="2153" y="449"/>
                </a:lnTo>
                <a:lnTo>
                  <a:pt x="2145" y="450"/>
                </a:lnTo>
                <a:lnTo>
                  <a:pt x="2138" y="452"/>
                </a:lnTo>
                <a:lnTo>
                  <a:pt x="2130" y="455"/>
                </a:lnTo>
                <a:lnTo>
                  <a:pt x="2123" y="457"/>
                </a:lnTo>
                <a:lnTo>
                  <a:pt x="2116" y="462"/>
                </a:lnTo>
                <a:lnTo>
                  <a:pt x="2110" y="465"/>
                </a:lnTo>
                <a:lnTo>
                  <a:pt x="2103" y="470"/>
                </a:lnTo>
                <a:lnTo>
                  <a:pt x="2093" y="480"/>
                </a:lnTo>
                <a:lnTo>
                  <a:pt x="2082" y="493"/>
                </a:lnTo>
                <a:lnTo>
                  <a:pt x="2072" y="507"/>
                </a:lnTo>
                <a:lnTo>
                  <a:pt x="2064" y="524"/>
                </a:lnTo>
                <a:lnTo>
                  <a:pt x="2056" y="542"/>
                </a:lnTo>
                <a:lnTo>
                  <a:pt x="2050" y="562"/>
                </a:lnTo>
                <a:lnTo>
                  <a:pt x="2043" y="585"/>
                </a:lnTo>
                <a:lnTo>
                  <a:pt x="2039" y="610"/>
                </a:lnTo>
                <a:lnTo>
                  <a:pt x="2036" y="635"/>
                </a:lnTo>
                <a:lnTo>
                  <a:pt x="2034" y="664"/>
                </a:lnTo>
                <a:lnTo>
                  <a:pt x="2032" y="694"/>
                </a:lnTo>
                <a:lnTo>
                  <a:pt x="2032" y="726"/>
                </a:lnTo>
                <a:lnTo>
                  <a:pt x="2054" y="724"/>
                </a:lnTo>
                <a:lnTo>
                  <a:pt x="2078" y="722"/>
                </a:lnTo>
                <a:lnTo>
                  <a:pt x="2102" y="721"/>
                </a:lnTo>
                <a:lnTo>
                  <a:pt x="2127" y="721"/>
                </a:lnTo>
                <a:lnTo>
                  <a:pt x="2154" y="721"/>
                </a:lnTo>
                <a:lnTo>
                  <a:pt x="2180" y="722"/>
                </a:lnTo>
                <a:lnTo>
                  <a:pt x="2208" y="724"/>
                </a:lnTo>
                <a:lnTo>
                  <a:pt x="2238" y="726"/>
                </a:lnTo>
                <a:lnTo>
                  <a:pt x="2250" y="732"/>
                </a:lnTo>
                <a:lnTo>
                  <a:pt x="2262" y="737"/>
                </a:lnTo>
                <a:lnTo>
                  <a:pt x="2273" y="745"/>
                </a:lnTo>
                <a:lnTo>
                  <a:pt x="2283" y="752"/>
                </a:lnTo>
                <a:lnTo>
                  <a:pt x="2292" y="761"/>
                </a:lnTo>
                <a:lnTo>
                  <a:pt x="2300" y="769"/>
                </a:lnTo>
                <a:lnTo>
                  <a:pt x="2308" y="780"/>
                </a:lnTo>
                <a:lnTo>
                  <a:pt x="2314" y="791"/>
                </a:lnTo>
                <a:lnTo>
                  <a:pt x="2320" y="803"/>
                </a:lnTo>
                <a:lnTo>
                  <a:pt x="2325" y="815"/>
                </a:lnTo>
                <a:lnTo>
                  <a:pt x="2328" y="828"/>
                </a:lnTo>
                <a:lnTo>
                  <a:pt x="2331" y="843"/>
                </a:lnTo>
                <a:lnTo>
                  <a:pt x="2334" y="858"/>
                </a:lnTo>
                <a:lnTo>
                  <a:pt x="2335" y="874"/>
                </a:lnTo>
                <a:lnTo>
                  <a:pt x="2335" y="892"/>
                </a:lnTo>
                <a:lnTo>
                  <a:pt x="2335" y="910"/>
                </a:lnTo>
                <a:lnTo>
                  <a:pt x="2325" y="926"/>
                </a:lnTo>
                <a:lnTo>
                  <a:pt x="2314" y="941"/>
                </a:lnTo>
                <a:lnTo>
                  <a:pt x="2303" y="956"/>
                </a:lnTo>
                <a:lnTo>
                  <a:pt x="2290" y="970"/>
                </a:lnTo>
                <a:lnTo>
                  <a:pt x="2276" y="983"/>
                </a:lnTo>
                <a:lnTo>
                  <a:pt x="2260" y="994"/>
                </a:lnTo>
                <a:lnTo>
                  <a:pt x="2243" y="1005"/>
                </a:lnTo>
                <a:lnTo>
                  <a:pt x="2224" y="1016"/>
                </a:lnTo>
                <a:lnTo>
                  <a:pt x="2205" y="1026"/>
                </a:lnTo>
                <a:lnTo>
                  <a:pt x="2184" y="1033"/>
                </a:lnTo>
                <a:lnTo>
                  <a:pt x="2161" y="1042"/>
                </a:lnTo>
                <a:lnTo>
                  <a:pt x="2138" y="1048"/>
                </a:lnTo>
                <a:lnTo>
                  <a:pt x="2113" y="1055"/>
                </a:lnTo>
                <a:lnTo>
                  <a:pt x="2087" y="1059"/>
                </a:lnTo>
                <a:lnTo>
                  <a:pt x="2059" y="1063"/>
                </a:lnTo>
                <a:lnTo>
                  <a:pt x="2032" y="1067"/>
                </a:lnTo>
                <a:lnTo>
                  <a:pt x="2025" y="1109"/>
                </a:lnTo>
                <a:lnTo>
                  <a:pt x="2020" y="1152"/>
                </a:lnTo>
                <a:lnTo>
                  <a:pt x="2017" y="1195"/>
                </a:lnTo>
                <a:lnTo>
                  <a:pt x="2016" y="1238"/>
                </a:lnTo>
                <a:lnTo>
                  <a:pt x="2014" y="1281"/>
                </a:lnTo>
                <a:lnTo>
                  <a:pt x="2017" y="1325"/>
                </a:lnTo>
                <a:lnTo>
                  <a:pt x="2019" y="1368"/>
                </a:lnTo>
                <a:lnTo>
                  <a:pt x="2023" y="1411"/>
                </a:lnTo>
                <a:lnTo>
                  <a:pt x="2053" y="1389"/>
                </a:lnTo>
                <a:lnTo>
                  <a:pt x="2083" y="1369"/>
                </a:lnTo>
                <a:lnTo>
                  <a:pt x="2113" y="1350"/>
                </a:lnTo>
                <a:lnTo>
                  <a:pt x="2144" y="1332"/>
                </a:lnTo>
                <a:lnTo>
                  <a:pt x="2176" y="1316"/>
                </a:lnTo>
                <a:lnTo>
                  <a:pt x="2208" y="1300"/>
                </a:lnTo>
                <a:lnTo>
                  <a:pt x="2240" y="1286"/>
                </a:lnTo>
                <a:lnTo>
                  <a:pt x="2274" y="1273"/>
                </a:lnTo>
                <a:close/>
                <a:moveTo>
                  <a:pt x="534" y="1727"/>
                </a:moveTo>
                <a:lnTo>
                  <a:pt x="550" y="1718"/>
                </a:lnTo>
                <a:lnTo>
                  <a:pt x="564" y="1707"/>
                </a:lnTo>
                <a:lnTo>
                  <a:pt x="579" y="1694"/>
                </a:lnTo>
                <a:lnTo>
                  <a:pt x="592" y="1679"/>
                </a:lnTo>
                <a:lnTo>
                  <a:pt x="605" y="1662"/>
                </a:lnTo>
                <a:lnTo>
                  <a:pt x="618" y="1643"/>
                </a:lnTo>
                <a:lnTo>
                  <a:pt x="630" y="1622"/>
                </a:lnTo>
                <a:lnTo>
                  <a:pt x="640" y="1598"/>
                </a:lnTo>
                <a:lnTo>
                  <a:pt x="651" y="1573"/>
                </a:lnTo>
                <a:lnTo>
                  <a:pt x="662" y="1545"/>
                </a:lnTo>
                <a:lnTo>
                  <a:pt x="670" y="1515"/>
                </a:lnTo>
                <a:lnTo>
                  <a:pt x="679" y="1483"/>
                </a:lnTo>
                <a:lnTo>
                  <a:pt x="687" y="1449"/>
                </a:lnTo>
                <a:lnTo>
                  <a:pt x="695" y="1413"/>
                </a:lnTo>
                <a:lnTo>
                  <a:pt x="702" y="1375"/>
                </a:lnTo>
                <a:lnTo>
                  <a:pt x="709" y="1334"/>
                </a:lnTo>
                <a:lnTo>
                  <a:pt x="694" y="1336"/>
                </a:lnTo>
                <a:lnTo>
                  <a:pt x="680" y="1340"/>
                </a:lnTo>
                <a:lnTo>
                  <a:pt x="665" y="1344"/>
                </a:lnTo>
                <a:lnTo>
                  <a:pt x="650" y="1349"/>
                </a:lnTo>
                <a:lnTo>
                  <a:pt x="635" y="1356"/>
                </a:lnTo>
                <a:lnTo>
                  <a:pt x="620" y="1363"/>
                </a:lnTo>
                <a:lnTo>
                  <a:pt x="605" y="1372"/>
                </a:lnTo>
                <a:lnTo>
                  <a:pt x="589" y="1381"/>
                </a:lnTo>
                <a:lnTo>
                  <a:pt x="573" y="1392"/>
                </a:lnTo>
                <a:lnTo>
                  <a:pt x="558" y="1403"/>
                </a:lnTo>
                <a:lnTo>
                  <a:pt x="541" y="1416"/>
                </a:lnTo>
                <a:lnTo>
                  <a:pt x="525" y="1430"/>
                </a:lnTo>
                <a:lnTo>
                  <a:pt x="509" y="1445"/>
                </a:lnTo>
                <a:lnTo>
                  <a:pt x="491" y="1461"/>
                </a:lnTo>
                <a:lnTo>
                  <a:pt x="475" y="1478"/>
                </a:lnTo>
                <a:lnTo>
                  <a:pt x="458" y="1496"/>
                </a:lnTo>
                <a:lnTo>
                  <a:pt x="459" y="1523"/>
                </a:lnTo>
                <a:lnTo>
                  <a:pt x="460" y="1548"/>
                </a:lnTo>
                <a:lnTo>
                  <a:pt x="463" y="1571"/>
                </a:lnTo>
                <a:lnTo>
                  <a:pt x="466" y="1593"/>
                </a:lnTo>
                <a:lnTo>
                  <a:pt x="469" y="1613"/>
                </a:lnTo>
                <a:lnTo>
                  <a:pt x="472" y="1631"/>
                </a:lnTo>
                <a:lnTo>
                  <a:pt x="476" y="1648"/>
                </a:lnTo>
                <a:lnTo>
                  <a:pt x="481" y="1663"/>
                </a:lnTo>
                <a:lnTo>
                  <a:pt x="486" y="1677"/>
                </a:lnTo>
                <a:lnTo>
                  <a:pt x="491" y="1689"/>
                </a:lnTo>
                <a:lnTo>
                  <a:pt x="498" y="1700"/>
                </a:lnTo>
                <a:lnTo>
                  <a:pt x="504" y="1708"/>
                </a:lnTo>
                <a:lnTo>
                  <a:pt x="511" y="1715"/>
                </a:lnTo>
                <a:lnTo>
                  <a:pt x="518" y="1721"/>
                </a:lnTo>
                <a:lnTo>
                  <a:pt x="526" y="1724"/>
                </a:lnTo>
                <a:lnTo>
                  <a:pt x="534" y="1727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  <a:effectLst>
            <a:outerShdw dist="63504" dir="3183908" blurRad="0" rotWithShape="0">
              <a:srgbClr val="41f14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338640" y="880920"/>
            <a:ext cx="838080" cy="827280"/>
          </a:xfrm>
          <a:custGeom>
            <a:avLst/>
            <a:gdLst/>
            <a:ahLst/>
            <a:rect l="l" t="t" r="r" b="b"/>
            <a:pathLst>
              <a:path w="3696" h="3644">
                <a:moveTo>
                  <a:pt x="1403" y="274"/>
                </a:moveTo>
                <a:lnTo>
                  <a:pt x="1417" y="239"/>
                </a:lnTo>
                <a:lnTo>
                  <a:pt x="1431" y="206"/>
                </a:lnTo>
                <a:lnTo>
                  <a:pt x="1445" y="173"/>
                </a:lnTo>
                <a:lnTo>
                  <a:pt x="1458" y="143"/>
                </a:lnTo>
                <a:lnTo>
                  <a:pt x="1471" y="116"/>
                </a:lnTo>
                <a:lnTo>
                  <a:pt x="1484" y="90"/>
                </a:lnTo>
                <a:lnTo>
                  <a:pt x="1497" y="66"/>
                </a:lnTo>
                <a:lnTo>
                  <a:pt x="1508" y="44"/>
                </a:lnTo>
                <a:lnTo>
                  <a:pt x="1520" y="36"/>
                </a:lnTo>
                <a:lnTo>
                  <a:pt x="1531" y="30"/>
                </a:lnTo>
                <a:lnTo>
                  <a:pt x="1543" y="23"/>
                </a:lnTo>
                <a:lnTo>
                  <a:pt x="1553" y="18"/>
                </a:lnTo>
                <a:lnTo>
                  <a:pt x="1565" y="14"/>
                </a:lnTo>
                <a:lnTo>
                  <a:pt x="1576" y="9"/>
                </a:lnTo>
                <a:lnTo>
                  <a:pt x="1588" y="6"/>
                </a:lnTo>
                <a:lnTo>
                  <a:pt x="1599" y="4"/>
                </a:lnTo>
                <a:lnTo>
                  <a:pt x="1611" y="2"/>
                </a:lnTo>
                <a:lnTo>
                  <a:pt x="1623" y="1"/>
                </a:lnTo>
                <a:lnTo>
                  <a:pt x="1635" y="0"/>
                </a:lnTo>
                <a:lnTo>
                  <a:pt x="1647" y="0"/>
                </a:lnTo>
                <a:lnTo>
                  <a:pt x="1658" y="1"/>
                </a:lnTo>
                <a:lnTo>
                  <a:pt x="1670" y="2"/>
                </a:lnTo>
                <a:lnTo>
                  <a:pt x="1682" y="4"/>
                </a:lnTo>
                <a:lnTo>
                  <a:pt x="1695" y="7"/>
                </a:lnTo>
                <a:lnTo>
                  <a:pt x="1729" y="31"/>
                </a:lnTo>
                <a:lnTo>
                  <a:pt x="1765" y="52"/>
                </a:lnTo>
                <a:lnTo>
                  <a:pt x="1802" y="73"/>
                </a:lnTo>
                <a:lnTo>
                  <a:pt x="1840" y="92"/>
                </a:lnTo>
                <a:lnTo>
                  <a:pt x="1848" y="98"/>
                </a:lnTo>
                <a:lnTo>
                  <a:pt x="1855" y="105"/>
                </a:lnTo>
                <a:lnTo>
                  <a:pt x="1862" y="112"/>
                </a:lnTo>
                <a:lnTo>
                  <a:pt x="1867" y="120"/>
                </a:lnTo>
                <a:lnTo>
                  <a:pt x="1872" y="128"/>
                </a:lnTo>
                <a:lnTo>
                  <a:pt x="1875" y="137"/>
                </a:lnTo>
                <a:lnTo>
                  <a:pt x="1878" y="147"/>
                </a:lnTo>
                <a:lnTo>
                  <a:pt x="1879" y="156"/>
                </a:lnTo>
                <a:lnTo>
                  <a:pt x="1880" y="166"/>
                </a:lnTo>
                <a:lnTo>
                  <a:pt x="1880" y="177"/>
                </a:lnTo>
                <a:lnTo>
                  <a:pt x="1879" y="187"/>
                </a:lnTo>
                <a:lnTo>
                  <a:pt x="1877" y="199"/>
                </a:lnTo>
                <a:lnTo>
                  <a:pt x="1875" y="211"/>
                </a:lnTo>
                <a:lnTo>
                  <a:pt x="1870" y="224"/>
                </a:lnTo>
                <a:lnTo>
                  <a:pt x="1866" y="237"/>
                </a:lnTo>
                <a:lnTo>
                  <a:pt x="1860" y="251"/>
                </a:lnTo>
                <a:lnTo>
                  <a:pt x="1852" y="301"/>
                </a:lnTo>
                <a:lnTo>
                  <a:pt x="1846" y="351"/>
                </a:lnTo>
                <a:lnTo>
                  <a:pt x="1838" y="402"/>
                </a:lnTo>
                <a:lnTo>
                  <a:pt x="1831" y="453"/>
                </a:lnTo>
                <a:lnTo>
                  <a:pt x="1823" y="504"/>
                </a:lnTo>
                <a:lnTo>
                  <a:pt x="1817" y="555"/>
                </a:lnTo>
                <a:lnTo>
                  <a:pt x="1809" y="605"/>
                </a:lnTo>
                <a:lnTo>
                  <a:pt x="1803" y="657"/>
                </a:lnTo>
                <a:lnTo>
                  <a:pt x="1797" y="708"/>
                </a:lnTo>
                <a:lnTo>
                  <a:pt x="1789" y="760"/>
                </a:lnTo>
                <a:lnTo>
                  <a:pt x="1783" y="810"/>
                </a:lnTo>
                <a:lnTo>
                  <a:pt x="1776" y="862"/>
                </a:lnTo>
                <a:lnTo>
                  <a:pt x="1770" y="913"/>
                </a:lnTo>
                <a:lnTo>
                  <a:pt x="1763" y="964"/>
                </a:lnTo>
                <a:lnTo>
                  <a:pt x="1757" y="1016"/>
                </a:lnTo>
                <a:lnTo>
                  <a:pt x="1752" y="1067"/>
                </a:lnTo>
                <a:lnTo>
                  <a:pt x="1795" y="1059"/>
                </a:lnTo>
                <a:lnTo>
                  <a:pt x="1838" y="1048"/>
                </a:lnTo>
                <a:lnTo>
                  <a:pt x="1881" y="1038"/>
                </a:lnTo>
                <a:lnTo>
                  <a:pt x="1924" y="1028"/>
                </a:lnTo>
                <a:lnTo>
                  <a:pt x="1966" y="1016"/>
                </a:lnTo>
                <a:lnTo>
                  <a:pt x="2008" y="1004"/>
                </a:lnTo>
                <a:lnTo>
                  <a:pt x="2049" y="992"/>
                </a:lnTo>
                <a:lnTo>
                  <a:pt x="2090" y="979"/>
                </a:lnTo>
                <a:lnTo>
                  <a:pt x="2131" y="967"/>
                </a:lnTo>
                <a:lnTo>
                  <a:pt x="2170" y="953"/>
                </a:lnTo>
                <a:lnTo>
                  <a:pt x="2210" y="939"/>
                </a:lnTo>
                <a:lnTo>
                  <a:pt x="2250" y="924"/>
                </a:lnTo>
                <a:lnTo>
                  <a:pt x="2288" y="909"/>
                </a:lnTo>
                <a:lnTo>
                  <a:pt x="2327" y="894"/>
                </a:lnTo>
                <a:lnTo>
                  <a:pt x="2364" y="878"/>
                </a:lnTo>
                <a:lnTo>
                  <a:pt x="2402" y="862"/>
                </a:lnTo>
                <a:lnTo>
                  <a:pt x="2420" y="861"/>
                </a:lnTo>
                <a:lnTo>
                  <a:pt x="2438" y="859"/>
                </a:lnTo>
                <a:lnTo>
                  <a:pt x="2456" y="861"/>
                </a:lnTo>
                <a:lnTo>
                  <a:pt x="2474" y="862"/>
                </a:lnTo>
                <a:lnTo>
                  <a:pt x="2493" y="864"/>
                </a:lnTo>
                <a:lnTo>
                  <a:pt x="2511" y="866"/>
                </a:lnTo>
                <a:lnTo>
                  <a:pt x="2528" y="869"/>
                </a:lnTo>
                <a:lnTo>
                  <a:pt x="2546" y="873"/>
                </a:lnTo>
                <a:lnTo>
                  <a:pt x="2563" y="879"/>
                </a:lnTo>
                <a:lnTo>
                  <a:pt x="2582" y="884"/>
                </a:lnTo>
                <a:lnTo>
                  <a:pt x="2599" y="891"/>
                </a:lnTo>
                <a:lnTo>
                  <a:pt x="2617" y="898"/>
                </a:lnTo>
                <a:lnTo>
                  <a:pt x="2634" y="906"/>
                </a:lnTo>
                <a:lnTo>
                  <a:pt x="2651" y="914"/>
                </a:lnTo>
                <a:lnTo>
                  <a:pt x="2668" y="924"/>
                </a:lnTo>
                <a:lnTo>
                  <a:pt x="2685" y="934"/>
                </a:lnTo>
                <a:lnTo>
                  <a:pt x="2703" y="959"/>
                </a:lnTo>
                <a:lnTo>
                  <a:pt x="2719" y="985"/>
                </a:lnTo>
                <a:lnTo>
                  <a:pt x="2734" y="1013"/>
                </a:lnTo>
                <a:lnTo>
                  <a:pt x="2748" y="1041"/>
                </a:lnTo>
                <a:lnTo>
                  <a:pt x="2760" y="1071"/>
                </a:lnTo>
                <a:lnTo>
                  <a:pt x="2773" y="1101"/>
                </a:lnTo>
                <a:lnTo>
                  <a:pt x="2784" y="1133"/>
                </a:lnTo>
                <a:lnTo>
                  <a:pt x="2795" y="1165"/>
                </a:lnTo>
                <a:lnTo>
                  <a:pt x="2803" y="1191"/>
                </a:lnTo>
                <a:lnTo>
                  <a:pt x="2811" y="1215"/>
                </a:lnTo>
                <a:lnTo>
                  <a:pt x="2816" y="1239"/>
                </a:lnTo>
                <a:lnTo>
                  <a:pt x="2820" y="1261"/>
                </a:lnTo>
                <a:lnTo>
                  <a:pt x="2824" y="1282"/>
                </a:lnTo>
                <a:lnTo>
                  <a:pt x="2825" y="1302"/>
                </a:lnTo>
                <a:lnTo>
                  <a:pt x="2824" y="1320"/>
                </a:lnTo>
                <a:lnTo>
                  <a:pt x="2821" y="1339"/>
                </a:lnTo>
                <a:lnTo>
                  <a:pt x="2817" y="1355"/>
                </a:lnTo>
                <a:lnTo>
                  <a:pt x="2812" y="1370"/>
                </a:lnTo>
                <a:lnTo>
                  <a:pt x="2805" y="1384"/>
                </a:lnTo>
                <a:lnTo>
                  <a:pt x="2797" y="1396"/>
                </a:lnTo>
                <a:lnTo>
                  <a:pt x="2786" y="1408"/>
                </a:lnTo>
                <a:lnTo>
                  <a:pt x="2774" y="1419"/>
                </a:lnTo>
                <a:lnTo>
                  <a:pt x="2762" y="1428"/>
                </a:lnTo>
                <a:lnTo>
                  <a:pt x="2747" y="1436"/>
                </a:lnTo>
                <a:lnTo>
                  <a:pt x="2698" y="1459"/>
                </a:lnTo>
                <a:lnTo>
                  <a:pt x="2650" y="1480"/>
                </a:lnTo>
                <a:lnTo>
                  <a:pt x="2601" y="1502"/>
                </a:lnTo>
                <a:lnTo>
                  <a:pt x="2552" y="1523"/>
                </a:lnTo>
                <a:lnTo>
                  <a:pt x="2501" y="1543"/>
                </a:lnTo>
                <a:lnTo>
                  <a:pt x="2450" y="1563"/>
                </a:lnTo>
                <a:lnTo>
                  <a:pt x="2398" y="1582"/>
                </a:lnTo>
                <a:lnTo>
                  <a:pt x="2347" y="1600"/>
                </a:lnTo>
                <a:lnTo>
                  <a:pt x="2295" y="1618"/>
                </a:lnTo>
                <a:lnTo>
                  <a:pt x="2241" y="1636"/>
                </a:lnTo>
                <a:lnTo>
                  <a:pt x="2187" y="1653"/>
                </a:lnTo>
                <a:lnTo>
                  <a:pt x="2133" y="1669"/>
                </a:lnTo>
                <a:lnTo>
                  <a:pt x="2078" y="1684"/>
                </a:lnTo>
                <a:lnTo>
                  <a:pt x="2023" y="1700"/>
                </a:lnTo>
                <a:lnTo>
                  <a:pt x="1966" y="1714"/>
                </a:lnTo>
                <a:lnTo>
                  <a:pt x="1909" y="1728"/>
                </a:lnTo>
                <a:lnTo>
                  <a:pt x="1942" y="1779"/>
                </a:lnTo>
                <a:lnTo>
                  <a:pt x="1978" y="1831"/>
                </a:lnTo>
                <a:lnTo>
                  <a:pt x="2013" y="1882"/>
                </a:lnTo>
                <a:lnTo>
                  <a:pt x="2050" y="1934"/>
                </a:lnTo>
                <a:lnTo>
                  <a:pt x="2089" y="1985"/>
                </a:lnTo>
                <a:lnTo>
                  <a:pt x="2127" y="2035"/>
                </a:lnTo>
                <a:lnTo>
                  <a:pt x="2168" y="2086"/>
                </a:lnTo>
                <a:lnTo>
                  <a:pt x="2211" y="2136"/>
                </a:lnTo>
                <a:lnTo>
                  <a:pt x="2254" y="2187"/>
                </a:lnTo>
                <a:lnTo>
                  <a:pt x="2298" y="2237"/>
                </a:lnTo>
                <a:lnTo>
                  <a:pt x="2344" y="2286"/>
                </a:lnTo>
                <a:lnTo>
                  <a:pt x="2390" y="2337"/>
                </a:lnTo>
                <a:lnTo>
                  <a:pt x="2438" y="2386"/>
                </a:lnTo>
                <a:lnTo>
                  <a:pt x="2487" y="2435"/>
                </a:lnTo>
                <a:lnTo>
                  <a:pt x="2538" y="2483"/>
                </a:lnTo>
                <a:lnTo>
                  <a:pt x="2589" y="2533"/>
                </a:lnTo>
                <a:lnTo>
                  <a:pt x="2643" y="2581"/>
                </a:lnTo>
                <a:lnTo>
                  <a:pt x="2696" y="2629"/>
                </a:lnTo>
                <a:lnTo>
                  <a:pt x="2752" y="2677"/>
                </a:lnTo>
                <a:lnTo>
                  <a:pt x="2808" y="2726"/>
                </a:lnTo>
                <a:lnTo>
                  <a:pt x="2865" y="2774"/>
                </a:lnTo>
                <a:lnTo>
                  <a:pt x="2924" y="2821"/>
                </a:lnTo>
                <a:lnTo>
                  <a:pt x="2984" y="2868"/>
                </a:lnTo>
                <a:lnTo>
                  <a:pt x="3046" y="2917"/>
                </a:lnTo>
                <a:lnTo>
                  <a:pt x="3109" y="2963"/>
                </a:lnTo>
                <a:lnTo>
                  <a:pt x="3172" y="3010"/>
                </a:lnTo>
                <a:lnTo>
                  <a:pt x="3237" y="3057"/>
                </a:lnTo>
                <a:lnTo>
                  <a:pt x="3303" y="3103"/>
                </a:lnTo>
                <a:lnTo>
                  <a:pt x="3371" y="3149"/>
                </a:lnTo>
                <a:lnTo>
                  <a:pt x="3439" y="3195"/>
                </a:lnTo>
                <a:lnTo>
                  <a:pt x="3509" y="3241"/>
                </a:lnTo>
                <a:lnTo>
                  <a:pt x="3580" y="3286"/>
                </a:lnTo>
                <a:lnTo>
                  <a:pt x="3597" y="3306"/>
                </a:lnTo>
                <a:lnTo>
                  <a:pt x="3613" y="3324"/>
                </a:lnTo>
                <a:lnTo>
                  <a:pt x="3628" y="3343"/>
                </a:lnTo>
                <a:lnTo>
                  <a:pt x="3641" y="3361"/>
                </a:lnTo>
                <a:lnTo>
                  <a:pt x="3653" y="3380"/>
                </a:lnTo>
                <a:lnTo>
                  <a:pt x="3663" y="3399"/>
                </a:lnTo>
                <a:lnTo>
                  <a:pt x="3672" y="3417"/>
                </a:lnTo>
                <a:lnTo>
                  <a:pt x="3679" y="3435"/>
                </a:lnTo>
                <a:lnTo>
                  <a:pt x="3686" y="3454"/>
                </a:lnTo>
                <a:lnTo>
                  <a:pt x="3691" y="3473"/>
                </a:lnTo>
                <a:lnTo>
                  <a:pt x="3694" y="3491"/>
                </a:lnTo>
                <a:lnTo>
                  <a:pt x="3695" y="3509"/>
                </a:lnTo>
                <a:lnTo>
                  <a:pt x="3696" y="3528"/>
                </a:lnTo>
                <a:lnTo>
                  <a:pt x="3695" y="3546"/>
                </a:lnTo>
                <a:lnTo>
                  <a:pt x="3693" y="3564"/>
                </a:lnTo>
                <a:lnTo>
                  <a:pt x="3689" y="3582"/>
                </a:lnTo>
                <a:lnTo>
                  <a:pt x="3661" y="3599"/>
                </a:lnTo>
                <a:lnTo>
                  <a:pt x="3634" y="3613"/>
                </a:lnTo>
                <a:lnTo>
                  <a:pt x="3611" y="3625"/>
                </a:lnTo>
                <a:lnTo>
                  <a:pt x="3588" y="3634"/>
                </a:lnTo>
                <a:lnTo>
                  <a:pt x="3569" y="3640"/>
                </a:lnTo>
                <a:lnTo>
                  <a:pt x="3552" y="3643"/>
                </a:lnTo>
                <a:lnTo>
                  <a:pt x="3543" y="3644"/>
                </a:lnTo>
                <a:lnTo>
                  <a:pt x="3536" y="3644"/>
                </a:lnTo>
                <a:lnTo>
                  <a:pt x="3529" y="3644"/>
                </a:lnTo>
                <a:lnTo>
                  <a:pt x="3523" y="3643"/>
                </a:lnTo>
                <a:lnTo>
                  <a:pt x="3504" y="3638"/>
                </a:lnTo>
                <a:lnTo>
                  <a:pt x="3484" y="3632"/>
                </a:lnTo>
                <a:lnTo>
                  <a:pt x="3466" y="3624"/>
                </a:lnTo>
                <a:lnTo>
                  <a:pt x="3448" y="3615"/>
                </a:lnTo>
                <a:lnTo>
                  <a:pt x="3430" y="3605"/>
                </a:lnTo>
                <a:lnTo>
                  <a:pt x="3412" y="3594"/>
                </a:lnTo>
                <a:lnTo>
                  <a:pt x="3396" y="3581"/>
                </a:lnTo>
                <a:lnTo>
                  <a:pt x="3378" y="3567"/>
                </a:lnTo>
                <a:lnTo>
                  <a:pt x="3362" y="3552"/>
                </a:lnTo>
                <a:lnTo>
                  <a:pt x="3346" y="3536"/>
                </a:lnTo>
                <a:lnTo>
                  <a:pt x="3331" y="3518"/>
                </a:lnTo>
                <a:lnTo>
                  <a:pt x="3316" y="3500"/>
                </a:lnTo>
                <a:lnTo>
                  <a:pt x="3301" y="3479"/>
                </a:lnTo>
                <a:lnTo>
                  <a:pt x="3287" y="3459"/>
                </a:lnTo>
                <a:lnTo>
                  <a:pt x="3273" y="3436"/>
                </a:lnTo>
                <a:lnTo>
                  <a:pt x="3261" y="3413"/>
                </a:lnTo>
                <a:lnTo>
                  <a:pt x="3247" y="3439"/>
                </a:lnTo>
                <a:lnTo>
                  <a:pt x="3233" y="3462"/>
                </a:lnTo>
                <a:lnTo>
                  <a:pt x="3218" y="3485"/>
                </a:lnTo>
                <a:lnTo>
                  <a:pt x="3203" y="3504"/>
                </a:lnTo>
                <a:lnTo>
                  <a:pt x="3187" y="3521"/>
                </a:lnTo>
                <a:lnTo>
                  <a:pt x="3170" y="3535"/>
                </a:lnTo>
                <a:lnTo>
                  <a:pt x="3161" y="3543"/>
                </a:lnTo>
                <a:lnTo>
                  <a:pt x="3152" y="3548"/>
                </a:lnTo>
                <a:lnTo>
                  <a:pt x="3144" y="3553"/>
                </a:lnTo>
                <a:lnTo>
                  <a:pt x="3134" y="3559"/>
                </a:lnTo>
                <a:lnTo>
                  <a:pt x="3126" y="3563"/>
                </a:lnTo>
                <a:lnTo>
                  <a:pt x="3116" y="3566"/>
                </a:lnTo>
                <a:lnTo>
                  <a:pt x="3106" y="3569"/>
                </a:lnTo>
                <a:lnTo>
                  <a:pt x="3097" y="3571"/>
                </a:lnTo>
                <a:lnTo>
                  <a:pt x="3087" y="3574"/>
                </a:lnTo>
                <a:lnTo>
                  <a:pt x="3077" y="3576"/>
                </a:lnTo>
                <a:lnTo>
                  <a:pt x="3067" y="3576"/>
                </a:lnTo>
                <a:lnTo>
                  <a:pt x="3057" y="3577"/>
                </a:lnTo>
                <a:lnTo>
                  <a:pt x="3046" y="3576"/>
                </a:lnTo>
                <a:lnTo>
                  <a:pt x="3036" y="3576"/>
                </a:lnTo>
                <a:lnTo>
                  <a:pt x="3025" y="3574"/>
                </a:lnTo>
                <a:lnTo>
                  <a:pt x="3014" y="3571"/>
                </a:lnTo>
                <a:lnTo>
                  <a:pt x="2992" y="3566"/>
                </a:lnTo>
                <a:lnTo>
                  <a:pt x="2969" y="3559"/>
                </a:lnTo>
                <a:lnTo>
                  <a:pt x="2921" y="3530"/>
                </a:lnTo>
                <a:lnTo>
                  <a:pt x="2873" y="3500"/>
                </a:lnTo>
                <a:lnTo>
                  <a:pt x="2826" y="3470"/>
                </a:lnTo>
                <a:lnTo>
                  <a:pt x="2779" y="3437"/>
                </a:lnTo>
                <a:lnTo>
                  <a:pt x="2732" y="3405"/>
                </a:lnTo>
                <a:lnTo>
                  <a:pt x="2685" y="3372"/>
                </a:lnTo>
                <a:lnTo>
                  <a:pt x="2638" y="3338"/>
                </a:lnTo>
                <a:lnTo>
                  <a:pt x="2592" y="3303"/>
                </a:lnTo>
                <a:lnTo>
                  <a:pt x="2546" y="3267"/>
                </a:lnTo>
                <a:lnTo>
                  <a:pt x="2501" y="3231"/>
                </a:lnTo>
                <a:lnTo>
                  <a:pt x="2455" y="3193"/>
                </a:lnTo>
                <a:lnTo>
                  <a:pt x="2410" y="3154"/>
                </a:lnTo>
                <a:lnTo>
                  <a:pt x="2365" y="3116"/>
                </a:lnTo>
                <a:lnTo>
                  <a:pt x="2320" y="3075"/>
                </a:lnTo>
                <a:lnTo>
                  <a:pt x="2276" y="3034"/>
                </a:lnTo>
                <a:lnTo>
                  <a:pt x="2231" y="2993"/>
                </a:lnTo>
                <a:lnTo>
                  <a:pt x="2187" y="2950"/>
                </a:lnTo>
                <a:lnTo>
                  <a:pt x="2144" y="2906"/>
                </a:lnTo>
                <a:lnTo>
                  <a:pt x="2101" y="2861"/>
                </a:lnTo>
                <a:lnTo>
                  <a:pt x="2057" y="2816"/>
                </a:lnTo>
                <a:lnTo>
                  <a:pt x="2014" y="2770"/>
                </a:lnTo>
                <a:lnTo>
                  <a:pt x="1971" y="2722"/>
                </a:lnTo>
                <a:lnTo>
                  <a:pt x="1929" y="2674"/>
                </a:lnTo>
                <a:lnTo>
                  <a:pt x="1887" y="2625"/>
                </a:lnTo>
                <a:lnTo>
                  <a:pt x="1845" y="2576"/>
                </a:lnTo>
                <a:lnTo>
                  <a:pt x="1803" y="2524"/>
                </a:lnTo>
                <a:lnTo>
                  <a:pt x="1761" y="2473"/>
                </a:lnTo>
                <a:lnTo>
                  <a:pt x="1719" y="2420"/>
                </a:lnTo>
                <a:lnTo>
                  <a:pt x="1679" y="2367"/>
                </a:lnTo>
                <a:lnTo>
                  <a:pt x="1638" y="2313"/>
                </a:lnTo>
                <a:lnTo>
                  <a:pt x="1597" y="2257"/>
                </a:lnTo>
                <a:lnTo>
                  <a:pt x="1557" y="2202"/>
                </a:lnTo>
                <a:lnTo>
                  <a:pt x="1547" y="2244"/>
                </a:lnTo>
                <a:lnTo>
                  <a:pt x="1536" y="2285"/>
                </a:lnTo>
                <a:lnTo>
                  <a:pt x="1525" y="2325"/>
                </a:lnTo>
                <a:lnTo>
                  <a:pt x="1512" y="2363"/>
                </a:lnTo>
                <a:lnTo>
                  <a:pt x="1499" y="2400"/>
                </a:lnTo>
                <a:lnTo>
                  <a:pt x="1484" y="2435"/>
                </a:lnTo>
                <a:lnTo>
                  <a:pt x="1469" y="2470"/>
                </a:lnTo>
                <a:lnTo>
                  <a:pt x="1453" y="2503"/>
                </a:lnTo>
                <a:lnTo>
                  <a:pt x="1437" y="2534"/>
                </a:lnTo>
                <a:lnTo>
                  <a:pt x="1418" y="2564"/>
                </a:lnTo>
                <a:lnTo>
                  <a:pt x="1400" y="2593"/>
                </a:lnTo>
                <a:lnTo>
                  <a:pt x="1380" y="2620"/>
                </a:lnTo>
                <a:lnTo>
                  <a:pt x="1361" y="2646"/>
                </a:lnTo>
                <a:lnTo>
                  <a:pt x="1339" y="2671"/>
                </a:lnTo>
                <a:lnTo>
                  <a:pt x="1317" y="2694"/>
                </a:lnTo>
                <a:lnTo>
                  <a:pt x="1294" y="2716"/>
                </a:lnTo>
                <a:lnTo>
                  <a:pt x="1340" y="2726"/>
                </a:lnTo>
                <a:lnTo>
                  <a:pt x="1384" y="2736"/>
                </a:lnTo>
                <a:lnTo>
                  <a:pt x="1428" y="2749"/>
                </a:lnTo>
                <a:lnTo>
                  <a:pt x="1470" y="2763"/>
                </a:lnTo>
                <a:lnTo>
                  <a:pt x="1512" y="2778"/>
                </a:lnTo>
                <a:lnTo>
                  <a:pt x="1551" y="2794"/>
                </a:lnTo>
                <a:lnTo>
                  <a:pt x="1590" y="2813"/>
                </a:lnTo>
                <a:lnTo>
                  <a:pt x="1627" y="2832"/>
                </a:lnTo>
                <a:lnTo>
                  <a:pt x="1663" y="2852"/>
                </a:lnTo>
                <a:lnTo>
                  <a:pt x="1698" y="2874"/>
                </a:lnTo>
                <a:lnTo>
                  <a:pt x="1731" y="2896"/>
                </a:lnTo>
                <a:lnTo>
                  <a:pt x="1763" y="2921"/>
                </a:lnTo>
                <a:lnTo>
                  <a:pt x="1795" y="2947"/>
                </a:lnTo>
                <a:lnTo>
                  <a:pt x="1824" y="2973"/>
                </a:lnTo>
                <a:lnTo>
                  <a:pt x="1853" y="3002"/>
                </a:lnTo>
                <a:lnTo>
                  <a:pt x="1881" y="3031"/>
                </a:lnTo>
                <a:lnTo>
                  <a:pt x="1892" y="3067"/>
                </a:lnTo>
                <a:lnTo>
                  <a:pt x="1899" y="3100"/>
                </a:lnTo>
                <a:lnTo>
                  <a:pt x="1903" y="3116"/>
                </a:lnTo>
                <a:lnTo>
                  <a:pt x="1905" y="3131"/>
                </a:lnTo>
                <a:lnTo>
                  <a:pt x="1906" y="3146"/>
                </a:lnTo>
                <a:lnTo>
                  <a:pt x="1907" y="3159"/>
                </a:lnTo>
                <a:lnTo>
                  <a:pt x="1907" y="3173"/>
                </a:lnTo>
                <a:lnTo>
                  <a:pt x="1907" y="3186"/>
                </a:lnTo>
                <a:lnTo>
                  <a:pt x="1905" y="3197"/>
                </a:lnTo>
                <a:lnTo>
                  <a:pt x="1904" y="3209"/>
                </a:lnTo>
                <a:lnTo>
                  <a:pt x="1900" y="3220"/>
                </a:lnTo>
                <a:lnTo>
                  <a:pt x="1897" y="3231"/>
                </a:lnTo>
                <a:lnTo>
                  <a:pt x="1893" y="3240"/>
                </a:lnTo>
                <a:lnTo>
                  <a:pt x="1889" y="3250"/>
                </a:lnTo>
                <a:lnTo>
                  <a:pt x="1869" y="3276"/>
                </a:lnTo>
                <a:lnTo>
                  <a:pt x="1849" y="3300"/>
                </a:lnTo>
                <a:lnTo>
                  <a:pt x="1829" y="3324"/>
                </a:lnTo>
                <a:lnTo>
                  <a:pt x="1807" y="3347"/>
                </a:lnTo>
                <a:lnTo>
                  <a:pt x="1785" y="3371"/>
                </a:lnTo>
                <a:lnTo>
                  <a:pt x="1762" y="3394"/>
                </a:lnTo>
                <a:lnTo>
                  <a:pt x="1739" y="3415"/>
                </a:lnTo>
                <a:lnTo>
                  <a:pt x="1714" y="3436"/>
                </a:lnTo>
                <a:lnTo>
                  <a:pt x="1693" y="3454"/>
                </a:lnTo>
                <a:lnTo>
                  <a:pt x="1671" y="3468"/>
                </a:lnTo>
                <a:lnTo>
                  <a:pt x="1661" y="3474"/>
                </a:lnTo>
                <a:lnTo>
                  <a:pt x="1651" y="3479"/>
                </a:lnTo>
                <a:lnTo>
                  <a:pt x="1640" y="3484"/>
                </a:lnTo>
                <a:lnTo>
                  <a:pt x="1631" y="3488"/>
                </a:lnTo>
                <a:lnTo>
                  <a:pt x="1620" y="3491"/>
                </a:lnTo>
                <a:lnTo>
                  <a:pt x="1610" y="3493"/>
                </a:lnTo>
                <a:lnTo>
                  <a:pt x="1601" y="3495"/>
                </a:lnTo>
                <a:lnTo>
                  <a:pt x="1591" y="3496"/>
                </a:lnTo>
                <a:lnTo>
                  <a:pt x="1582" y="3498"/>
                </a:lnTo>
                <a:lnTo>
                  <a:pt x="1573" y="3496"/>
                </a:lnTo>
                <a:lnTo>
                  <a:pt x="1564" y="3496"/>
                </a:lnTo>
                <a:lnTo>
                  <a:pt x="1554" y="3494"/>
                </a:lnTo>
                <a:lnTo>
                  <a:pt x="1546" y="3492"/>
                </a:lnTo>
                <a:lnTo>
                  <a:pt x="1537" y="3489"/>
                </a:lnTo>
                <a:lnTo>
                  <a:pt x="1529" y="3486"/>
                </a:lnTo>
                <a:lnTo>
                  <a:pt x="1520" y="3481"/>
                </a:lnTo>
                <a:lnTo>
                  <a:pt x="1513" y="3476"/>
                </a:lnTo>
                <a:lnTo>
                  <a:pt x="1504" y="3471"/>
                </a:lnTo>
                <a:lnTo>
                  <a:pt x="1497" y="3464"/>
                </a:lnTo>
                <a:lnTo>
                  <a:pt x="1489" y="3457"/>
                </a:lnTo>
                <a:lnTo>
                  <a:pt x="1481" y="3449"/>
                </a:lnTo>
                <a:lnTo>
                  <a:pt x="1473" y="3441"/>
                </a:lnTo>
                <a:lnTo>
                  <a:pt x="1467" y="3432"/>
                </a:lnTo>
                <a:lnTo>
                  <a:pt x="1459" y="3422"/>
                </a:lnTo>
                <a:lnTo>
                  <a:pt x="1445" y="3400"/>
                </a:lnTo>
                <a:lnTo>
                  <a:pt x="1431" y="3375"/>
                </a:lnTo>
                <a:lnTo>
                  <a:pt x="1418" y="3338"/>
                </a:lnTo>
                <a:lnTo>
                  <a:pt x="1406" y="3301"/>
                </a:lnTo>
                <a:lnTo>
                  <a:pt x="1392" y="3267"/>
                </a:lnTo>
                <a:lnTo>
                  <a:pt x="1377" y="3234"/>
                </a:lnTo>
                <a:lnTo>
                  <a:pt x="1362" y="3202"/>
                </a:lnTo>
                <a:lnTo>
                  <a:pt x="1345" y="3172"/>
                </a:lnTo>
                <a:lnTo>
                  <a:pt x="1327" y="3143"/>
                </a:lnTo>
                <a:lnTo>
                  <a:pt x="1310" y="3115"/>
                </a:lnTo>
                <a:lnTo>
                  <a:pt x="1292" y="3088"/>
                </a:lnTo>
                <a:lnTo>
                  <a:pt x="1272" y="3064"/>
                </a:lnTo>
                <a:lnTo>
                  <a:pt x="1252" y="3041"/>
                </a:lnTo>
                <a:lnTo>
                  <a:pt x="1231" y="3019"/>
                </a:lnTo>
                <a:lnTo>
                  <a:pt x="1210" y="2999"/>
                </a:lnTo>
                <a:lnTo>
                  <a:pt x="1187" y="2980"/>
                </a:lnTo>
                <a:lnTo>
                  <a:pt x="1164" y="2963"/>
                </a:lnTo>
                <a:lnTo>
                  <a:pt x="1140" y="2947"/>
                </a:lnTo>
                <a:lnTo>
                  <a:pt x="1088" y="2994"/>
                </a:lnTo>
                <a:lnTo>
                  <a:pt x="1034" y="3039"/>
                </a:lnTo>
                <a:lnTo>
                  <a:pt x="980" y="3084"/>
                </a:lnTo>
                <a:lnTo>
                  <a:pt x="925" y="3128"/>
                </a:lnTo>
                <a:lnTo>
                  <a:pt x="869" y="3171"/>
                </a:lnTo>
                <a:lnTo>
                  <a:pt x="812" y="3212"/>
                </a:lnTo>
                <a:lnTo>
                  <a:pt x="754" y="3254"/>
                </a:lnTo>
                <a:lnTo>
                  <a:pt x="697" y="3294"/>
                </a:lnTo>
                <a:lnTo>
                  <a:pt x="637" y="3334"/>
                </a:lnTo>
                <a:lnTo>
                  <a:pt x="577" y="3371"/>
                </a:lnTo>
                <a:lnTo>
                  <a:pt x="516" y="3409"/>
                </a:lnTo>
                <a:lnTo>
                  <a:pt x="454" y="3446"/>
                </a:lnTo>
                <a:lnTo>
                  <a:pt x="391" y="3481"/>
                </a:lnTo>
                <a:lnTo>
                  <a:pt x="327" y="3516"/>
                </a:lnTo>
                <a:lnTo>
                  <a:pt x="263" y="3550"/>
                </a:lnTo>
                <a:lnTo>
                  <a:pt x="198" y="3582"/>
                </a:lnTo>
                <a:lnTo>
                  <a:pt x="164" y="3594"/>
                </a:lnTo>
                <a:lnTo>
                  <a:pt x="135" y="3603"/>
                </a:lnTo>
                <a:lnTo>
                  <a:pt x="108" y="3610"/>
                </a:lnTo>
                <a:lnTo>
                  <a:pt x="84" y="3615"/>
                </a:lnTo>
                <a:lnTo>
                  <a:pt x="64" y="3619"/>
                </a:lnTo>
                <a:lnTo>
                  <a:pt x="45" y="3620"/>
                </a:lnTo>
                <a:lnTo>
                  <a:pt x="38" y="3620"/>
                </a:lnTo>
                <a:lnTo>
                  <a:pt x="30" y="3619"/>
                </a:lnTo>
                <a:lnTo>
                  <a:pt x="24" y="3618"/>
                </a:lnTo>
                <a:lnTo>
                  <a:pt x="19" y="3615"/>
                </a:lnTo>
                <a:lnTo>
                  <a:pt x="13" y="3613"/>
                </a:lnTo>
                <a:lnTo>
                  <a:pt x="10" y="3611"/>
                </a:lnTo>
                <a:lnTo>
                  <a:pt x="7" y="3608"/>
                </a:lnTo>
                <a:lnTo>
                  <a:pt x="4" y="3605"/>
                </a:lnTo>
                <a:lnTo>
                  <a:pt x="3" y="3600"/>
                </a:lnTo>
                <a:lnTo>
                  <a:pt x="2" y="3595"/>
                </a:lnTo>
                <a:lnTo>
                  <a:pt x="0" y="3591"/>
                </a:lnTo>
                <a:lnTo>
                  <a:pt x="2" y="3584"/>
                </a:lnTo>
                <a:lnTo>
                  <a:pt x="3" y="3579"/>
                </a:lnTo>
                <a:lnTo>
                  <a:pt x="5" y="3571"/>
                </a:lnTo>
                <a:lnTo>
                  <a:pt x="7" y="3565"/>
                </a:lnTo>
                <a:lnTo>
                  <a:pt x="11" y="3558"/>
                </a:lnTo>
                <a:lnTo>
                  <a:pt x="20" y="3540"/>
                </a:lnTo>
                <a:lnTo>
                  <a:pt x="33" y="3522"/>
                </a:lnTo>
                <a:lnTo>
                  <a:pt x="86" y="3476"/>
                </a:lnTo>
                <a:lnTo>
                  <a:pt x="139" y="3431"/>
                </a:lnTo>
                <a:lnTo>
                  <a:pt x="190" y="3385"/>
                </a:lnTo>
                <a:lnTo>
                  <a:pt x="240" y="3339"/>
                </a:lnTo>
                <a:lnTo>
                  <a:pt x="289" y="3293"/>
                </a:lnTo>
                <a:lnTo>
                  <a:pt x="336" y="3247"/>
                </a:lnTo>
                <a:lnTo>
                  <a:pt x="382" y="3200"/>
                </a:lnTo>
                <a:lnTo>
                  <a:pt x="427" y="3152"/>
                </a:lnTo>
                <a:lnTo>
                  <a:pt x="470" y="3105"/>
                </a:lnTo>
                <a:lnTo>
                  <a:pt x="511" y="3057"/>
                </a:lnTo>
                <a:lnTo>
                  <a:pt x="552" y="3009"/>
                </a:lnTo>
                <a:lnTo>
                  <a:pt x="592" y="2960"/>
                </a:lnTo>
                <a:lnTo>
                  <a:pt x="630" y="2912"/>
                </a:lnTo>
                <a:lnTo>
                  <a:pt x="667" y="2863"/>
                </a:lnTo>
                <a:lnTo>
                  <a:pt x="702" y="2814"/>
                </a:lnTo>
                <a:lnTo>
                  <a:pt x="736" y="2764"/>
                </a:lnTo>
                <a:lnTo>
                  <a:pt x="768" y="2715"/>
                </a:lnTo>
                <a:lnTo>
                  <a:pt x="801" y="2665"/>
                </a:lnTo>
                <a:lnTo>
                  <a:pt x="831" y="2614"/>
                </a:lnTo>
                <a:lnTo>
                  <a:pt x="858" y="2564"/>
                </a:lnTo>
                <a:lnTo>
                  <a:pt x="886" y="2513"/>
                </a:lnTo>
                <a:lnTo>
                  <a:pt x="912" y="2462"/>
                </a:lnTo>
                <a:lnTo>
                  <a:pt x="937" y="2411"/>
                </a:lnTo>
                <a:lnTo>
                  <a:pt x="960" y="2358"/>
                </a:lnTo>
                <a:lnTo>
                  <a:pt x="983" y="2307"/>
                </a:lnTo>
                <a:lnTo>
                  <a:pt x="1003" y="2254"/>
                </a:lnTo>
                <a:lnTo>
                  <a:pt x="1022" y="2202"/>
                </a:lnTo>
                <a:lnTo>
                  <a:pt x="1040" y="2149"/>
                </a:lnTo>
                <a:lnTo>
                  <a:pt x="1058" y="2095"/>
                </a:lnTo>
                <a:lnTo>
                  <a:pt x="1074" y="2042"/>
                </a:lnTo>
                <a:lnTo>
                  <a:pt x="1088" y="1988"/>
                </a:lnTo>
                <a:lnTo>
                  <a:pt x="1100" y="1935"/>
                </a:lnTo>
                <a:lnTo>
                  <a:pt x="1063" y="1943"/>
                </a:lnTo>
                <a:lnTo>
                  <a:pt x="1025" y="1952"/>
                </a:lnTo>
                <a:lnTo>
                  <a:pt x="987" y="1960"/>
                </a:lnTo>
                <a:lnTo>
                  <a:pt x="947" y="1968"/>
                </a:lnTo>
                <a:lnTo>
                  <a:pt x="907" y="1975"/>
                </a:lnTo>
                <a:lnTo>
                  <a:pt x="866" y="1983"/>
                </a:lnTo>
                <a:lnTo>
                  <a:pt x="823" y="1989"/>
                </a:lnTo>
                <a:lnTo>
                  <a:pt x="780" y="1995"/>
                </a:lnTo>
                <a:lnTo>
                  <a:pt x="756" y="1987"/>
                </a:lnTo>
                <a:lnTo>
                  <a:pt x="731" y="1977"/>
                </a:lnTo>
                <a:lnTo>
                  <a:pt x="706" y="1967"/>
                </a:lnTo>
                <a:lnTo>
                  <a:pt x="684" y="1955"/>
                </a:lnTo>
                <a:lnTo>
                  <a:pt x="661" y="1943"/>
                </a:lnTo>
                <a:lnTo>
                  <a:pt x="640" y="1929"/>
                </a:lnTo>
                <a:lnTo>
                  <a:pt x="620" y="1914"/>
                </a:lnTo>
                <a:lnTo>
                  <a:pt x="599" y="1898"/>
                </a:lnTo>
                <a:lnTo>
                  <a:pt x="580" y="1880"/>
                </a:lnTo>
                <a:lnTo>
                  <a:pt x="562" y="1862"/>
                </a:lnTo>
                <a:lnTo>
                  <a:pt x="545" y="1842"/>
                </a:lnTo>
                <a:lnTo>
                  <a:pt x="527" y="1822"/>
                </a:lnTo>
                <a:lnTo>
                  <a:pt x="512" y="1800"/>
                </a:lnTo>
                <a:lnTo>
                  <a:pt x="496" y="1777"/>
                </a:lnTo>
                <a:lnTo>
                  <a:pt x="482" y="1753"/>
                </a:lnTo>
                <a:lnTo>
                  <a:pt x="470" y="1728"/>
                </a:lnTo>
                <a:lnTo>
                  <a:pt x="464" y="1698"/>
                </a:lnTo>
                <a:lnTo>
                  <a:pt x="461" y="1668"/>
                </a:lnTo>
                <a:lnTo>
                  <a:pt x="458" y="1639"/>
                </a:lnTo>
                <a:lnTo>
                  <a:pt x="457" y="1610"/>
                </a:lnTo>
                <a:lnTo>
                  <a:pt x="456" y="1581"/>
                </a:lnTo>
                <a:lnTo>
                  <a:pt x="457" y="1553"/>
                </a:lnTo>
                <a:lnTo>
                  <a:pt x="458" y="1524"/>
                </a:lnTo>
                <a:lnTo>
                  <a:pt x="461" y="1497"/>
                </a:lnTo>
                <a:lnTo>
                  <a:pt x="469" y="1476"/>
                </a:lnTo>
                <a:lnTo>
                  <a:pt x="477" y="1457"/>
                </a:lnTo>
                <a:lnTo>
                  <a:pt x="486" y="1438"/>
                </a:lnTo>
                <a:lnTo>
                  <a:pt x="495" y="1422"/>
                </a:lnTo>
                <a:lnTo>
                  <a:pt x="506" y="1406"/>
                </a:lnTo>
                <a:lnTo>
                  <a:pt x="518" y="1391"/>
                </a:lnTo>
                <a:lnTo>
                  <a:pt x="530" y="1378"/>
                </a:lnTo>
                <a:lnTo>
                  <a:pt x="542" y="1366"/>
                </a:lnTo>
                <a:lnTo>
                  <a:pt x="556" y="1356"/>
                </a:lnTo>
                <a:lnTo>
                  <a:pt x="571" y="1346"/>
                </a:lnTo>
                <a:lnTo>
                  <a:pt x="586" y="1338"/>
                </a:lnTo>
                <a:lnTo>
                  <a:pt x="602" y="1331"/>
                </a:lnTo>
                <a:lnTo>
                  <a:pt x="620" y="1325"/>
                </a:lnTo>
                <a:lnTo>
                  <a:pt x="638" y="1320"/>
                </a:lnTo>
                <a:lnTo>
                  <a:pt x="656" y="1317"/>
                </a:lnTo>
                <a:lnTo>
                  <a:pt x="675" y="1315"/>
                </a:lnTo>
                <a:lnTo>
                  <a:pt x="743" y="1296"/>
                </a:lnTo>
                <a:lnTo>
                  <a:pt x="810" y="1279"/>
                </a:lnTo>
                <a:lnTo>
                  <a:pt x="878" y="1261"/>
                </a:lnTo>
                <a:lnTo>
                  <a:pt x="944" y="1245"/>
                </a:lnTo>
                <a:lnTo>
                  <a:pt x="1010" y="1229"/>
                </a:lnTo>
                <a:lnTo>
                  <a:pt x="1077" y="1215"/>
                </a:lnTo>
                <a:lnTo>
                  <a:pt x="1143" y="1202"/>
                </a:lnTo>
                <a:lnTo>
                  <a:pt x="1210" y="1190"/>
                </a:lnTo>
                <a:lnTo>
                  <a:pt x="1224" y="1132"/>
                </a:lnTo>
                <a:lnTo>
                  <a:pt x="1237" y="1074"/>
                </a:lnTo>
                <a:lnTo>
                  <a:pt x="1251" y="1017"/>
                </a:lnTo>
                <a:lnTo>
                  <a:pt x="1265" y="959"/>
                </a:lnTo>
                <a:lnTo>
                  <a:pt x="1278" y="901"/>
                </a:lnTo>
                <a:lnTo>
                  <a:pt x="1291" y="844"/>
                </a:lnTo>
                <a:lnTo>
                  <a:pt x="1304" y="787"/>
                </a:lnTo>
                <a:lnTo>
                  <a:pt x="1317" y="730"/>
                </a:lnTo>
                <a:lnTo>
                  <a:pt x="1329" y="673"/>
                </a:lnTo>
                <a:lnTo>
                  <a:pt x="1340" y="615"/>
                </a:lnTo>
                <a:lnTo>
                  <a:pt x="1351" y="558"/>
                </a:lnTo>
                <a:lnTo>
                  <a:pt x="1363" y="501"/>
                </a:lnTo>
                <a:lnTo>
                  <a:pt x="1373" y="445"/>
                </a:lnTo>
                <a:lnTo>
                  <a:pt x="1383" y="388"/>
                </a:lnTo>
                <a:lnTo>
                  <a:pt x="1394" y="331"/>
                </a:lnTo>
                <a:lnTo>
                  <a:pt x="1403" y="274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  <a:effectLst>
            <a:outerShdw dist="63504" dir="3183908" blurRad="0" rotWithShape="0">
              <a:srgbClr val="41f14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65720" y="849240"/>
            <a:ext cx="739800" cy="882720"/>
          </a:xfrm>
          <a:custGeom>
            <a:avLst/>
            <a:gdLst/>
            <a:ahLst/>
            <a:rect l="l" t="t" r="r" b="b"/>
            <a:pathLst>
              <a:path w="3265" h="3892">
                <a:moveTo>
                  <a:pt x="2375" y="702"/>
                </a:moveTo>
                <a:lnTo>
                  <a:pt x="2391" y="685"/>
                </a:lnTo>
                <a:lnTo>
                  <a:pt x="2406" y="669"/>
                </a:lnTo>
                <a:lnTo>
                  <a:pt x="2419" y="654"/>
                </a:lnTo>
                <a:lnTo>
                  <a:pt x="2431" y="639"/>
                </a:lnTo>
                <a:lnTo>
                  <a:pt x="2440" y="624"/>
                </a:lnTo>
                <a:lnTo>
                  <a:pt x="2449" y="610"/>
                </a:lnTo>
                <a:lnTo>
                  <a:pt x="2456" y="597"/>
                </a:lnTo>
                <a:lnTo>
                  <a:pt x="2462" y="584"/>
                </a:lnTo>
                <a:lnTo>
                  <a:pt x="2466" y="571"/>
                </a:lnTo>
                <a:lnTo>
                  <a:pt x="2469" y="560"/>
                </a:lnTo>
                <a:lnTo>
                  <a:pt x="2471" y="549"/>
                </a:lnTo>
                <a:lnTo>
                  <a:pt x="2471" y="537"/>
                </a:lnTo>
                <a:lnTo>
                  <a:pt x="2469" y="527"/>
                </a:lnTo>
                <a:lnTo>
                  <a:pt x="2467" y="518"/>
                </a:lnTo>
                <a:lnTo>
                  <a:pt x="2463" y="508"/>
                </a:lnTo>
                <a:lnTo>
                  <a:pt x="2456" y="500"/>
                </a:lnTo>
                <a:lnTo>
                  <a:pt x="2454" y="487"/>
                </a:lnTo>
                <a:lnTo>
                  <a:pt x="2453" y="474"/>
                </a:lnTo>
                <a:lnTo>
                  <a:pt x="2454" y="462"/>
                </a:lnTo>
                <a:lnTo>
                  <a:pt x="2457" y="449"/>
                </a:lnTo>
                <a:lnTo>
                  <a:pt x="2463" y="437"/>
                </a:lnTo>
                <a:lnTo>
                  <a:pt x="2470" y="426"/>
                </a:lnTo>
                <a:lnTo>
                  <a:pt x="2480" y="414"/>
                </a:lnTo>
                <a:lnTo>
                  <a:pt x="2491" y="403"/>
                </a:lnTo>
                <a:lnTo>
                  <a:pt x="2504" y="391"/>
                </a:lnTo>
                <a:lnTo>
                  <a:pt x="2519" y="381"/>
                </a:lnTo>
                <a:lnTo>
                  <a:pt x="2536" y="370"/>
                </a:lnTo>
                <a:lnTo>
                  <a:pt x="2555" y="358"/>
                </a:lnTo>
                <a:lnTo>
                  <a:pt x="2576" y="347"/>
                </a:lnTo>
                <a:lnTo>
                  <a:pt x="2599" y="338"/>
                </a:lnTo>
                <a:lnTo>
                  <a:pt x="2623" y="327"/>
                </a:lnTo>
                <a:lnTo>
                  <a:pt x="2650" y="316"/>
                </a:lnTo>
                <a:lnTo>
                  <a:pt x="2678" y="308"/>
                </a:lnTo>
                <a:lnTo>
                  <a:pt x="2706" y="299"/>
                </a:lnTo>
                <a:lnTo>
                  <a:pt x="2734" y="292"/>
                </a:lnTo>
                <a:lnTo>
                  <a:pt x="2761" y="286"/>
                </a:lnTo>
                <a:lnTo>
                  <a:pt x="2788" y="282"/>
                </a:lnTo>
                <a:lnTo>
                  <a:pt x="2816" y="279"/>
                </a:lnTo>
                <a:lnTo>
                  <a:pt x="2843" y="277"/>
                </a:lnTo>
                <a:lnTo>
                  <a:pt x="2870" y="277"/>
                </a:lnTo>
                <a:lnTo>
                  <a:pt x="2897" y="277"/>
                </a:lnTo>
                <a:lnTo>
                  <a:pt x="2924" y="279"/>
                </a:lnTo>
                <a:lnTo>
                  <a:pt x="2951" y="282"/>
                </a:lnTo>
                <a:lnTo>
                  <a:pt x="2978" y="286"/>
                </a:lnTo>
                <a:lnTo>
                  <a:pt x="3004" y="292"/>
                </a:lnTo>
                <a:lnTo>
                  <a:pt x="3030" y="299"/>
                </a:lnTo>
                <a:lnTo>
                  <a:pt x="3057" y="308"/>
                </a:lnTo>
                <a:lnTo>
                  <a:pt x="3083" y="316"/>
                </a:lnTo>
                <a:lnTo>
                  <a:pt x="3096" y="327"/>
                </a:lnTo>
                <a:lnTo>
                  <a:pt x="3108" y="339"/>
                </a:lnTo>
                <a:lnTo>
                  <a:pt x="3118" y="350"/>
                </a:lnTo>
                <a:lnTo>
                  <a:pt x="3128" y="362"/>
                </a:lnTo>
                <a:lnTo>
                  <a:pt x="3138" y="375"/>
                </a:lnTo>
                <a:lnTo>
                  <a:pt x="3146" y="389"/>
                </a:lnTo>
                <a:lnTo>
                  <a:pt x="3155" y="403"/>
                </a:lnTo>
                <a:lnTo>
                  <a:pt x="3162" y="418"/>
                </a:lnTo>
                <a:lnTo>
                  <a:pt x="3169" y="434"/>
                </a:lnTo>
                <a:lnTo>
                  <a:pt x="3175" y="450"/>
                </a:lnTo>
                <a:lnTo>
                  <a:pt x="3180" y="466"/>
                </a:lnTo>
                <a:lnTo>
                  <a:pt x="3185" y="485"/>
                </a:lnTo>
                <a:lnTo>
                  <a:pt x="3189" y="502"/>
                </a:lnTo>
                <a:lnTo>
                  <a:pt x="3192" y="521"/>
                </a:lnTo>
                <a:lnTo>
                  <a:pt x="3194" y="540"/>
                </a:lnTo>
                <a:lnTo>
                  <a:pt x="3196" y="560"/>
                </a:lnTo>
                <a:lnTo>
                  <a:pt x="3195" y="579"/>
                </a:lnTo>
                <a:lnTo>
                  <a:pt x="3193" y="597"/>
                </a:lnTo>
                <a:lnTo>
                  <a:pt x="3189" y="615"/>
                </a:lnTo>
                <a:lnTo>
                  <a:pt x="3184" y="635"/>
                </a:lnTo>
                <a:lnTo>
                  <a:pt x="3176" y="653"/>
                </a:lnTo>
                <a:lnTo>
                  <a:pt x="3166" y="671"/>
                </a:lnTo>
                <a:lnTo>
                  <a:pt x="3156" y="689"/>
                </a:lnTo>
                <a:lnTo>
                  <a:pt x="3143" y="708"/>
                </a:lnTo>
                <a:lnTo>
                  <a:pt x="3129" y="726"/>
                </a:lnTo>
                <a:lnTo>
                  <a:pt x="3113" y="744"/>
                </a:lnTo>
                <a:lnTo>
                  <a:pt x="3095" y="762"/>
                </a:lnTo>
                <a:lnTo>
                  <a:pt x="3075" y="780"/>
                </a:lnTo>
                <a:lnTo>
                  <a:pt x="3055" y="798"/>
                </a:lnTo>
                <a:lnTo>
                  <a:pt x="3033" y="816"/>
                </a:lnTo>
                <a:lnTo>
                  <a:pt x="3008" y="834"/>
                </a:lnTo>
                <a:lnTo>
                  <a:pt x="2982" y="851"/>
                </a:lnTo>
                <a:lnTo>
                  <a:pt x="2878" y="892"/>
                </a:lnTo>
                <a:lnTo>
                  <a:pt x="2779" y="933"/>
                </a:lnTo>
                <a:lnTo>
                  <a:pt x="2683" y="973"/>
                </a:lnTo>
                <a:lnTo>
                  <a:pt x="2592" y="1013"/>
                </a:lnTo>
                <a:lnTo>
                  <a:pt x="2507" y="1054"/>
                </a:lnTo>
                <a:lnTo>
                  <a:pt x="2424" y="1095"/>
                </a:lnTo>
                <a:lnTo>
                  <a:pt x="2347" y="1134"/>
                </a:lnTo>
                <a:lnTo>
                  <a:pt x="2274" y="1175"/>
                </a:lnTo>
                <a:lnTo>
                  <a:pt x="2255" y="1185"/>
                </a:lnTo>
                <a:lnTo>
                  <a:pt x="2238" y="1194"/>
                </a:lnTo>
                <a:lnTo>
                  <a:pt x="2222" y="1204"/>
                </a:lnTo>
                <a:lnTo>
                  <a:pt x="2209" y="1215"/>
                </a:lnTo>
                <a:lnTo>
                  <a:pt x="2197" y="1225"/>
                </a:lnTo>
                <a:lnTo>
                  <a:pt x="2188" y="1237"/>
                </a:lnTo>
                <a:lnTo>
                  <a:pt x="2179" y="1249"/>
                </a:lnTo>
                <a:lnTo>
                  <a:pt x="2174" y="1261"/>
                </a:lnTo>
                <a:lnTo>
                  <a:pt x="2169" y="1273"/>
                </a:lnTo>
                <a:lnTo>
                  <a:pt x="2167" y="1285"/>
                </a:lnTo>
                <a:lnTo>
                  <a:pt x="2167" y="1299"/>
                </a:lnTo>
                <a:lnTo>
                  <a:pt x="2168" y="1312"/>
                </a:lnTo>
                <a:lnTo>
                  <a:pt x="2172" y="1326"/>
                </a:lnTo>
                <a:lnTo>
                  <a:pt x="2177" y="1340"/>
                </a:lnTo>
                <a:lnTo>
                  <a:pt x="2184" y="1355"/>
                </a:lnTo>
                <a:lnTo>
                  <a:pt x="2194" y="1370"/>
                </a:lnTo>
                <a:lnTo>
                  <a:pt x="2200" y="1382"/>
                </a:lnTo>
                <a:lnTo>
                  <a:pt x="2206" y="1395"/>
                </a:lnTo>
                <a:lnTo>
                  <a:pt x="2210" y="1405"/>
                </a:lnTo>
                <a:lnTo>
                  <a:pt x="2213" y="1416"/>
                </a:lnTo>
                <a:lnTo>
                  <a:pt x="2214" y="1427"/>
                </a:lnTo>
                <a:lnTo>
                  <a:pt x="2215" y="1438"/>
                </a:lnTo>
                <a:lnTo>
                  <a:pt x="2214" y="1447"/>
                </a:lnTo>
                <a:lnTo>
                  <a:pt x="2211" y="1456"/>
                </a:lnTo>
                <a:lnTo>
                  <a:pt x="2208" y="1464"/>
                </a:lnTo>
                <a:lnTo>
                  <a:pt x="2203" y="1473"/>
                </a:lnTo>
                <a:lnTo>
                  <a:pt x="2196" y="1480"/>
                </a:lnTo>
                <a:lnTo>
                  <a:pt x="2189" y="1488"/>
                </a:lnTo>
                <a:lnTo>
                  <a:pt x="2180" y="1494"/>
                </a:lnTo>
                <a:lnTo>
                  <a:pt x="2169" y="1501"/>
                </a:lnTo>
                <a:lnTo>
                  <a:pt x="2158" y="1506"/>
                </a:lnTo>
                <a:lnTo>
                  <a:pt x="2145" y="1512"/>
                </a:lnTo>
                <a:lnTo>
                  <a:pt x="2110" y="1512"/>
                </a:lnTo>
                <a:lnTo>
                  <a:pt x="2077" y="1510"/>
                </a:lnTo>
                <a:lnTo>
                  <a:pt x="2045" y="1508"/>
                </a:lnTo>
                <a:lnTo>
                  <a:pt x="2014" y="1506"/>
                </a:lnTo>
                <a:lnTo>
                  <a:pt x="1984" y="1503"/>
                </a:lnTo>
                <a:lnTo>
                  <a:pt x="1954" y="1499"/>
                </a:lnTo>
                <a:lnTo>
                  <a:pt x="1926" y="1493"/>
                </a:lnTo>
                <a:lnTo>
                  <a:pt x="1898" y="1488"/>
                </a:lnTo>
                <a:lnTo>
                  <a:pt x="1872" y="1483"/>
                </a:lnTo>
                <a:lnTo>
                  <a:pt x="1845" y="1475"/>
                </a:lnTo>
                <a:lnTo>
                  <a:pt x="1820" y="1468"/>
                </a:lnTo>
                <a:lnTo>
                  <a:pt x="1796" y="1459"/>
                </a:lnTo>
                <a:lnTo>
                  <a:pt x="1773" y="1450"/>
                </a:lnTo>
                <a:lnTo>
                  <a:pt x="1751" y="1440"/>
                </a:lnTo>
                <a:lnTo>
                  <a:pt x="1729" y="1430"/>
                </a:lnTo>
                <a:lnTo>
                  <a:pt x="1708" y="1418"/>
                </a:lnTo>
                <a:lnTo>
                  <a:pt x="1660" y="1443"/>
                </a:lnTo>
                <a:lnTo>
                  <a:pt x="1608" y="1467"/>
                </a:lnTo>
                <a:lnTo>
                  <a:pt x="1556" y="1490"/>
                </a:lnTo>
                <a:lnTo>
                  <a:pt x="1501" y="1514"/>
                </a:lnTo>
                <a:lnTo>
                  <a:pt x="1445" y="1537"/>
                </a:lnTo>
                <a:lnTo>
                  <a:pt x="1388" y="1560"/>
                </a:lnTo>
                <a:lnTo>
                  <a:pt x="1328" y="1582"/>
                </a:lnTo>
                <a:lnTo>
                  <a:pt x="1267" y="1605"/>
                </a:lnTo>
                <a:lnTo>
                  <a:pt x="1202" y="1627"/>
                </a:lnTo>
                <a:lnTo>
                  <a:pt x="1138" y="1649"/>
                </a:lnTo>
                <a:lnTo>
                  <a:pt x="1071" y="1670"/>
                </a:lnTo>
                <a:lnTo>
                  <a:pt x="1002" y="1692"/>
                </a:lnTo>
                <a:lnTo>
                  <a:pt x="931" y="1713"/>
                </a:lnTo>
                <a:lnTo>
                  <a:pt x="858" y="1733"/>
                </a:lnTo>
                <a:lnTo>
                  <a:pt x="785" y="1755"/>
                </a:lnTo>
                <a:lnTo>
                  <a:pt x="709" y="1775"/>
                </a:lnTo>
                <a:lnTo>
                  <a:pt x="692" y="1780"/>
                </a:lnTo>
                <a:lnTo>
                  <a:pt x="679" y="1783"/>
                </a:lnTo>
                <a:lnTo>
                  <a:pt x="666" y="1785"/>
                </a:lnTo>
                <a:lnTo>
                  <a:pt x="655" y="1786"/>
                </a:lnTo>
                <a:lnTo>
                  <a:pt x="645" y="1785"/>
                </a:lnTo>
                <a:lnTo>
                  <a:pt x="638" y="1784"/>
                </a:lnTo>
                <a:lnTo>
                  <a:pt x="631" y="1781"/>
                </a:lnTo>
                <a:lnTo>
                  <a:pt x="627" y="1777"/>
                </a:lnTo>
                <a:lnTo>
                  <a:pt x="624" y="1772"/>
                </a:lnTo>
                <a:lnTo>
                  <a:pt x="622" y="1766"/>
                </a:lnTo>
                <a:lnTo>
                  <a:pt x="623" y="1758"/>
                </a:lnTo>
                <a:lnTo>
                  <a:pt x="624" y="1750"/>
                </a:lnTo>
                <a:lnTo>
                  <a:pt x="628" y="1739"/>
                </a:lnTo>
                <a:lnTo>
                  <a:pt x="632" y="1728"/>
                </a:lnTo>
                <a:lnTo>
                  <a:pt x="640" y="1715"/>
                </a:lnTo>
                <a:lnTo>
                  <a:pt x="647" y="1701"/>
                </a:lnTo>
                <a:lnTo>
                  <a:pt x="649" y="1693"/>
                </a:lnTo>
                <a:lnTo>
                  <a:pt x="651" y="1684"/>
                </a:lnTo>
                <a:lnTo>
                  <a:pt x="654" y="1676"/>
                </a:lnTo>
                <a:lnTo>
                  <a:pt x="656" y="1667"/>
                </a:lnTo>
                <a:lnTo>
                  <a:pt x="665" y="1650"/>
                </a:lnTo>
                <a:lnTo>
                  <a:pt x="674" y="1632"/>
                </a:lnTo>
                <a:lnTo>
                  <a:pt x="686" y="1614"/>
                </a:lnTo>
                <a:lnTo>
                  <a:pt x="701" y="1596"/>
                </a:lnTo>
                <a:lnTo>
                  <a:pt x="718" y="1578"/>
                </a:lnTo>
                <a:lnTo>
                  <a:pt x="736" y="1560"/>
                </a:lnTo>
                <a:lnTo>
                  <a:pt x="770" y="1535"/>
                </a:lnTo>
                <a:lnTo>
                  <a:pt x="804" y="1509"/>
                </a:lnTo>
                <a:lnTo>
                  <a:pt x="840" y="1484"/>
                </a:lnTo>
                <a:lnTo>
                  <a:pt x="878" y="1459"/>
                </a:lnTo>
                <a:lnTo>
                  <a:pt x="917" y="1433"/>
                </a:lnTo>
                <a:lnTo>
                  <a:pt x="959" y="1409"/>
                </a:lnTo>
                <a:lnTo>
                  <a:pt x="1002" y="1383"/>
                </a:lnTo>
                <a:lnTo>
                  <a:pt x="1046" y="1357"/>
                </a:lnTo>
                <a:lnTo>
                  <a:pt x="1093" y="1333"/>
                </a:lnTo>
                <a:lnTo>
                  <a:pt x="1141" y="1307"/>
                </a:lnTo>
                <a:lnTo>
                  <a:pt x="1190" y="1281"/>
                </a:lnTo>
                <a:lnTo>
                  <a:pt x="1242" y="1256"/>
                </a:lnTo>
                <a:lnTo>
                  <a:pt x="1295" y="1231"/>
                </a:lnTo>
                <a:lnTo>
                  <a:pt x="1350" y="1206"/>
                </a:lnTo>
                <a:lnTo>
                  <a:pt x="1407" y="1180"/>
                </a:lnTo>
                <a:lnTo>
                  <a:pt x="1465" y="1155"/>
                </a:lnTo>
                <a:lnTo>
                  <a:pt x="1448" y="1130"/>
                </a:lnTo>
                <a:lnTo>
                  <a:pt x="1430" y="1104"/>
                </a:lnTo>
                <a:lnTo>
                  <a:pt x="1413" y="1077"/>
                </a:lnTo>
                <a:lnTo>
                  <a:pt x="1395" y="1052"/>
                </a:lnTo>
                <a:lnTo>
                  <a:pt x="1378" y="1025"/>
                </a:lnTo>
                <a:lnTo>
                  <a:pt x="1360" y="998"/>
                </a:lnTo>
                <a:lnTo>
                  <a:pt x="1341" y="971"/>
                </a:lnTo>
                <a:lnTo>
                  <a:pt x="1323" y="944"/>
                </a:lnTo>
                <a:lnTo>
                  <a:pt x="1315" y="932"/>
                </a:lnTo>
                <a:lnTo>
                  <a:pt x="1306" y="919"/>
                </a:lnTo>
                <a:lnTo>
                  <a:pt x="1300" y="905"/>
                </a:lnTo>
                <a:lnTo>
                  <a:pt x="1294" y="892"/>
                </a:lnTo>
                <a:lnTo>
                  <a:pt x="1291" y="877"/>
                </a:lnTo>
                <a:lnTo>
                  <a:pt x="1289" y="863"/>
                </a:lnTo>
                <a:lnTo>
                  <a:pt x="1288" y="848"/>
                </a:lnTo>
                <a:lnTo>
                  <a:pt x="1288" y="833"/>
                </a:lnTo>
                <a:lnTo>
                  <a:pt x="1290" y="818"/>
                </a:lnTo>
                <a:lnTo>
                  <a:pt x="1293" y="802"/>
                </a:lnTo>
                <a:lnTo>
                  <a:pt x="1299" y="787"/>
                </a:lnTo>
                <a:lnTo>
                  <a:pt x="1305" y="770"/>
                </a:lnTo>
                <a:lnTo>
                  <a:pt x="1313" y="754"/>
                </a:lnTo>
                <a:lnTo>
                  <a:pt x="1321" y="737"/>
                </a:lnTo>
                <a:lnTo>
                  <a:pt x="1332" y="719"/>
                </a:lnTo>
                <a:lnTo>
                  <a:pt x="1344" y="702"/>
                </a:lnTo>
                <a:lnTo>
                  <a:pt x="1261" y="709"/>
                </a:lnTo>
                <a:lnTo>
                  <a:pt x="1184" y="715"/>
                </a:lnTo>
                <a:lnTo>
                  <a:pt x="1113" y="722"/>
                </a:lnTo>
                <a:lnTo>
                  <a:pt x="1048" y="728"/>
                </a:lnTo>
                <a:lnTo>
                  <a:pt x="990" y="734"/>
                </a:lnTo>
                <a:lnTo>
                  <a:pt x="937" y="740"/>
                </a:lnTo>
                <a:lnTo>
                  <a:pt x="891" y="745"/>
                </a:lnTo>
                <a:lnTo>
                  <a:pt x="850" y="750"/>
                </a:lnTo>
                <a:lnTo>
                  <a:pt x="836" y="749"/>
                </a:lnTo>
                <a:lnTo>
                  <a:pt x="822" y="748"/>
                </a:lnTo>
                <a:lnTo>
                  <a:pt x="810" y="747"/>
                </a:lnTo>
                <a:lnTo>
                  <a:pt x="800" y="744"/>
                </a:lnTo>
                <a:lnTo>
                  <a:pt x="790" y="742"/>
                </a:lnTo>
                <a:lnTo>
                  <a:pt x="781" y="738"/>
                </a:lnTo>
                <a:lnTo>
                  <a:pt x="775" y="733"/>
                </a:lnTo>
                <a:lnTo>
                  <a:pt x="770" y="728"/>
                </a:lnTo>
                <a:lnTo>
                  <a:pt x="765" y="722"/>
                </a:lnTo>
                <a:lnTo>
                  <a:pt x="762" y="715"/>
                </a:lnTo>
                <a:lnTo>
                  <a:pt x="760" y="708"/>
                </a:lnTo>
                <a:lnTo>
                  <a:pt x="759" y="700"/>
                </a:lnTo>
                <a:lnTo>
                  <a:pt x="760" y="692"/>
                </a:lnTo>
                <a:lnTo>
                  <a:pt x="762" y="682"/>
                </a:lnTo>
                <a:lnTo>
                  <a:pt x="765" y="672"/>
                </a:lnTo>
                <a:lnTo>
                  <a:pt x="770" y="661"/>
                </a:lnTo>
                <a:lnTo>
                  <a:pt x="787" y="642"/>
                </a:lnTo>
                <a:lnTo>
                  <a:pt x="806" y="623"/>
                </a:lnTo>
                <a:lnTo>
                  <a:pt x="828" y="605"/>
                </a:lnTo>
                <a:lnTo>
                  <a:pt x="853" y="586"/>
                </a:lnTo>
                <a:lnTo>
                  <a:pt x="880" y="569"/>
                </a:lnTo>
                <a:lnTo>
                  <a:pt x="910" y="552"/>
                </a:lnTo>
                <a:lnTo>
                  <a:pt x="942" y="535"/>
                </a:lnTo>
                <a:lnTo>
                  <a:pt x="976" y="519"/>
                </a:lnTo>
                <a:lnTo>
                  <a:pt x="1013" y="502"/>
                </a:lnTo>
                <a:lnTo>
                  <a:pt x="1051" y="486"/>
                </a:lnTo>
                <a:lnTo>
                  <a:pt x="1093" y="471"/>
                </a:lnTo>
                <a:lnTo>
                  <a:pt x="1137" y="456"/>
                </a:lnTo>
                <a:lnTo>
                  <a:pt x="1183" y="441"/>
                </a:lnTo>
                <a:lnTo>
                  <a:pt x="1231" y="426"/>
                </a:lnTo>
                <a:lnTo>
                  <a:pt x="1283" y="412"/>
                </a:lnTo>
                <a:lnTo>
                  <a:pt x="1336" y="398"/>
                </a:lnTo>
                <a:lnTo>
                  <a:pt x="1389" y="368"/>
                </a:lnTo>
                <a:lnTo>
                  <a:pt x="1442" y="338"/>
                </a:lnTo>
                <a:lnTo>
                  <a:pt x="1496" y="308"/>
                </a:lnTo>
                <a:lnTo>
                  <a:pt x="1549" y="279"/>
                </a:lnTo>
                <a:lnTo>
                  <a:pt x="1604" y="249"/>
                </a:lnTo>
                <a:lnTo>
                  <a:pt x="1659" y="221"/>
                </a:lnTo>
                <a:lnTo>
                  <a:pt x="1713" y="192"/>
                </a:lnTo>
                <a:lnTo>
                  <a:pt x="1769" y="163"/>
                </a:lnTo>
                <a:lnTo>
                  <a:pt x="1787" y="147"/>
                </a:lnTo>
                <a:lnTo>
                  <a:pt x="1804" y="132"/>
                </a:lnTo>
                <a:lnTo>
                  <a:pt x="1821" y="118"/>
                </a:lnTo>
                <a:lnTo>
                  <a:pt x="1838" y="104"/>
                </a:lnTo>
                <a:lnTo>
                  <a:pt x="1857" y="91"/>
                </a:lnTo>
                <a:lnTo>
                  <a:pt x="1874" y="79"/>
                </a:lnTo>
                <a:lnTo>
                  <a:pt x="1890" y="69"/>
                </a:lnTo>
                <a:lnTo>
                  <a:pt x="1907" y="58"/>
                </a:lnTo>
                <a:lnTo>
                  <a:pt x="1924" y="49"/>
                </a:lnTo>
                <a:lnTo>
                  <a:pt x="1941" y="41"/>
                </a:lnTo>
                <a:lnTo>
                  <a:pt x="1957" y="32"/>
                </a:lnTo>
                <a:lnTo>
                  <a:pt x="1974" y="26"/>
                </a:lnTo>
                <a:lnTo>
                  <a:pt x="1991" y="19"/>
                </a:lnTo>
                <a:lnTo>
                  <a:pt x="2008" y="14"/>
                </a:lnTo>
                <a:lnTo>
                  <a:pt x="2024" y="10"/>
                </a:lnTo>
                <a:lnTo>
                  <a:pt x="2040" y="7"/>
                </a:lnTo>
                <a:lnTo>
                  <a:pt x="2056" y="3"/>
                </a:lnTo>
                <a:lnTo>
                  <a:pt x="2072" y="1"/>
                </a:lnTo>
                <a:lnTo>
                  <a:pt x="2088" y="0"/>
                </a:lnTo>
                <a:lnTo>
                  <a:pt x="2104" y="0"/>
                </a:lnTo>
                <a:lnTo>
                  <a:pt x="2119" y="1"/>
                </a:lnTo>
                <a:lnTo>
                  <a:pt x="2135" y="2"/>
                </a:lnTo>
                <a:lnTo>
                  <a:pt x="2151" y="4"/>
                </a:lnTo>
                <a:lnTo>
                  <a:pt x="2166" y="8"/>
                </a:lnTo>
                <a:lnTo>
                  <a:pt x="2181" y="12"/>
                </a:lnTo>
                <a:lnTo>
                  <a:pt x="2197" y="16"/>
                </a:lnTo>
                <a:lnTo>
                  <a:pt x="2212" y="22"/>
                </a:lnTo>
                <a:lnTo>
                  <a:pt x="2227" y="28"/>
                </a:lnTo>
                <a:lnTo>
                  <a:pt x="2242" y="35"/>
                </a:lnTo>
                <a:lnTo>
                  <a:pt x="2257" y="43"/>
                </a:lnTo>
                <a:lnTo>
                  <a:pt x="2272" y="53"/>
                </a:lnTo>
                <a:lnTo>
                  <a:pt x="2287" y="62"/>
                </a:lnTo>
                <a:lnTo>
                  <a:pt x="2303" y="82"/>
                </a:lnTo>
                <a:lnTo>
                  <a:pt x="2317" y="101"/>
                </a:lnTo>
                <a:lnTo>
                  <a:pt x="2329" y="119"/>
                </a:lnTo>
                <a:lnTo>
                  <a:pt x="2339" y="138"/>
                </a:lnTo>
                <a:lnTo>
                  <a:pt x="2343" y="148"/>
                </a:lnTo>
                <a:lnTo>
                  <a:pt x="2346" y="158"/>
                </a:lnTo>
                <a:lnTo>
                  <a:pt x="2349" y="167"/>
                </a:lnTo>
                <a:lnTo>
                  <a:pt x="2351" y="177"/>
                </a:lnTo>
                <a:lnTo>
                  <a:pt x="2353" y="187"/>
                </a:lnTo>
                <a:lnTo>
                  <a:pt x="2354" y="196"/>
                </a:lnTo>
                <a:lnTo>
                  <a:pt x="2355" y="206"/>
                </a:lnTo>
                <a:lnTo>
                  <a:pt x="2354" y="214"/>
                </a:lnTo>
                <a:lnTo>
                  <a:pt x="2354" y="224"/>
                </a:lnTo>
                <a:lnTo>
                  <a:pt x="2353" y="234"/>
                </a:lnTo>
                <a:lnTo>
                  <a:pt x="2350" y="243"/>
                </a:lnTo>
                <a:lnTo>
                  <a:pt x="2348" y="253"/>
                </a:lnTo>
                <a:lnTo>
                  <a:pt x="2345" y="263"/>
                </a:lnTo>
                <a:lnTo>
                  <a:pt x="2342" y="271"/>
                </a:lnTo>
                <a:lnTo>
                  <a:pt x="2338" y="281"/>
                </a:lnTo>
                <a:lnTo>
                  <a:pt x="2332" y="291"/>
                </a:lnTo>
                <a:lnTo>
                  <a:pt x="2321" y="310"/>
                </a:lnTo>
                <a:lnTo>
                  <a:pt x="2308" y="328"/>
                </a:lnTo>
                <a:lnTo>
                  <a:pt x="2293" y="347"/>
                </a:lnTo>
                <a:lnTo>
                  <a:pt x="2274" y="366"/>
                </a:lnTo>
                <a:lnTo>
                  <a:pt x="2233" y="387"/>
                </a:lnTo>
                <a:lnTo>
                  <a:pt x="2182" y="411"/>
                </a:lnTo>
                <a:lnTo>
                  <a:pt x="2124" y="436"/>
                </a:lnTo>
                <a:lnTo>
                  <a:pt x="2058" y="465"/>
                </a:lnTo>
                <a:lnTo>
                  <a:pt x="1983" y="495"/>
                </a:lnTo>
                <a:lnTo>
                  <a:pt x="1899" y="527"/>
                </a:lnTo>
                <a:lnTo>
                  <a:pt x="1808" y="563"/>
                </a:lnTo>
                <a:lnTo>
                  <a:pt x="1708" y="600"/>
                </a:lnTo>
                <a:lnTo>
                  <a:pt x="1678" y="615"/>
                </a:lnTo>
                <a:lnTo>
                  <a:pt x="1646" y="629"/>
                </a:lnTo>
                <a:lnTo>
                  <a:pt x="1614" y="643"/>
                </a:lnTo>
                <a:lnTo>
                  <a:pt x="1581" y="656"/>
                </a:lnTo>
                <a:lnTo>
                  <a:pt x="1548" y="669"/>
                </a:lnTo>
                <a:lnTo>
                  <a:pt x="1514" y="680"/>
                </a:lnTo>
                <a:lnTo>
                  <a:pt x="1480" y="692"/>
                </a:lnTo>
                <a:lnTo>
                  <a:pt x="1445" y="702"/>
                </a:lnTo>
                <a:lnTo>
                  <a:pt x="1474" y="704"/>
                </a:lnTo>
                <a:lnTo>
                  <a:pt x="1503" y="710"/>
                </a:lnTo>
                <a:lnTo>
                  <a:pt x="1532" y="715"/>
                </a:lnTo>
                <a:lnTo>
                  <a:pt x="1560" y="722"/>
                </a:lnTo>
                <a:lnTo>
                  <a:pt x="1589" y="730"/>
                </a:lnTo>
                <a:lnTo>
                  <a:pt x="1617" y="740"/>
                </a:lnTo>
                <a:lnTo>
                  <a:pt x="1644" y="750"/>
                </a:lnTo>
                <a:lnTo>
                  <a:pt x="1671" y="762"/>
                </a:lnTo>
                <a:lnTo>
                  <a:pt x="1698" y="775"/>
                </a:lnTo>
                <a:lnTo>
                  <a:pt x="1726" y="790"/>
                </a:lnTo>
                <a:lnTo>
                  <a:pt x="1753" y="806"/>
                </a:lnTo>
                <a:lnTo>
                  <a:pt x="1778" y="823"/>
                </a:lnTo>
                <a:lnTo>
                  <a:pt x="1805" y="842"/>
                </a:lnTo>
                <a:lnTo>
                  <a:pt x="1831" y="861"/>
                </a:lnTo>
                <a:lnTo>
                  <a:pt x="1857" y="882"/>
                </a:lnTo>
                <a:lnTo>
                  <a:pt x="1882" y="904"/>
                </a:lnTo>
                <a:lnTo>
                  <a:pt x="1946" y="884"/>
                </a:lnTo>
                <a:lnTo>
                  <a:pt x="2004" y="864"/>
                </a:lnTo>
                <a:lnTo>
                  <a:pt x="2059" y="845"/>
                </a:lnTo>
                <a:lnTo>
                  <a:pt x="2109" y="825"/>
                </a:lnTo>
                <a:lnTo>
                  <a:pt x="2155" y="806"/>
                </a:lnTo>
                <a:lnTo>
                  <a:pt x="2196" y="787"/>
                </a:lnTo>
                <a:lnTo>
                  <a:pt x="2234" y="769"/>
                </a:lnTo>
                <a:lnTo>
                  <a:pt x="2266" y="750"/>
                </a:lnTo>
                <a:lnTo>
                  <a:pt x="2375" y="702"/>
                </a:lnTo>
                <a:close/>
                <a:moveTo>
                  <a:pt x="2234" y="1985"/>
                </a:moveTo>
                <a:lnTo>
                  <a:pt x="2174" y="2015"/>
                </a:lnTo>
                <a:lnTo>
                  <a:pt x="2114" y="2045"/>
                </a:lnTo>
                <a:lnTo>
                  <a:pt x="2054" y="2074"/>
                </a:lnTo>
                <a:lnTo>
                  <a:pt x="1995" y="2103"/>
                </a:lnTo>
                <a:lnTo>
                  <a:pt x="1936" y="2132"/>
                </a:lnTo>
                <a:lnTo>
                  <a:pt x="1878" y="2161"/>
                </a:lnTo>
                <a:lnTo>
                  <a:pt x="1820" y="2189"/>
                </a:lnTo>
                <a:lnTo>
                  <a:pt x="1763" y="2216"/>
                </a:lnTo>
                <a:lnTo>
                  <a:pt x="1707" y="2244"/>
                </a:lnTo>
                <a:lnTo>
                  <a:pt x="1651" y="2270"/>
                </a:lnTo>
                <a:lnTo>
                  <a:pt x="1595" y="2296"/>
                </a:lnTo>
                <a:lnTo>
                  <a:pt x="1540" y="2322"/>
                </a:lnTo>
                <a:lnTo>
                  <a:pt x="1485" y="2348"/>
                </a:lnTo>
                <a:lnTo>
                  <a:pt x="1430" y="2373"/>
                </a:lnTo>
                <a:lnTo>
                  <a:pt x="1377" y="2398"/>
                </a:lnTo>
                <a:lnTo>
                  <a:pt x="1323" y="2423"/>
                </a:lnTo>
                <a:lnTo>
                  <a:pt x="1359" y="2427"/>
                </a:lnTo>
                <a:lnTo>
                  <a:pt x="1391" y="2433"/>
                </a:lnTo>
                <a:lnTo>
                  <a:pt x="1405" y="2438"/>
                </a:lnTo>
                <a:lnTo>
                  <a:pt x="1420" y="2442"/>
                </a:lnTo>
                <a:lnTo>
                  <a:pt x="1433" y="2446"/>
                </a:lnTo>
                <a:lnTo>
                  <a:pt x="1445" y="2451"/>
                </a:lnTo>
                <a:lnTo>
                  <a:pt x="1472" y="2452"/>
                </a:lnTo>
                <a:lnTo>
                  <a:pt x="1499" y="2453"/>
                </a:lnTo>
                <a:lnTo>
                  <a:pt x="1526" y="2456"/>
                </a:lnTo>
                <a:lnTo>
                  <a:pt x="1552" y="2460"/>
                </a:lnTo>
                <a:lnTo>
                  <a:pt x="1578" y="2465"/>
                </a:lnTo>
                <a:lnTo>
                  <a:pt x="1605" y="2471"/>
                </a:lnTo>
                <a:lnTo>
                  <a:pt x="1632" y="2478"/>
                </a:lnTo>
                <a:lnTo>
                  <a:pt x="1659" y="2486"/>
                </a:lnTo>
                <a:lnTo>
                  <a:pt x="1685" y="2496"/>
                </a:lnTo>
                <a:lnTo>
                  <a:pt x="1711" y="2506"/>
                </a:lnTo>
                <a:lnTo>
                  <a:pt x="1738" y="2518"/>
                </a:lnTo>
                <a:lnTo>
                  <a:pt x="1765" y="2531"/>
                </a:lnTo>
                <a:lnTo>
                  <a:pt x="1790" y="2545"/>
                </a:lnTo>
                <a:lnTo>
                  <a:pt x="1817" y="2560"/>
                </a:lnTo>
                <a:lnTo>
                  <a:pt x="1844" y="2575"/>
                </a:lnTo>
                <a:lnTo>
                  <a:pt x="1869" y="2592"/>
                </a:lnTo>
                <a:lnTo>
                  <a:pt x="1978" y="2514"/>
                </a:lnTo>
                <a:lnTo>
                  <a:pt x="2078" y="2439"/>
                </a:lnTo>
                <a:lnTo>
                  <a:pt x="2173" y="2367"/>
                </a:lnTo>
                <a:lnTo>
                  <a:pt x="2259" y="2299"/>
                </a:lnTo>
                <a:lnTo>
                  <a:pt x="2340" y="2235"/>
                </a:lnTo>
                <a:lnTo>
                  <a:pt x="2412" y="2175"/>
                </a:lnTo>
                <a:lnTo>
                  <a:pt x="2478" y="2119"/>
                </a:lnTo>
                <a:lnTo>
                  <a:pt x="2538" y="2067"/>
                </a:lnTo>
                <a:lnTo>
                  <a:pt x="2519" y="2066"/>
                </a:lnTo>
                <a:lnTo>
                  <a:pt x="2501" y="2065"/>
                </a:lnTo>
                <a:lnTo>
                  <a:pt x="2487" y="2061"/>
                </a:lnTo>
                <a:lnTo>
                  <a:pt x="2477" y="2058"/>
                </a:lnTo>
                <a:lnTo>
                  <a:pt x="2441" y="2043"/>
                </a:lnTo>
                <a:lnTo>
                  <a:pt x="2408" y="2030"/>
                </a:lnTo>
                <a:lnTo>
                  <a:pt x="2376" y="2020"/>
                </a:lnTo>
                <a:lnTo>
                  <a:pt x="2345" y="2009"/>
                </a:lnTo>
                <a:lnTo>
                  <a:pt x="2315" y="2001"/>
                </a:lnTo>
                <a:lnTo>
                  <a:pt x="2287" y="1994"/>
                </a:lnTo>
                <a:lnTo>
                  <a:pt x="2259" y="1989"/>
                </a:lnTo>
                <a:lnTo>
                  <a:pt x="2234" y="1985"/>
                </a:lnTo>
                <a:close/>
                <a:moveTo>
                  <a:pt x="3014" y="1593"/>
                </a:moveTo>
                <a:lnTo>
                  <a:pt x="3027" y="1593"/>
                </a:lnTo>
                <a:lnTo>
                  <a:pt x="3040" y="1595"/>
                </a:lnTo>
                <a:lnTo>
                  <a:pt x="3052" y="1596"/>
                </a:lnTo>
                <a:lnTo>
                  <a:pt x="3065" y="1599"/>
                </a:lnTo>
                <a:lnTo>
                  <a:pt x="3075" y="1602"/>
                </a:lnTo>
                <a:lnTo>
                  <a:pt x="3087" y="1606"/>
                </a:lnTo>
                <a:lnTo>
                  <a:pt x="3098" y="1610"/>
                </a:lnTo>
                <a:lnTo>
                  <a:pt x="3109" y="1614"/>
                </a:lnTo>
                <a:lnTo>
                  <a:pt x="3119" y="1620"/>
                </a:lnTo>
                <a:lnTo>
                  <a:pt x="3129" y="1625"/>
                </a:lnTo>
                <a:lnTo>
                  <a:pt x="3139" y="1632"/>
                </a:lnTo>
                <a:lnTo>
                  <a:pt x="3148" y="1639"/>
                </a:lnTo>
                <a:lnTo>
                  <a:pt x="3157" y="1647"/>
                </a:lnTo>
                <a:lnTo>
                  <a:pt x="3165" y="1654"/>
                </a:lnTo>
                <a:lnTo>
                  <a:pt x="3174" y="1664"/>
                </a:lnTo>
                <a:lnTo>
                  <a:pt x="3183" y="1672"/>
                </a:lnTo>
                <a:lnTo>
                  <a:pt x="3190" y="1682"/>
                </a:lnTo>
                <a:lnTo>
                  <a:pt x="3198" y="1693"/>
                </a:lnTo>
                <a:lnTo>
                  <a:pt x="3204" y="1703"/>
                </a:lnTo>
                <a:lnTo>
                  <a:pt x="3210" y="1715"/>
                </a:lnTo>
                <a:lnTo>
                  <a:pt x="3223" y="1740"/>
                </a:lnTo>
                <a:lnTo>
                  <a:pt x="3234" y="1767"/>
                </a:lnTo>
                <a:lnTo>
                  <a:pt x="3244" y="1796"/>
                </a:lnTo>
                <a:lnTo>
                  <a:pt x="3252" y="1827"/>
                </a:lnTo>
                <a:lnTo>
                  <a:pt x="3260" y="1860"/>
                </a:lnTo>
                <a:lnTo>
                  <a:pt x="3265" y="1896"/>
                </a:lnTo>
                <a:lnTo>
                  <a:pt x="3262" y="1915"/>
                </a:lnTo>
                <a:lnTo>
                  <a:pt x="3258" y="1934"/>
                </a:lnTo>
                <a:lnTo>
                  <a:pt x="3251" y="1953"/>
                </a:lnTo>
                <a:lnTo>
                  <a:pt x="3245" y="1972"/>
                </a:lnTo>
                <a:lnTo>
                  <a:pt x="3236" y="1992"/>
                </a:lnTo>
                <a:lnTo>
                  <a:pt x="3226" y="2012"/>
                </a:lnTo>
                <a:lnTo>
                  <a:pt x="3215" y="2031"/>
                </a:lnTo>
                <a:lnTo>
                  <a:pt x="3203" y="2052"/>
                </a:lnTo>
                <a:lnTo>
                  <a:pt x="3189" y="2072"/>
                </a:lnTo>
                <a:lnTo>
                  <a:pt x="3174" y="2093"/>
                </a:lnTo>
                <a:lnTo>
                  <a:pt x="3157" y="2114"/>
                </a:lnTo>
                <a:lnTo>
                  <a:pt x="3140" y="2134"/>
                </a:lnTo>
                <a:lnTo>
                  <a:pt x="3120" y="2156"/>
                </a:lnTo>
                <a:lnTo>
                  <a:pt x="3100" y="2177"/>
                </a:lnTo>
                <a:lnTo>
                  <a:pt x="3079" y="2199"/>
                </a:lnTo>
                <a:lnTo>
                  <a:pt x="3055" y="2220"/>
                </a:lnTo>
                <a:lnTo>
                  <a:pt x="2994" y="2261"/>
                </a:lnTo>
                <a:lnTo>
                  <a:pt x="2934" y="2302"/>
                </a:lnTo>
                <a:lnTo>
                  <a:pt x="2876" y="2341"/>
                </a:lnTo>
                <a:lnTo>
                  <a:pt x="2821" y="2381"/>
                </a:lnTo>
                <a:lnTo>
                  <a:pt x="2767" y="2419"/>
                </a:lnTo>
                <a:lnTo>
                  <a:pt x="2715" y="2458"/>
                </a:lnTo>
                <a:lnTo>
                  <a:pt x="2664" y="2496"/>
                </a:lnTo>
                <a:lnTo>
                  <a:pt x="2616" y="2533"/>
                </a:lnTo>
                <a:lnTo>
                  <a:pt x="2569" y="2570"/>
                </a:lnTo>
                <a:lnTo>
                  <a:pt x="2525" y="2605"/>
                </a:lnTo>
                <a:lnTo>
                  <a:pt x="2482" y="2640"/>
                </a:lnTo>
                <a:lnTo>
                  <a:pt x="2440" y="2675"/>
                </a:lnTo>
                <a:lnTo>
                  <a:pt x="2401" y="2709"/>
                </a:lnTo>
                <a:lnTo>
                  <a:pt x="2363" y="2742"/>
                </a:lnTo>
                <a:lnTo>
                  <a:pt x="2328" y="2775"/>
                </a:lnTo>
                <a:lnTo>
                  <a:pt x="2295" y="2808"/>
                </a:lnTo>
                <a:lnTo>
                  <a:pt x="2319" y="2829"/>
                </a:lnTo>
                <a:lnTo>
                  <a:pt x="2342" y="2850"/>
                </a:lnTo>
                <a:lnTo>
                  <a:pt x="2363" y="2873"/>
                </a:lnTo>
                <a:lnTo>
                  <a:pt x="2382" y="2895"/>
                </a:lnTo>
                <a:lnTo>
                  <a:pt x="2401" y="2919"/>
                </a:lnTo>
                <a:lnTo>
                  <a:pt x="2418" y="2943"/>
                </a:lnTo>
                <a:lnTo>
                  <a:pt x="2433" y="2966"/>
                </a:lnTo>
                <a:lnTo>
                  <a:pt x="2446" y="2991"/>
                </a:lnTo>
                <a:lnTo>
                  <a:pt x="2459" y="3015"/>
                </a:lnTo>
                <a:lnTo>
                  <a:pt x="2468" y="3040"/>
                </a:lnTo>
                <a:lnTo>
                  <a:pt x="2477" y="3066"/>
                </a:lnTo>
                <a:lnTo>
                  <a:pt x="2484" y="3092"/>
                </a:lnTo>
                <a:lnTo>
                  <a:pt x="2490" y="3118"/>
                </a:lnTo>
                <a:lnTo>
                  <a:pt x="2494" y="3145"/>
                </a:lnTo>
                <a:lnTo>
                  <a:pt x="2496" y="3172"/>
                </a:lnTo>
                <a:lnTo>
                  <a:pt x="2497" y="3200"/>
                </a:lnTo>
                <a:lnTo>
                  <a:pt x="2491" y="3215"/>
                </a:lnTo>
                <a:lnTo>
                  <a:pt x="2484" y="3229"/>
                </a:lnTo>
                <a:lnTo>
                  <a:pt x="2477" y="3242"/>
                </a:lnTo>
                <a:lnTo>
                  <a:pt x="2469" y="3253"/>
                </a:lnTo>
                <a:lnTo>
                  <a:pt x="2460" y="3265"/>
                </a:lnTo>
                <a:lnTo>
                  <a:pt x="2449" y="3276"/>
                </a:lnTo>
                <a:lnTo>
                  <a:pt x="2438" y="3286"/>
                </a:lnTo>
                <a:lnTo>
                  <a:pt x="2425" y="3294"/>
                </a:lnTo>
                <a:lnTo>
                  <a:pt x="2412" y="3302"/>
                </a:lnTo>
                <a:lnTo>
                  <a:pt x="2399" y="3309"/>
                </a:lnTo>
                <a:lnTo>
                  <a:pt x="2384" y="3316"/>
                </a:lnTo>
                <a:lnTo>
                  <a:pt x="2368" y="3321"/>
                </a:lnTo>
                <a:lnTo>
                  <a:pt x="2350" y="3325"/>
                </a:lnTo>
                <a:lnTo>
                  <a:pt x="2333" y="3329"/>
                </a:lnTo>
                <a:lnTo>
                  <a:pt x="2314" y="3332"/>
                </a:lnTo>
                <a:lnTo>
                  <a:pt x="2295" y="3333"/>
                </a:lnTo>
                <a:lnTo>
                  <a:pt x="2267" y="3332"/>
                </a:lnTo>
                <a:lnTo>
                  <a:pt x="2239" y="3329"/>
                </a:lnTo>
                <a:lnTo>
                  <a:pt x="2212" y="3325"/>
                </a:lnTo>
                <a:lnTo>
                  <a:pt x="2187" y="3320"/>
                </a:lnTo>
                <a:lnTo>
                  <a:pt x="2161" y="3315"/>
                </a:lnTo>
                <a:lnTo>
                  <a:pt x="2135" y="3308"/>
                </a:lnTo>
                <a:lnTo>
                  <a:pt x="2109" y="3301"/>
                </a:lnTo>
                <a:lnTo>
                  <a:pt x="2085" y="3292"/>
                </a:lnTo>
                <a:lnTo>
                  <a:pt x="2061" y="3282"/>
                </a:lnTo>
                <a:lnTo>
                  <a:pt x="2037" y="3273"/>
                </a:lnTo>
                <a:lnTo>
                  <a:pt x="2013" y="3261"/>
                </a:lnTo>
                <a:lnTo>
                  <a:pt x="1991" y="3249"/>
                </a:lnTo>
                <a:lnTo>
                  <a:pt x="1968" y="3236"/>
                </a:lnTo>
                <a:lnTo>
                  <a:pt x="1946" y="3222"/>
                </a:lnTo>
                <a:lnTo>
                  <a:pt x="1924" y="3207"/>
                </a:lnTo>
                <a:lnTo>
                  <a:pt x="1903" y="3191"/>
                </a:lnTo>
                <a:lnTo>
                  <a:pt x="1831" y="3232"/>
                </a:lnTo>
                <a:lnTo>
                  <a:pt x="1758" y="3271"/>
                </a:lnTo>
                <a:lnTo>
                  <a:pt x="1684" y="3308"/>
                </a:lnTo>
                <a:lnTo>
                  <a:pt x="1607" y="3346"/>
                </a:lnTo>
                <a:lnTo>
                  <a:pt x="1528" y="3381"/>
                </a:lnTo>
                <a:lnTo>
                  <a:pt x="1448" y="3416"/>
                </a:lnTo>
                <a:lnTo>
                  <a:pt x="1364" y="3450"/>
                </a:lnTo>
                <a:lnTo>
                  <a:pt x="1279" y="3483"/>
                </a:lnTo>
                <a:lnTo>
                  <a:pt x="1193" y="3514"/>
                </a:lnTo>
                <a:lnTo>
                  <a:pt x="1104" y="3545"/>
                </a:lnTo>
                <a:lnTo>
                  <a:pt x="1013" y="3574"/>
                </a:lnTo>
                <a:lnTo>
                  <a:pt x="920" y="3603"/>
                </a:lnTo>
                <a:lnTo>
                  <a:pt x="824" y="3630"/>
                </a:lnTo>
                <a:lnTo>
                  <a:pt x="727" y="3657"/>
                </a:lnTo>
                <a:lnTo>
                  <a:pt x="628" y="3682"/>
                </a:lnTo>
                <a:lnTo>
                  <a:pt x="526" y="3707"/>
                </a:lnTo>
                <a:lnTo>
                  <a:pt x="484" y="3724"/>
                </a:lnTo>
                <a:lnTo>
                  <a:pt x="443" y="3741"/>
                </a:lnTo>
                <a:lnTo>
                  <a:pt x="402" y="3756"/>
                </a:lnTo>
                <a:lnTo>
                  <a:pt x="364" y="3771"/>
                </a:lnTo>
                <a:lnTo>
                  <a:pt x="326" y="3785"/>
                </a:lnTo>
                <a:lnTo>
                  <a:pt x="291" y="3798"/>
                </a:lnTo>
                <a:lnTo>
                  <a:pt x="257" y="3809"/>
                </a:lnTo>
                <a:lnTo>
                  <a:pt x="223" y="3819"/>
                </a:lnTo>
                <a:lnTo>
                  <a:pt x="205" y="3821"/>
                </a:lnTo>
                <a:lnTo>
                  <a:pt x="187" y="3824"/>
                </a:lnTo>
                <a:lnTo>
                  <a:pt x="168" y="3829"/>
                </a:lnTo>
                <a:lnTo>
                  <a:pt x="148" y="3837"/>
                </a:lnTo>
                <a:lnTo>
                  <a:pt x="129" y="3846"/>
                </a:lnTo>
                <a:lnTo>
                  <a:pt x="110" y="3858"/>
                </a:lnTo>
                <a:lnTo>
                  <a:pt x="89" y="3872"/>
                </a:lnTo>
                <a:lnTo>
                  <a:pt x="70" y="3888"/>
                </a:lnTo>
                <a:lnTo>
                  <a:pt x="61" y="3890"/>
                </a:lnTo>
                <a:lnTo>
                  <a:pt x="51" y="3891"/>
                </a:lnTo>
                <a:lnTo>
                  <a:pt x="42" y="3892"/>
                </a:lnTo>
                <a:lnTo>
                  <a:pt x="35" y="3892"/>
                </a:lnTo>
                <a:lnTo>
                  <a:pt x="28" y="3891"/>
                </a:lnTo>
                <a:lnTo>
                  <a:pt x="22" y="3889"/>
                </a:lnTo>
                <a:lnTo>
                  <a:pt x="17" y="3887"/>
                </a:lnTo>
                <a:lnTo>
                  <a:pt x="11" y="3883"/>
                </a:lnTo>
                <a:lnTo>
                  <a:pt x="8" y="3879"/>
                </a:lnTo>
                <a:lnTo>
                  <a:pt x="5" y="3874"/>
                </a:lnTo>
                <a:lnTo>
                  <a:pt x="3" y="3868"/>
                </a:lnTo>
                <a:lnTo>
                  <a:pt x="1" y="3861"/>
                </a:lnTo>
                <a:lnTo>
                  <a:pt x="0" y="3854"/>
                </a:lnTo>
                <a:lnTo>
                  <a:pt x="0" y="3846"/>
                </a:lnTo>
                <a:lnTo>
                  <a:pt x="0" y="3837"/>
                </a:lnTo>
                <a:lnTo>
                  <a:pt x="1" y="3827"/>
                </a:lnTo>
                <a:lnTo>
                  <a:pt x="26" y="3798"/>
                </a:lnTo>
                <a:lnTo>
                  <a:pt x="52" y="3770"/>
                </a:lnTo>
                <a:lnTo>
                  <a:pt x="77" y="3743"/>
                </a:lnTo>
                <a:lnTo>
                  <a:pt x="102" y="3719"/>
                </a:lnTo>
                <a:lnTo>
                  <a:pt x="127" y="3696"/>
                </a:lnTo>
                <a:lnTo>
                  <a:pt x="153" y="3675"/>
                </a:lnTo>
                <a:lnTo>
                  <a:pt x="177" y="3655"/>
                </a:lnTo>
                <a:lnTo>
                  <a:pt x="203" y="3637"/>
                </a:lnTo>
                <a:lnTo>
                  <a:pt x="275" y="3592"/>
                </a:lnTo>
                <a:lnTo>
                  <a:pt x="347" y="3548"/>
                </a:lnTo>
                <a:lnTo>
                  <a:pt x="420" y="3502"/>
                </a:lnTo>
                <a:lnTo>
                  <a:pt x="494" y="3457"/>
                </a:lnTo>
                <a:lnTo>
                  <a:pt x="569" y="3412"/>
                </a:lnTo>
                <a:lnTo>
                  <a:pt x="646" y="3366"/>
                </a:lnTo>
                <a:lnTo>
                  <a:pt x="724" y="3320"/>
                </a:lnTo>
                <a:lnTo>
                  <a:pt x="802" y="3274"/>
                </a:lnTo>
                <a:lnTo>
                  <a:pt x="881" y="3228"/>
                </a:lnTo>
                <a:lnTo>
                  <a:pt x="961" y="3181"/>
                </a:lnTo>
                <a:lnTo>
                  <a:pt x="1043" y="3134"/>
                </a:lnTo>
                <a:lnTo>
                  <a:pt x="1125" y="3087"/>
                </a:lnTo>
                <a:lnTo>
                  <a:pt x="1209" y="3040"/>
                </a:lnTo>
                <a:lnTo>
                  <a:pt x="1293" y="2992"/>
                </a:lnTo>
                <a:lnTo>
                  <a:pt x="1379" y="2945"/>
                </a:lnTo>
                <a:lnTo>
                  <a:pt x="1465" y="2897"/>
                </a:lnTo>
                <a:lnTo>
                  <a:pt x="1456" y="2884"/>
                </a:lnTo>
                <a:lnTo>
                  <a:pt x="1446" y="2872"/>
                </a:lnTo>
                <a:lnTo>
                  <a:pt x="1437" y="2860"/>
                </a:lnTo>
                <a:lnTo>
                  <a:pt x="1426" y="2849"/>
                </a:lnTo>
                <a:lnTo>
                  <a:pt x="1414" y="2839"/>
                </a:lnTo>
                <a:lnTo>
                  <a:pt x="1401" y="2828"/>
                </a:lnTo>
                <a:lnTo>
                  <a:pt x="1389" y="2818"/>
                </a:lnTo>
                <a:lnTo>
                  <a:pt x="1376" y="2809"/>
                </a:lnTo>
                <a:lnTo>
                  <a:pt x="1361" y="2799"/>
                </a:lnTo>
                <a:lnTo>
                  <a:pt x="1346" y="2790"/>
                </a:lnTo>
                <a:lnTo>
                  <a:pt x="1331" y="2782"/>
                </a:lnTo>
                <a:lnTo>
                  <a:pt x="1315" y="2774"/>
                </a:lnTo>
                <a:lnTo>
                  <a:pt x="1298" y="2767"/>
                </a:lnTo>
                <a:lnTo>
                  <a:pt x="1279" y="2759"/>
                </a:lnTo>
                <a:lnTo>
                  <a:pt x="1262" y="2753"/>
                </a:lnTo>
                <a:lnTo>
                  <a:pt x="1243" y="2746"/>
                </a:lnTo>
                <a:lnTo>
                  <a:pt x="1235" y="2739"/>
                </a:lnTo>
                <a:lnTo>
                  <a:pt x="1229" y="2729"/>
                </a:lnTo>
                <a:lnTo>
                  <a:pt x="1223" y="2719"/>
                </a:lnTo>
                <a:lnTo>
                  <a:pt x="1217" y="2708"/>
                </a:lnTo>
                <a:lnTo>
                  <a:pt x="1213" y="2695"/>
                </a:lnTo>
                <a:lnTo>
                  <a:pt x="1209" y="2682"/>
                </a:lnTo>
                <a:lnTo>
                  <a:pt x="1205" y="2668"/>
                </a:lnTo>
                <a:lnTo>
                  <a:pt x="1202" y="2652"/>
                </a:lnTo>
                <a:lnTo>
                  <a:pt x="1200" y="2636"/>
                </a:lnTo>
                <a:lnTo>
                  <a:pt x="1199" y="2618"/>
                </a:lnTo>
                <a:lnTo>
                  <a:pt x="1198" y="2600"/>
                </a:lnTo>
                <a:lnTo>
                  <a:pt x="1197" y="2580"/>
                </a:lnTo>
                <a:lnTo>
                  <a:pt x="1198" y="2560"/>
                </a:lnTo>
                <a:lnTo>
                  <a:pt x="1198" y="2538"/>
                </a:lnTo>
                <a:lnTo>
                  <a:pt x="1200" y="2515"/>
                </a:lnTo>
                <a:lnTo>
                  <a:pt x="1202" y="2491"/>
                </a:lnTo>
                <a:lnTo>
                  <a:pt x="1128" y="2505"/>
                </a:lnTo>
                <a:lnTo>
                  <a:pt x="1061" y="2519"/>
                </a:lnTo>
                <a:lnTo>
                  <a:pt x="998" y="2533"/>
                </a:lnTo>
                <a:lnTo>
                  <a:pt x="939" y="2548"/>
                </a:lnTo>
                <a:lnTo>
                  <a:pt x="886" y="2564"/>
                </a:lnTo>
                <a:lnTo>
                  <a:pt x="838" y="2579"/>
                </a:lnTo>
                <a:lnTo>
                  <a:pt x="816" y="2588"/>
                </a:lnTo>
                <a:lnTo>
                  <a:pt x="795" y="2596"/>
                </a:lnTo>
                <a:lnTo>
                  <a:pt x="776" y="2605"/>
                </a:lnTo>
                <a:lnTo>
                  <a:pt x="758" y="2614"/>
                </a:lnTo>
                <a:lnTo>
                  <a:pt x="740" y="2630"/>
                </a:lnTo>
                <a:lnTo>
                  <a:pt x="722" y="2644"/>
                </a:lnTo>
                <a:lnTo>
                  <a:pt x="707" y="2655"/>
                </a:lnTo>
                <a:lnTo>
                  <a:pt x="694" y="2664"/>
                </a:lnTo>
                <a:lnTo>
                  <a:pt x="682" y="2671"/>
                </a:lnTo>
                <a:lnTo>
                  <a:pt x="670" y="2676"/>
                </a:lnTo>
                <a:lnTo>
                  <a:pt x="666" y="2677"/>
                </a:lnTo>
                <a:lnTo>
                  <a:pt x="660" y="2678"/>
                </a:lnTo>
                <a:lnTo>
                  <a:pt x="656" y="2678"/>
                </a:lnTo>
                <a:lnTo>
                  <a:pt x="652" y="2677"/>
                </a:lnTo>
                <a:lnTo>
                  <a:pt x="649" y="2676"/>
                </a:lnTo>
                <a:lnTo>
                  <a:pt x="645" y="2674"/>
                </a:lnTo>
                <a:lnTo>
                  <a:pt x="642" y="2671"/>
                </a:lnTo>
                <a:lnTo>
                  <a:pt x="640" y="2668"/>
                </a:lnTo>
                <a:lnTo>
                  <a:pt x="638" y="2665"/>
                </a:lnTo>
                <a:lnTo>
                  <a:pt x="636" y="2661"/>
                </a:lnTo>
                <a:lnTo>
                  <a:pt x="635" y="2655"/>
                </a:lnTo>
                <a:lnTo>
                  <a:pt x="634" y="2650"/>
                </a:lnTo>
                <a:lnTo>
                  <a:pt x="631" y="2637"/>
                </a:lnTo>
                <a:lnTo>
                  <a:pt x="631" y="2622"/>
                </a:lnTo>
                <a:lnTo>
                  <a:pt x="634" y="2605"/>
                </a:lnTo>
                <a:lnTo>
                  <a:pt x="636" y="2585"/>
                </a:lnTo>
                <a:lnTo>
                  <a:pt x="644" y="2564"/>
                </a:lnTo>
                <a:lnTo>
                  <a:pt x="653" y="2545"/>
                </a:lnTo>
                <a:lnTo>
                  <a:pt x="662" y="2525"/>
                </a:lnTo>
                <a:lnTo>
                  <a:pt x="672" y="2505"/>
                </a:lnTo>
                <a:lnTo>
                  <a:pt x="684" y="2486"/>
                </a:lnTo>
                <a:lnTo>
                  <a:pt x="696" y="2467"/>
                </a:lnTo>
                <a:lnTo>
                  <a:pt x="709" y="2448"/>
                </a:lnTo>
                <a:lnTo>
                  <a:pt x="721" y="2430"/>
                </a:lnTo>
                <a:lnTo>
                  <a:pt x="736" y="2411"/>
                </a:lnTo>
                <a:lnTo>
                  <a:pt x="751" y="2394"/>
                </a:lnTo>
                <a:lnTo>
                  <a:pt x="767" y="2376"/>
                </a:lnTo>
                <a:lnTo>
                  <a:pt x="783" y="2357"/>
                </a:lnTo>
                <a:lnTo>
                  <a:pt x="802" y="2340"/>
                </a:lnTo>
                <a:lnTo>
                  <a:pt x="820" y="2323"/>
                </a:lnTo>
                <a:lnTo>
                  <a:pt x="838" y="2306"/>
                </a:lnTo>
                <a:lnTo>
                  <a:pt x="858" y="2289"/>
                </a:lnTo>
                <a:lnTo>
                  <a:pt x="962" y="2238"/>
                </a:lnTo>
                <a:lnTo>
                  <a:pt x="1063" y="2189"/>
                </a:lnTo>
                <a:lnTo>
                  <a:pt x="1159" y="2141"/>
                </a:lnTo>
                <a:lnTo>
                  <a:pt x="1252" y="2094"/>
                </a:lnTo>
                <a:lnTo>
                  <a:pt x="1339" y="2049"/>
                </a:lnTo>
                <a:lnTo>
                  <a:pt x="1424" y="2005"/>
                </a:lnTo>
                <a:lnTo>
                  <a:pt x="1505" y="1962"/>
                </a:lnTo>
                <a:lnTo>
                  <a:pt x="1581" y="1920"/>
                </a:lnTo>
                <a:lnTo>
                  <a:pt x="1654" y="1880"/>
                </a:lnTo>
                <a:lnTo>
                  <a:pt x="1723" y="1842"/>
                </a:lnTo>
                <a:lnTo>
                  <a:pt x="1788" y="1805"/>
                </a:lnTo>
                <a:lnTo>
                  <a:pt x="1848" y="1770"/>
                </a:lnTo>
                <a:lnTo>
                  <a:pt x="1905" y="1736"/>
                </a:lnTo>
                <a:lnTo>
                  <a:pt x="1958" y="1702"/>
                </a:lnTo>
                <a:lnTo>
                  <a:pt x="2007" y="1671"/>
                </a:lnTo>
                <a:lnTo>
                  <a:pt x="2052" y="1641"/>
                </a:lnTo>
                <a:lnTo>
                  <a:pt x="2062" y="1627"/>
                </a:lnTo>
                <a:lnTo>
                  <a:pt x="2073" y="1616"/>
                </a:lnTo>
                <a:lnTo>
                  <a:pt x="2084" y="1605"/>
                </a:lnTo>
                <a:lnTo>
                  <a:pt x="2094" y="1594"/>
                </a:lnTo>
                <a:lnTo>
                  <a:pt x="2106" y="1586"/>
                </a:lnTo>
                <a:lnTo>
                  <a:pt x="2118" y="1577"/>
                </a:lnTo>
                <a:lnTo>
                  <a:pt x="2131" y="1571"/>
                </a:lnTo>
                <a:lnTo>
                  <a:pt x="2143" y="1564"/>
                </a:lnTo>
                <a:lnTo>
                  <a:pt x="2155" y="1559"/>
                </a:lnTo>
                <a:lnTo>
                  <a:pt x="2168" y="1555"/>
                </a:lnTo>
                <a:lnTo>
                  <a:pt x="2182" y="1552"/>
                </a:lnTo>
                <a:lnTo>
                  <a:pt x="2196" y="1550"/>
                </a:lnTo>
                <a:lnTo>
                  <a:pt x="2210" y="1549"/>
                </a:lnTo>
                <a:lnTo>
                  <a:pt x="2224" y="1549"/>
                </a:lnTo>
                <a:lnTo>
                  <a:pt x="2239" y="1550"/>
                </a:lnTo>
                <a:lnTo>
                  <a:pt x="2254" y="1551"/>
                </a:lnTo>
                <a:lnTo>
                  <a:pt x="2271" y="1559"/>
                </a:lnTo>
                <a:lnTo>
                  <a:pt x="2286" y="1566"/>
                </a:lnTo>
                <a:lnTo>
                  <a:pt x="2301" y="1576"/>
                </a:lnTo>
                <a:lnTo>
                  <a:pt x="2315" y="1586"/>
                </a:lnTo>
                <a:lnTo>
                  <a:pt x="2329" y="1597"/>
                </a:lnTo>
                <a:lnTo>
                  <a:pt x="2342" y="1610"/>
                </a:lnTo>
                <a:lnTo>
                  <a:pt x="2354" y="1624"/>
                </a:lnTo>
                <a:lnTo>
                  <a:pt x="2364" y="1639"/>
                </a:lnTo>
                <a:lnTo>
                  <a:pt x="2375" y="1655"/>
                </a:lnTo>
                <a:lnTo>
                  <a:pt x="2385" y="1672"/>
                </a:lnTo>
                <a:lnTo>
                  <a:pt x="2394" y="1692"/>
                </a:lnTo>
                <a:lnTo>
                  <a:pt x="2402" y="1711"/>
                </a:lnTo>
                <a:lnTo>
                  <a:pt x="2410" y="1732"/>
                </a:lnTo>
                <a:lnTo>
                  <a:pt x="2417" y="1755"/>
                </a:lnTo>
                <a:lnTo>
                  <a:pt x="2423" y="1778"/>
                </a:lnTo>
                <a:lnTo>
                  <a:pt x="2429" y="1803"/>
                </a:lnTo>
                <a:lnTo>
                  <a:pt x="2456" y="1797"/>
                </a:lnTo>
                <a:lnTo>
                  <a:pt x="2484" y="1790"/>
                </a:lnTo>
                <a:lnTo>
                  <a:pt x="2514" y="1786"/>
                </a:lnTo>
                <a:lnTo>
                  <a:pt x="2545" y="1782"/>
                </a:lnTo>
                <a:lnTo>
                  <a:pt x="2577" y="1778"/>
                </a:lnTo>
                <a:lnTo>
                  <a:pt x="2610" y="1776"/>
                </a:lnTo>
                <a:lnTo>
                  <a:pt x="2644" y="1775"/>
                </a:lnTo>
                <a:lnTo>
                  <a:pt x="2679" y="1775"/>
                </a:lnTo>
                <a:lnTo>
                  <a:pt x="2739" y="1775"/>
                </a:lnTo>
                <a:lnTo>
                  <a:pt x="2749" y="1761"/>
                </a:lnTo>
                <a:lnTo>
                  <a:pt x="2758" y="1747"/>
                </a:lnTo>
                <a:lnTo>
                  <a:pt x="2768" y="1735"/>
                </a:lnTo>
                <a:lnTo>
                  <a:pt x="2779" y="1722"/>
                </a:lnTo>
                <a:lnTo>
                  <a:pt x="2789" y="1710"/>
                </a:lnTo>
                <a:lnTo>
                  <a:pt x="2801" y="1699"/>
                </a:lnTo>
                <a:lnTo>
                  <a:pt x="2812" y="1687"/>
                </a:lnTo>
                <a:lnTo>
                  <a:pt x="2825" y="1678"/>
                </a:lnTo>
                <a:lnTo>
                  <a:pt x="2837" y="1668"/>
                </a:lnTo>
                <a:lnTo>
                  <a:pt x="2849" y="1658"/>
                </a:lnTo>
                <a:lnTo>
                  <a:pt x="2862" y="1650"/>
                </a:lnTo>
                <a:lnTo>
                  <a:pt x="2876" y="1641"/>
                </a:lnTo>
                <a:lnTo>
                  <a:pt x="2890" y="1633"/>
                </a:lnTo>
                <a:lnTo>
                  <a:pt x="2904" y="1626"/>
                </a:lnTo>
                <a:lnTo>
                  <a:pt x="2919" y="1619"/>
                </a:lnTo>
                <a:lnTo>
                  <a:pt x="2934" y="1612"/>
                </a:lnTo>
                <a:lnTo>
                  <a:pt x="3014" y="1593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  <a:effectLst>
            <a:outerShdw dist="63504" dir="3183908" blurRad="0" rotWithShape="0">
              <a:srgbClr val="41f14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14" descr=""/>
          <p:cNvPicPr/>
          <p:nvPr/>
        </p:nvPicPr>
        <p:blipFill>
          <a:blip r:embed="rId1"/>
          <a:stretch/>
        </p:blipFill>
        <p:spPr>
          <a:xfrm>
            <a:off x="1066680" y="60948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1143000" y="762120"/>
            <a:ext cx="1066680" cy="1039680"/>
          </a:xfrm>
          <a:custGeom>
            <a:avLst/>
            <a:gdLst/>
            <a:ahLst/>
            <a:rect l="l" t="t" r="r" b="b"/>
            <a:pathLst>
              <a:path w="3889" h="3993">
                <a:moveTo>
                  <a:pt x="2899" y="2658"/>
                </a:moveTo>
                <a:lnTo>
                  <a:pt x="2899" y="941"/>
                </a:lnTo>
                <a:lnTo>
                  <a:pt x="2563" y="941"/>
                </a:lnTo>
                <a:lnTo>
                  <a:pt x="2232" y="941"/>
                </a:lnTo>
                <a:lnTo>
                  <a:pt x="1623" y="941"/>
                </a:lnTo>
                <a:lnTo>
                  <a:pt x="1288" y="941"/>
                </a:lnTo>
                <a:lnTo>
                  <a:pt x="956" y="941"/>
                </a:lnTo>
                <a:lnTo>
                  <a:pt x="956" y="2503"/>
                </a:lnTo>
                <a:lnTo>
                  <a:pt x="956" y="2783"/>
                </a:lnTo>
                <a:lnTo>
                  <a:pt x="956" y="3069"/>
                </a:lnTo>
                <a:lnTo>
                  <a:pt x="2488" y="3069"/>
                </a:lnTo>
                <a:lnTo>
                  <a:pt x="2514" y="3069"/>
                </a:lnTo>
                <a:lnTo>
                  <a:pt x="2538" y="3068"/>
                </a:lnTo>
                <a:lnTo>
                  <a:pt x="2561" y="3066"/>
                </a:lnTo>
                <a:lnTo>
                  <a:pt x="2584" y="3063"/>
                </a:lnTo>
                <a:lnTo>
                  <a:pt x="2605" y="3060"/>
                </a:lnTo>
                <a:lnTo>
                  <a:pt x="2626" y="3055"/>
                </a:lnTo>
                <a:lnTo>
                  <a:pt x="2647" y="3050"/>
                </a:lnTo>
                <a:lnTo>
                  <a:pt x="2666" y="3044"/>
                </a:lnTo>
                <a:lnTo>
                  <a:pt x="2685" y="3037"/>
                </a:lnTo>
                <a:lnTo>
                  <a:pt x="2703" y="3029"/>
                </a:lnTo>
                <a:lnTo>
                  <a:pt x="2720" y="3021"/>
                </a:lnTo>
                <a:lnTo>
                  <a:pt x="2736" y="3012"/>
                </a:lnTo>
                <a:lnTo>
                  <a:pt x="2752" y="3001"/>
                </a:lnTo>
                <a:lnTo>
                  <a:pt x="2767" y="2991"/>
                </a:lnTo>
                <a:lnTo>
                  <a:pt x="2781" y="2978"/>
                </a:lnTo>
                <a:lnTo>
                  <a:pt x="2794" y="2967"/>
                </a:lnTo>
                <a:lnTo>
                  <a:pt x="2806" y="2953"/>
                </a:lnTo>
                <a:lnTo>
                  <a:pt x="2818" y="2939"/>
                </a:lnTo>
                <a:lnTo>
                  <a:pt x="2829" y="2924"/>
                </a:lnTo>
                <a:lnTo>
                  <a:pt x="2840" y="2908"/>
                </a:lnTo>
                <a:lnTo>
                  <a:pt x="2849" y="2892"/>
                </a:lnTo>
                <a:lnTo>
                  <a:pt x="2857" y="2875"/>
                </a:lnTo>
                <a:lnTo>
                  <a:pt x="2865" y="2857"/>
                </a:lnTo>
                <a:lnTo>
                  <a:pt x="2872" y="2837"/>
                </a:lnTo>
                <a:lnTo>
                  <a:pt x="2878" y="2817"/>
                </a:lnTo>
                <a:lnTo>
                  <a:pt x="2883" y="2797"/>
                </a:lnTo>
                <a:lnTo>
                  <a:pt x="2888" y="2776"/>
                </a:lnTo>
                <a:lnTo>
                  <a:pt x="2891" y="2754"/>
                </a:lnTo>
                <a:lnTo>
                  <a:pt x="2895" y="2731"/>
                </a:lnTo>
                <a:lnTo>
                  <a:pt x="2897" y="2707"/>
                </a:lnTo>
                <a:lnTo>
                  <a:pt x="2898" y="2683"/>
                </a:lnTo>
                <a:lnTo>
                  <a:pt x="2899" y="2658"/>
                </a:lnTo>
                <a:close/>
                <a:moveTo>
                  <a:pt x="1623" y="1507"/>
                </a:moveTo>
                <a:lnTo>
                  <a:pt x="2232" y="1507"/>
                </a:lnTo>
                <a:lnTo>
                  <a:pt x="2232" y="2397"/>
                </a:lnTo>
                <a:lnTo>
                  <a:pt x="2231" y="2410"/>
                </a:lnTo>
                <a:lnTo>
                  <a:pt x="2230" y="2422"/>
                </a:lnTo>
                <a:lnTo>
                  <a:pt x="2228" y="2434"/>
                </a:lnTo>
                <a:lnTo>
                  <a:pt x="2225" y="2443"/>
                </a:lnTo>
                <a:lnTo>
                  <a:pt x="2222" y="2453"/>
                </a:lnTo>
                <a:lnTo>
                  <a:pt x="2217" y="2461"/>
                </a:lnTo>
                <a:lnTo>
                  <a:pt x="2211" y="2469"/>
                </a:lnTo>
                <a:lnTo>
                  <a:pt x="2206" y="2476"/>
                </a:lnTo>
                <a:lnTo>
                  <a:pt x="2199" y="2483"/>
                </a:lnTo>
                <a:lnTo>
                  <a:pt x="2191" y="2488"/>
                </a:lnTo>
                <a:lnTo>
                  <a:pt x="2182" y="2492"/>
                </a:lnTo>
                <a:lnTo>
                  <a:pt x="2172" y="2496"/>
                </a:lnTo>
                <a:lnTo>
                  <a:pt x="2162" y="2499"/>
                </a:lnTo>
                <a:lnTo>
                  <a:pt x="2152" y="2501"/>
                </a:lnTo>
                <a:lnTo>
                  <a:pt x="2140" y="2503"/>
                </a:lnTo>
                <a:lnTo>
                  <a:pt x="2128" y="2503"/>
                </a:lnTo>
                <a:lnTo>
                  <a:pt x="1623" y="2503"/>
                </a:lnTo>
                <a:lnTo>
                  <a:pt x="1623" y="1507"/>
                </a:lnTo>
                <a:close/>
                <a:moveTo>
                  <a:pt x="3889" y="3580"/>
                </a:moveTo>
                <a:lnTo>
                  <a:pt x="3889" y="0"/>
                </a:lnTo>
                <a:lnTo>
                  <a:pt x="3537" y="0"/>
                </a:lnTo>
                <a:lnTo>
                  <a:pt x="3189" y="0"/>
                </a:lnTo>
                <a:lnTo>
                  <a:pt x="700" y="0"/>
                </a:lnTo>
                <a:lnTo>
                  <a:pt x="348" y="0"/>
                </a:lnTo>
                <a:lnTo>
                  <a:pt x="0" y="0"/>
                </a:lnTo>
                <a:lnTo>
                  <a:pt x="0" y="3426"/>
                </a:lnTo>
                <a:lnTo>
                  <a:pt x="0" y="3707"/>
                </a:lnTo>
                <a:lnTo>
                  <a:pt x="0" y="3993"/>
                </a:lnTo>
                <a:lnTo>
                  <a:pt x="3478" y="3993"/>
                </a:lnTo>
                <a:lnTo>
                  <a:pt x="3503" y="3993"/>
                </a:lnTo>
                <a:lnTo>
                  <a:pt x="3528" y="3992"/>
                </a:lnTo>
                <a:lnTo>
                  <a:pt x="3551" y="3990"/>
                </a:lnTo>
                <a:lnTo>
                  <a:pt x="3574" y="3986"/>
                </a:lnTo>
                <a:lnTo>
                  <a:pt x="3595" y="3983"/>
                </a:lnTo>
                <a:lnTo>
                  <a:pt x="3617" y="3978"/>
                </a:lnTo>
                <a:lnTo>
                  <a:pt x="3637" y="3973"/>
                </a:lnTo>
                <a:lnTo>
                  <a:pt x="3656" y="3968"/>
                </a:lnTo>
                <a:lnTo>
                  <a:pt x="3676" y="3961"/>
                </a:lnTo>
                <a:lnTo>
                  <a:pt x="3693" y="3953"/>
                </a:lnTo>
                <a:lnTo>
                  <a:pt x="3710" y="3945"/>
                </a:lnTo>
                <a:lnTo>
                  <a:pt x="3726" y="3936"/>
                </a:lnTo>
                <a:lnTo>
                  <a:pt x="3742" y="3925"/>
                </a:lnTo>
                <a:lnTo>
                  <a:pt x="3757" y="3914"/>
                </a:lnTo>
                <a:lnTo>
                  <a:pt x="3771" y="3902"/>
                </a:lnTo>
                <a:lnTo>
                  <a:pt x="3785" y="3890"/>
                </a:lnTo>
                <a:lnTo>
                  <a:pt x="3796" y="3877"/>
                </a:lnTo>
                <a:lnTo>
                  <a:pt x="3809" y="3862"/>
                </a:lnTo>
                <a:lnTo>
                  <a:pt x="3819" y="3848"/>
                </a:lnTo>
                <a:lnTo>
                  <a:pt x="3830" y="3832"/>
                </a:lnTo>
                <a:lnTo>
                  <a:pt x="3839" y="3816"/>
                </a:lnTo>
                <a:lnTo>
                  <a:pt x="3847" y="3798"/>
                </a:lnTo>
                <a:lnTo>
                  <a:pt x="3855" y="3780"/>
                </a:lnTo>
                <a:lnTo>
                  <a:pt x="3862" y="3761"/>
                </a:lnTo>
                <a:lnTo>
                  <a:pt x="3869" y="3741"/>
                </a:lnTo>
                <a:lnTo>
                  <a:pt x="3873" y="3721"/>
                </a:lnTo>
                <a:lnTo>
                  <a:pt x="3878" y="3700"/>
                </a:lnTo>
                <a:lnTo>
                  <a:pt x="3882" y="3677"/>
                </a:lnTo>
                <a:lnTo>
                  <a:pt x="3885" y="3655"/>
                </a:lnTo>
                <a:lnTo>
                  <a:pt x="3887" y="3631"/>
                </a:lnTo>
                <a:lnTo>
                  <a:pt x="3889" y="3607"/>
                </a:lnTo>
                <a:lnTo>
                  <a:pt x="3889" y="3580"/>
                </a:lnTo>
                <a:close/>
                <a:moveTo>
                  <a:pt x="700" y="566"/>
                </a:moveTo>
                <a:lnTo>
                  <a:pt x="3189" y="566"/>
                </a:lnTo>
                <a:lnTo>
                  <a:pt x="3189" y="3321"/>
                </a:lnTo>
                <a:lnTo>
                  <a:pt x="3188" y="3333"/>
                </a:lnTo>
                <a:lnTo>
                  <a:pt x="3186" y="3346"/>
                </a:lnTo>
                <a:lnTo>
                  <a:pt x="3184" y="3356"/>
                </a:lnTo>
                <a:lnTo>
                  <a:pt x="3182" y="3367"/>
                </a:lnTo>
                <a:lnTo>
                  <a:pt x="3178" y="3376"/>
                </a:lnTo>
                <a:lnTo>
                  <a:pt x="3174" y="3385"/>
                </a:lnTo>
                <a:lnTo>
                  <a:pt x="3168" y="3393"/>
                </a:lnTo>
                <a:lnTo>
                  <a:pt x="3162" y="3400"/>
                </a:lnTo>
                <a:lnTo>
                  <a:pt x="3155" y="3406"/>
                </a:lnTo>
                <a:lnTo>
                  <a:pt x="3147" y="3412"/>
                </a:lnTo>
                <a:lnTo>
                  <a:pt x="3139" y="3416"/>
                </a:lnTo>
                <a:lnTo>
                  <a:pt x="3129" y="3420"/>
                </a:lnTo>
                <a:lnTo>
                  <a:pt x="3119" y="3423"/>
                </a:lnTo>
                <a:lnTo>
                  <a:pt x="3108" y="3424"/>
                </a:lnTo>
                <a:lnTo>
                  <a:pt x="3097" y="3425"/>
                </a:lnTo>
                <a:lnTo>
                  <a:pt x="3084" y="3426"/>
                </a:lnTo>
                <a:lnTo>
                  <a:pt x="700" y="3426"/>
                </a:lnTo>
                <a:lnTo>
                  <a:pt x="700" y="56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  <a:effectLst>
            <a:outerShdw dist="17819" dir="2700000" blurRad="0" rotWithShape="0">
              <a:srgbClr val="9898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057400" y="1828800"/>
            <a:ext cx="1293840" cy="1301760"/>
          </a:xfrm>
          <a:custGeom>
            <a:avLst/>
            <a:gdLst/>
            <a:ahLst/>
            <a:rect l="l" t="t" r="r" b="b"/>
            <a:pathLst>
              <a:path w="4075" h="4098">
                <a:moveTo>
                  <a:pt x="1226" y="1427"/>
                </a:moveTo>
                <a:lnTo>
                  <a:pt x="3823" y="1427"/>
                </a:lnTo>
                <a:lnTo>
                  <a:pt x="3823" y="1008"/>
                </a:lnTo>
                <a:lnTo>
                  <a:pt x="4058" y="1008"/>
                </a:lnTo>
                <a:lnTo>
                  <a:pt x="4058" y="206"/>
                </a:lnTo>
                <a:lnTo>
                  <a:pt x="3706" y="206"/>
                </a:lnTo>
                <a:lnTo>
                  <a:pt x="3357" y="206"/>
                </a:lnTo>
                <a:lnTo>
                  <a:pt x="2413" y="206"/>
                </a:lnTo>
                <a:lnTo>
                  <a:pt x="2413" y="0"/>
                </a:lnTo>
                <a:lnTo>
                  <a:pt x="1713" y="0"/>
                </a:lnTo>
                <a:lnTo>
                  <a:pt x="1713" y="206"/>
                </a:lnTo>
                <a:lnTo>
                  <a:pt x="51" y="206"/>
                </a:lnTo>
                <a:lnTo>
                  <a:pt x="51" y="454"/>
                </a:lnTo>
                <a:lnTo>
                  <a:pt x="51" y="706"/>
                </a:lnTo>
                <a:lnTo>
                  <a:pt x="51" y="1008"/>
                </a:lnTo>
                <a:lnTo>
                  <a:pt x="248" y="1008"/>
                </a:lnTo>
                <a:lnTo>
                  <a:pt x="248" y="1427"/>
                </a:lnTo>
                <a:lnTo>
                  <a:pt x="504" y="1427"/>
                </a:lnTo>
                <a:lnTo>
                  <a:pt x="395" y="1755"/>
                </a:lnTo>
                <a:lnTo>
                  <a:pt x="387" y="1771"/>
                </a:lnTo>
                <a:lnTo>
                  <a:pt x="379" y="1786"/>
                </a:lnTo>
                <a:lnTo>
                  <a:pt x="370" y="1800"/>
                </a:lnTo>
                <a:lnTo>
                  <a:pt x="360" y="1812"/>
                </a:lnTo>
                <a:lnTo>
                  <a:pt x="348" y="1824"/>
                </a:lnTo>
                <a:lnTo>
                  <a:pt x="336" y="1834"/>
                </a:lnTo>
                <a:lnTo>
                  <a:pt x="323" y="1845"/>
                </a:lnTo>
                <a:lnTo>
                  <a:pt x="308" y="1853"/>
                </a:lnTo>
                <a:lnTo>
                  <a:pt x="292" y="1861"/>
                </a:lnTo>
                <a:lnTo>
                  <a:pt x="276" y="1868"/>
                </a:lnTo>
                <a:lnTo>
                  <a:pt x="259" y="1872"/>
                </a:lnTo>
                <a:lnTo>
                  <a:pt x="240" y="1877"/>
                </a:lnTo>
                <a:lnTo>
                  <a:pt x="221" y="1881"/>
                </a:lnTo>
                <a:lnTo>
                  <a:pt x="200" y="1884"/>
                </a:lnTo>
                <a:lnTo>
                  <a:pt x="178" y="1885"/>
                </a:lnTo>
                <a:lnTo>
                  <a:pt x="156" y="1886"/>
                </a:lnTo>
                <a:lnTo>
                  <a:pt x="0" y="1886"/>
                </a:lnTo>
                <a:lnTo>
                  <a:pt x="101" y="2385"/>
                </a:lnTo>
                <a:lnTo>
                  <a:pt x="546" y="2385"/>
                </a:lnTo>
                <a:lnTo>
                  <a:pt x="571" y="2385"/>
                </a:lnTo>
                <a:lnTo>
                  <a:pt x="596" y="2382"/>
                </a:lnTo>
                <a:lnTo>
                  <a:pt x="620" y="2379"/>
                </a:lnTo>
                <a:lnTo>
                  <a:pt x="645" y="2374"/>
                </a:lnTo>
                <a:lnTo>
                  <a:pt x="667" y="2369"/>
                </a:lnTo>
                <a:lnTo>
                  <a:pt x="690" y="2362"/>
                </a:lnTo>
                <a:lnTo>
                  <a:pt x="712" y="2352"/>
                </a:lnTo>
                <a:lnTo>
                  <a:pt x="734" y="2343"/>
                </a:lnTo>
                <a:lnTo>
                  <a:pt x="755" y="2332"/>
                </a:lnTo>
                <a:lnTo>
                  <a:pt x="775" y="2319"/>
                </a:lnTo>
                <a:lnTo>
                  <a:pt x="795" y="2305"/>
                </a:lnTo>
                <a:lnTo>
                  <a:pt x="814" y="2290"/>
                </a:lnTo>
                <a:lnTo>
                  <a:pt x="833" y="2274"/>
                </a:lnTo>
                <a:lnTo>
                  <a:pt x="851" y="2256"/>
                </a:lnTo>
                <a:lnTo>
                  <a:pt x="868" y="2238"/>
                </a:lnTo>
                <a:lnTo>
                  <a:pt x="886" y="2217"/>
                </a:lnTo>
                <a:lnTo>
                  <a:pt x="1713" y="2217"/>
                </a:lnTo>
                <a:lnTo>
                  <a:pt x="1713" y="3494"/>
                </a:lnTo>
                <a:lnTo>
                  <a:pt x="1713" y="3506"/>
                </a:lnTo>
                <a:lnTo>
                  <a:pt x="1711" y="3518"/>
                </a:lnTo>
                <a:lnTo>
                  <a:pt x="1709" y="3529"/>
                </a:lnTo>
                <a:lnTo>
                  <a:pt x="1706" y="3540"/>
                </a:lnTo>
                <a:lnTo>
                  <a:pt x="1702" y="3549"/>
                </a:lnTo>
                <a:lnTo>
                  <a:pt x="1698" y="3557"/>
                </a:lnTo>
                <a:lnTo>
                  <a:pt x="1693" y="3565"/>
                </a:lnTo>
                <a:lnTo>
                  <a:pt x="1686" y="3572"/>
                </a:lnTo>
                <a:lnTo>
                  <a:pt x="1679" y="3577"/>
                </a:lnTo>
                <a:lnTo>
                  <a:pt x="1671" y="3583"/>
                </a:lnTo>
                <a:lnTo>
                  <a:pt x="1663" y="3588"/>
                </a:lnTo>
                <a:lnTo>
                  <a:pt x="1654" y="3591"/>
                </a:lnTo>
                <a:lnTo>
                  <a:pt x="1644" y="3595"/>
                </a:lnTo>
                <a:lnTo>
                  <a:pt x="1632" y="3596"/>
                </a:lnTo>
                <a:lnTo>
                  <a:pt x="1621" y="3597"/>
                </a:lnTo>
                <a:lnTo>
                  <a:pt x="1607" y="3598"/>
                </a:lnTo>
                <a:lnTo>
                  <a:pt x="1309" y="3598"/>
                </a:lnTo>
                <a:lnTo>
                  <a:pt x="1402" y="4098"/>
                </a:lnTo>
                <a:lnTo>
                  <a:pt x="2002" y="4098"/>
                </a:lnTo>
                <a:lnTo>
                  <a:pt x="2027" y="4098"/>
                </a:lnTo>
                <a:lnTo>
                  <a:pt x="2051" y="4097"/>
                </a:lnTo>
                <a:lnTo>
                  <a:pt x="2074" y="4095"/>
                </a:lnTo>
                <a:lnTo>
                  <a:pt x="2097" y="4091"/>
                </a:lnTo>
                <a:lnTo>
                  <a:pt x="2119" y="4088"/>
                </a:lnTo>
                <a:lnTo>
                  <a:pt x="2141" y="4083"/>
                </a:lnTo>
                <a:lnTo>
                  <a:pt x="2160" y="4078"/>
                </a:lnTo>
                <a:lnTo>
                  <a:pt x="2180" y="4073"/>
                </a:lnTo>
                <a:lnTo>
                  <a:pt x="2200" y="4066"/>
                </a:lnTo>
                <a:lnTo>
                  <a:pt x="2217" y="4058"/>
                </a:lnTo>
                <a:lnTo>
                  <a:pt x="2234" y="4050"/>
                </a:lnTo>
                <a:lnTo>
                  <a:pt x="2250" y="4041"/>
                </a:lnTo>
                <a:lnTo>
                  <a:pt x="2266" y="4030"/>
                </a:lnTo>
                <a:lnTo>
                  <a:pt x="2281" y="4019"/>
                </a:lnTo>
                <a:lnTo>
                  <a:pt x="2295" y="4007"/>
                </a:lnTo>
                <a:lnTo>
                  <a:pt x="2309" y="3995"/>
                </a:lnTo>
                <a:lnTo>
                  <a:pt x="2321" y="3982"/>
                </a:lnTo>
                <a:lnTo>
                  <a:pt x="2333" y="3967"/>
                </a:lnTo>
                <a:lnTo>
                  <a:pt x="2343" y="3953"/>
                </a:lnTo>
                <a:lnTo>
                  <a:pt x="2353" y="3937"/>
                </a:lnTo>
                <a:lnTo>
                  <a:pt x="2363" y="3921"/>
                </a:lnTo>
                <a:lnTo>
                  <a:pt x="2371" y="3903"/>
                </a:lnTo>
                <a:lnTo>
                  <a:pt x="2379" y="3885"/>
                </a:lnTo>
                <a:lnTo>
                  <a:pt x="2386" y="3866"/>
                </a:lnTo>
                <a:lnTo>
                  <a:pt x="2392" y="3846"/>
                </a:lnTo>
                <a:lnTo>
                  <a:pt x="2397" y="3826"/>
                </a:lnTo>
                <a:lnTo>
                  <a:pt x="2402" y="3805"/>
                </a:lnTo>
                <a:lnTo>
                  <a:pt x="2406" y="3782"/>
                </a:lnTo>
                <a:lnTo>
                  <a:pt x="2409" y="3760"/>
                </a:lnTo>
                <a:lnTo>
                  <a:pt x="2411" y="3736"/>
                </a:lnTo>
                <a:lnTo>
                  <a:pt x="2412" y="3712"/>
                </a:lnTo>
                <a:lnTo>
                  <a:pt x="2413" y="3685"/>
                </a:lnTo>
                <a:lnTo>
                  <a:pt x="2413" y="1684"/>
                </a:lnTo>
                <a:lnTo>
                  <a:pt x="2061" y="1684"/>
                </a:lnTo>
                <a:lnTo>
                  <a:pt x="1713" y="1684"/>
                </a:lnTo>
                <a:lnTo>
                  <a:pt x="1121" y="1684"/>
                </a:lnTo>
                <a:lnTo>
                  <a:pt x="1226" y="1427"/>
                </a:lnTo>
                <a:close/>
                <a:moveTo>
                  <a:pt x="3357" y="706"/>
                </a:moveTo>
                <a:lnTo>
                  <a:pt x="3357" y="962"/>
                </a:lnTo>
                <a:lnTo>
                  <a:pt x="751" y="962"/>
                </a:lnTo>
                <a:lnTo>
                  <a:pt x="751" y="706"/>
                </a:lnTo>
                <a:lnTo>
                  <a:pt x="3357" y="706"/>
                </a:lnTo>
                <a:close/>
                <a:moveTo>
                  <a:pt x="571" y="2452"/>
                </a:moveTo>
                <a:lnTo>
                  <a:pt x="492" y="2641"/>
                </a:lnTo>
                <a:lnTo>
                  <a:pt x="485" y="2657"/>
                </a:lnTo>
                <a:lnTo>
                  <a:pt x="476" y="2672"/>
                </a:lnTo>
                <a:lnTo>
                  <a:pt x="467" y="2686"/>
                </a:lnTo>
                <a:lnTo>
                  <a:pt x="456" y="2698"/>
                </a:lnTo>
                <a:lnTo>
                  <a:pt x="445" y="2710"/>
                </a:lnTo>
                <a:lnTo>
                  <a:pt x="433" y="2721"/>
                </a:lnTo>
                <a:lnTo>
                  <a:pt x="419" y="2731"/>
                </a:lnTo>
                <a:lnTo>
                  <a:pt x="406" y="2740"/>
                </a:lnTo>
                <a:lnTo>
                  <a:pt x="390" y="2748"/>
                </a:lnTo>
                <a:lnTo>
                  <a:pt x="373" y="2755"/>
                </a:lnTo>
                <a:lnTo>
                  <a:pt x="356" y="2760"/>
                </a:lnTo>
                <a:lnTo>
                  <a:pt x="339" y="2765"/>
                </a:lnTo>
                <a:lnTo>
                  <a:pt x="320" y="2770"/>
                </a:lnTo>
                <a:lnTo>
                  <a:pt x="299" y="2772"/>
                </a:lnTo>
                <a:lnTo>
                  <a:pt x="278" y="2774"/>
                </a:lnTo>
                <a:lnTo>
                  <a:pt x="256" y="2775"/>
                </a:lnTo>
                <a:lnTo>
                  <a:pt x="84" y="2775"/>
                </a:lnTo>
                <a:lnTo>
                  <a:pt x="185" y="3241"/>
                </a:lnTo>
                <a:lnTo>
                  <a:pt x="647" y="3241"/>
                </a:lnTo>
                <a:lnTo>
                  <a:pt x="664" y="3241"/>
                </a:lnTo>
                <a:lnTo>
                  <a:pt x="681" y="3240"/>
                </a:lnTo>
                <a:lnTo>
                  <a:pt x="697" y="3238"/>
                </a:lnTo>
                <a:lnTo>
                  <a:pt x="715" y="3236"/>
                </a:lnTo>
                <a:lnTo>
                  <a:pt x="731" y="3234"/>
                </a:lnTo>
                <a:lnTo>
                  <a:pt x="747" y="3230"/>
                </a:lnTo>
                <a:lnTo>
                  <a:pt x="763" y="3227"/>
                </a:lnTo>
                <a:lnTo>
                  <a:pt x="778" y="3222"/>
                </a:lnTo>
                <a:lnTo>
                  <a:pt x="793" y="3218"/>
                </a:lnTo>
                <a:lnTo>
                  <a:pt x="808" y="3212"/>
                </a:lnTo>
                <a:lnTo>
                  <a:pt x="823" y="3206"/>
                </a:lnTo>
                <a:lnTo>
                  <a:pt x="836" y="3199"/>
                </a:lnTo>
                <a:lnTo>
                  <a:pt x="850" y="3192"/>
                </a:lnTo>
                <a:lnTo>
                  <a:pt x="864" y="3184"/>
                </a:lnTo>
                <a:lnTo>
                  <a:pt x="878" y="3175"/>
                </a:lnTo>
                <a:lnTo>
                  <a:pt x="891" y="3167"/>
                </a:lnTo>
                <a:lnTo>
                  <a:pt x="904" y="3157"/>
                </a:lnTo>
                <a:lnTo>
                  <a:pt x="917" y="3147"/>
                </a:lnTo>
                <a:lnTo>
                  <a:pt x="928" y="3136"/>
                </a:lnTo>
                <a:lnTo>
                  <a:pt x="941" y="3125"/>
                </a:lnTo>
                <a:lnTo>
                  <a:pt x="952" y="3113"/>
                </a:lnTo>
                <a:lnTo>
                  <a:pt x="964" y="3101"/>
                </a:lnTo>
                <a:lnTo>
                  <a:pt x="974" y="3087"/>
                </a:lnTo>
                <a:lnTo>
                  <a:pt x="986" y="3074"/>
                </a:lnTo>
                <a:lnTo>
                  <a:pt x="1006" y="3044"/>
                </a:lnTo>
                <a:lnTo>
                  <a:pt x="1026" y="3013"/>
                </a:lnTo>
                <a:lnTo>
                  <a:pt x="1044" y="2979"/>
                </a:lnTo>
                <a:lnTo>
                  <a:pt x="1061" y="2943"/>
                </a:lnTo>
                <a:lnTo>
                  <a:pt x="1305" y="2452"/>
                </a:lnTo>
                <a:lnTo>
                  <a:pt x="571" y="2452"/>
                </a:lnTo>
                <a:close/>
                <a:moveTo>
                  <a:pt x="538" y="3326"/>
                </a:moveTo>
                <a:lnTo>
                  <a:pt x="475" y="3497"/>
                </a:lnTo>
                <a:lnTo>
                  <a:pt x="468" y="3513"/>
                </a:lnTo>
                <a:lnTo>
                  <a:pt x="458" y="3528"/>
                </a:lnTo>
                <a:lnTo>
                  <a:pt x="449" y="3542"/>
                </a:lnTo>
                <a:lnTo>
                  <a:pt x="439" y="3554"/>
                </a:lnTo>
                <a:lnTo>
                  <a:pt x="429" y="3566"/>
                </a:lnTo>
                <a:lnTo>
                  <a:pt x="416" y="3577"/>
                </a:lnTo>
                <a:lnTo>
                  <a:pt x="402" y="3587"/>
                </a:lnTo>
                <a:lnTo>
                  <a:pt x="388" y="3596"/>
                </a:lnTo>
                <a:lnTo>
                  <a:pt x="373" y="3604"/>
                </a:lnTo>
                <a:lnTo>
                  <a:pt x="357" y="3611"/>
                </a:lnTo>
                <a:lnTo>
                  <a:pt x="340" y="3617"/>
                </a:lnTo>
                <a:lnTo>
                  <a:pt x="322" y="3621"/>
                </a:lnTo>
                <a:lnTo>
                  <a:pt x="303" y="3626"/>
                </a:lnTo>
                <a:lnTo>
                  <a:pt x="283" y="3628"/>
                </a:lnTo>
                <a:lnTo>
                  <a:pt x="262" y="3630"/>
                </a:lnTo>
                <a:lnTo>
                  <a:pt x="239" y="3631"/>
                </a:lnTo>
                <a:lnTo>
                  <a:pt x="84" y="3631"/>
                </a:lnTo>
                <a:lnTo>
                  <a:pt x="185" y="4098"/>
                </a:lnTo>
                <a:lnTo>
                  <a:pt x="630" y="4098"/>
                </a:lnTo>
                <a:lnTo>
                  <a:pt x="647" y="4098"/>
                </a:lnTo>
                <a:lnTo>
                  <a:pt x="664" y="4097"/>
                </a:lnTo>
                <a:lnTo>
                  <a:pt x="681" y="4096"/>
                </a:lnTo>
                <a:lnTo>
                  <a:pt x="699" y="4093"/>
                </a:lnTo>
                <a:lnTo>
                  <a:pt x="715" y="4091"/>
                </a:lnTo>
                <a:lnTo>
                  <a:pt x="731" y="4088"/>
                </a:lnTo>
                <a:lnTo>
                  <a:pt x="746" y="4084"/>
                </a:lnTo>
                <a:lnTo>
                  <a:pt x="762" y="4080"/>
                </a:lnTo>
                <a:lnTo>
                  <a:pt x="777" y="4074"/>
                </a:lnTo>
                <a:lnTo>
                  <a:pt x="792" y="4069"/>
                </a:lnTo>
                <a:lnTo>
                  <a:pt x="806" y="4062"/>
                </a:lnTo>
                <a:lnTo>
                  <a:pt x="820" y="4055"/>
                </a:lnTo>
                <a:lnTo>
                  <a:pt x="834" y="4049"/>
                </a:lnTo>
                <a:lnTo>
                  <a:pt x="848" y="4041"/>
                </a:lnTo>
                <a:lnTo>
                  <a:pt x="862" y="4033"/>
                </a:lnTo>
                <a:lnTo>
                  <a:pt x="874" y="4023"/>
                </a:lnTo>
                <a:lnTo>
                  <a:pt x="887" y="4014"/>
                </a:lnTo>
                <a:lnTo>
                  <a:pt x="899" y="4004"/>
                </a:lnTo>
                <a:lnTo>
                  <a:pt x="912" y="3992"/>
                </a:lnTo>
                <a:lnTo>
                  <a:pt x="924" y="3982"/>
                </a:lnTo>
                <a:lnTo>
                  <a:pt x="936" y="3969"/>
                </a:lnTo>
                <a:lnTo>
                  <a:pt x="947" y="3957"/>
                </a:lnTo>
                <a:lnTo>
                  <a:pt x="958" y="3944"/>
                </a:lnTo>
                <a:lnTo>
                  <a:pt x="970" y="3930"/>
                </a:lnTo>
                <a:lnTo>
                  <a:pt x="990" y="3902"/>
                </a:lnTo>
                <a:lnTo>
                  <a:pt x="1010" y="3869"/>
                </a:lnTo>
                <a:lnTo>
                  <a:pt x="1028" y="3836"/>
                </a:lnTo>
                <a:lnTo>
                  <a:pt x="1045" y="3800"/>
                </a:lnTo>
                <a:lnTo>
                  <a:pt x="1272" y="3326"/>
                </a:lnTo>
                <a:lnTo>
                  <a:pt x="538" y="3326"/>
                </a:lnTo>
                <a:close/>
                <a:moveTo>
                  <a:pt x="2644" y="1663"/>
                </a:moveTo>
                <a:lnTo>
                  <a:pt x="2824" y="3707"/>
                </a:lnTo>
                <a:lnTo>
                  <a:pt x="2827" y="3731"/>
                </a:lnTo>
                <a:lnTo>
                  <a:pt x="2829" y="3754"/>
                </a:lnTo>
                <a:lnTo>
                  <a:pt x="2832" y="3777"/>
                </a:lnTo>
                <a:lnTo>
                  <a:pt x="2837" y="3799"/>
                </a:lnTo>
                <a:lnTo>
                  <a:pt x="2841" y="3820"/>
                </a:lnTo>
                <a:lnTo>
                  <a:pt x="2847" y="3841"/>
                </a:lnTo>
                <a:lnTo>
                  <a:pt x="2854" y="3860"/>
                </a:lnTo>
                <a:lnTo>
                  <a:pt x="2861" y="3879"/>
                </a:lnTo>
                <a:lnTo>
                  <a:pt x="2868" y="3896"/>
                </a:lnTo>
                <a:lnTo>
                  <a:pt x="2876" y="3913"/>
                </a:lnTo>
                <a:lnTo>
                  <a:pt x="2885" y="3930"/>
                </a:lnTo>
                <a:lnTo>
                  <a:pt x="2894" y="3945"/>
                </a:lnTo>
                <a:lnTo>
                  <a:pt x="2905" y="3960"/>
                </a:lnTo>
                <a:lnTo>
                  <a:pt x="2916" y="3974"/>
                </a:lnTo>
                <a:lnTo>
                  <a:pt x="2928" y="3988"/>
                </a:lnTo>
                <a:lnTo>
                  <a:pt x="2940" y="4000"/>
                </a:lnTo>
                <a:lnTo>
                  <a:pt x="2953" y="4012"/>
                </a:lnTo>
                <a:lnTo>
                  <a:pt x="2967" y="4023"/>
                </a:lnTo>
                <a:lnTo>
                  <a:pt x="2980" y="4034"/>
                </a:lnTo>
                <a:lnTo>
                  <a:pt x="2995" y="4043"/>
                </a:lnTo>
                <a:lnTo>
                  <a:pt x="3011" y="4052"/>
                </a:lnTo>
                <a:lnTo>
                  <a:pt x="3028" y="4060"/>
                </a:lnTo>
                <a:lnTo>
                  <a:pt x="3045" y="4067"/>
                </a:lnTo>
                <a:lnTo>
                  <a:pt x="3062" y="4074"/>
                </a:lnTo>
                <a:lnTo>
                  <a:pt x="3080" y="4080"/>
                </a:lnTo>
                <a:lnTo>
                  <a:pt x="3099" y="4084"/>
                </a:lnTo>
                <a:lnTo>
                  <a:pt x="3119" y="4089"/>
                </a:lnTo>
                <a:lnTo>
                  <a:pt x="3139" y="4092"/>
                </a:lnTo>
                <a:lnTo>
                  <a:pt x="3161" y="4095"/>
                </a:lnTo>
                <a:lnTo>
                  <a:pt x="3181" y="4097"/>
                </a:lnTo>
                <a:lnTo>
                  <a:pt x="3204" y="4098"/>
                </a:lnTo>
                <a:lnTo>
                  <a:pt x="3227" y="4098"/>
                </a:lnTo>
                <a:lnTo>
                  <a:pt x="4058" y="4098"/>
                </a:lnTo>
                <a:lnTo>
                  <a:pt x="4058" y="3531"/>
                </a:lnTo>
                <a:lnTo>
                  <a:pt x="3585" y="3531"/>
                </a:lnTo>
                <a:lnTo>
                  <a:pt x="3573" y="3530"/>
                </a:lnTo>
                <a:lnTo>
                  <a:pt x="3563" y="3529"/>
                </a:lnTo>
                <a:lnTo>
                  <a:pt x="3552" y="3527"/>
                </a:lnTo>
                <a:lnTo>
                  <a:pt x="3543" y="3523"/>
                </a:lnTo>
                <a:lnTo>
                  <a:pt x="3534" y="3519"/>
                </a:lnTo>
                <a:lnTo>
                  <a:pt x="3526" y="3514"/>
                </a:lnTo>
                <a:lnTo>
                  <a:pt x="3519" y="3507"/>
                </a:lnTo>
                <a:lnTo>
                  <a:pt x="3512" y="3500"/>
                </a:lnTo>
                <a:lnTo>
                  <a:pt x="3506" y="3492"/>
                </a:lnTo>
                <a:lnTo>
                  <a:pt x="3501" y="3483"/>
                </a:lnTo>
                <a:lnTo>
                  <a:pt x="3496" y="3474"/>
                </a:lnTo>
                <a:lnTo>
                  <a:pt x="3493" y="3463"/>
                </a:lnTo>
                <a:lnTo>
                  <a:pt x="3489" y="3451"/>
                </a:lnTo>
                <a:lnTo>
                  <a:pt x="3487" y="3438"/>
                </a:lnTo>
                <a:lnTo>
                  <a:pt x="3485" y="3425"/>
                </a:lnTo>
                <a:lnTo>
                  <a:pt x="3483" y="3410"/>
                </a:lnTo>
                <a:lnTo>
                  <a:pt x="3463" y="3225"/>
                </a:lnTo>
                <a:lnTo>
                  <a:pt x="3651" y="3225"/>
                </a:lnTo>
                <a:lnTo>
                  <a:pt x="3665" y="3225"/>
                </a:lnTo>
                <a:lnTo>
                  <a:pt x="3679" y="3224"/>
                </a:lnTo>
                <a:lnTo>
                  <a:pt x="3692" y="3221"/>
                </a:lnTo>
                <a:lnTo>
                  <a:pt x="3705" y="3219"/>
                </a:lnTo>
                <a:lnTo>
                  <a:pt x="3717" y="3215"/>
                </a:lnTo>
                <a:lnTo>
                  <a:pt x="3729" y="3212"/>
                </a:lnTo>
                <a:lnTo>
                  <a:pt x="3741" y="3207"/>
                </a:lnTo>
                <a:lnTo>
                  <a:pt x="3752" y="3203"/>
                </a:lnTo>
                <a:lnTo>
                  <a:pt x="3763" y="3196"/>
                </a:lnTo>
                <a:lnTo>
                  <a:pt x="3773" y="3190"/>
                </a:lnTo>
                <a:lnTo>
                  <a:pt x="3783" y="3182"/>
                </a:lnTo>
                <a:lnTo>
                  <a:pt x="3792" y="3174"/>
                </a:lnTo>
                <a:lnTo>
                  <a:pt x="3802" y="3166"/>
                </a:lnTo>
                <a:lnTo>
                  <a:pt x="3810" y="3156"/>
                </a:lnTo>
                <a:lnTo>
                  <a:pt x="3819" y="3147"/>
                </a:lnTo>
                <a:lnTo>
                  <a:pt x="3827" y="3135"/>
                </a:lnTo>
                <a:lnTo>
                  <a:pt x="3834" y="3124"/>
                </a:lnTo>
                <a:lnTo>
                  <a:pt x="3841" y="3112"/>
                </a:lnTo>
                <a:lnTo>
                  <a:pt x="3848" y="3098"/>
                </a:lnTo>
                <a:lnTo>
                  <a:pt x="3854" y="3086"/>
                </a:lnTo>
                <a:lnTo>
                  <a:pt x="3860" y="3071"/>
                </a:lnTo>
                <a:lnTo>
                  <a:pt x="3866" y="3056"/>
                </a:lnTo>
                <a:lnTo>
                  <a:pt x="3870" y="3041"/>
                </a:lnTo>
                <a:lnTo>
                  <a:pt x="3875" y="3024"/>
                </a:lnTo>
                <a:lnTo>
                  <a:pt x="3883" y="2989"/>
                </a:lnTo>
                <a:lnTo>
                  <a:pt x="3890" y="2951"/>
                </a:lnTo>
                <a:lnTo>
                  <a:pt x="3895" y="2911"/>
                </a:lnTo>
                <a:lnTo>
                  <a:pt x="3898" y="2867"/>
                </a:lnTo>
                <a:lnTo>
                  <a:pt x="4075" y="1797"/>
                </a:lnTo>
                <a:lnTo>
                  <a:pt x="3676" y="1797"/>
                </a:lnTo>
                <a:lnTo>
                  <a:pt x="3555" y="2603"/>
                </a:lnTo>
                <a:lnTo>
                  <a:pt x="3554" y="2614"/>
                </a:lnTo>
                <a:lnTo>
                  <a:pt x="3552" y="2624"/>
                </a:lnTo>
                <a:lnTo>
                  <a:pt x="3550" y="2633"/>
                </a:lnTo>
                <a:lnTo>
                  <a:pt x="3548" y="2642"/>
                </a:lnTo>
                <a:lnTo>
                  <a:pt x="3545" y="2650"/>
                </a:lnTo>
                <a:lnTo>
                  <a:pt x="3542" y="2657"/>
                </a:lnTo>
                <a:lnTo>
                  <a:pt x="3539" y="2664"/>
                </a:lnTo>
                <a:lnTo>
                  <a:pt x="3534" y="2670"/>
                </a:lnTo>
                <a:lnTo>
                  <a:pt x="3528" y="2674"/>
                </a:lnTo>
                <a:lnTo>
                  <a:pt x="3523" y="2679"/>
                </a:lnTo>
                <a:lnTo>
                  <a:pt x="3517" y="2683"/>
                </a:lnTo>
                <a:lnTo>
                  <a:pt x="3510" y="2686"/>
                </a:lnTo>
                <a:lnTo>
                  <a:pt x="3503" y="2688"/>
                </a:lnTo>
                <a:lnTo>
                  <a:pt x="3496" y="2690"/>
                </a:lnTo>
                <a:lnTo>
                  <a:pt x="3487" y="2691"/>
                </a:lnTo>
                <a:lnTo>
                  <a:pt x="3479" y="2691"/>
                </a:lnTo>
                <a:lnTo>
                  <a:pt x="3417" y="2691"/>
                </a:lnTo>
                <a:lnTo>
                  <a:pt x="3328" y="1663"/>
                </a:lnTo>
                <a:lnTo>
                  <a:pt x="2644" y="1663"/>
                </a:lnTo>
                <a:close/>
              </a:path>
            </a:pathLst>
          </a:custGeom>
          <a:solidFill>
            <a:srgbClr val="0000cc"/>
          </a:solidFill>
          <a:ln w="0">
            <a:noFill/>
          </a:ln>
          <a:effectLst>
            <a:outerShdw dist="17819" dir="2700000" blurRad="0" rotWithShape="0">
              <a:srgbClr val="00007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391520" y="2971800"/>
            <a:ext cx="1069920" cy="1103400"/>
          </a:xfrm>
          <a:custGeom>
            <a:avLst/>
            <a:gdLst/>
            <a:ahLst/>
            <a:rect l="l" t="t" r="r" b="b"/>
            <a:pathLst>
              <a:path w="7707" h="7910">
                <a:moveTo>
                  <a:pt x="5980" y="299"/>
                </a:moveTo>
                <a:lnTo>
                  <a:pt x="3010" y="299"/>
                </a:lnTo>
                <a:lnTo>
                  <a:pt x="3188" y="1388"/>
                </a:lnTo>
                <a:lnTo>
                  <a:pt x="4648" y="1388"/>
                </a:lnTo>
                <a:lnTo>
                  <a:pt x="4648" y="1784"/>
                </a:lnTo>
                <a:lnTo>
                  <a:pt x="3025" y="1784"/>
                </a:lnTo>
                <a:lnTo>
                  <a:pt x="3025" y="2873"/>
                </a:lnTo>
                <a:lnTo>
                  <a:pt x="3292" y="2873"/>
                </a:lnTo>
                <a:lnTo>
                  <a:pt x="3292" y="3592"/>
                </a:lnTo>
                <a:lnTo>
                  <a:pt x="2929" y="3592"/>
                </a:lnTo>
                <a:lnTo>
                  <a:pt x="2929" y="4682"/>
                </a:lnTo>
                <a:lnTo>
                  <a:pt x="3292" y="4682"/>
                </a:lnTo>
                <a:lnTo>
                  <a:pt x="3292" y="5367"/>
                </a:lnTo>
                <a:lnTo>
                  <a:pt x="3025" y="5367"/>
                </a:lnTo>
                <a:lnTo>
                  <a:pt x="3025" y="6457"/>
                </a:lnTo>
                <a:lnTo>
                  <a:pt x="4648" y="6457"/>
                </a:lnTo>
                <a:lnTo>
                  <a:pt x="4648" y="6820"/>
                </a:lnTo>
                <a:lnTo>
                  <a:pt x="2929" y="6820"/>
                </a:lnTo>
                <a:lnTo>
                  <a:pt x="2929" y="7910"/>
                </a:lnTo>
                <a:lnTo>
                  <a:pt x="7707" y="7910"/>
                </a:lnTo>
                <a:lnTo>
                  <a:pt x="7707" y="6820"/>
                </a:lnTo>
                <a:lnTo>
                  <a:pt x="5996" y="6820"/>
                </a:lnTo>
                <a:lnTo>
                  <a:pt x="5996" y="6457"/>
                </a:lnTo>
                <a:lnTo>
                  <a:pt x="7610" y="6457"/>
                </a:lnTo>
                <a:lnTo>
                  <a:pt x="7610" y="5367"/>
                </a:lnTo>
                <a:lnTo>
                  <a:pt x="7352" y="5367"/>
                </a:lnTo>
                <a:lnTo>
                  <a:pt x="7352" y="4682"/>
                </a:lnTo>
                <a:lnTo>
                  <a:pt x="7673" y="4682"/>
                </a:lnTo>
                <a:lnTo>
                  <a:pt x="7673" y="3592"/>
                </a:lnTo>
                <a:lnTo>
                  <a:pt x="7352" y="3592"/>
                </a:lnTo>
                <a:lnTo>
                  <a:pt x="7352" y="2873"/>
                </a:lnTo>
                <a:lnTo>
                  <a:pt x="7610" y="2873"/>
                </a:lnTo>
                <a:lnTo>
                  <a:pt x="7610" y="1784"/>
                </a:lnTo>
                <a:lnTo>
                  <a:pt x="5996" y="1784"/>
                </a:lnTo>
                <a:lnTo>
                  <a:pt x="5996" y="1388"/>
                </a:lnTo>
                <a:lnTo>
                  <a:pt x="6705" y="1388"/>
                </a:lnTo>
                <a:lnTo>
                  <a:pt x="6748" y="1388"/>
                </a:lnTo>
                <a:lnTo>
                  <a:pt x="6791" y="1385"/>
                </a:lnTo>
                <a:lnTo>
                  <a:pt x="6811" y="1383"/>
                </a:lnTo>
                <a:lnTo>
                  <a:pt x="6832" y="1379"/>
                </a:lnTo>
                <a:lnTo>
                  <a:pt x="6852" y="1376"/>
                </a:lnTo>
                <a:lnTo>
                  <a:pt x="6871" y="1373"/>
                </a:lnTo>
                <a:lnTo>
                  <a:pt x="6892" y="1369"/>
                </a:lnTo>
                <a:lnTo>
                  <a:pt x="6911" y="1363"/>
                </a:lnTo>
                <a:lnTo>
                  <a:pt x="6930" y="1358"/>
                </a:lnTo>
                <a:lnTo>
                  <a:pt x="6948" y="1352"/>
                </a:lnTo>
                <a:lnTo>
                  <a:pt x="6968" y="1346"/>
                </a:lnTo>
                <a:lnTo>
                  <a:pt x="6986" y="1340"/>
                </a:lnTo>
                <a:lnTo>
                  <a:pt x="7004" y="1332"/>
                </a:lnTo>
                <a:lnTo>
                  <a:pt x="7022" y="1325"/>
                </a:lnTo>
                <a:lnTo>
                  <a:pt x="7040" y="1316"/>
                </a:lnTo>
                <a:lnTo>
                  <a:pt x="7058" y="1307"/>
                </a:lnTo>
                <a:lnTo>
                  <a:pt x="7075" y="1298"/>
                </a:lnTo>
                <a:lnTo>
                  <a:pt x="7092" y="1288"/>
                </a:lnTo>
                <a:lnTo>
                  <a:pt x="7109" y="1277"/>
                </a:lnTo>
                <a:lnTo>
                  <a:pt x="7125" y="1267"/>
                </a:lnTo>
                <a:lnTo>
                  <a:pt x="7142" y="1256"/>
                </a:lnTo>
                <a:lnTo>
                  <a:pt x="7158" y="1244"/>
                </a:lnTo>
                <a:lnTo>
                  <a:pt x="7174" y="1231"/>
                </a:lnTo>
                <a:lnTo>
                  <a:pt x="7190" y="1218"/>
                </a:lnTo>
                <a:lnTo>
                  <a:pt x="7205" y="1206"/>
                </a:lnTo>
                <a:lnTo>
                  <a:pt x="7220" y="1192"/>
                </a:lnTo>
                <a:lnTo>
                  <a:pt x="7250" y="1162"/>
                </a:lnTo>
                <a:lnTo>
                  <a:pt x="7279" y="1130"/>
                </a:lnTo>
                <a:lnTo>
                  <a:pt x="7302" y="1100"/>
                </a:lnTo>
                <a:lnTo>
                  <a:pt x="7326" y="1070"/>
                </a:lnTo>
                <a:lnTo>
                  <a:pt x="7347" y="1039"/>
                </a:lnTo>
                <a:lnTo>
                  <a:pt x="7367" y="1008"/>
                </a:lnTo>
                <a:lnTo>
                  <a:pt x="7385" y="976"/>
                </a:lnTo>
                <a:lnTo>
                  <a:pt x="7402" y="945"/>
                </a:lnTo>
                <a:lnTo>
                  <a:pt x="7417" y="913"/>
                </a:lnTo>
                <a:lnTo>
                  <a:pt x="7430" y="881"/>
                </a:lnTo>
                <a:lnTo>
                  <a:pt x="7442" y="848"/>
                </a:lnTo>
                <a:lnTo>
                  <a:pt x="7453" y="816"/>
                </a:lnTo>
                <a:lnTo>
                  <a:pt x="7461" y="783"/>
                </a:lnTo>
                <a:lnTo>
                  <a:pt x="7469" y="750"/>
                </a:lnTo>
                <a:lnTo>
                  <a:pt x="7474" y="716"/>
                </a:lnTo>
                <a:lnTo>
                  <a:pt x="7477" y="682"/>
                </a:lnTo>
                <a:lnTo>
                  <a:pt x="7480" y="649"/>
                </a:lnTo>
                <a:lnTo>
                  <a:pt x="7480" y="615"/>
                </a:lnTo>
                <a:lnTo>
                  <a:pt x="7480" y="0"/>
                </a:lnTo>
                <a:lnTo>
                  <a:pt x="6262" y="0"/>
                </a:lnTo>
                <a:lnTo>
                  <a:pt x="6262" y="16"/>
                </a:lnTo>
                <a:lnTo>
                  <a:pt x="6261" y="46"/>
                </a:lnTo>
                <a:lnTo>
                  <a:pt x="6258" y="75"/>
                </a:lnTo>
                <a:lnTo>
                  <a:pt x="6256" y="89"/>
                </a:lnTo>
                <a:lnTo>
                  <a:pt x="6252" y="102"/>
                </a:lnTo>
                <a:lnTo>
                  <a:pt x="6249" y="116"/>
                </a:lnTo>
                <a:lnTo>
                  <a:pt x="6246" y="128"/>
                </a:lnTo>
                <a:lnTo>
                  <a:pt x="6242" y="141"/>
                </a:lnTo>
                <a:lnTo>
                  <a:pt x="6236" y="152"/>
                </a:lnTo>
                <a:lnTo>
                  <a:pt x="6231" y="165"/>
                </a:lnTo>
                <a:lnTo>
                  <a:pt x="6226" y="176"/>
                </a:lnTo>
                <a:lnTo>
                  <a:pt x="6219" y="188"/>
                </a:lnTo>
                <a:lnTo>
                  <a:pt x="6213" y="198"/>
                </a:lnTo>
                <a:lnTo>
                  <a:pt x="6205" y="209"/>
                </a:lnTo>
                <a:lnTo>
                  <a:pt x="6198" y="219"/>
                </a:lnTo>
                <a:lnTo>
                  <a:pt x="6190" y="228"/>
                </a:lnTo>
                <a:lnTo>
                  <a:pt x="6182" y="238"/>
                </a:lnTo>
                <a:lnTo>
                  <a:pt x="6172" y="247"/>
                </a:lnTo>
                <a:lnTo>
                  <a:pt x="6162" y="254"/>
                </a:lnTo>
                <a:lnTo>
                  <a:pt x="6152" y="262"/>
                </a:lnTo>
                <a:lnTo>
                  <a:pt x="6140" y="268"/>
                </a:lnTo>
                <a:lnTo>
                  <a:pt x="6128" y="273"/>
                </a:lnTo>
                <a:lnTo>
                  <a:pt x="6115" y="279"/>
                </a:lnTo>
                <a:lnTo>
                  <a:pt x="6100" y="284"/>
                </a:lnTo>
                <a:lnTo>
                  <a:pt x="6086" y="287"/>
                </a:lnTo>
                <a:lnTo>
                  <a:pt x="6070" y="292"/>
                </a:lnTo>
                <a:lnTo>
                  <a:pt x="6054" y="294"/>
                </a:lnTo>
                <a:lnTo>
                  <a:pt x="6037" y="296"/>
                </a:lnTo>
                <a:lnTo>
                  <a:pt x="6019" y="298"/>
                </a:lnTo>
                <a:lnTo>
                  <a:pt x="5999" y="298"/>
                </a:lnTo>
                <a:lnTo>
                  <a:pt x="5980" y="299"/>
                </a:lnTo>
                <a:close/>
                <a:moveTo>
                  <a:pt x="4318" y="4682"/>
                </a:moveTo>
                <a:lnTo>
                  <a:pt x="4648" y="4682"/>
                </a:lnTo>
                <a:lnTo>
                  <a:pt x="4648" y="5367"/>
                </a:lnTo>
                <a:lnTo>
                  <a:pt x="4318" y="5367"/>
                </a:lnTo>
                <a:lnTo>
                  <a:pt x="4318" y="4682"/>
                </a:lnTo>
                <a:close/>
                <a:moveTo>
                  <a:pt x="5996" y="4682"/>
                </a:moveTo>
                <a:lnTo>
                  <a:pt x="6326" y="4682"/>
                </a:lnTo>
                <a:lnTo>
                  <a:pt x="6326" y="5367"/>
                </a:lnTo>
                <a:lnTo>
                  <a:pt x="5996" y="5367"/>
                </a:lnTo>
                <a:lnTo>
                  <a:pt x="5996" y="4682"/>
                </a:lnTo>
                <a:close/>
                <a:moveTo>
                  <a:pt x="4648" y="3592"/>
                </a:moveTo>
                <a:lnTo>
                  <a:pt x="4318" y="3592"/>
                </a:lnTo>
                <a:lnTo>
                  <a:pt x="4318" y="2873"/>
                </a:lnTo>
                <a:lnTo>
                  <a:pt x="4648" y="2873"/>
                </a:lnTo>
                <a:lnTo>
                  <a:pt x="4648" y="3592"/>
                </a:lnTo>
                <a:close/>
                <a:moveTo>
                  <a:pt x="5996" y="2873"/>
                </a:moveTo>
                <a:lnTo>
                  <a:pt x="6326" y="2873"/>
                </a:lnTo>
                <a:lnTo>
                  <a:pt x="6326" y="3592"/>
                </a:lnTo>
                <a:lnTo>
                  <a:pt x="5996" y="3592"/>
                </a:lnTo>
                <a:lnTo>
                  <a:pt x="5996" y="2873"/>
                </a:lnTo>
                <a:close/>
                <a:moveTo>
                  <a:pt x="2702" y="7118"/>
                </a:moveTo>
                <a:lnTo>
                  <a:pt x="2702" y="137"/>
                </a:lnTo>
                <a:lnTo>
                  <a:pt x="2122" y="137"/>
                </a:lnTo>
                <a:lnTo>
                  <a:pt x="1548" y="137"/>
                </a:lnTo>
                <a:lnTo>
                  <a:pt x="1154" y="137"/>
                </a:lnTo>
                <a:lnTo>
                  <a:pt x="572" y="137"/>
                </a:lnTo>
                <a:lnTo>
                  <a:pt x="0" y="137"/>
                </a:lnTo>
                <a:lnTo>
                  <a:pt x="0" y="6820"/>
                </a:lnTo>
                <a:lnTo>
                  <a:pt x="0" y="7361"/>
                </a:lnTo>
                <a:lnTo>
                  <a:pt x="0" y="7910"/>
                </a:lnTo>
                <a:lnTo>
                  <a:pt x="1912" y="7910"/>
                </a:lnTo>
                <a:lnTo>
                  <a:pt x="1960" y="7909"/>
                </a:lnTo>
                <a:lnTo>
                  <a:pt x="2007" y="7907"/>
                </a:lnTo>
                <a:lnTo>
                  <a:pt x="2053" y="7904"/>
                </a:lnTo>
                <a:lnTo>
                  <a:pt x="2096" y="7897"/>
                </a:lnTo>
                <a:lnTo>
                  <a:pt x="2138" y="7891"/>
                </a:lnTo>
                <a:lnTo>
                  <a:pt x="2179" y="7882"/>
                </a:lnTo>
                <a:lnTo>
                  <a:pt x="2218" y="7872"/>
                </a:lnTo>
                <a:lnTo>
                  <a:pt x="2255" y="7861"/>
                </a:lnTo>
                <a:lnTo>
                  <a:pt x="2292" y="7848"/>
                </a:lnTo>
                <a:lnTo>
                  <a:pt x="2326" y="7833"/>
                </a:lnTo>
                <a:lnTo>
                  <a:pt x="2359" y="7817"/>
                </a:lnTo>
                <a:lnTo>
                  <a:pt x="2390" y="7798"/>
                </a:lnTo>
                <a:lnTo>
                  <a:pt x="2420" y="7779"/>
                </a:lnTo>
                <a:lnTo>
                  <a:pt x="2449" y="7759"/>
                </a:lnTo>
                <a:lnTo>
                  <a:pt x="2476" y="7736"/>
                </a:lnTo>
                <a:lnTo>
                  <a:pt x="2501" y="7712"/>
                </a:lnTo>
                <a:lnTo>
                  <a:pt x="2525" y="7686"/>
                </a:lnTo>
                <a:lnTo>
                  <a:pt x="2548" y="7659"/>
                </a:lnTo>
                <a:lnTo>
                  <a:pt x="2568" y="7631"/>
                </a:lnTo>
                <a:lnTo>
                  <a:pt x="2588" y="7600"/>
                </a:lnTo>
                <a:lnTo>
                  <a:pt x="2606" y="7569"/>
                </a:lnTo>
                <a:lnTo>
                  <a:pt x="2622" y="7536"/>
                </a:lnTo>
                <a:lnTo>
                  <a:pt x="2637" y="7500"/>
                </a:lnTo>
                <a:lnTo>
                  <a:pt x="2651" y="7464"/>
                </a:lnTo>
                <a:lnTo>
                  <a:pt x="2663" y="7426"/>
                </a:lnTo>
                <a:lnTo>
                  <a:pt x="2672" y="7387"/>
                </a:lnTo>
                <a:lnTo>
                  <a:pt x="2681" y="7346"/>
                </a:lnTo>
                <a:lnTo>
                  <a:pt x="2689" y="7304"/>
                </a:lnTo>
                <a:lnTo>
                  <a:pt x="2695" y="7260"/>
                </a:lnTo>
                <a:lnTo>
                  <a:pt x="2699" y="7214"/>
                </a:lnTo>
                <a:lnTo>
                  <a:pt x="2701" y="7167"/>
                </a:lnTo>
                <a:lnTo>
                  <a:pt x="2702" y="7118"/>
                </a:lnTo>
                <a:close/>
                <a:moveTo>
                  <a:pt x="1548" y="5618"/>
                </a:moveTo>
                <a:lnTo>
                  <a:pt x="1548" y="6618"/>
                </a:lnTo>
                <a:lnTo>
                  <a:pt x="1548" y="6642"/>
                </a:lnTo>
                <a:lnTo>
                  <a:pt x="1545" y="6666"/>
                </a:lnTo>
                <a:lnTo>
                  <a:pt x="1542" y="6687"/>
                </a:lnTo>
                <a:lnTo>
                  <a:pt x="1536" y="6707"/>
                </a:lnTo>
                <a:lnTo>
                  <a:pt x="1529" y="6725"/>
                </a:lnTo>
                <a:lnTo>
                  <a:pt x="1521" y="6742"/>
                </a:lnTo>
                <a:lnTo>
                  <a:pt x="1515" y="6750"/>
                </a:lnTo>
                <a:lnTo>
                  <a:pt x="1510" y="6757"/>
                </a:lnTo>
                <a:lnTo>
                  <a:pt x="1504" y="6763"/>
                </a:lnTo>
                <a:lnTo>
                  <a:pt x="1498" y="6770"/>
                </a:lnTo>
                <a:lnTo>
                  <a:pt x="1492" y="6776"/>
                </a:lnTo>
                <a:lnTo>
                  <a:pt x="1485" y="6782"/>
                </a:lnTo>
                <a:lnTo>
                  <a:pt x="1478" y="6787"/>
                </a:lnTo>
                <a:lnTo>
                  <a:pt x="1470" y="6792"/>
                </a:lnTo>
                <a:lnTo>
                  <a:pt x="1453" y="6801"/>
                </a:lnTo>
                <a:lnTo>
                  <a:pt x="1436" y="6807"/>
                </a:lnTo>
                <a:lnTo>
                  <a:pt x="1415" y="6814"/>
                </a:lnTo>
                <a:lnTo>
                  <a:pt x="1395" y="6817"/>
                </a:lnTo>
                <a:lnTo>
                  <a:pt x="1371" y="6819"/>
                </a:lnTo>
                <a:lnTo>
                  <a:pt x="1348" y="6820"/>
                </a:lnTo>
                <a:lnTo>
                  <a:pt x="1154" y="6820"/>
                </a:lnTo>
                <a:lnTo>
                  <a:pt x="1154" y="5618"/>
                </a:lnTo>
                <a:lnTo>
                  <a:pt x="1548" y="5618"/>
                </a:lnTo>
                <a:close/>
                <a:moveTo>
                  <a:pt x="1154" y="4528"/>
                </a:moveTo>
                <a:lnTo>
                  <a:pt x="1154" y="3389"/>
                </a:lnTo>
                <a:lnTo>
                  <a:pt x="1548" y="3389"/>
                </a:lnTo>
                <a:lnTo>
                  <a:pt x="1548" y="4528"/>
                </a:lnTo>
                <a:lnTo>
                  <a:pt x="1154" y="4528"/>
                </a:lnTo>
                <a:close/>
                <a:moveTo>
                  <a:pt x="1154" y="2301"/>
                </a:moveTo>
                <a:lnTo>
                  <a:pt x="1154" y="1227"/>
                </a:lnTo>
                <a:lnTo>
                  <a:pt x="1548" y="1227"/>
                </a:lnTo>
                <a:lnTo>
                  <a:pt x="1548" y="2301"/>
                </a:lnTo>
                <a:lnTo>
                  <a:pt x="1154" y="2301"/>
                </a:lnTo>
                <a:close/>
              </a:path>
            </a:pathLst>
          </a:custGeom>
          <a:solidFill>
            <a:srgbClr val="ff0066"/>
          </a:solidFill>
          <a:ln w="0">
            <a:noFill/>
          </a:ln>
          <a:effectLst>
            <a:outerShdw dist="17819" dir="2700000" blurRad="0" rotWithShape="0">
              <a:srgbClr val="9800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086600" y="4495680"/>
            <a:ext cx="1101600" cy="1175040"/>
          </a:xfrm>
          <a:custGeom>
            <a:avLst/>
            <a:gdLst/>
            <a:ahLst/>
            <a:rect l="l" t="t" r="r" b="b"/>
            <a:pathLst>
              <a:path w="7900" h="7877">
                <a:moveTo>
                  <a:pt x="5060" y="97"/>
                </a:moveTo>
                <a:lnTo>
                  <a:pt x="4163" y="97"/>
                </a:lnTo>
                <a:lnTo>
                  <a:pt x="3954" y="234"/>
                </a:lnTo>
                <a:lnTo>
                  <a:pt x="3768" y="97"/>
                </a:lnTo>
                <a:lnTo>
                  <a:pt x="2743" y="97"/>
                </a:lnTo>
                <a:lnTo>
                  <a:pt x="3429" y="598"/>
                </a:lnTo>
                <a:lnTo>
                  <a:pt x="3411" y="611"/>
                </a:lnTo>
                <a:lnTo>
                  <a:pt x="3391" y="622"/>
                </a:lnTo>
                <a:lnTo>
                  <a:pt x="3371" y="632"/>
                </a:lnTo>
                <a:lnTo>
                  <a:pt x="3348" y="641"/>
                </a:lnTo>
                <a:lnTo>
                  <a:pt x="3326" y="646"/>
                </a:lnTo>
                <a:lnTo>
                  <a:pt x="3302" y="650"/>
                </a:lnTo>
                <a:lnTo>
                  <a:pt x="3278" y="653"/>
                </a:lnTo>
                <a:lnTo>
                  <a:pt x="3252" y="654"/>
                </a:lnTo>
                <a:lnTo>
                  <a:pt x="2679" y="654"/>
                </a:lnTo>
                <a:lnTo>
                  <a:pt x="2873" y="1097"/>
                </a:lnTo>
                <a:lnTo>
                  <a:pt x="3244" y="1097"/>
                </a:lnTo>
                <a:lnTo>
                  <a:pt x="3296" y="1097"/>
                </a:lnTo>
                <a:lnTo>
                  <a:pt x="3346" y="1095"/>
                </a:lnTo>
                <a:lnTo>
                  <a:pt x="3396" y="1093"/>
                </a:lnTo>
                <a:lnTo>
                  <a:pt x="3444" y="1090"/>
                </a:lnTo>
                <a:lnTo>
                  <a:pt x="3491" y="1086"/>
                </a:lnTo>
                <a:lnTo>
                  <a:pt x="3538" y="1079"/>
                </a:lnTo>
                <a:lnTo>
                  <a:pt x="3584" y="1073"/>
                </a:lnTo>
                <a:lnTo>
                  <a:pt x="3629" y="1065"/>
                </a:lnTo>
                <a:lnTo>
                  <a:pt x="3674" y="1057"/>
                </a:lnTo>
                <a:lnTo>
                  <a:pt x="3718" y="1047"/>
                </a:lnTo>
                <a:lnTo>
                  <a:pt x="3760" y="1036"/>
                </a:lnTo>
                <a:lnTo>
                  <a:pt x="3803" y="1026"/>
                </a:lnTo>
                <a:lnTo>
                  <a:pt x="3844" y="1013"/>
                </a:lnTo>
                <a:lnTo>
                  <a:pt x="3885" y="999"/>
                </a:lnTo>
                <a:lnTo>
                  <a:pt x="3923" y="984"/>
                </a:lnTo>
                <a:lnTo>
                  <a:pt x="3962" y="969"/>
                </a:lnTo>
                <a:lnTo>
                  <a:pt x="3991" y="984"/>
                </a:lnTo>
                <a:lnTo>
                  <a:pt x="4019" y="999"/>
                </a:lnTo>
                <a:lnTo>
                  <a:pt x="4048" y="1013"/>
                </a:lnTo>
                <a:lnTo>
                  <a:pt x="4077" y="1026"/>
                </a:lnTo>
                <a:lnTo>
                  <a:pt x="4104" y="1036"/>
                </a:lnTo>
                <a:lnTo>
                  <a:pt x="4133" y="1047"/>
                </a:lnTo>
                <a:lnTo>
                  <a:pt x="4163" y="1057"/>
                </a:lnTo>
                <a:lnTo>
                  <a:pt x="4192" y="1065"/>
                </a:lnTo>
                <a:lnTo>
                  <a:pt x="4221" y="1073"/>
                </a:lnTo>
                <a:lnTo>
                  <a:pt x="4251" y="1079"/>
                </a:lnTo>
                <a:lnTo>
                  <a:pt x="4280" y="1086"/>
                </a:lnTo>
                <a:lnTo>
                  <a:pt x="4310" y="1090"/>
                </a:lnTo>
                <a:lnTo>
                  <a:pt x="4340" y="1093"/>
                </a:lnTo>
                <a:lnTo>
                  <a:pt x="4370" y="1095"/>
                </a:lnTo>
                <a:lnTo>
                  <a:pt x="4400" y="1097"/>
                </a:lnTo>
                <a:lnTo>
                  <a:pt x="4430" y="1097"/>
                </a:lnTo>
                <a:lnTo>
                  <a:pt x="5124" y="1097"/>
                </a:lnTo>
                <a:lnTo>
                  <a:pt x="5124" y="654"/>
                </a:lnTo>
                <a:lnTo>
                  <a:pt x="4688" y="654"/>
                </a:lnTo>
                <a:lnTo>
                  <a:pt x="4657" y="653"/>
                </a:lnTo>
                <a:lnTo>
                  <a:pt x="4626" y="651"/>
                </a:lnTo>
                <a:lnTo>
                  <a:pt x="4596" y="648"/>
                </a:lnTo>
                <a:lnTo>
                  <a:pt x="4568" y="644"/>
                </a:lnTo>
                <a:lnTo>
                  <a:pt x="4540" y="638"/>
                </a:lnTo>
                <a:lnTo>
                  <a:pt x="4513" y="631"/>
                </a:lnTo>
                <a:lnTo>
                  <a:pt x="4487" y="622"/>
                </a:lnTo>
                <a:lnTo>
                  <a:pt x="4463" y="613"/>
                </a:lnTo>
                <a:lnTo>
                  <a:pt x="5060" y="97"/>
                </a:lnTo>
                <a:close/>
                <a:moveTo>
                  <a:pt x="4996" y="1355"/>
                </a:moveTo>
                <a:lnTo>
                  <a:pt x="4100" y="1355"/>
                </a:lnTo>
                <a:lnTo>
                  <a:pt x="3914" y="1460"/>
                </a:lnTo>
                <a:lnTo>
                  <a:pt x="3768" y="1355"/>
                </a:lnTo>
                <a:lnTo>
                  <a:pt x="2808" y="1355"/>
                </a:lnTo>
                <a:lnTo>
                  <a:pt x="3382" y="1767"/>
                </a:lnTo>
                <a:lnTo>
                  <a:pt x="3374" y="1777"/>
                </a:lnTo>
                <a:lnTo>
                  <a:pt x="3365" y="1786"/>
                </a:lnTo>
                <a:lnTo>
                  <a:pt x="3357" y="1795"/>
                </a:lnTo>
                <a:lnTo>
                  <a:pt x="3348" y="1802"/>
                </a:lnTo>
                <a:lnTo>
                  <a:pt x="3338" y="1810"/>
                </a:lnTo>
                <a:lnTo>
                  <a:pt x="3328" y="1816"/>
                </a:lnTo>
                <a:lnTo>
                  <a:pt x="3316" y="1822"/>
                </a:lnTo>
                <a:lnTo>
                  <a:pt x="3304" y="1828"/>
                </a:lnTo>
                <a:lnTo>
                  <a:pt x="3293" y="1833"/>
                </a:lnTo>
                <a:lnTo>
                  <a:pt x="3280" y="1836"/>
                </a:lnTo>
                <a:lnTo>
                  <a:pt x="3266" y="1841"/>
                </a:lnTo>
                <a:lnTo>
                  <a:pt x="3252" y="1843"/>
                </a:lnTo>
                <a:lnTo>
                  <a:pt x="3237" y="1846"/>
                </a:lnTo>
                <a:lnTo>
                  <a:pt x="3221" y="1847"/>
                </a:lnTo>
                <a:lnTo>
                  <a:pt x="3205" y="1848"/>
                </a:lnTo>
                <a:lnTo>
                  <a:pt x="3189" y="1848"/>
                </a:lnTo>
                <a:lnTo>
                  <a:pt x="2679" y="1848"/>
                </a:lnTo>
                <a:lnTo>
                  <a:pt x="2873" y="2292"/>
                </a:lnTo>
                <a:lnTo>
                  <a:pt x="3180" y="2292"/>
                </a:lnTo>
                <a:lnTo>
                  <a:pt x="3231" y="2291"/>
                </a:lnTo>
                <a:lnTo>
                  <a:pt x="3283" y="2290"/>
                </a:lnTo>
                <a:lnTo>
                  <a:pt x="3333" y="2287"/>
                </a:lnTo>
                <a:lnTo>
                  <a:pt x="3384" y="2284"/>
                </a:lnTo>
                <a:lnTo>
                  <a:pt x="3432" y="2278"/>
                </a:lnTo>
                <a:lnTo>
                  <a:pt x="3480" y="2273"/>
                </a:lnTo>
                <a:lnTo>
                  <a:pt x="3528" y="2265"/>
                </a:lnTo>
                <a:lnTo>
                  <a:pt x="3575" y="2258"/>
                </a:lnTo>
                <a:lnTo>
                  <a:pt x="3621" y="2248"/>
                </a:lnTo>
                <a:lnTo>
                  <a:pt x="3666" y="2239"/>
                </a:lnTo>
                <a:lnTo>
                  <a:pt x="3711" y="2227"/>
                </a:lnTo>
                <a:lnTo>
                  <a:pt x="3755" y="2215"/>
                </a:lnTo>
                <a:lnTo>
                  <a:pt x="3798" y="2201"/>
                </a:lnTo>
                <a:lnTo>
                  <a:pt x="3840" y="2187"/>
                </a:lnTo>
                <a:lnTo>
                  <a:pt x="3881" y="2171"/>
                </a:lnTo>
                <a:lnTo>
                  <a:pt x="3922" y="2154"/>
                </a:lnTo>
                <a:lnTo>
                  <a:pt x="3953" y="2170"/>
                </a:lnTo>
                <a:lnTo>
                  <a:pt x="3985" y="2185"/>
                </a:lnTo>
                <a:lnTo>
                  <a:pt x="4016" y="2199"/>
                </a:lnTo>
                <a:lnTo>
                  <a:pt x="4048" y="2212"/>
                </a:lnTo>
                <a:lnTo>
                  <a:pt x="4080" y="2224"/>
                </a:lnTo>
                <a:lnTo>
                  <a:pt x="4111" y="2234"/>
                </a:lnTo>
                <a:lnTo>
                  <a:pt x="4143" y="2244"/>
                </a:lnTo>
                <a:lnTo>
                  <a:pt x="4174" y="2254"/>
                </a:lnTo>
                <a:lnTo>
                  <a:pt x="4206" y="2262"/>
                </a:lnTo>
                <a:lnTo>
                  <a:pt x="4238" y="2269"/>
                </a:lnTo>
                <a:lnTo>
                  <a:pt x="4270" y="2275"/>
                </a:lnTo>
                <a:lnTo>
                  <a:pt x="4302" y="2280"/>
                </a:lnTo>
                <a:lnTo>
                  <a:pt x="4334" y="2285"/>
                </a:lnTo>
                <a:lnTo>
                  <a:pt x="4366" y="2288"/>
                </a:lnTo>
                <a:lnTo>
                  <a:pt x="4398" y="2290"/>
                </a:lnTo>
                <a:lnTo>
                  <a:pt x="4430" y="2292"/>
                </a:lnTo>
                <a:lnTo>
                  <a:pt x="5124" y="2292"/>
                </a:lnTo>
                <a:lnTo>
                  <a:pt x="5124" y="1848"/>
                </a:lnTo>
                <a:lnTo>
                  <a:pt x="4624" y="1848"/>
                </a:lnTo>
                <a:lnTo>
                  <a:pt x="4592" y="1848"/>
                </a:lnTo>
                <a:lnTo>
                  <a:pt x="4562" y="1846"/>
                </a:lnTo>
                <a:lnTo>
                  <a:pt x="4533" y="1843"/>
                </a:lnTo>
                <a:lnTo>
                  <a:pt x="4507" y="1839"/>
                </a:lnTo>
                <a:lnTo>
                  <a:pt x="4481" y="1832"/>
                </a:lnTo>
                <a:lnTo>
                  <a:pt x="4457" y="1826"/>
                </a:lnTo>
                <a:lnTo>
                  <a:pt x="4435" y="1817"/>
                </a:lnTo>
                <a:lnTo>
                  <a:pt x="4414" y="1807"/>
                </a:lnTo>
                <a:lnTo>
                  <a:pt x="4996" y="1355"/>
                </a:lnTo>
                <a:close/>
                <a:moveTo>
                  <a:pt x="6327" y="2542"/>
                </a:moveTo>
                <a:lnTo>
                  <a:pt x="1574" y="2542"/>
                </a:lnTo>
                <a:lnTo>
                  <a:pt x="1574" y="2260"/>
                </a:lnTo>
                <a:lnTo>
                  <a:pt x="2381" y="2260"/>
                </a:lnTo>
                <a:lnTo>
                  <a:pt x="2381" y="1880"/>
                </a:lnTo>
                <a:lnTo>
                  <a:pt x="1574" y="1880"/>
                </a:lnTo>
                <a:lnTo>
                  <a:pt x="1574" y="1614"/>
                </a:lnTo>
                <a:lnTo>
                  <a:pt x="2381" y="1614"/>
                </a:lnTo>
                <a:lnTo>
                  <a:pt x="2381" y="1234"/>
                </a:lnTo>
                <a:lnTo>
                  <a:pt x="1574" y="1234"/>
                </a:lnTo>
                <a:lnTo>
                  <a:pt x="1574" y="969"/>
                </a:lnTo>
                <a:lnTo>
                  <a:pt x="1623" y="969"/>
                </a:lnTo>
                <a:lnTo>
                  <a:pt x="1670" y="968"/>
                </a:lnTo>
                <a:lnTo>
                  <a:pt x="1717" y="966"/>
                </a:lnTo>
                <a:lnTo>
                  <a:pt x="1762" y="961"/>
                </a:lnTo>
                <a:lnTo>
                  <a:pt x="1806" y="956"/>
                </a:lnTo>
                <a:lnTo>
                  <a:pt x="1848" y="949"/>
                </a:lnTo>
                <a:lnTo>
                  <a:pt x="1889" y="941"/>
                </a:lnTo>
                <a:lnTo>
                  <a:pt x="1927" y="930"/>
                </a:lnTo>
                <a:lnTo>
                  <a:pt x="1965" y="919"/>
                </a:lnTo>
                <a:lnTo>
                  <a:pt x="2001" y="905"/>
                </a:lnTo>
                <a:lnTo>
                  <a:pt x="2036" y="892"/>
                </a:lnTo>
                <a:lnTo>
                  <a:pt x="2069" y="875"/>
                </a:lnTo>
                <a:lnTo>
                  <a:pt x="2100" y="857"/>
                </a:lnTo>
                <a:lnTo>
                  <a:pt x="2130" y="838"/>
                </a:lnTo>
                <a:lnTo>
                  <a:pt x="2159" y="818"/>
                </a:lnTo>
                <a:lnTo>
                  <a:pt x="2186" y="795"/>
                </a:lnTo>
                <a:lnTo>
                  <a:pt x="2211" y="770"/>
                </a:lnTo>
                <a:lnTo>
                  <a:pt x="2235" y="746"/>
                </a:lnTo>
                <a:lnTo>
                  <a:pt x="2258" y="719"/>
                </a:lnTo>
                <a:lnTo>
                  <a:pt x="2278" y="690"/>
                </a:lnTo>
                <a:lnTo>
                  <a:pt x="2297" y="660"/>
                </a:lnTo>
                <a:lnTo>
                  <a:pt x="2315" y="628"/>
                </a:lnTo>
                <a:lnTo>
                  <a:pt x="2332" y="594"/>
                </a:lnTo>
                <a:lnTo>
                  <a:pt x="2347" y="560"/>
                </a:lnTo>
                <a:lnTo>
                  <a:pt x="2361" y="524"/>
                </a:lnTo>
                <a:lnTo>
                  <a:pt x="2372" y="486"/>
                </a:lnTo>
                <a:lnTo>
                  <a:pt x="2382" y="446"/>
                </a:lnTo>
                <a:lnTo>
                  <a:pt x="2392" y="406"/>
                </a:lnTo>
                <a:lnTo>
                  <a:pt x="2398" y="363"/>
                </a:lnTo>
                <a:lnTo>
                  <a:pt x="2405" y="319"/>
                </a:lnTo>
                <a:lnTo>
                  <a:pt x="2409" y="274"/>
                </a:lnTo>
                <a:lnTo>
                  <a:pt x="2411" y="227"/>
                </a:lnTo>
                <a:lnTo>
                  <a:pt x="2413" y="177"/>
                </a:lnTo>
                <a:lnTo>
                  <a:pt x="2413" y="0"/>
                </a:lnTo>
                <a:lnTo>
                  <a:pt x="1323" y="0"/>
                </a:lnTo>
                <a:lnTo>
                  <a:pt x="1322" y="25"/>
                </a:lnTo>
                <a:lnTo>
                  <a:pt x="1320" y="47"/>
                </a:lnTo>
                <a:lnTo>
                  <a:pt x="1316" y="69"/>
                </a:lnTo>
                <a:lnTo>
                  <a:pt x="1311" y="88"/>
                </a:lnTo>
                <a:lnTo>
                  <a:pt x="1303" y="106"/>
                </a:lnTo>
                <a:lnTo>
                  <a:pt x="1294" y="123"/>
                </a:lnTo>
                <a:lnTo>
                  <a:pt x="1290" y="131"/>
                </a:lnTo>
                <a:lnTo>
                  <a:pt x="1285" y="138"/>
                </a:lnTo>
                <a:lnTo>
                  <a:pt x="1279" y="145"/>
                </a:lnTo>
                <a:lnTo>
                  <a:pt x="1273" y="151"/>
                </a:lnTo>
                <a:lnTo>
                  <a:pt x="1267" y="157"/>
                </a:lnTo>
                <a:lnTo>
                  <a:pt x="1259" y="163"/>
                </a:lnTo>
                <a:lnTo>
                  <a:pt x="1253" y="169"/>
                </a:lnTo>
                <a:lnTo>
                  <a:pt x="1244" y="173"/>
                </a:lnTo>
                <a:lnTo>
                  <a:pt x="1228" y="182"/>
                </a:lnTo>
                <a:lnTo>
                  <a:pt x="1210" y="189"/>
                </a:lnTo>
                <a:lnTo>
                  <a:pt x="1190" y="194"/>
                </a:lnTo>
                <a:lnTo>
                  <a:pt x="1169" y="198"/>
                </a:lnTo>
                <a:lnTo>
                  <a:pt x="1146" y="201"/>
                </a:lnTo>
                <a:lnTo>
                  <a:pt x="1122" y="201"/>
                </a:lnTo>
                <a:lnTo>
                  <a:pt x="291" y="201"/>
                </a:lnTo>
                <a:lnTo>
                  <a:pt x="291" y="582"/>
                </a:lnTo>
                <a:lnTo>
                  <a:pt x="291" y="969"/>
                </a:lnTo>
                <a:lnTo>
                  <a:pt x="291" y="2542"/>
                </a:lnTo>
                <a:lnTo>
                  <a:pt x="31" y="2542"/>
                </a:lnTo>
                <a:lnTo>
                  <a:pt x="31" y="2938"/>
                </a:lnTo>
                <a:lnTo>
                  <a:pt x="31" y="3341"/>
                </a:lnTo>
                <a:lnTo>
                  <a:pt x="31" y="3906"/>
                </a:lnTo>
                <a:lnTo>
                  <a:pt x="355" y="3906"/>
                </a:lnTo>
                <a:lnTo>
                  <a:pt x="355" y="6142"/>
                </a:lnTo>
                <a:lnTo>
                  <a:pt x="355" y="6520"/>
                </a:lnTo>
                <a:lnTo>
                  <a:pt x="355" y="6908"/>
                </a:lnTo>
                <a:lnTo>
                  <a:pt x="1639" y="6908"/>
                </a:lnTo>
                <a:lnTo>
                  <a:pt x="1541" y="7053"/>
                </a:lnTo>
                <a:lnTo>
                  <a:pt x="1524" y="7075"/>
                </a:lnTo>
                <a:lnTo>
                  <a:pt x="1507" y="7095"/>
                </a:lnTo>
                <a:lnTo>
                  <a:pt x="1489" y="7114"/>
                </a:lnTo>
                <a:lnTo>
                  <a:pt x="1468" y="7132"/>
                </a:lnTo>
                <a:lnTo>
                  <a:pt x="1448" y="7148"/>
                </a:lnTo>
                <a:lnTo>
                  <a:pt x="1426" y="7163"/>
                </a:lnTo>
                <a:lnTo>
                  <a:pt x="1404" y="7177"/>
                </a:lnTo>
                <a:lnTo>
                  <a:pt x="1380" y="7188"/>
                </a:lnTo>
                <a:lnTo>
                  <a:pt x="1356" y="7200"/>
                </a:lnTo>
                <a:lnTo>
                  <a:pt x="1330" y="7209"/>
                </a:lnTo>
                <a:lnTo>
                  <a:pt x="1303" y="7217"/>
                </a:lnTo>
                <a:lnTo>
                  <a:pt x="1275" y="7225"/>
                </a:lnTo>
                <a:lnTo>
                  <a:pt x="1246" y="7230"/>
                </a:lnTo>
                <a:lnTo>
                  <a:pt x="1216" y="7235"/>
                </a:lnTo>
                <a:lnTo>
                  <a:pt x="1186" y="7238"/>
                </a:lnTo>
                <a:lnTo>
                  <a:pt x="1154" y="7239"/>
                </a:lnTo>
                <a:lnTo>
                  <a:pt x="0" y="7239"/>
                </a:lnTo>
                <a:lnTo>
                  <a:pt x="194" y="7877"/>
                </a:lnTo>
                <a:lnTo>
                  <a:pt x="1856" y="7877"/>
                </a:lnTo>
                <a:lnTo>
                  <a:pt x="1899" y="7876"/>
                </a:lnTo>
                <a:lnTo>
                  <a:pt x="1941" y="7875"/>
                </a:lnTo>
                <a:lnTo>
                  <a:pt x="1982" y="7872"/>
                </a:lnTo>
                <a:lnTo>
                  <a:pt x="2024" y="7868"/>
                </a:lnTo>
                <a:lnTo>
                  <a:pt x="2063" y="7863"/>
                </a:lnTo>
                <a:lnTo>
                  <a:pt x="2104" y="7858"/>
                </a:lnTo>
                <a:lnTo>
                  <a:pt x="2143" y="7850"/>
                </a:lnTo>
                <a:lnTo>
                  <a:pt x="2183" y="7843"/>
                </a:lnTo>
                <a:lnTo>
                  <a:pt x="2220" y="7833"/>
                </a:lnTo>
                <a:lnTo>
                  <a:pt x="2258" y="7822"/>
                </a:lnTo>
                <a:lnTo>
                  <a:pt x="2295" y="7812"/>
                </a:lnTo>
                <a:lnTo>
                  <a:pt x="2332" y="7799"/>
                </a:lnTo>
                <a:lnTo>
                  <a:pt x="2368" y="7785"/>
                </a:lnTo>
                <a:lnTo>
                  <a:pt x="2403" y="7770"/>
                </a:lnTo>
                <a:lnTo>
                  <a:pt x="2439" y="7755"/>
                </a:lnTo>
                <a:lnTo>
                  <a:pt x="2473" y="7738"/>
                </a:lnTo>
                <a:lnTo>
                  <a:pt x="2507" y="7719"/>
                </a:lnTo>
                <a:lnTo>
                  <a:pt x="2541" y="7700"/>
                </a:lnTo>
                <a:lnTo>
                  <a:pt x="2574" y="7681"/>
                </a:lnTo>
                <a:lnTo>
                  <a:pt x="2606" y="7659"/>
                </a:lnTo>
                <a:lnTo>
                  <a:pt x="2638" y="7637"/>
                </a:lnTo>
                <a:lnTo>
                  <a:pt x="2669" y="7613"/>
                </a:lnTo>
                <a:lnTo>
                  <a:pt x="2701" y="7588"/>
                </a:lnTo>
                <a:lnTo>
                  <a:pt x="2731" y="7563"/>
                </a:lnTo>
                <a:lnTo>
                  <a:pt x="2761" y="7537"/>
                </a:lnTo>
                <a:lnTo>
                  <a:pt x="2790" y="7509"/>
                </a:lnTo>
                <a:lnTo>
                  <a:pt x="2818" y="7480"/>
                </a:lnTo>
                <a:lnTo>
                  <a:pt x="2846" y="7450"/>
                </a:lnTo>
                <a:lnTo>
                  <a:pt x="2874" y="7419"/>
                </a:lnTo>
                <a:lnTo>
                  <a:pt x="2901" y="7387"/>
                </a:lnTo>
                <a:lnTo>
                  <a:pt x="2928" y="7354"/>
                </a:lnTo>
                <a:lnTo>
                  <a:pt x="2954" y="7319"/>
                </a:lnTo>
                <a:lnTo>
                  <a:pt x="3237" y="6908"/>
                </a:lnTo>
                <a:lnTo>
                  <a:pt x="4809" y="6908"/>
                </a:lnTo>
                <a:lnTo>
                  <a:pt x="4809" y="7085"/>
                </a:lnTo>
                <a:lnTo>
                  <a:pt x="4810" y="7134"/>
                </a:lnTo>
                <a:lnTo>
                  <a:pt x="4812" y="7180"/>
                </a:lnTo>
                <a:lnTo>
                  <a:pt x="4817" y="7225"/>
                </a:lnTo>
                <a:lnTo>
                  <a:pt x="4822" y="7269"/>
                </a:lnTo>
                <a:lnTo>
                  <a:pt x="4828" y="7311"/>
                </a:lnTo>
                <a:lnTo>
                  <a:pt x="4837" y="7351"/>
                </a:lnTo>
                <a:lnTo>
                  <a:pt x="4848" y="7391"/>
                </a:lnTo>
                <a:lnTo>
                  <a:pt x="4858" y="7429"/>
                </a:lnTo>
                <a:lnTo>
                  <a:pt x="4872" y="7464"/>
                </a:lnTo>
                <a:lnTo>
                  <a:pt x="4886" y="7499"/>
                </a:lnTo>
                <a:lnTo>
                  <a:pt x="4902" y="7532"/>
                </a:lnTo>
                <a:lnTo>
                  <a:pt x="4921" y="7564"/>
                </a:lnTo>
                <a:lnTo>
                  <a:pt x="4940" y="7594"/>
                </a:lnTo>
                <a:lnTo>
                  <a:pt x="4961" y="7622"/>
                </a:lnTo>
                <a:lnTo>
                  <a:pt x="4983" y="7650"/>
                </a:lnTo>
                <a:lnTo>
                  <a:pt x="5007" y="7674"/>
                </a:lnTo>
                <a:lnTo>
                  <a:pt x="5033" y="7699"/>
                </a:lnTo>
                <a:lnTo>
                  <a:pt x="5060" y="7721"/>
                </a:lnTo>
                <a:lnTo>
                  <a:pt x="5088" y="7742"/>
                </a:lnTo>
                <a:lnTo>
                  <a:pt x="5119" y="7761"/>
                </a:lnTo>
                <a:lnTo>
                  <a:pt x="5150" y="7779"/>
                </a:lnTo>
                <a:lnTo>
                  <a:pt x="5183" y="7797"/>
                </a:lnTo>
                <a:lnTo>
                  <a:pt x="5218" y="7811"/>
                </a:lnTo>
                <a:lnTo>
                  <a:pt x="5254" y="7824"/>
                </a:lnTo>
                <a:lnTo>
                  <a:pt x="5292" y="7836"/>
                </a:lnTo>
                <a:lnTo>
                  <a:pt x="5331" y="7847"/>
                </a:lnTo>
                <a:lnTo>
                  <a:pt x="5372" y="7856"/>
                </a:lnTo>
                <a:lnTo>
                  <a:pt x="5415" y="7863"/>
                </a:lnTo>
                <a:lnTo>
                  <a:pt x="5459" y="7868"/>
                </a:lnTo>
                <a:lnTo>
                  <a:pt x="5504" y="7873"/>
                </a:lnTo>
                <a:lnTo>
                  <a:pt x="5551" y="7876"/>
                </a:lnTo>
                <a:lnTo>
                  <a:pt x="5599" y="7877"/>
                </a:lnTo>
                <a:lnTo>
                  <a:pt x="7900" y="7877"/>
                </a:lnTo>
                <a:lnTo>
                  <a:pt x="7900" y="7239"/>
                </a:lnTo>
                <a:lnTo>
                  <a:pt x="6359" y="7239"/>
                </a:lnTo>
                <a:lnTo>
                  <a:pt x="6334" y="7239"/>
                </a:lnTo>
                <a:lnTo>
                  <a:pt x="6312" y="7236"/>
                </a:lnTo>
                <a:lnTo>
                  <a:pt x="6290" y="7232"/>
                </a:lnTo>
                <a:lnTo>
                  <a:pt x="6271" y="7227"/>
                </a:lnTo>
                <a:lnTo>
                  <a:pt x="6261" y="7224"/>
                </a:lnTo>
                <a:lnTo>
                  <a:pt x="6253" y="7220"/>
                </a:lnTo>
                <a:lnTo>
                  <a:pt x="6244" y="7215"/>
                </a:lnTo>
                <a:lnTo>
                  <a:pt x="6237" y="7211"/>
                </a:lnTo>
                <a:lnTo>
                  <a:pt x="6229" y="7206"/>
                </a:lnTo>
                <a:lnTo>
                  <a:pt x="6222" y="7200"/>
                </a:lnTo>
                <a:lnTo>
                  <a:pt x="6215" y="7195"/>
                </a:lnTo>
                <a:lnTo>
                  <a:pt x="6208" y="7188"/>
                </a:lnTo>
                <a:lnTo>
                  <a:pt x="6202" y="7182"/>
                </a:lnTo>
                <a:lnTo>
                  <a:pt x="6196" y="7176"/>
                </a:lnTo>
                <a:lnTo>
                  <a:pt x="6190" y="7168"/>
                </a:lnTo>
                <a:lnTo>
                  <a:pt x="6186" y="7161"/>
                </a:lnTo>
                <a:lnTo>
                  <a:pt x="6182" y="7152"/>
                </a:lnTo>
                <a:lnTo>
                  <a:pt x="6178" y="7143"/>
                </a:lnTo>
                <a:lnTo>
                  <a:pt x="6173" y="7135"/>
                </a:lnTo>
                <a:lnTo>
                  <a:pt x="6170" y="7125"/>
                </a:lnTo>
                <a:lnTo>
                  <a:pt x="6165" y="7106"/>
                </a:lnTo>
                <a:lnTo>
                  <a:pt x="6160" y="7084"/>
                </a:lnTo>
                <a:lnTo>
                  <a:pt x="6158" y="7062"/>
                </a:lnTo>
                <a:lnTo>
                  <a:pt x="6157" y="7037"/>
                </a:lnTo>
                <a:lnTo>
                  <a:pt x="6157" y="6908"/>
                </a:lnTo>
                <a:lnTo>
                  <a:pt x="6755" y="6908"/>
                </a:lnTo>
                <a:lnTo>
                  <a:pt x="6802" y="6908"/>
                </a:lnTo>
                <a:lnTo>
                  <a:pt x="6849" y="6905"/>
                </a:lnTo>
                <a:lnTo>
                  <a:pt x="6894" y="6902"/>
                </a:lnTo>
                <a:lnTo>
                  <a:pt x="6938" y="6897"/>
                </a:lnTo>
                <a:lnTo>
                  <a:pt x="6980" y="6889"/>
                </a:lnTo>
                <a:lnTo>
                  <a:pt x="7021" y="6881"/>
                </a:lnTo>
                <a:lnTo>
                  <a:pt x="7059" y="6871"/>
                </a:lnTo>
                <a:lnTo>
                  <a:pt x="7097" y="6859"/>
                </a:lnTo>
                <a:lnTo>
                  <a:pt x="7133" y="6846"/>
                </a:lnTo>
                <a:lnTo>
                  <a:pt x="7167" y="6831"/>
                </a:lnTo>
                <a:lnTo>
                  <a:pt x="7201" y="6815"/>
                </a:lnTo>
                <a:lnTo>
                  <a:pt x="7233" y="6797"/>
                </a:lnTo>
                <a:lnTo>
                  <a:pt x="7263" y="6778"/>
                </a:lnTo>
                <a:lnTo>
                  <a:pt x="7291" y="6757"/>
                </a:lnTo>
                <a:lnTo>
                  <a:pt x="7318" y="6735"/>
                </a:lnTo>
                <a:lnTo>
                  <a:pt x="7343" y="6710"/>
                </a:lnTo>
                <a:lnTo>
                  <a:pt x="7368" y="6685"/>
                </a:lnTo>
                <a:lnTo>
                  <a:pt x="7391" y="6658"/>
                </a:lnTo>
                <a:lnTo>
                  <a:pt x="7411" y="6630"/>
                </a:lnTo>
                <a:lnTo>
                  <a:pt x="7430" y="6600"/>
                </a:lnTo>
                <a:lnTo>
                  <a:pt x="7448" y="6567"/>
                </a:lnTo>
                <a:lnTo>
                  <a:pt x="7465" y="6534"/>
                </a:lnTo>
                <a:lnTo>
                  <a:pt x="7480" y="6500"/>
                </a:lnTo>
                <a:lnTo>
                  <a:pt x="7494" y="6463"/>
                </a:lnTo>
                <a:lnTo>
                  <a:pt x="7505" y="6425"/>
                </a:lnTo>
                <a:lnTo>
                  <a:pt x="7516" y="6386"/>
                </a:lnTo>
                <a:lnTo>
                  <a:pt x="7525" y="6344"/>
                </a:lnTo>
                <a:lnTo>
                  <a:pt x="7532" y="6303"/>
                </a:lnTo>
                <a:lnTo>
                  <a:pt x="7537" y="6259"/>
                </a:lnTo>
                <a:lnTo>
                  <a:pt x="7542" y="6212"/>
                </a:lnTo>
                <a:lnTo>
                  <a:pt x="7545" y="6165"/>
                </a:lnTo>
                <a:lnTo>
                  <a:pt x="7546" y="6117"/>
                </a:lnTo>
                <a:lnTo>
                  <a:pt x="7546" y="3906"/>
                </a:lnTo>
                <a:lnTo>
                  <a:pt x="7868" y="3906"/>
                </a:lnTo>
                <a:lnTo>
                  <a:pt x="7868" y="2542"/>
                </a:lnTo>
                <a:lnTo>
                  <a:pt x="7609" y="2542"/>
                </a:lnTo>
                <a:lnTo>
                  <a:pt x="7609" y="138"/>
                </a:lnTo>
                <a:lnTo>
                  <a:pt x="6965" y="138"/>
                </a:lnTo>
                <a:lnTo>
                  <a:pt x="6327" y="138"/>
                </a:lnTo>
                <a:lnTo>
                  <a:pt x="5447" y="138"/>
                </a:lnTo>
                <a:lnTo>
                  <a:pt x="5447" y="903"/>
                </a:lnTo>
                <a:lnTo>
                  <a:pt x="6327" y="903"/>
                </a:lnTo>
                <a:lnTo>
                  <a:pt x="6327" y="1234"/>
                </a:lnTo>
                <a:lnTo>
                  <a:pt x="5512" y="1234"/>
                </a:lnTo>
                <a:lnTo>
                  <a:pt x="5512" y="1614"/>
                </a:lnTo>
                <a:lnTo>
                  <a:pt x="6327" y="1614"/>
                </a:lnTo>
                <a:lnTo>
                  <a:pt x="6327" y="1880"/>
                </a:lnTo>
                <a:lnTo>
                  <a:pt x="5512" y="1880"/>
                </a:lnTo>
                <a:lnTo>
                  <a:pt x="5512" y="2260"/>
                </a:lnTo>
                <a:lnTo>
                  <a:pt x="6327" y="2260"/>
                </a:lnTo>
                <a:lnTo>
                  <a:pt x="6327" y="2542"/>
                </a:lnTo>
                <a:close/>
                <a:moveTo>
                  <a:pt x="6198" y="5876"/>
                </a:moveTo>
                <a:lnTo>
                  <a:pt x="6198" y="5939"/>
                </a:lnTo>
                <a:lnTo>
                  <a:pt x="6197" y="5964"/>
                </a:lnTo>
                <a:lnTo>
                  <a:pt x="6195" y="5986"/>
                </a:lnTo>
                <a:lnTo>
                  <a:pt x="6190" y="6008"/>
                </a:lnTo>
                <a:lnTo>
                  <a:pt x="6185" y="6028"/>
                </a:lnTo>
                <a:lnTo>
                  <a:pt x="6178" y="6046"/>
                </a:lnTo>
                <a:lnTo>
                  <a:pt x="6169" y="6062"/>
                </a:lnTo>
                <a:lnTo>
                  <a:pt x="6165" y="6070"/>
                </a:lnTo>
                <a:lnTo>
                  <a:pt x="6159" y="6077"/>
                </a:lnTo>
                <a:lnTo>
                  <a:pt x="6153" y="6085"/>
                </a:lnTo>
                <a:lnTo>
                  <a:pt x="6148" y="6091"/>
                </a:lnTo>
                <a:lnTo>
                  <a:pt x="6141" y="6098"/>
                </a:lnTo>
                <a:lnTo>
                  <a:pt x="6134" y="6103"/>
                </a:lnTo>
                <a:lnTo>
                  <a:pt x="6126" y="6108"/>
                </a:lnTo>
                <a:lnTo>
                  <a:pt x="6119" y="6113"/>
                </a:lnTo>
                <a:lnTo>
                  <a:pt x="6102" y="6122"/>
                </a:lnTo>
                <a:lnTo>
                  <a:pt x="6084" y="6129"/>
                </a:lnTo>
                <a:lnTo>
                  <a:pt x="6065" y="6134"/>
                </a:lnTo>
                <a:lnTo>
                  <a:pt x="6044" y="6138"/>
                </a:lnTo>
                <a:lnTo>
                  <a:pt x="6021" y="6141"/>
                </a:lnTo>
                <a:lnTo>
                  <a:pt x="5996" y="6142"/>
                </a:lnTo>
                <a:lnTo>
                  <a:pt x="1702" y="6142"/>
                </a:lnTo>
                <a:lnTo>
                  <a:pt x="1702" y="5876"/>
                </a:lnTo>
                <a:lnTo>
                  <a:pt x="6198" y="5876"/>
                </a:lnTo>
                <a:close/>
                <a:moveTo>
                  <a:pt x="1702" y="5431"/>
                </a:moveTo>
                <a:lnTo>
                  <a:pt x="1702" y="5165"/>
                </a:lnTo>
                <a:lnTo>
                  <a:pt x="6198" y="5165"/>
                </a:lnTo>
                <a:lnTo>
                  <a:pt x="6198" y="5431"/>
                </a:lnTo>
                <a:lnTo>
                  <a:pt x="1702" y="5431"/>
                </a:lnTo>
                <a:close/>
                <a:moveTo>
                  <a:pt x="1702" y="4722"/>
                </a:moveTo>
                <a:lnTo>
                  <a:pt x="1702" y="4422"/>
                </a:lnTo>
                <a:lnTo>
                  <a:pt x="6198" y="4422"/>
                </a:lnTo>
                <a:lnTo>
                  <a:pt x="6198" y="4722"/>
                </a:lnTo>
                <a:lnTo>
                  <a:pt x="1702" y="4722"/>
                </a:lnTo>
                <a:close/>
                <a:moveTo>
                  <a:pt x="6520" y="3341"/>
                </a:moveTo>
                <a:lnTo>
                  <a:pt x="6520" y="3655"/>
                </a:lnTo>
                <a:lnTo>
                  <a:pt x="6198" y="3655"/>
                </a:lnTo>
                <a:lnTo>
                  <a:pt x="1702" y="3655"/>
                </a:lnTo>
                <a:lnTo>
                  <a:pt x="1380" y="3655"/>
                </a:lnTo>
                <a:lnTo>
                  <a:pt x="1380" y="3341"/>
                </a:lnTo>
                <a:lnTo>
                  <a:pt x="6520" y="3341"/>
                </a:lnTo>
                <a:close/>
              </a:path>
            </a:pathLst>
          </a:custGeom>
          <a:solidFill>
            <a:srgbClr val="ff0066"/>
          </a:solidFill>
          <a:ln w="0">
            <a:noFill/>
          </a:ln>
          <a:effectLst>
            <a:outerShdw dist="17819" dir="2700000" blurRad="0" rotWithShape="0">
              <a:srgbClr val="9800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cat3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 txBox="1"/>
          <p:nvPr/>
        </p:nvSpPr>
        <p:spPr>
          <a:xfrm>
            <a:off x="2209680" y="2895480"/>
            <a:ext cx="5334120" cy="20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10319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文鼎古印體"/>
              </a:rPr>
              <a:t>注意個人衛生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文鼎古印體"/>
              <a:ea typeface="文鼎古印體"/>
            </a:endParaRPr>
          </a:p>
        </p:txBody>
      </p:sp>
    </p:spTree>
  </p:cSld>
  <p:transition spd="slow">
    <p:pull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Makoto14" descr=""/>
          <p:cNvPicPr/>
          <p:nvPr/>
        </p:nvPicPr>
        <p:blipFill>
          <a:blip r:embed="rId1"/>
          <a:stretch/>
        </p:blipFill>
        <p:spPr>
          <a:xfrm>
            <a:off x="2666880" y="380880"/>
            <a:ext cx="4191120" cy="609624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403640" y="472428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66"/>
                </a:solidFill>
                <a:latin typeface="Times New Roman"/>
                <a:ea typeface="文鼎勘亭流"/>
              </a:rPr>
              <a:t>網</a:t>
            </a:r>
            <a:endParaRPr b="0" lang="en-US" sz="7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271280" y="495288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00"/>
                </a:solidFill>
                <a:latin typeface="Times New Roman"/>
                <a:ea typeface="文鼎勘亭流"/>
              </a:rPr>
              <a:t>睛</a:t>
            </a:r>
            <a:endParaRPr b="0" lang="en-US" sz="7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403640" y="274320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66"/>
                </a:solidFill>
                <a:latin typeface="Times New Roman"/>
                <a:ea typeface="文鼎勘亭流"/>
              </a:rPr>
              <a:t>上</a:t>
            </a:r>
            <a:endParaRPr b="0" lang="en-US" sz="7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013480" y="83808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66"/>
                </a:solidFill>
                <a:latin typeface="Times New Roman"/>
                <a:ea typeface="文鼎勘亭流"/>
              </a:rPr>
              <a:t>少</a:t>
            </a:r>
            <a:endParaRPr b="0" lang="en-US" sz="7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118640" y="152388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66"/>
                </a:solidFill>
                <a:latin typeface="Times New Roman"/>
                <a:ea typeface="文鼎勘亭流"/>
              </a:rPr>
              <a:t>護</a:t>
            </a:r>
            <a:endParaRPr b="0" lang="en-US" sz="7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880760" y="45720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41f141"/>
                </a:solidFill>
                <a:latin typeface="Times New Roman"/>
                <a:ea typeface="文鼎勘亭流"/>
              </a:rPr>
              <a:t>保</a:t>
            </a:r>
            <a:endParaRPr b="0" lang="en-US" sz="7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28480" y="388620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cc"/>
                </a:solidFill>
                <a:latin typeface="Times New Roman"/>
                <a:ea typeface="文鼎勘亭流"/>
              </a:rPr>
              <a:t>眼</a:t>
            </a:r>
            <a:endParaRPr b="0" lang="en-US" sz="7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cat4" descr=""/>
          <p:cNvPicPr/>
          <p:nvPr/>
        </p:nvPicPr>
        <p:blipFill>
          <a:blip r:embed="rId1"/>
          <a:stretch/>
        </p:blipFill>
        <p:spPr>
          <a:xfrm>
            <a:off x="1143000" y="53352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2041560" y="118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957320" y="83988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0066"/>
                </a:solidFill>
                <a:latin typeface="Times New Roman"/>
                <a:ea typeface="文鼎勘亭流"/>
              </a:rPr>
              <a:t>戶</a:t>
            </a:r>
            <a:endParaRPr b="0" lang="en-US" sz="8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262240" y="304956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0066"/>
                </a:solidFill>
                <a:latin typeface="Times New Roman"/>
                <a:ea typeface="文鼎勘亭流"/>
              </a:rPr>
              <a:t>外</a:t>
            </a:r>
            <a:endParaRPr b="0" lang="en-US" sz="8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286000" y="2362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24760" y="152388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0066"/>
                </a:solidFill>
                <a:latin typeface="Times New Roman"/>
                <a:ea typeface="文鼎勘亭流"/>
              </a:rPr>
              <a:t>活</a:t>
            </a:r>
            <a:endParaRPr b="0" lang="en-US" sz="8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367760" y="401652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0066"/>
                </a:solidFill>
                <a:latin typeface="Times New Roman"/>
                <a:ea typeface="文鼎勘亭流"/>
              </a:rPr>
              <a:t>動</a:t>
            </a:r>
            <a:endParaRPr b="0" lang="en-US" sz="8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07T09:00:01Z</dcterms:created>
  <dc:creator>KOKA</dc:creator>
  <dc:description/>
  <dc:language>en-US</dc:language>
  <cp:lastModifiedBy>Boewe</cp:lastModifiedBy>
  <dcterms:modified xsi:type="dcterms:W3CDTF">2003-01-31T03:12:43Z</dcterms:modified>
  <cp:revision>36</cp:revision>
  <dc:subject/>
  <dc:title>無投影片標題</dc:title>
</cp:coreProperties>
</file>