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375C1-BCBB-42FE-906A-DD5F1D2ED4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8AC-C1C9-4088-9522-A7C611DE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2DA-EC04-4FCF-A56A-32A106CE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D8C-53C6-4B48-A284-E2765155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7F9-774C-45BB-BDA4-94D9B769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BA38-C8F4-41C2-9B5A-FBB84240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094C-7088-4702-B36B-A0EE2650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9EB6-8589-435F-AF18-CB408045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84CC-FC1C-4378-B4EC-35534B4F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3BD7-CF43-479D-B16C-A8CEB741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DF99-53BA-4535-A550-C5AE1ACE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42B1-ECE2-4E44-8282-0E37A3AE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16F-BCFB-4F08-90EC-630BDF9F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47F0-B0A1-4434-9D2E-4D7C48C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36F2-8E46-4944-B224-0CB88C1A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A9AD-7076-4B0E-A0EE-F3A3D51E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B626-95BF-4192-AF8F-9C694478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F315-3890-40D8-B2FA-A57D518C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76B-BFAD-4880-A03B-96E9C949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8AD-38F9-4FCE-92C8-43CDBEBD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6AC-9527-4E9E-B589-BAF1923E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7D5-7CBA-4740-BBA9-6C556034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FFF-126E-48BD-9663-F3F82476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DC4-EA56-41F8-ABA7-94D64576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E21-FFCD-4260-B738-9C7AE961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68200" indent="-268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84280" indent="-223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26396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979C5-AE67-4B34-B83E-9141BABDE1C3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259EF4-C2D9-4EE2-A805-D5DC09C6CF6D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5640" indent="-3056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5640" indent="-2541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udoscript.com/articles/junit_framework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9900"/>
                </a:solidFill>
                <a:latin typeface="Tahoma"/>
              </a:rPr>
              <a:t>Junit Training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Chris Yeu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8</a:t>
            </a:r>
            <a:r>
              <a:rPr b="0" lang="en-GB" sz="3000" spc="-1" strike="noStrike" baseline="33000">
                <a:solidFill>
                  <a:srgbClr val="ffffff"/>
                </a:solidFill>
                <a:latin typeface="Tahoma"/>
                <a:ea typeface="MingLiU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 Sept, 200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&lt;JUnit Report&gt;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414440"/>
            <a:ext cx="7542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method is heavily overloaded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ust be both objects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oth of the same primitive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objects, uses your equals method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have defined it properly, as 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public boolean equals(Object o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-otherwise it uses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refer to the same object (using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do not refer to the same objec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uses the test to fail and throw an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ionFailed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ful as a result of a complex test, when the other assert methods aren’t quite what you w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should I tes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things which could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should succeed quiet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print “Doing foo…done with foo!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egative tests, exceptions and err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at shouldn’t I t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set/get metho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the compiler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Fixtur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andle common objects under tes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etup() and tearDown() used to initialize and release common objec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to insure there are no side effects between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nforce the test independence rule, test execution order is not guarunte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ecri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979640"/>
            <a:ext cx="7542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case to test 3 method of java.util.ArrayLi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Sui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 (String 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 ("All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(new TestSuite (AllTests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(StringTest.suite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AllTests () throws Exception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 (suite != nul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Lightweight, quick qui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un from command l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java StringT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....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Time: 0.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Tests run: 7,  Failures: 0,  Errors: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- Sw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un with java junit.swingui.TestRunn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871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8200" y="584280"/>
            <a:ext cx="731340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Runners - Eclip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0720" y="190656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is a regression testing frame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ten by Erich Gamma and Kent Beck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by developers to implement unit tests in Jav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oal: Accelerate programming and increase the quality of cod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art of XUnit family (HTTPUnit, Cactus), Cpp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utomating testing (Ant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Tas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arget name="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junit printsummary="yes" fork="ye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formatter usefile="yes" type="plain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est name="AllTests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nt Batch mo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target name="batch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junit printsummary="yes" fork="yes" haltonfailure="no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ormatter type="plain" usefile="yes"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batchtest fork="yes" todir="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ileset dir="${test.dir}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include name="**/*Test.java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files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batchtes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ing for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eparation of interface and implement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ows substitution of implementation to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Factor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vides for abstraction of creation of implementations from the tes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rateg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cause FactoryFinder dynamically resolves desired factory, implementations are plug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Factor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new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 only used in Facto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llows writing tests which can be used across multiple implementatio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motes frequent testing by writing tests which work against objects without requiring extensive setu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xtra-container” test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Mock Objec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en your implementation requires a resource which is unavailable for tes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ternal system or database is simula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nother use of Factory, the mock implementation stubs out and returns the anticipated results from a requ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ample of using Mock Objec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236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 org.jmock.*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PublisherTest extends MockObjectTestCase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testOneSubscriberReceivesAMessage()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et up, subscriber can be any clas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 mockSubscriber = mock(Subscriber.class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 publisher = new Publisher(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add((Subscriber) mockSubscriber.proxy()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l String message = "message"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pectatio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Subscriber.expects(once()).method("receive").with( eq(message) 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ecu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publish(message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4000"/>
              </a:lnSpc>
              <a:buClr>
                <a:srgbClr val="ffffff"/>
              </a:buClr>
              <a:buFont typeface="Tahoma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Estrangelo Edessa"/>
                <a:ea typeface="Courier New"/>
              </a:rPr>
              <a:t>Of course, you can write mock yourself by implement interface with simple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90400"/>
            <a:ext cx="73152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with resources (EJB/DB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fixtures to request resource connection via factory, could be no-o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vm args or resource bundle to drive which factory is us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ata initialization/clearing handled by fixtures to preserve order independence of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306360"/>
            <a:ext cx="73137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velop testcase with database using abstract base clas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979640"/>
            <a:ext cx="8593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699ff"/>
                </a:solidFill>
                <a:latin typeface="Courier New"/>
              </a:rPr>
              <a:t>public abstract class DatabaseTestCase extends TestCase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se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efaultDataManager.setupDefaul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atabaseSetUp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databaseTearDow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getConnection().clo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ublic final Connection getConnectio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turn currentContext.connectio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-container unit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07960" y="183204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ere are tools like cactus and StrutsTestC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cellent for test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EJ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Servlets, Filters, Tagli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Container-dependent frameworks, like Stru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Best Practic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528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parate production and tes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typically in the same pac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ile into separate trees, allowing deployment without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n’t forget OO techniques, base cl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est-drive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rite failing test fir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ing for Excep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Re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here should I put my test fi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y test?  Why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utomated tests prove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retain their value over time and allows others to prove the software still works (as tested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fidence, quality, slee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ffective, open source, integra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et to code sooner by writing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rite failing test firs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your test first, or at least at the same tim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what can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reate new tests to show bugs then fix the bu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driven development says write the test then make it pass by coding to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for Except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ExpectExceptio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ul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"abcd"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toString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fail("Should see null pointer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atch(NullPointerException ex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Fix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Bugs occasionally slip through (gasp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 first which demonstrates the error.  Obviously, this test is need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Now, fix the bug and watch the bar go green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Your tests assure the bug won’t reappe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Refact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Once the code is written you want to improve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hanges for performance, maintainability, readabilit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help you make sure you don’t break it while improving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mall change, test, small change, test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82120"/>
            <a:ext cx="73137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ere should I put my test files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833480"/>
            <a:ext cx="755964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You can place your tests in the same package and directory as the classes under test. For example: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n arguably better way is to place the tests in a separate parallel directory structure with package alignmen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For examp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hese approaches allow the tests to access to all the public and package visible methods of the classes under tes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Resour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junit.or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xprogramming.co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-106.ibm.com/developerworks/java/library/j-junitmail/index.htm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jakarta.apache.org/a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is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Test framework provides tools fo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unning tes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ggregating tests (suite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porting resul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hilosophy always the sam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et developers write tes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ake it easy and painl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Test early and test oft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infect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t’s a Good Thing, no penicillin need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mmediate gratification with build iter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tart with “The Simplest Thing That Could Possibly Work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terate by successive application of design patter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Break the cycle of more pressure == fewer t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educe code cap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f others can test it, others can work on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ubclass of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Case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ride th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etUp() &amp; tearDown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one or more publ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XXX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ercise the object(s) under te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e expected resul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tat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uite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ory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 a TestSuite containing all the tes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onally defin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un the TestCase in batch m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00200"/>
            <a:ext cx="71294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Simple Testca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class StringTest extends TestCas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setUp(){ /* run before */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tearDown(){ /* after */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SimpleAdd(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ew String(“abcd”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“abcd”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(“Strings not equal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equals(s2)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cc9900"/>
                </a:solidFill>
                <a:latin typeface="Tahoma"/>
              </a:rPr>
              <a:t>Simple Testcase (cont.)</a:t>
            </a:r>
            <a:endParaRPr b="0" lang="en-US" sz="35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(”StringTest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tests = System.getProperty("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f (tests == null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estSuite(StringTest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else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 tokens = 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(tests, ",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hile (tokens.hasMoreTokens()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est((String)tokens.nextToken()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return sui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JUNIT presentation</dc:title>
</cp:coreProperties>
</file>