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9E33-1181-4DFC-88E1-D326CF73A26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have several points, steps, or key ideas use multiple slides.  Determine if your audience is to understand a new idea, learn a process, or receive greater depth to a familiar concept.  Back up each point with adequate explanation. As appropriate, supplement your presentation with technical support data in hard copy or on disc, e-mail, or the Internet.  Develop each point adequately to communicate with your audi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E250-BD64-43C5-B253-D52D3B568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2FA0-7277-4E28-ABD0-8369C7BA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DDDF-3E9F-42F9-9DCA-FA4C59EE3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571B-E463-4A4F-A548-00A070B5B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E75F-CDFD-4042-AB7E-F3637E70C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FEA3-2ACE-4F2F-9D21-E4DAD162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A4C5-490B-4745-8943-F1ECA47A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CFA3-4671-4260-9397-AB3AF61A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EFD0-E553-4301-988C-9B041418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0054-C393-4E3B-A5DB-FE9324F9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9730-C50D-40A9-8205-0B0AA611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6F2E-F7F3-43FB-9B35-2B5124A3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5690-16FE-4B01-8BDD-6F10AA16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222E-98B7-417D-8950-13527120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1F63-47BE-4A09-B2D3-1E692FB0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1284-680A-4337-97A0-9B133824B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FDB1-E4F6-4871-8567-E87D493AC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CD36-F463-4921-9DA3-72242170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4443-04B6-420F-BAD1-5A0F6D54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737B-41E0-4BBA-B44A-E38908EE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16B1-5A19-4D51-98FC-4087DD1B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7E43-35C3-4D18-A693-F27376BA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B520-FA5E-422F-9351-2B617527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F5A9-042A-4BA0-9CB1-0D5EB424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9ACA-B025-43F1-AE39-C031E991D8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0D6A-6F71-4BFB-8885-712281120C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localhost:8080/ekp/nd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Overview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e-click launch of appl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uto-install fea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versioning/caching feature for update/fast startu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some API for desktop appl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ndle a JNLP-deployed application in a Web Archive (WAR) fil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686800" cy="4438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Architectur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880" y="915840"/>
            <a:ext cx="8458200" cy="60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jnlp spec="1.0+" codebase=</a:t>
            </a:r>
            <a:r>
              <a:rPr b="0" lang="en-US" sz="1400" spc="-1" strike="noStrike" u="sng">
                <a:solidFill>
                  <a:srgbClr val="ff6600"/>
                </a:solidFill>
                <a:uFillTx/>
                <a:latin typeface="Courier New"/>
                <a:hlinkClick r:id="rId1"/>
              </a:rPr>
              <a:t>http://localhost:8080/ekp/nd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href="http://localhost:8080/ekp/nd/test.jnlp"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informa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title&gt;JWS test&lt;/titl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vendor&gt;Netdimensions&lt;/vendo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homepage href="http://www.netdimensions.com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description&gt;Test&lt;/descrip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icon href="http://www.netdimensions.com/netd_images/logo.jpg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offline-allowed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informa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securit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securit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resources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j2se version="1.3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jar href="http://localhost:8080/ekp/nd/test.jar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resources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application-desc main-class="test.test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jnlp&gt;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Example of descriptor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Extra Tag useful in descriptor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ine extra 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lication-desc main-clas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Main"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   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arg1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   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arg2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lication-des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ine VM 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2se versio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1.3"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itial-heap-siz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64m"/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property name="..." value=".."/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4495680"/>
            <a:ext cx="7543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ttp://carfield:8080/ekp/nd/test.jnl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Auto Install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ly For Windows platfor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OBJECT CODEBASE="</a:t>
            </a:r>
            <a:r>
              <a:rPr b="1" lang="en-US" sz="1600" spc="-1" strike="noStrike">
                <a:solidFill>
                  <a:srgbClr val="f1b60f"/>
                </a:solidFill>
                <a:latin typeface="Courier New"/>
              </a:rPr>
              <a:t>http://java.sun.com/products/javawebstart/autodl/jinstall-1_4_1-windows-i586.cab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" CLASSID="</a:t>
            </a:r>
            <a:r>
              <a:rPr b="1" lang="en-US" sz="1600" spc="-1" strike="noStrike">
                <a:solidFill>
                  <a:srgbClr val="f1b60f"/>
                </a:solidFill>
                <a:latin typeface="Courier New"/>
              </a:rPr>
              <a:t>clsid:5852F5ED-8BF4-11D4-A245-0080C6F74284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" HEIGHT=0 WIDTH=0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&lt;PARAM NAME="app" VALUE="http://carfield:8080/ekp/nd/test.jnlp"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PARAM NAME="back" VALUE="true"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!-- Alternate HTML for browsers which cannot instantiate the object --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A HREF="http://java.sun.com/cgi-bin/javawebstart-platform.sh?"&gt;Download Java Web Start&lt;/A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/OBJEC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place CODEBASE for complete JRE insta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: http://carfield:8080/ekp/nd/test1.ht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Java Web Start API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icService, which provides a service similar to the AppletCon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wnloadService, which allows an application to interact with the JNLP Client to check if application resources are available locally, and to request them to be downloa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allow un-trust client execute system 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eOpen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eSave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pboard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t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Service, key base persistence store like cook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nsionInstallerService, which provides an interface for extension installers to communicate with the JNLP Cli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Other Featur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ble to access system resource using code sign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che the jar in hard-dis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ckaging JNLP Applications in a Web Arch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ersioning support:</a:t>
            </a:r>
            <a:br>
              <a:rPr sz="30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jar href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="http://www.mysite.com/b.jar"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ersion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="2.3+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06:37:15Z</dcterms:created>
  <dc:creator>carfield</dc:creator>
  <dc:description/>
  <dc:language>en-US</dc:language>
  <cp:lastModifiedBy>Netdimensions</cp:lastModifiedBy>
  <dcterms:modified xsi:type="dcterms:W3CDTF">2003-04-03T08:19:49Z</dcterms:modified>
  <cp:revision>5</cp:revision>
  <dc:subject/>
  <dc:title>Java Web Start</dc:title>
</cp:coreProperties>
</file>